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AAA-F482-4D66-9662-0194A8D7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898-0EC3-4BFB-8FE5-4DFD4A84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1B1-6B24-4D40-9C7D-802F3AF1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E15-901B-411C-8436-E482A686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2173-5F43-40B0-9793-FA71712B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D247-E688-4024-A256-9A96CB1F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2A27-6008-4784-957F-BDE9D923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345D-8515-4D69-A3CD-AC75F4E9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9E36-C62A-4A0C-9D9D-81E66B93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7D0B-DD03-4050-8483-F03F01BB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61C0-6ABD-4FF6-9B2C-201142E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81F-3F6F-4165-B1A4-C98BDD6E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A8F3-0B56-44BD-B598-B0E2119F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BA4F-36B0-4B09-9124-26E97E81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64CD-D18E-456F-8D4A-EDDE3128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D4CE-2EFA-4520-B4BA-9E3C2101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355B-409B-4795-A0A3-44ED08A3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749-598C-412A-9980-FE0D8558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95B-A296-4414-BEEB-1F15F7C2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EA7-67E8-4637-9F3B-ACBDF9A8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51A-CD4F-4B1A-AAED-84CDF148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4D9-CF84-4F52-A3EC-0A7713D7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D65-4153-4145-9A03-65FDAD3A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4AE-D675-42A2-82C0-C979873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6A9-2CD2-4181-8B90-C4B74E5D34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565C-2F5F-4636-AAD3-C0F8C94475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51;&#1077;&#1085;&#1080;&#1079;&#1072;/&#1055;&#1088;&#1077;&#1079;&#1077;&#1085;&#1090;&#1072;&#1094;&#1080;&#1103;1.pp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Татарстанны</a:t>
            </a:r>
            <a:r>
              <a:rPr b="1" i="1" lang="tt-RU" sz="4400" spc="-1" strike="noStrike">
                <a:solidFill>
                  <a:srgbClr val="feec94"/>
                </a:solidFill>
                <a:latin typeface="Times New Roman"/>
              </a:rPr>
              <a:t>ң халык шагыйреШәүкәт Галиев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Фото-0006"/>
          <p:cNvPicPr/>
          <p:nvPr/>
        </p:nvPicPr>
        <p:blipFill>
          <a:blip r:embed="rId1"/>
          <a:stretch/>
        </p:blipFill>
        <p:spPr>
          <a:xfrm>
            <a:off x="2771640" y="1746360"/>
            <a:ext cx="4104000" cy="47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 сорауга заманын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л болай </a:t>
            </a: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җавап биргән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-Биш тулыр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Унбиш минут 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Дөп-дөресе шул! – дигә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Инде яңадан сорый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Вакыт та җитте менә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-Унбиш тулыр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биш минут ! 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Ди хәзер җитди генә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Әйдә, кемгә күпме кирә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Шул хәтле санасыннар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Шәвәли яши берьюл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Биш-унбиш арасында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Фото-0006"/>
          <p:cNvPicPr/>
          <p:nvPr/>
        </p:nvPicPr>
        <p:blipFill>
          <a:blip r:embed="rId1"/>
          <a:stretch/>
        </p:blipFill>
        <p:spPr>
          <a:xfrm>
            <a:off x="457200" y="1805040"/>
            <a:ext cx="4038480" cy="4122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cc00"/>
                </a:solidFill>
                <a:latin typeface="Times New Roman"/>
              </a:rPr>
              <a:t>Шәвәлигә ничә яш</a:t>
            </a:r>
            <a:r>
              <a:rPr b="1" i="1" lang="ru-RU" sz="4400" spc="-1" strike="noStrike">
                <a:solidFill>
                  <a:srgbClr val="cccc00"/>
                </a:solidFill>
                <a:latin typeface="Times New Roman"/>
              </a:rPr>
              <a:t>ь </a:t>
            </a:r>
            <a:r>
              <a:rPr b="1" i="1" lang="tt-RU" sz="4400" spc="-1" strike="noStrike">
                <a:solidFill>
                  <a:srgbClr val="cccc00"/>
                </a:solidFill>
                <a:latin typeface="Times New Roman"/>
              </a:rPr>
              <a:t>?</a:t>
            </a: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Фото-00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60280"/>
            <a:ext cx="8207640" cy="54007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539640" y="5805360"/>
            <a:ext cx="8151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Шәүкәт Галиевнең әтисе Галиулла , әнисе Бибихәлимә , сеңлесе Наҗия һәм Шәүкәт. 1940 ел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PubHalfFrame"/>
          <p:cNvSpPr/>
          <p:nvPr/>
        </p:nvSpPr>
        <p:spPr>
          <a:xfrm>
            <a:off x="539640" y="260280"/>
            <a:ext cx="647640" cy="576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ubHalfFrame"/>
          <p:cNvSpPr/>
          <p:nvPr/>
        </p:nvSpPr>
        <p:spPr>
          <a:xfrm rot="16200000">
            <a:off x="597600" y="4955040"/>
            <a:ext cx="676080" cy="792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ubHalfFrame"/>
          <p:cNvSpPr/>
          <p:nvPr/>
        </p:nvSpPr>
        <p:spPr>
          <a:xfrm rot="5400000">
            <a:off x="8006400" y="209880"/>
            <a:ext cx="647640" cy="7477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ubHalfFrame"/>
          <p:cNvSpPr/>
          <p:nvPr/>
        </p:nvSpPr>
        <p:spPr>
          <a:xfrm rot="10800000">
            <a:off x="8027640" y="4868640"/>
            <a:ext cx="677880" cy="7477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Фото-0005"/>
          <p:cNvPicPr/>
          <p:nvPr/>
        </p:nvPicPr>
        <p:blipFill>
          <a:blip r:embed="rId1"/>
          <a:stretch/>
        </p:blipFill>
        <p:spPr>
          <a:xfrm>
            <a:off x="395280" y="260280"/>
            <a:ext cx="844560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766880" y="6165720"/>
            <a:ext cx="64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Times New Roman"/>
              </a:rPr>
              <a:t>Шәүкәт Галиев классташлары белән. 1940 е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Фото-0007"/>
          <p:cNvPicPr/>
          <p:nvPr/>
        </p:nvPicPr>
        <p:blipFill>
          <a:blip r:embed="rId1"/>
          <a:stretch/>
        </p:blipFill>
        <p:spPr>
          <a:xfrm>
            <a:off x="2484360" y="260280"/>
            <a:ext cx="4103640" cy="5533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826920" y="595008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ff"/>
                </a:solidFill>
                <a:latin typeface="Times New Roman"/>
              </a:rPr>
              <a:t>Шәүкәт Галиевнең </a:t>
            </a:r>
            <a:r>
              <a:rPr b="1" lang="tt-RU" sz="2000" spc="-1" strike="noStrike">
                <a:solidFill>
                  <a:srgbClr val="ffffff"/>
                </a:solidFill>
                <a:latin typeface="Times New Roman"/>
              </a:rPr>
              <a:t>район</a:t>
            </a:r>
            <a:r>
              <a:rPr b="1" lang="tt-RU" sz="2000" spc="-1" strike="noStrike">
                <a:solidFill>
                  <a:srgbClr val="ffffff"/>
                </a:solidFill>
                <a:latin typeface="Times New Roman"/>
              </a:rPr>
              <a:t> газетасында эшли башлаган вакыты</a:t>
            </a: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ubL"/>
          <p:cNvSpPr/>
          <p:nvPr/>
        </p:nvSpPr>
        <p:spPr>
          <a:xfrm>
            <a:off x="2484360" y="5373720"/>
            <a:ext cx="503280" cy="461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ubL"/>
          <p:cNvSpPr/>
          <p:nvPr/>
        </p:nvSpPr>
        <p:spPr>
          <a:xfrm rot="5400000">
            <a:off x="2518920" y="225000"/>
            <a:ext cx="504720" cy="5749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ubL"/>
          <p:cNvSpPr/>
          <p:nvPr/>
        </p:nvSpPr>
        <p:spPr>
          <a:xfrm rot="10800000">
            <a:off x="6084720" y="259920"/>
            <a:ext cx="533520" cy="576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ubL"/>
          <p:cNvSpPr/>
          <p:nvPr/>
        </p:nvSpPr>
        <p:spPr>
          <a:xfrm rot="16200000">
            <a:off x="6084720" y="5300640"/>
            <a:ext cx="533520" cy="5335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Фото-0006"/>
          <p:cNvPicPr/>
          <p:nvPr/>
        </p:nvPicPr>
        <p:blipFill>
          <a:blip r:embed="rId1"/>
          <a:stretch/>
        </p:blipFill>
        <p:spPr>
          <a:xfrm>
            <a:off x="2556000" y="981000"/>
            <a:ext cx="4103640" cy="5112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 rot="19588200">
            <a:off x="5364000" y="5157360"/>
            <a:ext cx="1860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408560" y="28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3964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539640" y="47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7740720" y="47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781200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2556000" y="333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imes New Roman"/>
              </a:rPr>
              <a:t>Балаларның яраткан язучы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11" descr="Фото-0011"/>
          <p:cNvPicPr/>
          <p:nvPr/>
        </p:nvPicPr>
        <p:blipFill>
          <a:blip r:embed="rId1"/>
          <a:stretch/>
        </p:blipFill>
        <p:spPr>
          <a:xfrm>
            <a:off x="6227640" y="1628640"/>
            <a:ext cx="2398680" cy="4530960"/>
          </a:xfrm>
          <a:prstGeom prst="rect">
            <a:avLst/>
          </a:prstGeom>
          <a:ln w="0">
            <a:noFill/>
          </a:ln>
        </p:spPr>
      </p:pic>
      <p:cxnSp>
        <p:nvCxnSpPr>
          <p:cNvPr id="149" name="AutoShape 12"/>
          <p:cNvCxnSpPr/>
          <p:nvPr/>
        </p:nvCxnSpPr>
        <p:spPr>
          <a:xfrm>
            <a:off x="457164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0" name="AutoShape 15"/>
          <p:cNvSpPr/>
          <p:nvPr/>
        </p:nvSpPr>
        <p:spPr>
          <a:xfrm>
            <a:off x="250920" y="1125360"/>
            <a:ext cx="5257800" cy="5470560"/>
          </a:xfrm>
          <a:prstGeom prst="cloudCallout">
            <a:avLst>
              <a:gd name="adj1" fmla="val -3018"/>
              <a:gd name="adj2" fmla="val -3003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1444680" y="2082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971640" y="184464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2247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446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Бик әүвәлге заман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Бакырчыда, Казан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Яшәгән ди бер абы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Һәм яши ди бер абы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Үзе абый,үзе сабы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Дөн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ь</a:t>
            </a: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яга у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Шигыр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ь аша кар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Һәр баланы җайлы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Һәркем аны та</a:t>
            </a: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н</a:t>
            </a: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ы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Шиг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ъри теле </a:t>
            </a: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һам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Былбыл булып сайр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Ул – Шәвәли Га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3:01:12Z</dcterms:created>
  <dc:creator>Айдар</dc:creator>
  <dc:description/>
  <dc:language>en-US</dc:language>
  <cp:lastModifiedBy>comp</cp:lastModifiedBy>
  <dcterms:modified xsi:type="dcterms:W3CDTF">2017-10-20T17:46:07Z</dcterms:modified>
  <cp:revision>35</cp:revision>
  <dc:subject/>
  <dc:title>Шәвәлигә ничә яшь ?</dc:title>
</cp:coreProperties>
</file>