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wmf" ContentType="image/x-wmf"/>
  <Override PartName="/ppt/media/image3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11C9-2B2B-4BAC-B053-EEF697377B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ACDE-A121-4859-946C-E3A7CC84B7C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934C-8F3D-47D0-AC55-AE78F5FD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9FD-56DF-4E3C-9448-D8B238DB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592-C325-4161-A6B6-D4579BBF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DBCC-A73B-4F9E-BC0C-F6CA4619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DB6A-D3DA-4AF7-A082-94579D8C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544F-A327-42BF-A2E2-5BF31927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B6DA-F069-4039-A7DA-F17198C2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6622-EFF8-4BC4-8D80-C9CA4B69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6BE4-47B9-472A-888B-825361BB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69EB-2FF7-41D1-BE09-3B9ACC12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9CE1-8C0B-4369-980F-CDA6740C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2FCE-1B0D-4BC8-969D-8C6A14EC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BC47-6AA3-4342-8900-E60D6A22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3ED0-D697-4815-B022-51940E3D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8C5A-76C0-41BE-8B7B-33D015D1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8797-1100-4E4C-AE70-E48DA526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1BB0-4BFC-4247-9191-2236D6CE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A8E0-87DC-4F7B-88C0-01512055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0A6E-9889-4AE3-8D5A-F651FA28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26F-2146-4D60-9E65-4C2AA8E8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3A37-7920-4FC4-976D-63812E09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4D7-AE26-416A-B977-9B48EC29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A8A-B728-40A8-9620-35877F8A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0DB-5395-49D1-BCFD-BE17AD25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3DB6-E787-4127-A2EC-5C8B4837EA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FEE0-53D3-446F-B5DF-91C7BBEE95E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Статистика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3280" y="2636640"/>
            <a:ext cx="6400800" cy="35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Garamond"/>
              </a:rPr>
              <a:t>Наглядное представление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a50021"/>
                </a:solidFill>
                <a:latin typeface="Garamond"/>
              </a:rPr>
              <a:t>статистических данных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Голубева Т.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подаватель ГБПОУ города Москв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МОК ЗАПАД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татистические график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2349360"/>
            <a:ext cx="77756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метод условных изображений статистических данных при помощи геометрических фигур, линий, точек и разнообразных символических образов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Основные элементы графика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19280" y="2491920"/>
            <a:ext cx="6480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оле графика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графический образ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масштабные ориентиры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экспликация графи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оле графи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есто, на котором размещаются геометрические фигуры, образующие график. Считается наиболее оптимальным для зрительного восприятия график с соотношением сторон от 1:1,33 до 1: 1,5. Не следует строить графики слишком удлинённые по горизонтали или вертикали. Они неудобны и невыразитель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Графический образ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имволические знаки, с помощью которых изображают статистические данные. Наиболее часто используют линии, точки, прямоугольники, квадраты, круги, иногда – объёмные фигуры, рисунки, силуэты. При построении графиков большое значение имеет правильный выбор знаков, подчёркивающий наглядность и предназначение графи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асштабные ориентир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пределяются 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масштабом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татистического графика и 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системой масштабных шкал.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cc"/>
                </a:solidFill>
                <a:latin typeface="Garamond"/>
              </a:rPr>
              <a:t>Масштаб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это мера перевода числовой величины в графическую. При правильно выбранном масштабе на графике будут хорошо видны различия в размере показателей, что даёт возможность их наглядного сравнения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 </a:t>
            </a:r>
            <a:r>
              <a:rPr b="1" lang="ru-RU" sz="4000" spc="-1" strike="noStrike">
                <a:solidFill>
                  <a:srgbClr val="33cccc"/>
                </a:solidFill>
                <a:latin typeface="Garamond"/>
              </a:rPr>
              <a:t>Масштабная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33cccc"/>
                </a:solidFill>
                <a:latin typeface="Garamond"/>
              </a:rPr>
              <a:t>шкал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иния, отдельные точки которой могут быть прочитаны как определённые числа. Расстояние между соседними точками называют графическим интервалом. Шкала имеет большое значение для построения и чтения графика. Наиболее часто используют прямолинейные масштабные шкалы, располагающиеся по осям координ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Экспликация графи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ловесные пояснения к графику. Они включают: заголовок графика, единицы измерения, условные обозначения, подписи вдоль масштабных шкал и пояснения к отдельным частям графика. Если на одном графике  нанесено несколько линий (фигур), то для каждой из них необходимо указать название в форме условного обозначения за пределами поля графика или рядом с линиями (фигурами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Классификация видов статистических графиков по способу их построения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278136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инейны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адиальные (лепестковые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толбиковые (ленточные) диаграмм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екторные (круговые) диаграмм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фигур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Линейный график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84072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Лепестковая диаграмма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84216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4" name="Picture 4" descr="imagesCA8GXNTX"/>
          <p:cNvPicPr/>
          <p:nvPr/>
        </p:nvPicPr>
        <p:blipFill>
          <a:blip r:embed="rId1"/>
          <a:stretch/>
        </p:blipFill>
        <p:spPr>
          <a:xfrm>
            <a:off x="611280" y="404640"/>
            <a:ext cx="8064360" cy="5977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84360" y="26028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татистические таблицы и графики являются наиболее рациональными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формами представления результатов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татистического наблюдени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Столбиковые диаграммы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480000" cy="5185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Секторная (круговая) диаграмма</a:t>
            </a:r>
            <a:br>
              <a:rPr sz="36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Профессиональные театры России в % к итогу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4" name="Picture 4" descr="clip_image002"/>
          <p:cNvPicPr/>
          <p:nvPr/>
        </p:nvPicPr>
        <p:blipFill>
          <a:blip r:embed="rId1"/>
          <a:stretch/>
        </p:blipFill>
        <p:spPr>
          <a:xfrm>
            <a:off x="2050920" y="1700280"/>
            <a:ext cx="50421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C:\Documents and Settings\Саша\Мои документы\Мои рисунки\Организатор клипов (Microsoft)\j0396490.wmf"/>
          <p:cNvPicPr/>
          <p:nvPr/>
        </p:nvPicPr>
        <p:blipFill>
          <a:blip r:embed="rId1"/>
          <a:stretch/>
        </p:blipFill>
        <p:spPr>
          <a:xfrm>
            <a:off x="7093080" y="3789360"/>
            <a:ext cx="1079280" cy="1143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Documents and Settings\Саша\Мои документы\Мои рисунки\Организатор клипов (Microsoft)\j0396490.wmf"/>
          <p:cNvPicPr/>
          <p:nvPr/>
        </p:nvPicPr>
        <p:blipFill>
          <a:blip r:embed="rId2"/>
          <a:stretch/>
        </p:blipFill>
        <p:spPr>
          <a:xfrm>
            <a:off x="684360" y="2997360"/>
            <a:ext cx="1990440" cy="2106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C:\Documents and Settings\Саша\Мои документы\Мои рисунки\Организатор клипов (Microsoft)\j0396490.wmf"/>
          <p:cNvPicPr/>
          <p:nvPr/>
        </p:nvPicPr>
        <p:blipFill>
          <a:blip r:embed="rId3"/>
          <a:stretch/>
        </p:blipFill>
        <p:spPr>
          <a:xfrm>
            <a:off x="3995640" y="3357720"/>
            <a:ext cx="1582920" cy="16747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"/>
          <p:cNvSpPr/>
          <p:nvPr/>
        </p:nvSpPr>
        <p:spPr>
          <a:xfrm>
            <a:off x="1332000" y="476280"/>
            <a:ext cx="662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cc"/>
                </a:solidFill>
                <a:latin typeface="Garamond"/>
              </a:rPr>
              <a:t>Фигурная диаграмма</a:t>
            </a:r>
            <a:r>
              <a:rPr b="0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2906"/>
                </a:solidFill>
                <a:latin typeface="Garamond"/>
              </a:rPr>
              <a:t>Посадка леса в Росс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914760" y="219564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1992  г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3852360" y="2205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Garamond"/>
              </a:rPr>
              <a:t>2000 г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6805080" y="2205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Garamond"/>
              </a:rPr>
              <a:t>2006 г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885240" y="5375160"/>
            <a:ext cx="20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2906"/>
                </a:solidFill>
                <a:latin typeface="Garamond"/>
              </a:rPr>
              <a:t>447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   </a:t>
            </a:r>
            <a:r>
              <a:rPr b="1" lang="ru-RU" sz="2400" spc="-1" strike="noStrike">
                <a:solidFill>
                  <a:srgbClr val="462906"/>
                </a:solidFill>
                <a:latin typeface="Garamond"/>
              </a:rPr>
              <a:t>тыс. г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3691440" y="537516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  </a:t>
            </a:r>
            <a:r>
              <a:rPr b="1" lang="ru-RU" sz="2400" spc="-1" strike="noStrike">
                <a:solidFill>
                  <a:srgbClr val="462906"/>
                </a:solidFill>
                <a:latin typeface="Garamond"/>
              </a:rPr>
              <a:t>263   тыс. г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6562440" y="5375160"/>
            <a:ext cx="20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2906"/>
                </a:solidFill>
                <a:latin typeface="Garamond"/>
              </a:rPr>
              <a:t>194</a:t>
            </a:r>
            <a:r>
              <a:rPr b="1" lang="en-US" sz="2400" spc="-1" strike="noStrike">
                <a:solidFill>
                  <a:srgbClr val="462906"/>
                </a:solidFill>
                <a:latin typeface="Garamond"/>
              </a:rPr>
              <a:t>  </a:t>
            </a:r>
            <a:r>
              <a:rPr b="1" lang="ru-RU" sz="2400" spc="-1" strike="noStrike">
                <a:solidFill>
                  <a:srgbClr val="462906"/>
                </a:solidFill>
                <a:latin typeface="Garamond"/>
              </a:rPr>
              <a:t> тыс. г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158320" cy="1358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Классификация видов статистических графиков по задачам изображения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99640" y="2565360"/>
            <a:ext cx="7775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иаграммы сравне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иаграммы структур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иаграммы динамик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иаграммы взаимосвяз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артограммы (точечные и фоновые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артодиаграмм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Число дошкольных образовательных учреждений, тыс. штук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539640" y="1484280"/>
          <a:ext cx="8136000" cy="489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136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Картограмма</a:t>
            </a:r>
            <a:br>
              <a:rPr sz="36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Коэффициент обеспеченности собственными средствами региональных бюджетов по субъектам РФ 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4781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Картодиаграмм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83" name="Рисунок 2" descr=""/>
          <p:cNvPicPr/>
          <p:nvPr/>
        </p:nvPicPr>
        <p:blipFill>
          <a:blip r:embed="rId1"/>
          <a:srcRect l="0" t="0" r="2750" b="9471"/>
          <a:stretch/>
        </p:blipFill>
        <p:spPr>
          <a:xfrm>
            <a:off x="125280" y="1484280"/>
            <a:ext cx="889344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оверьте  себя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85" name="imgb" descr="small"/>
          <p:cNvPicPr/>
          <p:nvPr/>
        </p:nvPicPr>
        <p:blipFill>
          <a:blip r:embed="rId1"/>
          <a:stretch/>
        </p:blipFill>
        <p:spPr>
          <a:xfrm>
            <a:off x="1332000" y="1268280"/>
            <a:ext cx="669600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1. Статистическая таблица представляет собой:</a:t>
            </a:r>
            <a:br>
              <a:rPr sz="40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а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условное изображение числовых величин посредством линий, фигур, рисунко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б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систему строк и столбцов с данными о каком-либо социально-экономическом явлен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в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географическую характеристику изучаемых явлен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2.  В таблицу могут заноситься величины:</a:t>
            </a:r>
            <a:br>
              <a:rPr sz="40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3284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а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только относительные;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б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только абсолютные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в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абсолютные и относительные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татистическая таблиц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форма систематизированного и наглядного изложения статистической информации в виде взаимопересекающихся горизонтальных и вертикальных линий. Каждая статистическая таблица имеет подлежащее и сказуемо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33cccc"/>
                </a:solidFill>
                <a:latin typeface="Garamond"/>
              </a:rPr>
              <a:t>подлежаще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– то, о чём говорится в таблиц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33cccc"/>
                </a:solidFill>
                <a:latin typeface="Garamond"/>
              </a:rPr>
              <a:t>сказуемо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– то, что говорится о подлежащем, его характеристика с помощью численных значений системы показателе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3. Объектом изучения единицы статистической совокупности выступает: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а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подлежащее статистической таблицы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б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сказуемое статистической таблицы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в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статистическая совокупность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4. Перечень числовых показателей, характеризующих объект изучения, представляет собой: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а</a:t>
            </a: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 подлежащее статистической таблицы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б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 сказуемое статистической таблицы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в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 единица статистической совокупности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cc"/>
                </a:solidFill>
                <a:latin typeface="Garamond"/>
              </a:rPr>
              <a:t>5.  Под системой строк и столбцов, в которых в определённой последовательности и связи излагается  статистическая информация о социально-экономических явлениях, понимают</a:t>
            </a:r>
            <a:r>
              <a:rPr b="0" lang="ru-RU" sz="2800" spc="-1" strike="noStrike">
                <a:solidFill>
                  <a:srgbClr val="33cccc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а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текст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б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график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в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таблиц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г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статистическую таблиц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92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6.  В статистике графиком называют: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а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форму наглядного представления статистической информац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б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условное изображение числовых величин и их соотношение посредством лини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в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изложение статистической информации о социально-экономических явлениях слова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7.  Изобразить возрастную структуру населения страны можно при помощи: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1280" y="263664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а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 картограммы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б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 секторной диаграммы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в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 картодиаграммы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г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 линейного графика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8.  Изобразить динамику численности населения страны можно при помощи: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3141720"/>
            <a:ext cx="82296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а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картограммы;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б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секторной диаграммы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в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картодиаграммы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г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 линейного графика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9.  Под экспликацией графика понимают: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а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 место, где расположен графический образ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б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 совокупность точек, с помощью которых изображаются статистические величины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в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 словесное пояснение содержания графика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4" name="Picture 3" descr="photo_verybig_603899"/>
          <p:cNvPicPr/>
          <p:nvPr/>
        </p:nvPicPr>
        <p:blipFill>
          <a:blip r:embed="rId1"/>
          <a:stretch/>
        </p:blipFill>
        <p:spPr>
          <a:xfrm>
            <a:off x="900000" y="836640"/>
            <a:ext cx="7488360" cy="52563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1332000" y="112536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e6b"/>
                </a:solidFill>
                <a:latin typeface="Garamond"/>
              </a:rPr>
              <a:t>Спасибо за внимание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i="1" lang="ru-RU" sz="2000" spc="-1" strike="noStrike">
                <a:solidFill>
                  <a:srgbClr val="b9efee"/>
                </a:solidFill>
                <a:latin typeface="Garamond"/>
              </a:rPr>
              <a:t>Таблица</a:t>
            </a:r>
            <a:br>
              <a:rPr sz="20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Производство кондитерских изделий по месяцам 20__ г. </a:t>
            </a:r>
            <a:br>
              <a:rPr sz="20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на кондитерской фабрике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844640"/>
          <a:ext cx="8229600" cy="4549680"/>
        </p:xfrm>
        <a:graphic>
          <a:graphicData uri="http://schemas.openxmlformats.org/drawingml/2006/table">
            <a:tbl>
              <a:tblPr/>
              <a:tblGrid>
                <a:gridCol w="866880"/>
                <a:gridCol w="1576080"/>
                <a:gridCol w="1111320"/>
                <a:gridCol w="920880"/>
                <a:gridCol w="922320"/>
                <a:gridCol w="920880"/>
                <a:gridCol w="922320"/>
                <a:gridCol w="988920"/>
              </a:tblGrid>
              <a:tr h="33516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Произведено по месяца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Итог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      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Шокола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Карам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grid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Подлежащ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Сказуем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budget[1]"/>
          <p:cNvPicPr/>
          <p:nvPr/>
        </p:nvPicPr>
        <p:blipFill>
          <a:blip r:embed="rId1"/>
          <a:stretch/>
        </p:blipFill>
        <p:spPr>
          <a:xfrm>
            <a:off x="826920" y="765000"/>
            <a:ext cx="749016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Требования, предъявляемые к статистическим таблицам: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044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мпактность и включение только самой необходимой информаци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сутствие общего названия, кратко отражающего основное содержани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еткое и краткое наименование показателей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личие единиц измерения для каждого показателя, а в случае их идентичности –  измерители выносят  над таблицей справа в скобках, нумерация колонок: буквами алфавита – подлежащее, а цифрами – колонки сказуемого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динаковая степень точности числовых значений каждого показателя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спользование жирного шрифта для выделения данных итоговых строк и колонок (граф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менение специальных условных обозначений при заполнении таблиц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В зависимости от строения подлежащего и сказуемого различают три вида статистических таблиц: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33cccc"/>
                </a:solidFill>
                <a:latin typeface="Garamond"/>
              </a:rPr>
              <a:t>простая таблица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, подлежащее которой содержит, например, перечень видов продукции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33cccc"/>
                </a:solidFill>
                <a:latin typeface="Garamond"/>
              </a:rPr>
              <a:t>групповая таблица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, где информация сгруппирована по какому-либо признаку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33cccc"/>
                </a:solidFill>
                <a:latin typeface="Garamond"/>
              </a:rPr>
              <a:t>комбинационная таблица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содержит информацию, сгруппированную по нескольким признакам, как в подлежащем так и в сказуемом таблицы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l_fi" descr="front-slide7"/>
          <p:cNvPicPr/>
          <p:nvPr/>
        </p:nvPicPr>
        <p:blipFill>
          <a:blip r:embed="rId1"/>
          <a:stretch/>
        </p:blipFill>
        <p:spPr>
          <a:xfrm>
            <a:off x="900000" y="765000"/>
            <a:ext cx="7417080" cy="53024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2050920" y="151704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рафи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717560" y="16995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рафи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332000" y="104076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66"/>
                </a:solidFill>
                <a:latin typeface="Georgia"/>
              </a:rPr>
              <a:t>Графики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-4212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3600" spc="-1" strike="noStrike">
                <a:solidFill>
                  <a:srgbClr val="33cccc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33cccc"/>
                </a:solidFill>
                <a:latin typeface="Garamond"/>
              </a:rPr>
              <a:t>Графики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очно вошли в повседневную жизнь экономистов, статистиков и работников учета, имеющих дело с большим количеством цифр, сведённых в громоздкие таблицы. В силу своей наглядности и доходчивости графики широко используются для иллюстрации достижений и перспектив развития различных организаций, отраслей и экономики страны в целом. Поэтому </a:t>
            </a:r>
            <a:r>
              <a:rPr b="1" lang="ru-RU" sz="3200" spc="-1" strike="noStrike">
                <a:solidFill>
                  <a:srgbClr val="33cccc"/>
                </a:solidFill>
                <a:latin typeface="Garamond"/>
              </a:rPr>
              <a:t>статистические графики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обходимо уметь строить и читать, знать для каких целей составляется график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8:43:03Z</dcterms:created>
  <dc:creator>таня</dc:creator>
  <dc:description/>
  <dc:language>en-US</dc:language>
  <cp:lastModifiedBy>юзер</cp:lastModifiedBy>
  <dcterms:modified xsi:type="dcterms:W3CDTF">2017-02-28T10:49:48Z</dcterms:modified>
  <cp:revision>65</cp:revision>
  <dc:subject/>
  <dc:title>Слайд 1</dc:title>
</cp:coreProperties>
</file>