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3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EF27-A118-4D5F-A0A8-F27CFB9EEC4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2470C-C504-46F3-8C25-944190923CA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35DE-B5B7-40F3-BCC7-3B736551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454-524C-4C39-AD3A-17D62203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623-3E13-4B87-987C-241E62B4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449-C6E9-4B79-A3DA-23090E5A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97C10-AD31-481E-A182-F2C75205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EA11-A6BC-4D10-8F0B-36E43F0A0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4681-461F-43A6-83DD-400A88B4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9F6B-2417-4469-AC68-7B44AE70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88B8-723D-4E40-BA69-033E467D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58EC-387C-4AAE-A5AD-D140E24D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ECEFB-12B8-46F2-8D39-7045B1FB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C57-76C6-411E-86D8-BF2F5B9E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684B-A717-40B5-A1B0-122218F4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CB6B-BB19-4A91-BE56-B9ECBE8E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E131-8809-409A-919E-4D18E2C8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8E78-309E-45E6-88DA-3F11A2DF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18B5-011A-493A-A846-0B4C4E10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139-8393-4F17-BCCC-6180F0C3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4CB-41C2-4A47-A5F8-82B8DBC1B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F47A-50D2-45A7-B989-395DF984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A7AD-0C82-4F98-BE75-7DF32575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DABF-63D5-402A-AA14-C4FB030E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793-BF76-46B3-A03D-3667EFE9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916A-D6AB-4619-B3BA-D150F33A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F316-F9DB-4D6A-8DD7-5CACDC81C3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6EA1-DAA8-4AB7-86EC-61ACF4587C7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Статистика</a:t>
            </a:r>
            <a:br>
              <a:rPr sz="4800"/>
            </a:b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403280" y="2636640"/>
            <a:ext cx="6400800" cy="35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Garamond"/>
              </a:rPr>
              <a:t>Наглядное представление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a50021"/>
                </a:solidFill>
                <a:latin typeface="Garamond"/>
              </a:rPr>
              <a:t>статистических данных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Голубева Т.М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подаватель ГБПОУ города Москв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МОК ЗАПАД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татистические график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9640" y="2349360"/>
            <a:ext cx="77756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метод условных изображений статистических данных при помощи геометрических фигур, линий, точек и разнообразных символических образов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Основные элементы графика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19280" y="2491920"/>
            <a:ext cx="64800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поле графика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графический образ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масштабные ориентиры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экспликация график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оле графи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место, на котором размещаются геометрические фигуры, образующие график. Считается наиболее оптимальным для зрительного восприятия график с соотношением сторон от 1:1,33 до 1: 1,5. Не следует строить графики слишком удлинённые по горизонтали или вертикали. Они неудобны и невыразитель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Графический образ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имволические знаки, с помощью которых изображают статистические данные. Наиболее часто используют линии, точки, прямоугольники, квадраты, круги, иногда – объёмные фигуры, рисунки, силуэты. При построении графиков большое значение имеет правильный выбор знаков, подчёркивающий наглядность и предназначение графика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асштабные ориентиры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определяются 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масштабом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атистического графика и </a:t>
            </a:r>
            <a:r>
              <a:rPr b="1" lang="ru-RU" sz="3600" spc="-1" strike="noStrike">
                <a:solidFill>
                  <a:srgbClr val="ff3300"/>
                </a:solidFill>
                <a:latin typeface="Garamond"/>
              </a:rPr>
              <a:t>системой масштабных шкал.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cc"/>
                </a:solidFill>
                <a:latin typeface="Garamond"/>
              </a:rPr>
              <a:t>Масштаб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это мера перевода числовой величины в графическую. При правильно выбранном масштабе на графике будут хорошо видны различия в размере показателей, что даёт возможность их наглядного сравнения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7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 </a:t>
            </a:r>
            <a:r>
              <a:rPr b="1" lang="ru-RU" sz="4000" spc="-1" strike="noStrike">
                <a:solidFill>
                  <a:srgbClr val="33cccc"/>
                </a:solidFill>
                <a:latin typeface="Garamond"/>
              </a:rPr>
              <a:t>Масштабная</a:t>
            </a: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33cccc"/>
                </a:solidFill>
                <a:latin typeface="Garamond"/>
              </a:rPr>
              <a:t>шкала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иния, отдельные точки которой могут быть прочитаны как определённые числа. Расстояние между соседними точками называют графическим интервалом. Шкала имеет большое значение для построения и чтения графика. Наиболее часто используют прямолинейные масштабные шкалы, располагающиеся по осям координ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Экспликация график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ловесные пояснения к графику. Они включают: заголовок графика, единицы измерения, условные обозначения, подписи вдоль масштабных шкал и пояснения к отдельным частям графика. Если на одном графике  нанесено несколько линий (фигур), то для каждой из них необходимо указать название в форме условного обозначения за пределами поля графика или рядом с линиями (фигурами)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Классификация видов статистических графиков по способу их построения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278136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линейные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радиальные (лепестковые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толбиковые (ленточные) диаграмм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екторные (круговые) диаграмм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фигур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Линейный график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84072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Лепестковая диаграмма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042920" y="981000"/>
            <a:ext cx="6842160" cy="5877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4" name="Picture 4" descr="imagesCA8GXNTX"/>
          <p:cNvPicPr/>
          <p:nvPr/>
        </p:nvPicPr>
        <p:blipFill>
          <a:blip r:embed="rId1"/>
          <a:stretch/>
        </p:blipFill>
        <p:spPr>
          <a:xfrm>
            <a:off x="611280" y="404640"/>
            <a:ext cx="8064360" cy="59770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84360" y="26028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татистические таблицы и графики являются наиболее рациональными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формами представления результатов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статистического наблюдения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Столбиковые диаграммы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480000" cy="5185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Секторная (круговая) диаграмма</a:t>
            </a:r>
            <a:br>
              <a:rPr sz="36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Профессиональные театры России в % к итогу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64" name="Picture 4" descr="clip_image002"/>
          <p:cNvPicPr/>
          <p:nvPr/>
        </p:nvPicPr>
        <p:blipFill>
          <a:blip r:embed="rId1"/>
          <a:stretch/>
        </p:blipFill>
        <p:spPr>
          <a:xfrm>
            <a:off x="2050920" y="1700280"/>
            <a:ext cx="504216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C:\Documents and Settings\Саша\Мои документы\Мои рисунки\Организатор клипов (Microsoft)\j0396490.wmf"/>
          <p:cNvPicPr/>
          <p:nvPr/>
        </p:nvPicPr>
        <p:blipFill>
          <a:blip r:embed="rId1"/>
          <a:stretch/>
        </p:blipFill>
        <p:spPr>
          <a:xfrm>
            <a:off x="7093080" y="3789360"/>
            <a:ext cx="1079280" cy="1143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C:\Documents and Settings\Саша\Мои документы\Мои рисунки\Организатор клипов (Microsoft)\j0396490.wmf"/>
          <p:cNvPicPr/>
          <p:nvPr/>
        </p:nvPicPr>
        <p:blipFill>
          <a:blip r:embed="rId2"/>
          <a:stretch/>
        </p:blipFill>
        <p:spPr>
          <a:xfrm>
            <a:off x="684360" y="2997360"/>
            <a:ext cx="1990440" cy="2106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C:\Documents and Settings\Саша\Мои документы\Мои рисунки\Организатор клипов (Microsoft)\j0396490.wmf"/>
          <p:cNvPicPr/>
          <p:nvPr/>
        </p:nvPicPr>
        <p:blipFill>
          <a:blip r:embed="rId3"/>
          <a:stretch/>
        </p:blipFill>
        <p:spPr>
          <a:xfrm>
            <a:off x="3995640" y="3357720"/>
            <a:ext cx="1582920" cy="16747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0"/>
          <p:cNvSpPr/>
          <p:nvPr/>
        </p:nvSpPr>
        <p:spPr>
          <a:xfrm>
            <a:off x="1332000" y="476280"/>
            <a:ext cx="662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cc"/>
                </a:solidFill>
                <a:latin typeface="Garamond"/>
              </a:rPr>
              <a:t>Фигурная диаграмма</a:t>
            </a:r>
            <a:r>
              <a:rPr b="0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2906"/>
                </a:solidFill>
                <a:latin typeface="Garamond"/>
              </a:rPr>
              <a:t>Посадка леса в Росс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914760" y="219564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Times New Roman"/>
              </a:rPr>
              <a:t>1992  г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3852360" y="2205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Garamond"/>
              </a:rPr>
              <a:t>2000 г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805080" y="2205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00"/>
                </a:solidFill>
                <a:latin typeface="Garamond"/>
              </a:rPr>
              <a:t>2006 го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885240" y="537516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2906"/>
                </a:solidFill>
                <a:latin typeface="Garamond"/>
              </a:rPr>
              <a:t>447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   </a:t>
            </a:r>
            <a:r>
              <a:rPr b="1" lang="ru-RU" sz="2400" spc="-1" strike="noStrike">
                <a:solidFill>
                  <a:srgbClr val="462906"/>
                </a:solidFill>
                <a:latin typeface="Garamond"/>
              </a:rPr>
              <a:t>тыс. г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3691440" y="537516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aramond"/>
              </a:rPr>
              <a:t>  </a:t>
            </a:r>
            <a:r>
              <a:rPr b="1" lang="ru-RU" sz="2400" spc="-1" strike="noStrike">
                <a:solidFill>
                  <a:srgbClr val="462906"/>
                </a:solidFill>
                <a:latin typeface="Garamond"/>
              </a:rPr>
              <a:t>263   тыс. г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6562440" y="537516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2906"/>
                </a:solidFill>
                <a:latin typeface="Garamond"/>
              </a:rPr>
              <a:t>194</a:t>
            </a:r>
            <a:r>
              <a:rPr b="1" lang="en-US" sz="2400" spc="-1" strike="noStrike">
                <a:solidFill>
                  <a:srgbClr val="462906"/>
                </a:solidFill>
                <a:latin typeface="Garamond"/>
              </a:rPr>
              <a:t>  </a:t>
            </a:r>
            <a:r>
              <a:rPr b="1" lang="ru-RU" sz="2400" spc="-1" strike="noStrike">
                <a:solidFill>
                  <a:srgbClr val="462906"/>
                </a:solidFill>
                <a:latin typeface="Garamond"/>
              </a:rPr>
              <a:t> тыс. г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158320" cy="1358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Классификация видов статистических графиков по задачам изображения: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99640" y="2565360"/>
            <a:ext cx="77756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иаграммы сравнени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иаграммы структуры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иаграммы динамик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диаграммы взаимосвяз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артограммы (точечные и фоновые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картодиаграмм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efee"/>
                </a:solidFill>
                <a:latin typeface="Garamond"/>
              </a:rPr>
              <a:t>Число дошкольных образовательных учреждений, тыс. штук</a:t>
            </a: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539640" y="1484280"/>
          <a:ext cx="8136000" cy="489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4280"/>
                    <a:ext cx="8136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Картограмма</a:t>
            </a:r>
            <a:br>
              <a:rPr sz="3600"/>
            </a:b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Коэффициент обеспеченности собственными средствами региональных бюджетов по субъектам РФ 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207280" cy="4781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артодиаграмм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3" name="Рисунок 2" descr=""/>
          <p:cNvPicPr/>
          <p:nvPr/>
        </p:nvPicPr>
        <p:blipFill>
          <a:blip r:embed="rId1"/>
          <a:srcRect l="0" t="0" r="2750" b="9471"/>
          <a:stretch/>
        </p:blipFill>
        <p:spPr>
          <a:xfrm>
            <a:off x="125280" y="1484280"/>
            <a:ext cx="889344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Проверьте  себя!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5" name="imgb" descr="small"/>
          <p:cNvPicPr/>
          <p:nvPr/>
        </p:nvPicPr>
        <p:blipFill>
          <a:blip r:embed="rId1"/>
          <a:stretch/>
        </p:blipFill>
        <p:spPr>
          <a:xfrm>
            <a:off x="1332000" y="1268280"/>
            <a:ext cx="6696000" cy="525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1. Статистическая таблица представляет собой:</a:t>
            </a:r>
            <a:br>
              <a:rPr sz="40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а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условное изображение числовых величин посредством линий, фигур, рисунк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систему строк и столбцов с данными о каком-либо социально-экономическом явлен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2760" indent="-5727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географическую характеристику изучаемых явлени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2.  В таблицу могут заноситься величины:</a:t>
            </a:r>
            <a:br>
              <a:rPr sz="40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9640" y="3284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а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только относительные;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только абсолютные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абсолютные и относительные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Статистическая таблица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орма систематизированного и наглядного изложения статистической информации в виде взаимопересекающихся горизонтальных и вертикальных линий. Каждая статистическая таблица имеет подлежащее и сказуемо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33cccc"/>
                </a:solidFill>
                <a:latin typeface="Garamond"/>
              </a:rPr>
              <a:t>подлежаще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– то, о чём говорится в таблице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33cccc"/>
                </a:solidFill>
                <a:latin typeface="Garamond"/>
              </a:rPr>
              <a:t>сказуемое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– то, что говорится о подлежащем, его характеристика с помощью численных значений системы показателе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3. Объектом изучения единицы статистической совокупности выступает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2637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а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подлежащее статистической таблиц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сказуемое статистической таблиц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статистическая совокупность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4. Перечень числовых показателей, характеризующих объект изучения, представляет собой: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2781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а</a:t>
            </a: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подлежащее статистической таблиц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сказуемое статистической таблиц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единица статистической совокупности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cc"/>
                </a:solidFill>
                <a:latin typeface="Garamond"/>
              </a:rPr>
              <a:t>5.  Под системой строк и столбцов, в которых в определённой последовательности и связи излагается  статистическая информация о социально-экономических явлениях, понимают</a:t>
            </a:r>
            <a:r>
              <a:rPr b="0" lang="ru-RU" sz="2800" spc="-1" strike="noStrike">
                <a:solidFill>
                  <a:srgbClr val="33cccc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а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текст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график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таблиц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г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статистическую таблиц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922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6.  В статистике графиком называют: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а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форму наглядного представления статистической информац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условное изображение числовых величин и их соотношение посредством линий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1120" indent="-591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изложение статистической информации о социально-экономических явлениях слова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7.  Изобразить возрастную структуру населения страны можно при помощи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1280" y="2636640"/>
            <a:ext cx="82296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а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картограмм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секторной диаграмм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картодиаграмм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97240" indent="-59724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г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линейного графика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8.  Изобразить динамику численности населения страны можно при помощи:</a:t>
            </a:r>
            <a:br>
              <a:rPr sz="36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314172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а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картограммы;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секторной диаграмм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картодиаграмм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г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линейного графика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9efee"/>
                </a:solidFill>
                <a:latin typeface="Garamond"/>
              </a:rPr>
              <a:t>9.  Под экспликацией графика понимают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а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место, где расположен графический образ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б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совокупность точек, с помощью которых изображаются статистические величины;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spcBef>
                <a:spcPts val="85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3300"/>
                </a:solidFill>
                <a:latin typeface="Garamond"/>
              </a:rPr>
              <a:t>в)</a:t>
            </a:r>
            <a:r>
              <a:rPr b="1" lang="ru-RU" sz="3400" spc="-1" strike="noStrike">
                <a:solidFill>
                  <a:srgbClr val="ffffff"/>
                </a:solidFill>
                <a:latin typeface="Garamond"/>
              </a:rPr>
              <a:t>   словесное пояснение содержания графика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4" name="Picture 3" descr="photo_verybig_603899"/>
          <p:cNvPicPr/>
          <p:nvPr/>
        </p:nvPicPr>
        <p:blipFill>
          <a:blip r:embed="rId1"/>
          <a:stretch/>
        </p:blipFill>
        <p:spPr>
          <a:xfrm>
            <a:off x="900000" y="836640"/>
            <a:ext cx="7488360" cy="52563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1332000" y="1125360"/>
            <a:ext cx="50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e6b"/>
                </a:solidFill>
                <a:latin typeface="Garamond"/>
              </a:rPr>
              <a:t>Спасибо за внимание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efee"/>
                </a:solidFill>
                <a:latin typeface="Garamond"/>
              </a:rPr>
              <a:t>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b9efee"/>
                </a:solidFill>
                <a:latin typeface="Garamond"/>
              </a:rPr>
              <a:t> </a:t>
            </a:r>
            <a:r>
              <a:rPr b="1" i="1" lang="ru-RU" sz="2000" spc="-1" strike="noStrike">
                <a:solidFill>
                  <a:srgbClr val="b9efee"/>
                </a:solidFill>
                <a:latin typeface="Garamond"/>
              </a:rPr>
              <a:t>Таблица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Производство кондитерских изделий по месяцам 20__ г. </a:t>
            </a:r>
            <a:br>
              <a:rPr sz="2000"/>
            </a:br>
            <a:r>
              <a:rPr b="1" lang="ru-RU" sz="2000" spc="-1" strike="noStrike">
                <a:solidFill>
                  <a:srgbClr val="b9efee"/>
                </a:solidFill>
                <a:latin typeface="Garamond"/>
              </a:rPr>
              <a:t>на кондитерской фабрике</a:t>
            </a:r>
            <a:endParaRPr b="1" lang="en-US" sz="2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1844640"/>
          <a:ext cx="8229600" cy="4549680"/>
        </p:xfrm>
        <a:graphic>
          <a:graphicData uri="http://schemas.openxmlformats.org/drawingml/2006/table">
            <a:tbl>
              <a:tblPr/>
              <a:tblGrid>
                <a:gridCol w="866880"/>
                <a:gridCol w="1576080"/>
                <a:gridCol w="1111320"/>
                <a:gridCol w="920880"/>
                <a:gridCol w="922320"/>
                <a:gridCol w="920880"/>
                <a:gridCol w="922320"/>
                <a:gridCol w="988920"/>
              </a:tblGrid>
              <a:tr h="335160"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№№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Наименование показател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Произведено по месяцам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Итого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      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Шокола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Карам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c1c1c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 gridSpan="3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Подлежащ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6e6b"/>
                          </a:solidFill>
                          <a:latin typeface="Times New Roman"/>
                          <a:ea typeface="Times New Roman"/>
                        </a:rPr>
                        <a:t>Сказуем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budget[1]"/>
          <p:cNvPicPr/>
          <p:nvPr/>
        </p:nvPicPr>
        <p:blipFill>
          <a:blip r:embed="rId1"/>
          <a:stretch/>
        </p:blipFill>
        <p:spPr>
          <a:xfrm>
            <a:off x="826920" y="765000"/>
            <a:ext cx="749016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Требования, предъявляемые к статистическим таблицам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044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мпактность и включение только самой необходимой информаци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сутствие общего названия, кратко отражающего основное содержание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четкое и краткое наименование показателей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личие единиц измерения для каждого показателя, а в случае их идентичности –  измерители выносят  над таблицей справа в скобках, нумерация колонок: буквами алфавита – подлежащее, а цифрами – колонки сказуемого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динаковая степень точности числовых значений каждого показателя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спользование жирного шрифта для выделения данных итоговых строк и колонок (граф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именение специальных условных обозначений при заполнении табли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9efee"/>
                </a:solidFill>
                <a:latin typeface="Garamond"/>
              </a:rPr>
              <a:t>В зависимости от строения подлежащего и сказуемого различают три вида статистических таблиц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206028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33cccc"/>
                </a:solidFill>
                <a:latin typeface="Garamond"/>
              </a:rPr>
              <a:t>простая таблица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, подлежащее которой содержит, например, перечень видов продукции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51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33cccc"/>
                </a:solidFill>
                <a:latin typeface="Garamond"/>
              </a:rPr>
              <a:t>групповая таблица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, где информация сгруппирована по какому-либо признаку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000" spc="-1" strike="noStrike">
                <a:solidFill>
                  <a:srgbClr val="33cccc"/>
                </a:solidFill>
                <a:latin typeface="Garamond"/>
              </a:rPr>
              <a:t>комбинационная таблица</a:t>
            </a: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 содержит информацию, сгруппированную по нескольким признакам, как в подлежащем так и в сказуемом таблицы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l_fi" descr="front-slide7"/>
          <p:cNvPicPr/>
          <p:nvPr/>
        </p:nvPicPr>
        <p:blipFill>
          <a:blip r:embed="rId1"/>
          <a:stretch/>
        </p:blipFill>
        <p:spPr>
          <a:xfrm>
            <a:off x="900000" y="765000"/>
            <a:ext cx="7417080" cy="53024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2050920" y="151704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рафи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1717560" y="16995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рафик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1332000" y="1040760"/>
            <a:ext cx="33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66"/>
                </a:solidFill>
                <a:latin typeface="Georgia"/>
              </a:rPr>
              <a:t>Графики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-4212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3600" spc="-1" strike="noStrike">
                <a:solidFill>
                  <a:srgbClr val="33cccc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33cccc"/>
                </a:solidFill>
                <a:latin typeface="Garamond"/>
              </a:rPr>
              <a:t>Графики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рочно вошли в повседневную жизнь экономистов, статистиков и работников учета, имеющих дело с большим количеством цифр, сведённых в громоздкие таблицы. В силу своей наглядности и доходчивости графики широко используются для иллюстрации достижений и перспектив развития различных организаций, отраслей и экономики страны в целом. Поэтому </a:t>
            </a:r>
            <a:r>
              <a:rPr b="1" lang="ru-RU" sz="3200" spc="-1" strike="noStrike">
                <a:solidFill>
                  <a:srgbClr val="33cccc"/>
                </a:solidFill>
                <a:latin typeface="Garamond"/>
              </a:rPr>
              <a:t>статистические графики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еобходимо уметь строить и читать, знать для каких целей составляется график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8:43:03Z</dcterms:created>
  <dc:creator>таня</dc:creator>
  <dc:description/>
  <dc:language>en-US</dc:language>
  <cp:lastModifiedBy>юзер</cp:lastModifiedBy>
  <dcterms:modified xsi:type="dcterms:W3CDTF">2017-02-28T10:49:48Z</dcterms:modified>
  <cp:revision>65</cp:revision>
  <dc:subject/>
  <dc:title>Слайд 1</dc:title>
</cp:coreProperties>
</file>