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8A91-C5A9-4883-9413-E3A2BA97DC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Этюды           Ю.В                  Стихи Смирновой Т. 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удожник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360-3C89-4865-95A6-51DCCF2FA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C704-486A-4555-A203-EF79A24E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5341-2454-484B-B848-421FEABA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48F2-3DD2-44C5-925D-32E304494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146A2-2200-4CA4-8113-937296F3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89AF7-46A0-474E-B3A3-7C768046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328BEC-3C35-49E7-BA41-244CD28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38054-A581-407D-8CF1-8A8F25FE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CD4DD-467E-46F9-880C-1791429F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7D0628-61F0-4C34-B492-29850671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484BA-1AB9-4C7F-BE56-96B5CCC3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1A57-766D-444C-A8AE-1C3F5F48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2337D-8B12-4442-B654-6D6EA9D8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F5324-7AA5-46FC-9B00-925A29E0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C9D52-C00B-4447-8DAC-274DFD2F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827848-6D3A-4F97-93B8-C1E0F861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035F1-2DB0-43DA-A576-D1D93391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D3B5A-91C9-428C-8065-CD8B6F32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64384-F757-4389-A0A7-CEAF78F9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FE4BA-590B-4EFF-8DA9-5B9AD49B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32B3C-8EBC-4B68-BF6C-34BE65FB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A435F-59D8-43E5-B147-937A000F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6A9-C191-4C02-98C6-E676A164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3F67B-A693-4490-914F-ED0B8E31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B5876-A758-4B29-897C-245FC699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41A0F-2FF6-4B87-8D63-137B4496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1302-03F3-4625-8ED9-E5204D0F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7047A-767F-428E-8C0C-44508C35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4A6E-F3F5-4BD6-8669-8BFFAD69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F791C-F3A5-4BD0-9D16-00827ABA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A1D7-9C96-482C-AB84-51A2E9AEE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47E25-0FF5-468D-B8CE-8F7280EE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17415-55F1-4B4B-B98A-9E0B13A5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96E-E18E-4A20-9CDF-9CB6CDBA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010C0-E7CE-449D-807D-29FBF0938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DA7A9-0CB1-4A23-80D0-58781A46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A1151-6043-4473-AFEC-AF03E981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1E5B0-EB38-4FD0-B003-7E971E40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2BA85-E9BE-42A2-8970-38C7DE8F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4FF19-2EF6-46DE-A056-86E801E1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4A962-5A5C-4C86-87B7-3EC81A13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62A39-B34E-4FFA-B776-66A347580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3E616-6AF2-4B31-AF34-FA9BD206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5866F-EEF7-4DCD-9E29-3CCAAE76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591D-DDBD-4919-AC68-41A30D65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8CE5AA-7A46-4C39-8EAE-C0BA3537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540D1E-C14D-43FA-B678-988E1F9D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E5EDF3-C434-489A-A81D-7EDAEBD9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7AFCBE-02CD-40E6-B2C0-78674697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1CBDAA-B69B-497C-8251-8573A9C8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F389E-5811-487B-8FB5-C7DC9E6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BA8FC-E41E-4162-94D0-16B30A5D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1B6DE6-53EB-40F6-9AB8-B31C5FD8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870722-9E81-46A9-AB54-2E931E69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BAE4A-F521-42C0-B18E-A712D21A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7882-4AEB-4773-BA16-A3DBF1DA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0E959-9A39-4888-B5CC-CAEE0796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8E1-888E-44F0-B256-CB097494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06D2-037B-4ACF-9685-8242146C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647-8AD8-43C1-A092-A5DE2627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28FC-3A52-4FAA-A8CD-B7AEDA2A8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B5D7-3475-44AF-BB00-0AAAE11A6B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48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605E-4AF8-4566-BBBB-2802420882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04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56DD-68E3-4A7B-9AC5-0FFB0E04A3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2048-C335-46F0-A787-9867FAA746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ланты Богород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©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Истрина Татьяна Валерь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fff66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енний д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24000" y="112536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716360" y="1179360"/>
            <a:ext cx="4127760" cy="30956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нова осень глядит серди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лые слезы во взгляде блестя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копилки её разби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олотые монеты летя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24000" y="38289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 не люблю следить, как увядаю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вои цветы над блеском хрусталя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от так же наши чувства догораю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Часы – торопят. Вертится Зем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лепестки, роскошные вначал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ускнеют, опадают и дрожат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, как восторги наши и печал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дне души забытые лежа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гда же я с цветами распрощаюс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хрустали блестят себе, пусты, 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о сердце тихая тревожит жал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 беспечности минутной крас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395280" y="907920"/>
            <a:ext cx="3768840" cy="28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ffffff"/>
            </a:gs>
            <a:gs pos="100000">
              <a:srgbClr val="ffff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анная работа может использоваться на уроках краеведения, литературного чтения, изобразительного искусства. Дети не только знакомятся с талантами наших земляков, но и познают необычайно личностный колорит каждого из них, который, странным образом касается всех нас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1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Используемая литература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борник стихов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мирновой Татьяны Ивановн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«Лицом к лицу с судьбою» и «Второе дыхание» - «ОЛМА – ПРЕСС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5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Этюды и репродукции картин предоставлены Ногинскими художниками и их родственниками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люкин Олег Павлов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заслуженный художник России),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занов Юрий Викторов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акварель)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утеев Алексей Николаеви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график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25892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 детей с творчеством наших поэтов, художник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ивить любовь к прекрасно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Уметь находить необычное в окружающем нас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имушка - з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ью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ьюга неистово зли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ухнет сугроб за ок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де моя синяя пт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шет замёрзшим крыл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частье так часто мне снитс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 не сбываются с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тебе холодно, птиц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к далеко до ве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ак надоели мете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няя зимняя мг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т бы дожить до кап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от бы дожить до тепл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395280" y="1197000"/>
            <a:ext cx="3538440" cy="26542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395280" y="3933720"/>
            <a:ext cx="3610080" cy="27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85080" cy="618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e2e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размытым дорогам вес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обрывки неясных мелодий,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доевшие зимние с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олода и печали уходя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размытым дорогам вес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щё дремлет снежок по канав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янет за ноги топкая гряз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 проклюнулись первые трав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на солнышко смотрят, смеяс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онный дачник приходит в движенье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тлежавши за зиму б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гусар отставной по -  сраженья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 граблям стосковалась рука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ы за тёмными прячем очк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шалевший от радости взгля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нова пахнут  костры шашлы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 на родину птицы летя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716360" y="907920"/>
            <a:ext cx="3697560" cy="27734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4716360" y="3789360"/>
            <a:ext cx="3768840" cy="282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дравствуй, лето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697716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26920" y="476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 плену сезонных перем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ж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мнеет лес. Река осты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емля давно насквозь промок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третий день долбят уны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жди по жести и по стёкл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т и ответила прир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 причитанья о жа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ровно в середине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с мочит, словно в сентяб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еперь – не душно и не сух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 жжёт загар, не каплет пот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т надоедливого пуха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прохудился небосвод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сти, природа за придир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воих балованных детей,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шей в небесном своде дырк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осуши… И обогре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997440" cy="5329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1:15:06Z</dcterms:created>
  <dc:creator>user</dc:creator>
  <dc:description/>
  <dc:language>en-US</dc:language>
  <cp:lastModifiedBy>Admin</cp:lastModifiedBy>
  <dcterms:modified xsi:type="dcterms:W3CDTF">2011-12-17T20:06:07Z</dcterms:modified>
  <cp:revision>11</cp:revision>
  <dc:subject/>
  <dc:title>Таланты Богородска</dc:title>
</cp:coreProperties>
</file>