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6F26-7DC8-4FE6-A1DE-808CB3351A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юды           Ю.В                  Стихи Смирновой Т. 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удожник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B50-6B73-4C1C-ACD7-7B997828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AEB-4847-4B4E-BA12-88BC6415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C95-63E4-41B1-BE52-45E515E3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B5E-82DF-43B9-BB99-D0EDFD1E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972AC-16AD-4839-BDF3-903EC546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11D09-7CD1-4C14-A24C-4B65DD2F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19C63-C3A4-4D6E-B580-E34567D4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1792F-CE74-4564-92F4-3F850639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A1664-7888-425E-8D2F-19386E61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12A0D-0F12-417E-B993-D7F50AEE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72BE4-488F-4C70-83D9-E8A1FB67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CC4-8DB3-45C2-A576-E26AF583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94CDF-E1A4-473F-A44D-B9EA3E8A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FEE4B-BC79-429B-9CB8-CA2F76A3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BCB13-0F51-4778-8638-8FCCBDFC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F911D-AA44-4F20-B0DE-E18053E7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A5201-E6CF-4E17-BB3E-3DF5FC41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A7D8-1388-4BEE-86EE-60CDB3E8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9869-394C-4A05-8692-3D01EE7E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7828-1051-4CE4-BE73-7FA7512F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283A0-0496-400E-8BBE-FA09B68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DA17-6CB0-4619-A1F5-CCAD2838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86A-86E3-46D8-A713-F826790C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A5141-93D0-4A62-9E83-8A2B60FD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37DA-CCA9-4462-828E-15E04119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47B3-1956-482E-BDD3-FE66C2F1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2C91-908E-4C70-AC69-38BFBECE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46C04-8727-4D82-9DB6-5C211C7E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AD29-27DF-4787-BEF3-04F17176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2222B-489C-42F4-B478-6E6AE848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0456-5EA3-4918-AB59-7AF1B2A5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DD70-4A72-4CB7-89C1-EB11B02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CB222-FD23-4962-8940-D13717AF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B84-C344-4846-A3A4-D667EA4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A84F-A2A3-4AF4-BEE5-E94F96DF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326B5-CC79-4946-A09B-EBA376DC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E6C8-42FB-473C-9971-B12AA1C3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B7B07-9340-486F-BF8F-61C4FF74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3D66-3D9C-4CFC-94A6-BDA0DF5D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C0C2-63E8-41C4-A914-24D56D8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FF1C-522E-4244-B862-14FB89B3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2C3E-C6A4-4B57-A4A7-7A9A7062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04A49-1603-45F1-AEF2-6943EE7C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5D179-515A-4C39-AFBE-32CA515E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129-264F-4877-85C9-5CDDF814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4F901-BDA4-4794-A414-5660BE2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4BCBC-D65C-4126-BC96-06D0B660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19114-ECFC-4731-9F5B-3D4E4646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3B766-741B-47C9-9E9B-9B9B2A47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C3A73-F10C-4A58-B4C1-90243983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15D39-84E0-4E60-8D50-5F18BAFD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1EAE6-5764-4326-866D-F672F19E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8CC57-FB07-422D-AEA7-7C6C720F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DB4DC-0BA4-4189-A956-1F0E0C37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611F6-C844-4C50-A33E-B1C00019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28D-E2A1-4602-BDB3-AD28B503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14631-8E52-45F0-A4F9-494B1634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BC4-A802-4D21-9A1C-65F8FA83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084-0637-4A95-B246-653AF57B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94E-588C-40C7-A4E5-F8318D5F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DF94-4C74-456B-8610-1F0CF43B8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A91C-A9D9-4853-8366-4213319D21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ED98-60AA-4ED5-AE3F-FFA881FD9F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EBF5-5D81-46A7-8A92-8D49F9323F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D3DE-1B53-4920-87B9-FF6569386E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ланты Богород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Истрина Татьяна Вале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66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енний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716360" y="1179360"/>
            <a:ext cx="4127760" cy="3095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ова осень глядит серди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лые слезы во взгляде блест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копилки её разби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олотые монеты летя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24000" y="38289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 не люблю следить, как увяд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вои цветы над блеском хрустал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т так же наши чувства догораю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асы – торопят. Вертится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лепестки, роскошные внача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ускнеют, опадают и дрож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, как восторги наши и печа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не души забытые леж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гда же я с цветами распрощаю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хрустали блестят себе, пусты, 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о сердце тихая тревожит жал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беспечности минутной крас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68840" cy="28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нная работа может использоваться на уроках краеведения, литературного чтения, изобразительного искусства. Дети не только знакомятся с талантами наших земляков, но и познают необычайно личностный колорит каждого из них, который, странным образом касается всех н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Используемая литература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борник стихо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мирновой Татьяны Ивановн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«Лицом к лицу с судьбою» и «Второе дыхание» - «ОЛМА – ПРЕСС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5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юды и репродукции картин предоставлены Ногинскими художниками и их родственниками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юкин Олег Павлов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заслуженный художник России)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занов Юрий Викторов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акварель)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утеев Алексей Николаев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графи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5892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 детей с творчеством наших поэтов, художни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ивить любовь к прекрасн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меть находить необычное в окружающем нас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имушка - 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ьюга неистово зл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хнет сугроб за ок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моя синяя п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шет замёрзшим крыл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частье так часто мне сни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не сбываются 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тебе холодно, птиц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далеко до ве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надоели мет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няя зимняя м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т бы дожить до кап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т бы дожить до теп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538440" cy="2654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95280" y="3933720"/>
            <a:ext cx="361008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85080" cy="61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e2e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размытым дорогам вес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обрывки неясных мелодий,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доевшие зимние с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олода и печали уходя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размытым дорогам вес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щё дремлет снежок по канав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янет за ноги топкая гр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проклюнулись первые трав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на солнышко смотрят, смея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нный дачник приходит в движен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ежавши за зиму б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гусар отставной по -  сраженья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граблям стосковалась ру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ы за тёмными прячем оч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шалевший от радости взгл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ова пахнут  костры шашлы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на родину птицы летя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3697560" cy="2773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3768840" cy="28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дравствуй, лет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97716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плену сезонных перем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ж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мнеет лес. Река осты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емля давно насквозь промок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третий день долбят уны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жди по жести и по стёкл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 и ответила при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причитанья о жа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ровно в середине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с мочит, словно в сентяб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перь – не душно и не сух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 жжёт загар, не каплет по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т надоедливого пух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прохудился небосв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сти, природа за приди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воих балованных детей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шей в небесном своде дыр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осуши… И обогре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997440" cy="532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1:15:06Z</dcterms:created>
  <dc:creator>user</dc:creator>
  <dc:description/>
  <dc:language>en-US</dc:language>
  <cp:lastModifiedBy>Admin</cp:lastModifiedBy>
  <dcterms:modified xsi:type="dcterms:W3CDTF">2011-12-17T20:06:07Z</dcterms:modified>
  <cp:revision>11</cp:revision>
  <dc:subject/>
  <dc:title>Таланты Богородска</dc:title>
</cp:coreProperties>
</file>