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97FA5-299B-4AF9-983E-EED187A620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81A5-D441-4CAA-84E0-5E6CA383FDB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D6711C-4EE4-4AE6-A510-47A4BCE910E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BD4495-7025-48BE-9795-BAAE120B226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F692F9-7D3A-4E04-BE22-F062301399B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FDEA2-9C85-49F3-8BAB-02331C70A3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E94C5-22AE-4D85-AA6E-E2B1C75DAF3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89B64-587B-41DD-9AB1-58734BBA5E0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E4A567-0C5A-4553-8A26-3DED3A6E15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025940-32A3-4C3F-8CE5-2D3C1EDF3CC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E42C8-DD2E-4B8A-AA33-0B98BCFA1B4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A7432-11AE-4C10-AC49-68878275A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C0093-89D1-4EA3-A79A-F3E40268157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9DAFF-AF68-4765-9C0C-0F30AA6E121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82BBD-0306-4C26-B2AD-D78ECF2C1F8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5376A-B401-400B-A855-137B08C2166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90623-EB74-4C10-BB00-114D7BF3067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A72F4-C0C3-4E28-80E8-0E2DAF78792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54A6E-E36D-438E-A8F2-8EFB659D5AF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7CAB2-965C-4A5A-8F25-E778E65F063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A3DAD-479F-4452-9B60-B7056997EB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69F61-2477-47B3-81CC-3BFC80DBAFE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54986-F2C9-45E7-BD40-BC2A5E322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219C-8137-4779-ACF1-EB8D7182A78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216C6-1FAC-4983-BC6B-CEBADC56CB3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879E-7917-4157-80EF-DF0F87B2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4BFE-6387-402D-A019-BF8BC4F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42485-B589-49AF-A254-3C394E8C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5781D-AB7B-4FC6-B5F3-C3ACB3700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0E51C-8FE2-4041-836D-C5F722A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3E031-4647-4EC2-B5F7-E479DEE9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B94EF-94EE-4A81-9FEF-906E887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69C7F-97C7-42A1-A444-67913BF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88A84-F7A9-45C8-9966-3E852E67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3B061-5200-43FA-8216-A80FCB8DCBB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03D73-22CD-43B0-A94F-EA13209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3FF9-D5AC-4C17-8F19-B20E4DC9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4B228-FE97-4CF6-A873-46D58A58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70B45-11E1-4A51-96C2-27968566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76200-E42C-4888-9C64-F741A277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219DE-7E78-46FC-A44F-F77BCAA6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86FF7-9D9D-4DD2-BFCB-DEEF73A4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DC708-D857-4C06-835A-F80F25AE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D9144-B153-44D8-A2F0-6B59EB7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C7D9A-8C14-4B32-AECC-1F8AFE6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97ABB-061A-4435-B228-70EE0C80DE2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E3F6-1FD5-46E9-BDFD-FD482C1D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EA6CA-AFDB-4B39-8761-24CC4EA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0EB4E-43BA-470E-A1AD-39E7FF72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AB392-FBC0-4125-82C7-B4EE2190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BAA20-A88A-4B8D-AF37-1C19902B3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E6DE9D-18B9-41E8-9D9A-80589B3C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7813-55F4-4BCE-813D-67AE4CF6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DFCC-24F2-49DA-A460-088FF1F1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15453-7E11-465C-8491-2B35D30E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65661-A24E-4AB0-A5DA-9ACB9505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2A3CD-34D6-4A60-83B7-A661CAC41A8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521EA-7E9C-4E06-87E8-13380BF1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7D6D2E-00E2-4170-9E1C-62F9FD91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E9205-1B7D-4306-84B9-18EA2007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16B1B-4B9B-486E-B285-F51F334A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73ED-F19A-432B-B46B-8A7751C7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CCE56-2A9C-4796-9272-DF1F0A8F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7383A-1B7A-485A-80F4-EA895546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15750-C283-4DB9-A945-5D3774DC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1BBB9-1DE9-4060-9966-174D0A6C6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E2042-A2CE-4DB6-BCD4-3C77ECC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5CD82-DC66-48CF-8160-53406296F54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1A834-B466-423B-8789-5BC5C89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5CF3-59AE-4316-9248-B7404E8D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251E3-BAEC-4B5B-AF0C-D2799026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91C1D-9343-4262-B945-596BA974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F5BED-B836-4D63-B8B3-12A6793A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B6E5E-893A-4CFF-8945-5AAFC8F2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61CEE-D652-4572-8D01-AA2398A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F8AA1-72E1-40D8-9BCA-7C6B7890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B6F1D-BDD3-45AE-AAB5-1607A1D4D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26749E-5663-47D6-AE61-906572983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E2A48-3955-4594-9EAF-3364F7F8AE1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B80CB-B5FA-485F-AB91-CCC59A85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97F2A-6F56-4B0B-B49E-CB4698D0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2CB82-79FE-4BF2-B073-4264973C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58556-37F7-4207-88EE-19867276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872BC-1889-4540-85C9-5464C92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C9C80-B708-4695-9A82-4B0C0B0D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5A1CC-0524-4573-8DCC-D86BCF7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55821-EF3E-4DBE-9CDC-8A3E46A7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DBE717-90D8-4218-884D-C32F13F1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90F05-3F4E-4124-8340-1D3EC3DEE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982D-F715-415B-9305-35653D87776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2BDE3-D301-4EFD-9E0D-0722D97A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ED9CD-68C4-4748-934B-4413E462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E7433-A050-4AC4-9904-6D020642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3127F-DF60-4EAB-B06D-EDB082A6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12DB7-4E86-407A-B55D-EA72A55C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04CC3-61A7-4D0B-93D9-28785ED7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93643-A242-46AB-BF13-F622FC91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74BB3-F94D-4F0A-8644-AC138873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80DD4-D94B-4FEE-A84E-FF20B3A1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35E5E-1203-4A0E-811A-41CC94D0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5E46-3D03-40F1-9E08-07BAB044249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D58FF-88E7-481C-A021-FCDBC4C8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AC882-EC32-443B-A6FB-6FCD2E173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2C71F-E905-41B1-9B66-608D5FE5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D0CE12-60D3-446A-853E-F27A9E24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E0046-B42D-4708-88C0-4D7600A5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2CF3D-2405-4753-9DCC-EA044982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EE539-6970-4714-9EF9-F571F53E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7FEF1-498A-4FDB-B7F6-096AD93B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7F5E9-5DD9-48BF-8DB4-8C64A609B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92FF2-374A-4974-B27D-B74CC78D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DB2E-996D-4714-A6A4-75EF286BEA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F521F-56A3-479A-B683-813E4FC56D01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BEF37-8F55-48D5-9B42-74631A38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6BD374-8023-4183-AACE-1D0DBF5D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58AEB-BEE3-4E34-A029-09F3CF6A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EBA4C7-E11A-4971-BC4A-ABD348D5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0072A-D915-4F16-8AD9-7F363AD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2854A-2AAB-4178-84C6-393F3116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64191-DF87-40FC-86D0-E34A6D162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7A766-37EA-4F64-9857-6424C052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E4B8E-7D1E-4CAE-98C3-DCF5E9E9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3BC8E-4B91-4FE8-A79F-27633F2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3E08D-C581-4F3F-8705-592051651DE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7E070-4B74-4B1D-A8D9-6A8FE554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3FA88-489C-4928-A5F4-19B5016C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D613B-6CAE-4851-9B96-161CDCF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25AD1A-DF40-4166-B35D-1BA7B3F1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325E9-B046-4090-932D-81840130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56185B-A001-43EE-876D-1CD2E04E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C5769-EE66-42A9-9479-AE24122E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EDBC7-01F7-4C11-A8EC-F76D7F8E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39825-9FE0-4B0E-856D-F7FA70A8E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85F38-B624-4138-9AA7-AAE107B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0C70C-7072-491A-9D6D-B67170FB5E4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AD9EE2-94D0-4D2E-A47D-DFF63F6C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5A16C5-6748-4DCD-8B90-455148BE1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36ECB-9534-43EF-80E2-7035F25F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D7041-AF50-4C1E-851C-C39A5ABF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621D5-9881-4BB8-9DAA-BA8E141A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A32F3D-F4B4-4D7E-A524-504C0768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AE699-B5DE-41FF-92A0-CE5DFB2C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405A3-D3BF-4500-B0EB-834CAFDF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4A23E-F7B5-4647-B12F-E8F3ECC17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2BD232-78B3-4228-9D47-6572FFA8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5A09-7255-40A7-86CC-D849D608856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A888B-DC5E-49AF-B482-51693C5B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5817E-0CDA-4897-9AF4-4568530D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BAFBAC-0A60-40D3-9AB3-C42A30F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1A4D8-D989-44AE-AADD-563C9B39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FB0E2-98A8-4E1E-BDA8-9A00FE9C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1D6FC2-ED8E-4805-B539-8421F7F3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2DC43-C664-47D3-90FB-94C5BB01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795059-DE54-417E-AAF6-08C0A98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27338-5476-4BBA-BF8F-E4B87362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F84146-727C-4BFE-B7D7-849BC53F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33CA-CFBD-4884-8A40-62446CF0EC1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F54C8-2A93-4CB6-87CC-F0992A2F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A4EE59-488A-49CD-A854-81C35E3E9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05F76A-DEC8-413F-8365-AB51EEA8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2533C-77CA-4DA2-A699-6991DD7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B12751-B5BC-4CFA-8A1B-DFE80F88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89831-84BA-45B5-BE04-EBFF3579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083B01-74FE-486D-89AD-130E0BC7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9B8BE-B9FE-4B94-948E-CC3B2808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80FE2-C57A-44A0-837F-A34BF9DD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37337C-B382-412C-B4C1-C13BA324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038E2-76B3-451C-A033-1391B31A2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A9611-EB53-4648-9514-9E944741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195F5-BCF7-4DA2-845F-30974E24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1B0FE-EEC1-4EFE-99BB-C4177F86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7B6CE8-C1BE-4F7A-AB81-3C88B140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7D0F-F8AA-4772-AA86-BA92AED5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33D4D-C5F4-4ADA-8AC2-2C117A0BF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2F79B-6527-44C3-95FB-58CCAA07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FB07-8B8A-44B2-AC3C-8FBEC91C74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BB3B3-DE54-489D-AF86-B3E7037D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5E50C-C17C-48EF-8132-AA6C7FE4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5DA07-87D7-4265-9A7B-CF39FC69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84D6-D25B-4B0F-9AF8-42019B3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189376-F9ED-4963-BDBD-3DEE67DE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2EA8-3F53-4983-8E5B-EE9E1432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266CF-25B5-4CE3-9A84-B6627084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371B-F4DD-47C9-B85E-5EB4FDC52B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874F-6502-440C-BB1A-E8CD49E130E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4ABA-3799-427F-AF6E-5FE7034F2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0AA70-2EB6-4A67-98A9-B29D18C8B3A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C49C-75A6-4669-959E-5BA6875AE3D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CDDD-5B5B-4ADA-B822-7A0EAD031F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5AFD-CD04-4C68-BCDB-65FA11BBE3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ED9B-DDD9-4050-9F39-53BA36580A5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FA52-C11E-4A68-B979-4E65B38B02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EF2C-9CFE-4228-8410-31BE3DF446A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10C7-11E8-488D-B2F8-1E46960C2C6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EAC2-7540-4ED9-847C-4B1C2C64688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A663-599C-4D98-BD46-4FDA64B0EA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4C6174-F0A8-44B6-AD65-7BB3EBDF5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6EE54-A7ED-4AB4-8E29-38631D1F66B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F91AA-40A0-45BB-919A-DE0CE46ABAC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432FFC-DCBF-4E3A-B5C4-4A956461D2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6FAFDA-3614-43EC-860A-51D8E206ABF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E9EDC5-6582-49D9-B129-563C77845CD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26636-C028-4E83-87E9-0FF6F738E9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A5F532-EBF3-4FDD-8FAC-F0E9831990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339099-C012-455A-AE48-92A5D36FC15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AEDA1E-EDE0-44CD-9EF2-3397A6CA60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271860-C9E1-4FE8-9917-97829BE43D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4B284-5262-4CB7-84B2-029115977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9B605-0685-47B8-8B77-90A8A348A72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B5EBE-153F-4303-91EA-FDCB3A9DA4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D1D89-9AE2-456F-91AA-2EC91FA1C98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3273D-C902-4BF1-BDFB-74BDA693FD2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04C73-73AA-40AC-A2F9-CA6C16CDF1F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B1C513-2263-4D3B-8BC8-CB44DF5B66A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5D8DF-9734-420D-8DB9-10E9C344B50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C2091-9DB9-43FC-A61A-2A9D3952F24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E76AD-0681-48B4-898A-3BF76278338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681DC-E648-4C9B-A41E-76B92CFB390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CF9F3-E799-4CC3-A2CA-988379D22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BD206-8763-45CB-8755-D6274B457A0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118B16-2474-44A1-98DA-2CD89BE3257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DAD1D-D2A1-47EB-AD38-C71006456BE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80EEE-A09F-4AEB-A621-10416D050BA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5442F-2730-4038-99D5-663E1297AF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A2EAD-9FAE-4CEB-A369-01EFFC8AD5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6D469-2110-426E-96BF-3EEF28465A2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2F350-7F39-4F6B-8ADD-4B98B9E35A5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8B21C-1502-44BD-B650-66523C4F6AD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CEABD-9FE3-4932-A771-1299F03037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1F763-160C-4561-896A-73859CD9C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B9B1-F489-46E4-A7A3-0EAC643929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1A9DD-DD81-4633-A378-E488E49C25B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56A69-39D3-4048-9807-ED872DCA3FD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C8393-0F8B-4040-8A2E-0831078FB88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4231-C303-44BA-AC0D-0B44D17052A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B6045-4627-4284-8B88-FF826B8A36B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3FEEEF-B9FD-4328-BEFB-D6305FA5E6A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D0B6C9-78EA-4EDF-8776-E924312A209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DFCB6C-FDEC-4A2A-B760-E2AED69BC1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58FACF-427E-4433-ACFC-EAAE56230A0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54BEB7-AD2C-41ED-8121-DC599B6AF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A4B9-304E-4DAD-92A6-0D53892834E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58EE1F-75C7-4CE9-9E44-833279E367E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3BE26-7A42-4E44-916C-5704DD9EE5E9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E04965-F75B-4DD8-96FE-FB9B4F830EF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C8D1BA-F4A9-465B-A111-4A339D5F463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1285E-4C80-4F1C-AF74-E1C85FFC9F1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8731DD-D7BA-4260-94B8-FC4B653274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E22716-8C4A-488A-B39E-07E01E43A9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AEC60B-1798-4836-976F-F4A4F643105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EB4D71-AD52-4066-9068-935C496C1A9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BDDEED-25A1-4A2B-BDEC-EB689F6EF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169-7C7B-44A2-93FB-296443A184F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0CF-B6F8-47DF-9C65-D65EAB544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FEAC-5741-4642-820F-BD5FCF8FFE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E6D0-F2C0-4A5A-90E9-CA99CC7BC8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CDE9C-309F-4C1E-8987-419627EFE71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085B-A8D0-4447-97BC-5EC53B40A2E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C5E2-DE4C-4B02-8DBB-52CAD155C3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AB0A-56D1-45A2-9766-1AC49F63D3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20EA0-F41F-4788-98C6-18F36414D9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40C6-597A-4AD2-A152-29949D0EDFA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2984-A37D-4A2B-B782-5DD9944F2F0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F900-3DB3-46C5-8A48-7E14DAB84A9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0F0-0998-43C9-AD45-FAA19B77A01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1581-8F76-4AB7-8ED6-18D45D38192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E96C-88B9-4E5C-81C5-E859B91B31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114A-1F5C-4C00-85AC-FF235D796C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E4A4-5236-45A2-A2CE-03767C4399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8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B440-AB91-4454-A7CF-94F15B2C90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8959-B221-48E8-91DB-97E059F1F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F90C-E2C4-4A09-85D5-ED882416E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51C1-030E-469A-B1BE-547538C07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 txBox="1"/>
          <p:nvPr/>
        </p:nvSpPr>
        <p:spPr>
          <a:xfrm>
            <a:off x="684360" y="5300640"/>
            <a:ext cx="7920000" cy="7524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49000"/>
          </a:bodyPr>
          <a:p>
            <a:pPr marL="111960" indent="-111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Monotype Corsiva"/>
              </a:rPr>
              <a:t>Весна пришла, весне  дорогу!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  <a:p>
            <a:pPr marL="111960" indent="-11196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дготовила: Черных Т.А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2" name="Picture 6" descr="C:\Users\Samsung\AppData\Local\Temp\Rar$DR03.628\2.jpg"/>
          <p:cNvPicPr/>
          <p:nvPr/>
        </p:nvPicPr>
        <p:blipFill>
          <a:blip r:embed="rId1"/>
          <a:stretch/>
        </p:blipFill>
        <p:spPr>
          <a:xfrm>
            <a:off x="2124000" y="692280"/>
            <a:ext cx="3256200" cy="46083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7" descr="C:\Users\Samsung\AppData\Local\Temp\Rar$DR08.399\6.jpg"/>
          <p:cNvPicPr/>
          <p:nvPr/>
        </p:nvPicPr>
        <p:blipFill>
          <a:blip r:embed="rId2"/>
          <a:stretch/>
        </p:blipFill>
        <p:spPr>
          <a:xfrm>
            <a:off x="5580000" y="620640"/>
            <a:ext cx="3457800" cy="4606920"/>
          </a:xfrm>
          <a:prstGeom prst="rect">
            <a:avLst/>
          </a:prstGeom>
          <a:ln w="0">
            <a:noFill/>
          </a:ln>
        </p:spPr>
      </p:pic>
      <p:sp>
        <p:nvSpPr>
          <p:cNvPr id="864" name="TextBox 5"/>
          <p:cNvSpPr/>
          <p:nvPr/>
        </p:nvSpPr>
        <p:spPr>
          <a:xfrm>
            <a:off x="285840" y="142920"/>
            <a:ext cx="864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КДОУ Бутурлиновский детский сад общеразвивающего вида №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150"/>
          <p:cNvSpPr/>
          <p:nvPr/>
        </p:nvSpPr>
        <p:spPr>
          <a:xfrm>
            <a:off x="3000240" y="5357880"/>
            <a:ext cx="58327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Расцветают цветы и на деревьях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4" name="Picture 5" descr="http://img2.vetton.ru/upl/1000/23/vetton_ru_japanesenature39-2560x1600.jpg"/>
          <p:cNvPicPr/>
          <p:nvPr/>
        </p:nvPicPr>
        <p:blipFill>
          <a:blip r:embed="rId1"/>
          <a:stretch/>
        </p:blipFill>
        <p:spPr>
          <a:xfrm>
            <a:off x="237960" y="1557360"/>
            <a:ext cx="6696360" cy="46083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7" descr="http://www.xa-xa.org/uploads/posts/2011-04/1303200559_0085acd27a13.jpg"/>
          <p:cNvPicPr/>
          <p:nvPr/>
        </p:nvPicPr>
        <p:blipFill>
          <a:blip r:embed="rId2"/>
          <a:stretch/>
        </p:blipFill>
        <p:spPr>
          <a:xfrm>
            <a:off x="6084720" y="836640"/>
            <a:ext cx="2781360" cy="201600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9" descr="http://dongurman.ru/foto/pr150.jpg"/>
          <p:cNvPicPr/>
          <p:nvPr/>
        </p:nvPicPr>
        <p:blipFill>
          <a:blip r:embed="rId3"/>
          <a:stretch/>
        </p:blipFill>
        <p:spPr>
          <a:xfrm>
            <a:off x="6012000" y="4437000"/>
            <a:ext cx="2736720" cy="214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летели птички из теплых стран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9" name="Picture 7" descr="http://ecocollaps.ru/wp-content/uploads/2011/03/picturecontent-pid-293c4.jpg"/>
          <p:cNvPicPr/>
          <p:nvPr/>
        </p:nvPicPr>
        <p:blipFill>
          <a:blip r:embed="rId1"/>
          <a:stretch/>
        </p:blipFill>
        <p:spPr>
          <a:xfrm>
            <a:off x="1403280" y="1655640"/>
            <a:ext cx="7419960" cy="462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многие птицы вьют гнезд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2" name="Picture 2" descr="http://www.torange.ru/photo/2/13/%D0%90%D0%B8%D1%81%D1%82-%D0%B2-%D0%B3%D0%BD%D0%B5%D0%B7%D0%B4%D0%B5-1244190615_94.jpg"/>
          <p:cNvPicPr/>
          <p:nvPr/>
        </p:nvPicPr>
        <p:blipFill>
          <a:blip r:embed="rId1"/>
          <a:stretch/>
        </p:blipFill>
        <p:spPr>
          <a:xfrm>
            <a:off x="1332000" y="1389240"/>
            <a:ext cx="7596000" cy="506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652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 гнездах птицы откладывают яйц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5" name="Picture 5" descr="http://st.gdefon.ru/wallpapers_original/wallpapers/439765_vetki_listya_gnezdo_yajca_makro_1680x1050_(www.GdeFon.ru).jpg"/>
          <p:cNvPicPr/>
          <p:nvPr/>
        </p:nvPicPr>
        <p:blipFill>
          <a:blip r:embed="rId1"/>
          <a:stretch/>
        </p:blipFill>
        <p:spPr>
          <a:xfrm>
            <a:off x="1547640" y="1247760"/>
            <a:ext cx="7364520" cy="4989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И вот у них появляются птенцы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08" name="Picture 4" descr="http://co12.nevseoboi.com.ua/wallpapers/animal/1347952216-363161-0194859_www.nevseoboi.com.ua.jpg"/>
          <p:cNvPicPr/>
          <p:nvPr/>
        </p:nvPicPr>
        <p:blipFill>
          <a:blip r:embed="rId1"/>
          <a:stretch/>
        </p:blipFill>
        <p:spPr>
          <a:xfrm>
            <a:off x="1979640" y="83664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Животные радуются весн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1" name="Picture 7" descr="http://www.petsby.com/UserFiles/Image/news/opasnost/w17.jpg"/>
          <p:cNvPicPr/>
          <p:nvPr/>
        </p:nvPicPr>
        <p:blipFill>
          <a:blip r:embed="rId1"/>
          <a:stretch/>
        </p:blipFill>
        <p:spPr>
          <a:xfrm>
            <a:off x="4643280" y="1916280"/>
            <a:ext cx="4705560" cy="3528720"/>
          </a:xfrm>
          <a:prstGeom prst="rect">
            <a:avLst/>
          </a:prstGeom>
          <a:ln w="0">
            <a:noFill/>
          </a:ln>
        </p:spPr>
      </p:pic>
      <p:pic>
        <p:nvPicPr>
          <p:cNvPr id="912" name="Picture 5" descr="http://www.usiter.com/uploads/20120326/burij+medved+medvedi+medved+zhivotnie+39784771257.jpg"/>
          <p:cNvPicPr/>
          <p:nvPr/>
        </p:nvPicPr>
        <p:blipFill>
          <a:blip r:embed="rId2"/>
          <a:stretch/>
        </p:blipFill>
        <p:spPr>
          <a:xfrm>
            <a:off x="0" y="1700280"/>
            <a:ext cx="4818240" cy="382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у многих из них появляются детеныши! У волков рождаются волчат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5" name="Picture 2" descr="http://st.gdefon.ru/wallpapers_original/wallpapers/27562_volki_malyshi_volchata_lyubov_nezhnost_zabota_1600x1200_(www.GdeFon.ru).jpg"/>
          <p:cNvPicPr/>
          <p:nvPr/>
        </p:nvPicPr>
        <p:blipFill>
          <a:blip r:embed="rId1"/>
          <a:stretch/>
        </p:blipFill>
        <p:spPr>
          <a:xfrm>
            <a:off x="1619280" y="1052640"/>
            <a:ext cx="7237440" cy="542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У лисиц – лисят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18" name="Picture 2" descr="http://nevseoboi.com.ua/uploads/posts/2010-02/1266237984_fox103_1600x1200.jpg"/>
          <p:cNvPicPr/>
          <p:nvPr/>
        </p:nvPicPr>
        <p:blipFill>
          <a:blip r:embed="rId1"/>
          <a:stretch/>
        </p:blipFill>
        <p:spPr>
          <a:xfrm>
            <a:off x="1692360" y="836640"/>
            <a:ext cx="7304040" cy="5256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5268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осыпаются ото сна медведи с медвежатам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1" name="Picture 2" descr="http://wallpaper-yaport.ru/baza/2010/04/16/a28d3297f977bbd9118e2fc0ce8c2e8f.jpg"/>
          <p:cNvPicPr/>
          <p:nvPr/>
        </p:nvPicPr>
        <p:blipFill>
          <a:blip r:embed="rId1"/>
          <a:stretch/>
        </p:blipFill>
        <p:spPr>
          <a:xfrm>
            <a:off x="1763640" y="1197000"/>
            <a:ext cx="6996240" cy="5111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Как хорошо и красиво весной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4" name="Picture 2" descr="http://megalife.com.ua/uploads/posts/2009-06/1245085832_vesna04.jpg"/>
          <p:cNvPicPr/>
          <p:nvPr/>
        </p:nvPicPr>
        <p:blipFill>
          <a:blip r:embed="rId1"/>
          <a:stretch/>
        </p:blipFill>
        <p:spPr>
          <a:xfrm>
            <a:off x="1835280" y="836640"/>
            <a:ext cx="7105680" cy="5329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ришла весна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8" name="Picture 6" descr="C:\Users\Samsung\AppData\Local\Temp\Rar$DR03.628\2.jpg"/>
          <p:cNvPicPr/>
          <p:nvPr/>
        </p:nvPicPr>
        <p:blipFill>
          <a:blip r:embed="rId1"/>
          <a:stretch/>
        </p:blipFill>
        <p:spPr>
          <a:xfrm>
            <a:off x="681120" y="1557360"/>
            <a:ext cx="3746520" cy="5300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7" descr="C:\Users\Samsung\AppData\Local\Temp\Rar$DR08.399\6.jpg"/>
          <p:cNvPicPr/>
          <p:nvPr/>
        </p:nvPicPr>
        <p:blipFill>
          <a:blip r:embed="rId2"/>
          <a:stretch/>
        </p:blipFill>
        <p:spPr>
          <a:xfrm>
            <a:off x="4592520" y="836640"/>
            <a:ext cx="4156200" cy="5877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а – очень красивое время года!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7" name="Picture 2" descr="http://full-size.ru/_ph/5/726918584.jpg"/>
          <p:cNvPicPr/>
          <p:nvPr/>
        </p:nvPicPr>
        <p:blipFill>
          <a:blip r:embed="rId1"/>
          <a:stretch/>
        </p:blipFill>
        <p:spPr>
          <a:xfrm>
            <a:off x="1763640" y="765000"/>
            <a:ext cx="7072560" cy="5169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826920" y="-360"/>
            <a:ext cx="7283520" cy="180036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84df41"/>
                </a:solidFill>
                <a:latin typeface="Georgia"/>
              </a:rPr>
              <a:t>Молодцы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929" name="Рисунок 1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391280" cy="4392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Ярко светит солнышко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2" name="Picture 2" descr="http://moreletonebesa.ru/wp-content/uploads/2012/03/977.jpg"/>
          <p:cNvPicPr/>
          <p:nvPr/>
        </p:nvPicPr>
        <p:blipFill>
          <a:blip r:embed="rId1"/>
          <a:stretch/>
        </p:blipFill>
        <p:spPr>
          <a:xfrm>
            <a:off x="1536840" y="1413000"/>
            <a:ext cx="7126200" cy="52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нег тает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5" name="Picture 6" descr="C:\Users\Samsung\AppData\Local\Temp\Rar$DR25.405\3.jpg"/>
          <p:cNvPicPr/>
          <p:nvPr/>
        </p:nvPicPr>
        <p:blipFill>
          <a:blip r:embed="rId1"/>
          <a:stretch/>
        </p:blipFill>
        <p:spPr>
          <a:xfrm>
            <a:off x="2268360" y="793800"/>
            <a:ext cx="4607280" cy="6064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97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Появились подснежни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78" name="Picture 5" descr="http://www.bankoboev.ru/images/Mjg4MjA=/Bankoboev.Ru_podsnezhniki.jpg"/>
          <p:cNvPicPr/>
          <p:nvPr/>
        </p:nvPicPr>
        <p:blipFill>
          <a:blip r:embed="rId1"/>
          <a:stretch/>
        </p:blipFill>
        <p:spPr>
          <a:xfrm>
            <a:off x="1835280" y="836640"/>
            <a:ext cx="6986520" cy="5238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8104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На ветках набухли поч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1" name="Picture 5" descr="http://canon-fan.com/sites/default/files/IMG_0096.jpg"/>
          <p:cNvPicPr/>
          <p:nvPr/>
        </p:nvPicPr>
        <p:blipFill>
          <a:blip r:embed="rId1"/>
          <a:stretch/>
        </p:blipFill>
        <p:spPr>
          <a:xfrm>
            <a:off x="1763640" y="765000"/>
            <a:ext cx="7128000" cy="534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Из почек выросли листочки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4" name="Picture 7" descr="http://img-fotki.yandex.ru/get/5603/oko7.18/0_6121e_fafbd8b6_XXL.jpg"/>
          <p:cNvPicPr/>
          <p:nvPr/>
        </p:nvPicPr>
        <p:blipFill>
          <a:blip r:embed="rId1"/>
          <a:stretch/>
        </p:blipFill>
        <p:spPr>
          <a:xfrm>
            <a:off x="4788000" y="692280"/>
            <a:ext cx="4181400" cy="4968720"/>
          </a:xfrm>
          <a:prstGeom prst="rect">
            <a:avLst/>
          </a:prstGeom>
          <a:ln w="0">
            <a:noFill/>
          </a:ln>
        </p:spPr>
      </p:pic>
      <p:pic>
        <p:nvPicPr>
          <p:cNvPr id="885" name="Picture 7" descr="http://www.nikblo.ru/PAS/pas0102.jpg"/>
          <p:cNvPicPr/>
          <p:nvPr/>
        </p:nvPicPr>
        <p:blipFill>
          <a:blip r:embed="rId2"/>
          <a:stretch/>
        </p:blipFill>
        <p:spPr>
          <a:xfrm>
            <a:off x="684360" y="1622520"/>
            <a:ext cx="3816360" cy="4849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Деревья стоят зеленые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88" name="Picture 5" descr="http://crazy.werd.ru/uploads/posts/2007-03-02/1172843942_tree_field.jpg"/>
          <p:cNvPicPr/>
          <p:nvPr/>
        </p:nvPicPr>
        <p:blipFill>
          <a:blip r:embed="rId1"/>
          <a:stretch/>
        </p:blipFill>
        <p:spPr>
          <a:xfrm>
            <a:off x="1692360" y="985680"/>
            <a:ext cx="7292880" cy="5597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Весной расцветает много красивых цветов!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91" name="Picture 4" descr="http://luxfon.com/pic/201203/1680x1050/luxfon.com-11212.jpg"/>
          <p:cNvPicPr/>
          <p:nvPr/>
        </p:nvPicPr>
        <p:blipFill>
          <a:blip r:embed="rId1"/>
          <a:stretch/>
        </p:blipFill>
        <p:spPr>
          <a:xfrm>
            <a:off x="324000" y="1125360"/>
            <a:ext cx="8524800" cy="532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2T18:41:12Z</dcterms:created>
  <dc:creator>Samsung</dc:creator>
  <dc:description/>
  <dc:language>en-US</dc:language>
  <cp:lastModifiedBy>Premium</cp:lastModifiedBy>
  <dcterms:modified xsi:type="dcterms:W3CDTF">2017-10-20T08:30:07Z</dcterms:modified>
  <cp:revision>40</cp:revision>
  <dc:subject/>
  <dc:title>Слайд 1</dc:title>
</cp:coreProperties>
</file>