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B559-2205-4534-BCB9-6DB937D9D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CB1D-3C0E-4A9D-B5FC-BEBD369EC7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50B83-17AE-4548-B954-D67E14AFDD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56BA1-7030-4374-B3C2-CBEDD18997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15CDB-615C-43A2-9BC1-6E9FDDFCFA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F47B8-3375-448C-A098-73696E5C1F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2811E-287F-45F7-B3AA-3BD30A41F79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5B167-0654-420B-B55C-10D3CFD317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41D76-C9A9-4976-8C78-0052159E84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2EE4B-2184-4BFD-9EA5-3C7C5A1CDC2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7378F-40B2-496F-ACC4-933AC44749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3E85-1599-423C-BD32-340C5B8B3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6442-FBA4-4256-AA57-CF3D2D71ACD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7B5D-D961-4851-BFAF-D01D74CA3F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F3EE-13FC-47C0-8003-3E6A0DFD6E7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20DE-44EB-436F-9A0F-58583AD1CD9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516B-C620-485B-AC49-A99D985F62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3CDB-7D2C-41B6-BD54-8E1ADF87D7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E2A6-0086-4BE5-9FDD-C577FD24DF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B79C-62AA-490A-B89E-7D7B556153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C867-F6B5-4DD4-A267-39BE57B1FCD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0A5B-FD48-46CC-87D7-73F6F92794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C1E2-158C-448D-ADC4-54A1B8D6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523-9B7E-4210-B1D5-9895E4AFFF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4635-48AA-4F6B-8987-64EA518E8B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ED18F-0C9A-4D03-92C9-7FD8F478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543EA-55DF-4768-B8A7-5CFDEA22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BE31-6E79-416B-A865-0D6E758B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A4C5-AA1E-4E04-9128-567FC45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75BA-DAA3-4FE2-954B-5BD5161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F3AC4-1DD8-47AE-8573-214699DA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1E73-AAFF-4518-8CB7-3B8ED94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0CA1-7CBC-462E-944B-5804498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C88D4-E5C9-4DBE-A4E5-B4197D8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2C2A-43E4-4D2B-91E3-AE895FF5FA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A33A-413A-4AE8-A168-EA6C3BE8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DBA5-257A-4ACC-A844-A375C1B0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F841-C2BB-4F6A-8508-67717517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DC94E-256E-4BC1-AAB8-C6D63EF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74EF5-15A2-4FAE-ACFA-2DE0BF8E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EBFF8-1484-4847-B52A-6701DE6F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B1528-B3BF-467D-B528-F3412BF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4812-C532-44A4-9C80-4D2C41D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3E0B-B0D3-4F00-9DB1-0F2FF008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AEDB-0283-4476-9661-69171F70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56E6-6415-45BB-AC8D-C37AF082955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24109-0AC7-44E8-8B18-0C51258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9415-7223-4C58-A6B3-9CBEBF95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B35A-3E19-40E4-B7BB-6179F8DC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E88C-0B9D-4E7A-B2FE-AABEB741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4A90-40D1-4B8F-91B1-89651700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3636A-7700-4778-8937-F7B030A8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8D55-D08A-4592-B673-56891EFD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8C37-EF49-4A7C-8EA7-B45E1D07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D779-2737-40E8-A777-6D3BDE4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7C9AB-DBFA-4E34-9392-F54D0C48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FF3F-FF78-4145-BABF-0CB239FC28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6F85-FBE0-4FC5-BC85-5368B96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1D4E9-7D54-45E0-87C5-1857D30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000B4-0FDA-4829-8FAE-A609557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DA935-0BAA-47B8-9A51-194654C5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DE9A-FB45-4707-B915-1E1C78D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C70FB-EE12-4B30-B868-528243DC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2910-6FC6-4490-B302-902058E6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2AA1E-194C-4B8E-984F-8E81645C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4BFF-E5DB-4200-A99B-F266B71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B6B9-18B9-4660-93F5-4A616008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626E-3B97-44AF-950C-993BF48A98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EDC81-398A-4F38-8430-E911CD5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0D000-928A-4D97-9542-51EFF065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61EF8-A052-4606-83BF-C3DB86D8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6DF6E-CBF0-433A-9506-97CA7682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DA8B-62DF-4898-AF7B-91D8D12A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9FB9-A47F-4B65-942D-479F0BE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7145-D7F5-4184-9FEF-B778C50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6BEB0-91DD-4AAE-AA6D-61A9C5E1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7430-F659-4468-A6C9-C34DCD73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B1393-0CED-49C2-AB50-E9AEBAEE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D502-5F7F-45DD-A12D-03990EA6E42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925F1-96FF-4906-9BE7-4A2EA01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F7C68-68D2-400D-B7E5-725666D5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CF201-5423-4E3E-96D3-85BFCBE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0C0B-01CE-4B8F-85F3-49E70FD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127DA-797F-425F-A858-E7E0FD6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9F4F2-614D-46F4-9D49-7035198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9D16F-F4DC-404C-A68A-0222990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9827D-D14E-4A6D-B14F-E99BD0F8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C255-F6BA-4B71-8F39-4B779F88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09E45-76DC-4150-88C6-4CC3F3D0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3380-96E8-4374-A39A-3E7CE6387D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BBBEF-FB2E-411B-89D6-64A00CE6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910E5-8433-4BBC-906E-25150DE0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72396-A971-4C45-82D3-069D378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16C3-9F41-47F6-94F8-A64AD3E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47421-FFF5-4672-B092-BF1950D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DF7AF-8F56-43CF-841F-7497DC4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B2B4A-A93A-46E2-BB5E-A6A7DCC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19649-90E0-4292-AA04-D45984F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1E364-3A28-4C32-B0DA-DBA5D62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0174B-0B29-4C72-925C-79F6EA3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890D-2642-41C1-A128-58CD60CF410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70C36-372F-4582-A42E-0B9CBD0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BF68F-8967-4B16-9AF3-AE302CAC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51812-E440-44F0-9413-B9441009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7CDE4-8627-4391-A1C8-02120DD4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1A352-7FE1-413E-A4A4-4D4F89FF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AE68-3B38-46DD-B29F-9546E00D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EC203-5784-4297-A405-21F2A00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7DBA-A595-44D3-972F-DB22D2B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599E1-0933-4936-8475-6DAE9B3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831D4-A2FB-4D03-A3AA-F74648B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DA14-738C-47BA-BE87-0EF182176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9005-4F0C-47B5-AFC6-18414B6DFA2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C83D-DDE0-40A8-81C4-0544BD5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493D-65BE-48D1-90CC-FD0125C7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8A46-A6FF-4CBE-9EB7-08A43577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524AF-A5BA-4BDC-BF8D-BFCC2F4C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E95C-FF3F-45E7-A8A3-9987BAE6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C7EFA-A0F0-41C8-A9F5-D36FB13F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311EE-56EB-4625-B475-21E579D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CD0C9-0666-4E34-A85F-5988D1FA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126ED-9BEB-45FF-B3C8-22AF579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881B9-91CA-4630-876F-9E7125BE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07AB-9A3C-4E2E-AA22-EA20116FD5B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73B7-A26F-4E51-8A2A-C9224E8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08B80-043D-4260-B7DA-A2500C4F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EABA9-6EDD-4918-873F-4D1459D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83EC8-BED8-4A10-B12A-439C5FB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764A4-CD3A-483F-A9E9-9E620B1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D3BDD-389C-4F36-B665-B2103D41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39CC3-221D-4069-83BF-2D482247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85DE7-3A2E-462B-8239-10A86646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3D0E0-2212-49DE-8EBF-D582CADB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F831E-69F5-4418-86C8-C073B716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3A41-4547-4705-9D4E-09F7591D2B2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19F0C-35CD-4722-9AD2-B4988C05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EE3F7-BEB1-49D4-8765-96496ECA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DA371-FDE2-4F6F-9219-4DA67EB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F976B-AD64-4127-8497-22372D5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A016F-CD9A-47EA-A5F2-B9F34F9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D9E23-DFE4-47ED-AFB0-062A3FD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34F5A-9568-4730-BE87-5C972DA5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B240F-C7FF-443B-BC0E-D711354D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B34E1-9858-43C0-8ADE-0937F76B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B6F6B-1310-49BA-8BF6-87A032A2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448A-308F-48F2-BADD-1210162C950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3AD35-5072-4034-931D-1B715AF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8638A-CEF3-42C0-91B4-DFFF26F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4D9E2-7A7F-4FE6-8819-96F1D98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28B80-E3E6-4C42-87F2-CC8A271B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9BB03-B118-49B1-BC96-64747E63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44C58-5372-4FC8-9778-28F46C7A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AE934-5A39-4F08-9077-9B5EDC64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B6601-98CF-4E2E-BBF8-DF5AD30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CF9B4-86DF-490D-9E69-9C419375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79ABF-471B-4F65-A061-9B25FB17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CF94-FD4B-4979-B5C4-DC7CAEA69B5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1E2A3-5862-4FE5-84B1-A0005AF7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71969-12A4-4DAE-B58A-925E60B7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C374C-061F-4641-85AF-8B2BA330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F640B-6208-42CE-93ED-8DC6B5B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3FF0E-819C-4253-B886-CF0C6A6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17F0A-3046-430C-95C0-D85866D4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DD476-632E-4A01-B2C8-24F3911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7C204-CFB8-4D17-9890-0BF3B305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97105-8E5A-4AEC-AA98-F276EA7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0BEFE-E0E3-4129-8F31-737B2EEC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AD143-41F2-4FA4-9F6A-24B8D14B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21219-3C41-49E8-9B40-78FBAAD7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FC83D-A235-4D6B-919D-811751DE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1A7FF-E738-41E0-9398-2BD6F483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6E90-5B36-4A46-8773-8DD4F3D2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24F8-238D-4FA7-8B5D-A4BA636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738D-C78D-4B2C-A2BC-F5CD45B0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20D26-5B51-44B9-808D-7F4092B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D244-E2A8-41A0-B683-C5BDFE3751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5CD7F-4CBD-4801-B6B2-922B028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52AEF-ADD5-45FF-9E85-93A9461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1E0D7-DEBF-4A22-A525-C34C317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7BECD-2B87-4BB2-A84A-1C158AD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54E8-9F30-42C8-A38A-EB0654C5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72B82-3C6B-4001-88EE-0C874B17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208F7-A50F-4775-B50E-D31BEB9C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0B0D-5F61-47CB-83F4-04CB1736BD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C11-E891-4DF7-8325-FBC8EF35CF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FC79-6E8F-457D-87E7-04DF9DC21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D293-5E62-45D1-A54F-404F8B06F7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414-653D-4D16-A6D0-FA871F3FE1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6C0D-5FAE-4E40-8A86-95843E4B61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D4DE-474B-4B75-9BE7-94FB1B04C9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41F-8F9C-43F0-93A4-77F32A14A5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E689-89C6-4ABD-96DE-67AF16F26B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0954-AD93-4E65-9BB7-E46B522EA2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5ABD-8332-44B4-90A4-F9AB183C6E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F21A-28D9-48E7-8975-45EFBEFD77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0AE7-08CA-4955-96C5-4E1516B552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34230-A2A7-4A4D-B9EE-D542AF22E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4A43-DD58-4697-842C-2592E2ABC4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73F9E-667B-4AE1-92D3-49CB9E4FEA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F510B-3D3F-4F8A-AFD3-3FDBC2EE03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B73D6-823D-408D-BF0D-25A2646C7A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C3ED0B-5784-4240-ABAA-AEE13D541F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70E579-701E-4643-AB30-4FA0FAEFB5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9EB39-8F50-4224-AD67-9D4CDA6308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ED920-64A6-4073-8715-49128D8EBF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C4135-483A-4E68-9A09-015E6E8CA5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63872-5A48-460F-9367-6C0458F9F3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A6646-4F9A-454F-9A54-7B1733103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5DF5-2BC4-4554-9BB0-618CCA170D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37998-C0D5-4666-A093-0A26EFC477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3F58D-AA3F-4289-8A5E-0950E55805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09A3C-23B0-48A5-A9B1-E0F0673A4F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D6D14-5B9B-45BA-BF40-4D63480E0A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5469B-03FB-45A7-BF5D-13F98D114B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D3204-1178-455B-B100-3974F0FBC3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F2A67-25C4-49AB-963B-A25AF42802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6A074-856A-415C-97C9-360F49AC63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8AB0C-2689-4CF8-A30D-9131C08CA5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62539-2580-4FED-8918-3729EF353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F6F2-ABEF-4FAF-BD8C-C70C1B98F9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FBED7-8340-40E3-9E17-06B3B9CD6B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0EB09-FBD0-48EA-B9E6-441731645A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E6ED4-30EC-4195-9BD8-15ECD91FE8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8B66-B093-4BCD-9234-71EAE78D8F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177D-48D2-404B-94B3-F64BEDF14B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29CB-0D21-4D8F-92B2-AEFB9A1BA5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E1C2-42D1-48F7-91C1-F999C1923E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A711-F5EB-4BAD-9CFC-1769A94B18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E441-3EF8-4499-9485-0A0F82E773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D613-439D-40B5-ACE9-53A3C826B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0907-F15F-4A75-8376-FDA6CB3832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0657-0CBA-4E42-97D1-3131CCD06E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23AD-32EF-4D21-9EF3-50E685A23A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E33E-F1B0-4DEC-8BD8-BB18A3CF6D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0C9E-0766-4004-A2EE-9594A23D798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E46F-7450-4242-899E-E61DAB3C97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B5756-C5BD-4A86-B7E9-5482164D1A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441BF-BCDB-455E-91C4-FDEF39BE38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076FF-115F-435F-812E-690415C686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B809C-F1DC-42B0-8655-AA602895A9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555D8-1412-4D1F-A0EF-C1E5C8A2E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DD2E-126E-43FC-AF3C-F208586D3B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F8FB9-5136-409B-9E14-1EDCCE02D7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5B309-9837-49D9-972F-EBAD5CB95F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46E3A-8FCA-4CDA-85C0-54A838BE12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A33BD-6108-4428-89C2-DB582681CD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326BA-6536-4C3D-965F-160F3DC81B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FDD72-4B26-4A9C-ADB7-20F6D8B5D2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E1A7A-8DEA-4164-A063-C5584850CD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82093-C322-4172-AA3D-83C923927A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50624-1A77-44A2-A2FE-935FE08E31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77192-8E03-4F11-B792-0F3984F71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6CD-8A5E-4F1F-841E-208B8D076E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5E88-F85A-42C1-97B3-0A7C8BEAD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E502-DDFF-4A4F-95AF-3D53E7EA37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9457-9F71-457D-AE41-C1E5204320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78B-FEBA-4749-A3FF-41A1253826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51AC-ABB6-42B8-A393-6CF1DB7A3C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9E1-7A54-49D2-A639-1FC3D888A9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9809-7631-49BB-897B-F899BFBF05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F618-2891-4921-AE09-3316AC4CB2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BEF-9B86-4E6E-BC2A-06F95EDA7A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0F3-FDC9-4E01-A34E-F4036AE04E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5857-5B77-44BE-8F2A-AE53FF94170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DB7-04F0-4344-BFEE-DF7869CAA5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C72-578D-4E37-8E3F-FEE36C8824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CD0-70A6-4CDF-BCC0-62D33ECEE9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AFB4-C620-4D3F-8258-388E66714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D0F-0169-474D-BF28-5F8CDD011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D124-61B6-457C-A224-6D12FFA6A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798-9EA2-4233-BF17-AB425A7FD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EED0-3FEF-4FE0-BF6A-52DACEA59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6C0-F70C-44BE-BF98-8E6A07CF0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684360" y="5300640"/>
            <a:ext cx="7920000" cy="7524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49000"/>
          </a:bodyPr>
          <a:p>
            <a:pPr marL="111960" indent="-111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Весна пришла, весне  дорогу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111960" indent="-111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одготовила: Черных Т.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2" name="Picture 6" descr="C:\Users\Samsung\AppData\Local\Temp\Rar$DR03.628\2.jpg"/>
          <p:cNvPicPr/>
          <p:nvPr/>
        </p:nvPicPr>
        <p:blipFill>
          <a:blip r:embed="rId1"/>
          <a:stretch/>
        </p:blipFill>
        <p:spPr>
          <a:xfrm>
            <a:off x="2124000" y="692280"/>
            <a:ext cx="3256200" cy="46083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7" descr="C:\Users\Samsung\AppData\Local\Temp\Rar$DR08.399\6.jpg"/>
          <p:cNvPicPr/>
          <p:nvPr/>
        </p:nvPicPr>
        <p:blipFill>
          <a:blip r:embed="rId2"/>
          <a:stretch/>
        </p:blipFill>
        <p:spPr>
          <a:xfrm>
            <a:off x="5580000" y="620640"/>
            <a:ext cx="3457800" cy="4606920"/>
          </a:xfrm>
          <a:prstGeom prst="rect">
            <a:avLst/>
          </a:prstGeom>
          <a:ln w="0">
            <a:noFill/>
          </a:ln>
        </p:spPr>
      </p:pic>
      <p:sp>
        <p:nvSpPr>
          <p:cNvPr id="864" name="TextBox 5"/>
          <p:cNvSpPr/>
          <p:nvPr/>
        </p:nvSpPr>
        <p:spPr>
          <a:xfrm>
            <a:off x="285840" y="14292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КДОУ Бутурлиновский детский сад общеразвивающего вид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50"/>
          <p:cNvSpPr/>
          <p:nvPr/>
        </p:nvSpPr>
        <p:spPr>
          <a:xfrm>
            <a:off x="3000240" y="5357880"/>
            <a:ext cx="5832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Расцветают цветы и на деревьях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4" name="Picture 5" descr="http://img2.vetton.ru/upl/1000/23/vetton_ru_japanesenature39-2560x1600.jpg"/>
          <p:cNvPicPr/>
          <p:nvPr/>
        </p:nvPicPr>
        <p:blipFill>
          <a:blip r:embed="rId1"/>
          <a:stretch/>
        </p:blipFill>
        <p:spPr>
          <a:xfrm>
            <a:off x="237960" y="1557360"/>
            <a:ext cx="6696360" cy="46083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7" descr="http://www.xa-xa.org/uploads/posts/2011-04/1303200559_0085acd27a13.jpg"/>
          <p:cNvPicPr/>
          <p:nvPr/>
        </p:nvPicPr>
        <p:blipFill>
          <a:blip r:embed="rId2"/>
          <a:stretch/>
        </p:blipFill>
        <p:spPr>
          <a:xfrm>
            <a:off x="6084720" y="836640"/>
            <a:ext cx="2781360" cy="2016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" descr="http://dongurman.ru/foto/pr150.jpg"/>
          <p:cNvPicPr/>
          <p:nvPr/>
        </p:nvPicPr>
        <p:blipFill>
          <a:blip r:embed="rId3"/>
          <a:stretch/>
        </p:blipFill>
        <p:spPr>
          <a:xfrm>
            <a:off x="6012000" y="4437000"/>
            <a:ext cx="2736720" cy="214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илетели птички из теплых стран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9" name="Picture 7" descr="http://ecocollaps.ru/wp-content/uploads/2011/03/picturecontent-pid-293c4.jpg"/>
          <p:cNvPicPr/>
          <p:nvPr/>
        </p:nvPicPr>
        <p:blipFill>
          <a:blip r:embed="rId1"/>
          <a:stretch/>
        </p:blipFill>
        <p:spPr>
          <a:xfrm>
            <a:off x="1403280" y="1655640"/>
            <a:ext cx="7419960" cy="462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ой многие птицы вьют гнезд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2" name="Picture 2" descr="http://www.torange.ru/photo/2/13/%D0%90%D0%B8%D1%81%D1%82-%D0%B2-%D0%B3%D0%BD%D0%B5%D0%B7%D0%B4%D0%B5-1244190615_94.jpg"/>
          <p:cNvPicPr/>
          <p:nvPr/>
        </p:nvPicPr>
        <p:blipFill>
          <a:blip r:embed="rId1"/>
          <a:stretch/>
        </p:blipFill>
        <p:spPr>
          <a:xfrm>
            <a:off x="1332000" y="1389240"/>
            <a:ext cx="7596000" cy="506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652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 гнездах птицы откладывают яйц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5" name="Picture 5" descr="http://st.gdefon.ru/wallpapers_original/wallpapers/439765_vetki_listya_gnezdo_yajca_makro_1680x1050_(www.GdeFon.ru).jpg"/>
          <p:cNvPicPr/>
          <p:nvPr/>
        </p:nvPicPr>
        <p:blipFill>
          <a:blip r:embed="rId1"/>
          <a:stretch/>
        </p:blipFill>
        <p:spPr>
          <a:xfrm>
            <a:off x="1547640" y="1247760"/>
            <a:ext cx="7364520" cy="498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И вот у них появляются птенцы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8" name="Picture 4" descr="http://co12.nevseoboi.com.ua/wallpapers/animal/1347952216-363161-0194859_www.nevseoboi.com.ua.jpg"/>
          <p:cNvPicPr/>
          <p:nvPr/>
        </p:nvPicPr>
        <p:blipFill>
          <a:blip r:embed="rId1"/>
          <a:stretch/>
        </p:blipFill>
        <p:spPr>
          <a:xfrm>
            <a:off x="1979640" y="83664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Животные радуются весн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1" name="Picture 7" descr="http://www.petsby.com/UserFiles/Image/news/opasnost/w17.jpg"/>
          <p:cNvPicPr/>
          <p:nvPr/>
        </p:nvPicPr>
        <p:blipFill>
          <a:blip r:embed="rId1"/>
          <a:stretch/>
        </p:blipFill>
        <p:spPr>
          <a:xfrm>
            <a:off x="4643280" y="1916280"/>
            <a:ext cx="4705560" cy="35287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http://www.usiter.com/uploads/20120326/burij+medved+medvedi+medved+zhivotnie+39784771257.jpg"/>
          <p:cNvPicPr/>
          <p:nvPr/>
        </p:nvPicPr>
        <p:blipFill>
          <a:blip r:embed="rId2"/>
          <a:stretch/>
        </p:blipFill>
        <p:spPr>
          <a:xfrm>
            <a:off x="0" y="1700280"/>
            <a:ext cx="4818240" cy="38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ой у многих из них появляются детеныши! У волков рождаются волчат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5" name="Picture 2" descr="http://st.gdefon.ru/wallpapers_original/wallpapers/27562_volki_malyshi_volchata_lyubov_nezhnost_zabota_1600x1200_(www.GdeFon.ru).jpg"/>
          <p:cNvPicPr/>
          <p:nvPr/>
        </p:nvPicPr>
        <p:blipFill>
          <a:blip r:embed="rId1"/>
          <a:stretch/>
        </p:blipFill>
        <p:spPr>
          <a:xfrm>
            <a:off x="1619280" y="1052640"/>
            <a:ext cx="7237440" cy="542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У лисиц – лисят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8" name="Picture 2" descr="http://nevseoboi.com.ua/uploads/posts/2010-02/1266237984_fox103_1600x1200.jpg"/>
          <p:cNvPicPr/>
          <p:nvPr/>
        </p:nvPicPr>
        <p:blipFill>
          <a:blip r:embed="rId1"/>
          <a:stretch/>
        </p:blipFill>
        <p:spPr>
          <a:xfrm>
            <a:off x="1692360" y="836640"/>
            <a:ext cx="7304040" cy="525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26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осыпаются ото сна медведи с медвежатам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1" name="Picture 2" descr="http://wallpaper-yaport.ru/baza/2010/04/16/a28d3297f977bbd9118e2fc0ce8c2e8f.jpg"/>
          <p:cNvPicPr/>
          <p:nvPr/>
        </p:nvPicPr>
        <p:blipFill>
          <a:blip r:embed="rId1"/>
          <a:stretch/>
        </p:blipFill>
        <p:spPr>
          <a:xfrm>
            <a:off x="1763640" y="1197000"/>
            <a:ext cx="6996240" cy="51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ак хорошо и красиво весной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4" name="Picture 2" descr="http://megalife.com.ua/uploads/posts/2009-06/1245085832_vesna04.jpg"/>
          <p:cNvPicPr/>
          <p:nvPr/>
        </p:nvPicPr>
        <p:blipFill>
          <a:blip r:embed="rId1"/>
          <a:stretch/>
        </p:blipFill>
        <p:spPr>
          <a:xfrm>
            <a:off x="1835280" y="836640"/>
            <a:ext cx="7105680" cy="53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ишла весн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8" name="Picture 6" descr="C:\Users\Samsung\AppData\Local\Temp\Rar$DR03.628\2.jpg"/>
          <p:cNvPicPr/>
          <p:nvPr/>
        </p:nvPicPr>
        <p:blipFill>
          <a:blip r:embed="rId1"/>
          <a:stretch/>
        </p:blipFill>
        <p:spPr>
          <a:xfrm>
            <a:off x="681120" y="1557360"/>
            <a:ext cx="3746520" cy="53006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7" descr="C:\Users\Samsung\AppData\Local\Temp\Rar$DR08.399\6.jpg"/>
          <p:cNvPicPr/>
          <p:nvPr/>
        </p:nvPicPr>
        <p:blipFill>
          <a:blip r:embed="rId2"/>
          <a:stretch/>
        </p:blipFill>
        <p:spPr>
          <a:xfrm>
            <a:off x="4592520" y="836640"/>
            <a:ext cx="4156200" cy="587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а – очень красивое время года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7" name="Picture 2" descr="http://full-size.ru/_ph/5/726918584.jpg"/>
          <p:cNvPicPr/>
          <p:nvPr/>
        </p:nvPicPr>
        <p:blipFill>
          <a:blip r:embed="rId1"/>
          <a:stretch/>
        </p:blipFill>
        <p:spPr>
          <a:xfrm>
            <a:off x="1763640" y="765000"/>
            <a:ext cx="7072560" cy="516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826920" y="-360"/>
            <a:ext cx="7283520" cy="180036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4df41"/>
                </a:solidFill>
                <a:latin typeface="Georgia"/>
              </a:rPr>
              <a:t>Молодцы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9" name="Рисунок 1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91280" cy="439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Ярко светит солнышко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2" name="Picture 2" descr="http://moreletonebesa.ru/wp-content/uploads/2012/03/977.jpg"/>
          <p:cNvPicPr/>
          <p:nvPr/>
        </p:nvPicPr>
        <p:blipFill>
          <a:blip r:embed="rId1"/>
          <a:stretch/>
        </p:blipFill>
        <p:spPr>
          <a:xfrm>
            <a:off x="1536840" y="1413000"/>
            <a:ext cx="7126200" cy="52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нег тает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5" name="Picture 6" descr="C:\Users\Samsung\AppData\Local\Temp\Rar$DR25.405\3.jpg"/>
          <p:cNvPicPr/>
          <p:nvPr/>
        </p:nvPicPr>
        <p:blipFill>
          <a:blip r:embed="rId1"/>
          <a:stretch/>
        </p:blipFill>
        <p:spPr>
          <a:xfrm>
            <a:off x="2268360" y="793800"/>
            <a:ext cx="4607280" cy="606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97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оявились подснежник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8" name="Picture 5" descr="http://www.bankoboev.ru/images/Mjg4MjA=/Bankoboev.Ru_podsnezhniki.jpg"/>
          <p:cNvPicPr/>
          <p:nvPr/>
        </p:nvPicPr>
        <p:blipFill>
          <a:blip r:embed="rId1"/>
          <a:stretch/>
        </p:blipFill>
        <p:spPr>
          <a:xfrm>
            <a:off x="1835280" y="836640"/>
            <a:ext cx="698652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10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а ветках набухли почк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1" name="Picture 5" descr="http://canon-fan.com/sites/default/files/IMG_0096.jpg"/>
          <p:cNvPicPr/>
          <p:nvPr/>
        </p:nvPicPr>
        <p:blipFill>
          <a:blip r:embed="rId1"/>
          <a:stretch/>
        </p:blipFill>
        <p:spPr>
          <a:xfrm>
            <a:off x="1763640" y="765000"/>
            <a:ext cx="7128000" cy="534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Из почек выросли листочк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4" name="Picture 7" descr="http://img-fotki.yandex.ru/get/5603/oko7.18/0_6121e_fafbd8b6_XXL.jpg"/>
          <p:cNvPicPr/>
          <p:nvPr/>
        </p:nvPicPr>
        <p:blipFill>
          <a:blip r:embed="rId1"/>
          <a:stretch/>
        </p:blipFill>
        <p:spPr>
          <a:xfrm>
            <a:off x="4788000" y="692280"/>
            <a:ext cx="4181400" cy="4968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http://www.nikblo.ru/PAS/pas0102.jpg"/>
          <p:cNvPicPr/>
          <p:nvPr/>
        </p:nvPicPr>
        <p:blipFill>
          <a:blip r:embed="rId2"/>
          <a:stretch/>
        </p:blipFill>
        <p:spPr>
          <a:xfrm>
            <a:off x="684360" y="1622520"/>
            <a:ext cx="3816360" cy="484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Деревья стоят зелены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8" name="Picture 5" descr="http://crazy.werd.ru/uploads/posts/2007-03-02/1172843942_tree_field.jpg"/>
          <p:cNvPicPr/>
          <p:nvPr/>
        </p:nvPicPr>
        <p:blipFill>
          <a:blip r:embed="rId1"/>
          <a:stretch/>
        </p:blipFill>
        <p:spPr>
          <a:xfrm>
            <a:off x="1692360" y="985680"/>
            <a:ext cx="7292880" cy="559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ой расцветает много красивых цветов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1" name="Picture 4" descr="http://luxfon.com/pic/201203/1680x1050/luxfon.com-11212.jpg"/>
          <p:cNvPicPr/>
          <p:nvPr/>
        </p:nvPicPr>
        <p:blipFill>
          <a:blip r:embed="rId1"/>
          <a:stretch/>
        </p:blipFill>
        <p:spPr>
          <a:xfrm>
            <a:off x="324000" y="1125360"/>
            <a:ext cx="8524800" cy="532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8:41:12Z</dcterms:created>
  <dc:creator>Samsung</dc:creator>
  <dc:description/>
  <dc:language>en-US</dc:language>
  <cp:lastModifiedBy>Premium</cp:lastModifiedBy>
  <dcterms:modified xsi:type="dcterms:W3CDTF">2017-10-20T08:30:07Z</dcterms:modified>
  <cp:revision>40</cp:revision>
  <dc:subject/>
  <dc:title>Слайд 1</dc:title>
</cp:coreProperties>
</file>