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5.png" ContentType="image/png"/>
  <Override PartName="/ppt/media/image14.jpeg" ContentType="image/jpeg"/>
  <Override PartName="/ppt/media/image9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ED40-84E0-46D8-A965-943960A55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9070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113360"/>
            <a:ext cx="9070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82AA-779F-40DC-9471-10E44FC15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8237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1133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1133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5B3A-4026-4556-8D36-FA99DF3DA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82376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82376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11336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11336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11336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9187-DF23-4DF6-A7DB-0E9FB4CCE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6922D-6C68-48FC-A0A2-3D071F24E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2920" y="1823760"/>
            <a:ext cx="9070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CEBA6-96DD-4E63-94FA-A57CA6807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9070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CD744-4F40-4008-9A65-B1D589F3B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1240" y="182376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2493F-E893-40B7-8AB4-BAA0491F2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08A2F-2476-421B-A138-E9F5DF472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2920" y="287280"/>
            <a:ext cx="9070920" cy="57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5EBFA-44ED-4A36-B6D1-6080B9D5B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1240" y="182376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2920" y="41133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C4005-E0CA-4B5C-9AC2-68B757F3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823760"/>
            <a:ext cx="9070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1CA4-7FE7-4415-92FF-C6EFEE18B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1240" y="18237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51240" y="41133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E04B7-D68B-4AAE-9CBF-291E37DB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1240" y="18237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2920" y="4113360"/>
            <a:ext cx="9070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445A8-238B-45E2-ACC3-882C44C7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9070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2920" y="4113360"/>
            <a:ext cx="9070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1EEFA-69A5-41B6-AABB-05181A9C4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1240" y="18237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2920" y="41133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51240" y="41133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9639B-2AE8-4CAE-8337-3B89F887B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70120" y="182376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36960" y="182376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2920" y="411336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70120" y="411336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36960" y="411336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D3049-E2F2-4EA3-8A6B-63F376ED9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9070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621E-8BCD-46F8-BBC6-1641E1006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82376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F005-2FA4-4A02-8948-9C7E39DB1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1EFD-9F56-48C5-824B-CD2F3F7A4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87280"/>
            <a:ext cx="9070920" cy="57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0D06-9BB5-4595-94AA-51D207445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82376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1133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D9E9-A583-49E5-B5B7-BD8A1511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8237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1133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CD1B-6DA3-4A75-90F1-23866363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8237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113360"/>
            <a:ext cx="9070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2506-65A8-4264-B7D4-26DB2430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F0CFFA-512D-4C3A-8121-96C965F5268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02920" y="1823760"/>
            <a:ext cx="9070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 fontScale="93000"/>
          </a:bodyPr>
          <a:p>
            <a:pPr marL="318960" indent="0">
              <a:lnSpc>
                <a:spcPct val="94000"/>
              </a:lnSpc>
              <a:spcAft>
                <a:spcPts val="153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318960" indent="-318960">
              <a:lnSpc>
                <a:spcPct val="94000"/>
              </a:lnSpc>
              <a:spcAft>
                <a:spcPts val="153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318960" indent="-318960">
              <a:lnSpc>
                <a:spcPct val="94000"/>
              </a:lnSpc>
              <a:spcAft>
                <a:spcPts val="153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318960" indent="-318960">
              <a:lnSpc>
                <a:spcPct val="94000"/>
              </a:lnSpc>
              <a:spcAft>
                <a:spcPts val="153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318960" indent="-318960">
              <a:lnSpc>
                <a:spcPct val="94000"/>
              </a:lnSpc>
              <a:spcAft>
                <a:spcPts val="153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318960" indent="-318960">
              <a:lnSpc>
                <a:spcPct val="94000"/>
              </a:lnSpc>
              <a:spcAft>
                <a:spcPts val="153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318960" indent="-318960">
              <a:lnSpc>
                <a:spcPct val="94000"/>
              </a:lnSpc>
              <a:spcAft>
                <a:spcPts val="153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4664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9B7B0D-1FA9-40DD-A1D8-4F487AE28B2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3_&#1085;&#1086;&#1103;&#1073;&#1088;&#1103;" TargetMode="External"/><Relationship Id="rId2" Type="http://schemas.openxmlformats.org/officeDocument/2006/relationships/hyperlink" Target="https://ru.wikipedia.org/wiki/1970_&#1075;&#1086;&#1076;" TargetMode="External"/><Relationship Id="rId3" Type="http://schemas.openxmlformats.org/officeDocument/2006/relationships/hyperlink" Target="https://ru.wikipedia.org/w/index.php?title=&#1057;&#1077;&#1083;&#1100;&#1084;&#1072;&#1096;_%28&#1089;&#1090;&#1072;&#1085;&#1094;&#1080;&#1103;%29&amp;action=edit&amp;redlink=1" TargetMode="External"/><Relationship Id="rId4" Type="http://schemas.openxmlformats.org/officeDocument/2006/relationships/hyperlink" Target="https://ru.wikipedia.org/wiki/&#1056;&#1086;&#1089;&#1090;&#1086;&#1074;-&#1085;&#1072;-&#1044;&#1086;&#1085;&#1091;" TargetMode="External"/><Relationship Id="rId5" Type="http://schemas.openxmlformats.org/officeDocument/2006/relationships/hyperlink" Target="https://ru.wikipedia.org/wiki/&#1040;&#1083;&#1083;&#1077;&#1103;_&#1079;&#1074;&#1105;&#1079;&#1076;_%28&#1056;&#1086;&#1089;&#1090;&#1086;&#1074;-&#1085;&#1072;-&#1044;&#1086;&#1085;&#1091;%29" TargetMode="External"/><Relationship Id="rId6" Type="http://schemas.openxmlformats.org/officeDocument/2006/relationships/hyperlink" Target="https://ru.wikipedia.org/wiki/7_&#1084;&#1072;&#1103;" TargetMode="External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20720" y="503280"/>
            <a:ext cx="8856720" cy="6119640"/>
          </a:xfrm>
          <a:prstGeom prst="roundRect">
            <a:avLst>
              <a:gd name="adj" fmla="val 23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236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«Герой СССР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76360" y="1295280"/>
            <a:ext cx="9144000" cy="62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6640" bIns="0" anchor="t">
            <a:noAutofit/>
          </a:bodyPr>
          <a:p>
            <a:pPr marL="431640" indent="-323640">
              <a:lnSpc>
                <a:spcPct val="94000"/>
              </a:lnSpc>
              <a:spcAft>
                <a:spcPts val="153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  <a:ea typeface="Droid Sans Fallback"/>
              </a:rPr>
              <a:t>                  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4000"/>
              </a:lnSpc>
              <a:spcAft>
                <a:spcPts val="153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  <a:ea typeface="Droid Sans Fallback"/>
              </a:rPr>
              <a:t>                    </a:t>
            </a: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Исполнитель :Кобилова Амалия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53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                        </a:t>
            </a: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ученица 3 А класса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53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                        </a:t>
            </a: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классный руководитель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53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                        </a:t>
            </a: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Кузнецова Т.В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53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                        </a:t>
            </a: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Кобилова Амалия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53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       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4000"/>
              </a:lnSpc>
              <a:spcAft>
                <a:spcPts val="153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  <a:ea typeface="Droid Sans Fallback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92000" y="831960"/>
            <a:ext cx="2376720" cy="16873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398920" y="2376360"/>
            <a:ext cx="4176720" cy="4032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76360" y="1728720"/>
            <a:ext cx="4680000" cy="50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7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 Black"/>
              </a:rPr>
              <a:t>30 апреля 1945 года по приказу первого коменданта рейхстага, командира 756-го стрелкового полка, полковника Зинченко Ф. М., младший лейтенант Берест Алексей Прокопьевич возглавил выполнение боевой задачи по водружению знамени Военного совета 3-й ударной армии на куполе рейхстага. За участие в этой операции был награждён Орденом Красного Знам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3280" y="287280"/>
            <a:ext cx="907236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 Black"/>
                <a:ea typeface="Droid Sans Fallback"/>
              </a:rPr>
              <a:t>Взятие рейхстаг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3280" y="287280"/>
            <a:ext cx="907236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360" bIns="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Droid Sans Fallback"/>
              </a:rPr>
              <a:t>Алексей Берест-герой войны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328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680" bIns="0" anchor="t">
            <a:noAutofit/>
          </a:bodyPr>
          <a:p>
            <a:pPr marL="431640" indent="-323640">
              <a:lnSpc>
                <a:spcPct val="94000"/>
              </a:lnSpc>
              <a:spcAft>
                <a:spcPts val="153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Droid Sans Fallback"/>
              </a:rPr>
              <a:t>Я узнала что, Алексей Берест родился 9 марта — 1921 года в селе Горяйстовка Ахтырского района Сумской области Украинской ССР в бедной семье Прокопа Никифоровича и Кристины Вакумивны Берестов, в семье было шестнадцать детей. По национальности украине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4000"/>
              </a:lnSpc>
              <a:spcAft>
                <a:spcPts val="153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Droid Sans Fallback"/>
              </a:rPr>
              <a:t>В 12 лет остался сиротой вместе с восемью братьями и сестрами, в связи со смертью родителей, одно время беспризорничал, содержался в детском доме. Окончил 7 классов, после работал трактористом и снабженцем на заводе в городе Харько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4000"/>
              </a:lnSpc>
              <a:spcAft>
                <a:spcPts val="153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Droid Sans Fallback"/>
              </a:rPr>
              <a:t>В октябре 1939 года добровольцем пошёл в Красную Арм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r">
              <a:lnSpc>
                <a:spcPct val="94000"/>
              </a:lnSpc>
              <a:spcAft>
                <a:spcPts val="153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r">
              <a:lnSpc>
                <a:spcPct val="94000"/>
              </a:lnSpc>
              <a:spcAft>
                <a:spcPts val="153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58960" y="4597560"/>
            <a:ext cx="2381040" cy="28191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6408720" y="4967280"/>
            <a:ext cx="2733840" cy="20480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03280" y="58680"/>
            <a:ext cx="907236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 Black"/>
                <a:ea typeface="Droid Sans Fallback"/>
              </a:rPr>
              <a:t>Ростов помнит своих героев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9960" y="1784520"/>
            <a:ext cx="4064040" cy="26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t">
            <a:noAutofit/>
          </a:bodyPr>
          <a:p>
            <a:pPr>
              <a:lnSpc>
                <a:spcPct val="94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гиб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3 ноябр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1970 год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спасая девочку из-под колёс скорого поезда «Москва-Баку» на разъезде «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Сельмаш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», скорая приехала через три часа, умер в больниц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21360" y="4608360"/>
            <a:ext cx="416700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2560" bIns="45000" anchor="t">
            <a:noAutofit/>
          </a:bodyPr>
          <a:p>
            <a:pPr>
              <a:lnSpc>
                <a:spcPct val="94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2011 г.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Ростове-на-Дон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«Аллее звёзд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остоялась торжественная церемония закладки именной «звезды» Бересту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7 ма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Алексею Прокопьевич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287280" y="4751280"/>
            <a:ext cx="3456000" cy="2519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8"/>
          <a:stretch/>
        </p:blipFill>
        <p:spPr>
          <a:xfrm>
            <a:off x="216000" y="1716120"/>
            <a:ext cx="3600360" cy="29638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31640" y="216000"/>
            <a:ext cx="94316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6640" bIns="0" anchor="t">
            <a:noAutofit/>
          </a:bodyPr>
          <a:p>
            <a:pPr marL="431640" indent="-323640">
              <a:lnSpc>
                <a:spcPct val="94000"/>
              </a:lnSpc>
              <a:spcAft>
                <a:spcPts val="153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  <a:ea typeface="Droid Sans Fallback"/>
              </a:rPr>
              <a:t>Я родилась в городе Ростов - на - Дону Рядом с нашим Лицеем №20 открылся памятник  Бересту Алексею Прокофьевичу в 2015 году к 70 летию  Победы СССР над фашистской Германией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127160" y="3274920"/>
            <a:ext cx="5424480" cy="4068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6915240" y="5295960"/>
            <a:ext cx="2733480" cy="20476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236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3636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аграды А. Берест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95200" y="2376360"/>
            <a:ext cx="1505160" cy="3867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7642080" y="527040"/>
            <a:ext cx="2438640" cy="28576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2232000" y="3240000"/>
            <a:ext cx="2879640" cy="2592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7439040" y="4176720"/>
            <a:ext cx="2857320" cy="2724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 flipH="1">
            <a:off x="1654200" y="5472000"/>
            <a:ext cx="1155600" cy="863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584360" y="2085840"/>
            <a:ext cx="792000" cy="6508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199280" y="2016000"/>
            <a:ext cx="57636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88000" y="4032360"/>
            <a:ext cx="1944720" cy="12240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502920" y="182376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ден «Герой             Орд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краины»         «Крас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намен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ден «Красной звезды»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ден «Великой Отечестве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йны 1 - й  степен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-144360" y="71280"/>
            <a:ext cx="10080360" cy="7560000"/>
          </a:xfrm>
          <a:prstGeom prst="roundRect">
            <a:avLst>
              <a:gd name="adj" fmla="val 19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2920" y="232920"/>
            <a:ext cx="9072360" cy="13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9072360" cy="462276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 fontScale="98000"/>
          </a:bodyPr>
          <a:p>
            <a:pPr marL="42300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Орден                 Медаль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2300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«Свободы»      «За победу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2300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над Германией»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2300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2300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2300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Медаль «Золотая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2300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Звезда»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-49320" y="1563840"/>
            <a:ext cx="2857680" cy="3105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8567640" y="1768320"/>
            <a:ext cx="1462320" cy="27291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4808520" y="4176720"/>
            <a:ext cx="1959120" cy="2862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303640" y="5327640"/>
            <a:ext cx="2504880" cy="7207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158560" y="2016000"/>
            <a:ext cx="795240" cy="2160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415280" y="2087640"/>
            <a:ext cx="1152360" cy="647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1585800" y="-3384720"/>
            <a:ext cx="2733840" cy="20480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6986520" y="5184720"/>
            <a:ext cx="2733840" cy="20480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03280" y="287280"/>
            <a:ext cx="9072360" cy="59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120" bIns="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Droid Sans Fallback"/>
              </a:rPr>
              <a:t>Спасибо за ваше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664000" y="3887640"/>
            <a:ext cx="475128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8T06:17:37Z</dcterms:created>
  <dc:creator>Амалия </dc:creator>
  <dc:description/>
  <dc:language>en-US</dc:language>
  <cp:lastModifiedBy>Татьяна </cp:lastModifiedBy>
  <dcterms:modified xsi:type="dcterms:W3CDTF">2017-03-23T05:43:55Z</dcterms:modified>
  <cp:revision>7</cp:revision>
  <dc:subject/>
  <dc:title/>
</cp:coreProperties>
</file>