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277C-1A3E-4D1A-923D-E8E8BB77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62A-DC21-44ED-A561-CC3EA4FB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BC0B-FC29-4CF8-ABF8-8ECF8C31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CBC-6BA5-4F14-B8B6-BEE74527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6A2-9F36-4CEE-B8CE-58594D7C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88C-14AF-4155-887E-17307BE8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135-1593-4E14-BC89-0D5D185D9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3579-3A45-42B0-8EF2-598C69071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0670-121B-4FDF-99DB-2AFD4450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07D4-CB23-4FE7-8B75-674C453E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0BA9-E40B-4BBD-BC2F-29152A73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A65-B077-49A3-ACFC-82699E94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18F4-597B-4388-8101-315AE24F534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сахар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6156360" y="5805360"/>
            <a:ext cx="28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8dd1"/>
                </a:solidFill>
                <a:latin typeface="Arial"/>
              </a:rPr>
              <a:t>Подготовила ученица 10 класса</a:t>
            </a:r>
            <a:br>
              <a:rPr sz="1800"/>
            </a:br>
            <a:r>
              <a:rPr b="0" lang="ru-RU" sz="1800" spc="-1" strike="noStrike">
                <a:solidFill>
                  <a:srgbClr val="1f8dd1"/>
                </a:solidFill>
                <a:latin typeface="Arial"/>
              </a:rPr>
              <a:t>Ромашина Анастас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 flipH="1">
            <a:off x="826200" y="620640"/>
            <a:ext cx="770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f8dd1"/>
                </a:solidFill>
                <a:latin typeface="Arial"/>
              </a:rPr>
              <a:t>Возникновение и развитие производства сахара в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mypresentation.ru/documents/7d0b4564b14b1a180586116c863f5295/img2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mypresentation.ru/documents/7d0b4564b14b1a180586116c863f5295/img2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124000" y="0"/>
            <a:ext cx="5086440" cy="514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storage.ukrsugar.com/uploads/news/2016.08/slutck.jpg"/>
          <p:cNvPicPr/>
          <p:nvPr/>
        </p:nvPicPr>
        <p:blipFill>
          <a:blip r:embed="rId2"/>
          <a:stretch/>
        </p:blipFill>
        <p:spPr>
          <a:xfrm>
            <a:off x="108000" y="404640"/>
            <a:ext cx="1919160" cy="1440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1tvnet.ru/images/00_10_12/normal.jpg"/>
          <p:cNvPicPr/>
          <p:nvPr/>
        </p:nvPicPr>
        <p:blipFill>
          <a:blip r:embed="rId3"/>
          <a:stretch/>
        </p:blipFill>
        <p:spPr>
          <a:xfrm>
            <a:off x="108000" y="2276640"/>
            <a:ext cx="191916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static.panoramio.com/photos/large/16907812.jpg"/>
          <p:cNvPicPr/>
          <p:nvPr/>
        </p:nvPicPr>
        <p:blipFill>
          <a:blip r:embed="rId4"/>
          <a:stretch/>
        </p:blipFill>
        <p:spPr>
          <a:xfrm>
            <a:off x="7236000" y="333360"/>
            <a:ext cx="1800000" cy="134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xn--d1acimmaskq.xn--p1ai/photo/73/7339fc3ae44b13b362d5d8cef2d5a6d8.jpg"/>
          <p:cNvPicPr/>
          <p:nvPr/>
        </p:nvPicPr>
        <p:blipFill>
          <a:blip r:embed="rId5"/>
          <a:stretch/>
        </p:blipFill>
        <p:spPr>
          <a:xfrm>
            <a:off x="7380360" y="2349360"/>
            <a:ext cx="1655640" cy="1298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http://mw2.google.com/mw-panoramio/photos/medium/20350636.jpg"/>
          <p:cNvPicPr/>
          <p:nvPr/>
        </p:nvPicPr>
        <p:blipFill>
          <a:blip r:embed="rId6"/>
          <a:stretch/>
        </p:blipFill>
        <p:spPr>
          <a:xfrm>
            <a:off x="7380360" y="4149720"/>
            <a:ext cx="1582560" cy="237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http://samlib.ru/img/m/maslenkow_i_w/i01/002zemetchinskijsaharnyjzawod.jpg"/>
          <p:cNvPicPr/>
          <p:nvPr/>
        </p:nvPicPr>
        <p:blipFill>
          <a:blip r:embed="rId7"/>
          <a:stretch/>
        </p:blipFill>
        <p:spPr>
          <a:xfrm>
            <a:off x="2124000" y="5084640"/>
            <a:ext cx="5184720" cy="1586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http://www.lipetskmedia.ru/image/EZxBBky22Ow.jpg"/>
          <p:cNvPicPr/>
          <p:nvPr/>
        </p:nvPicPr>
        <p:blipFill>
          <a:blip r:embed="rId8"/>
          <a:stretch/>
        </p:blipFill>
        <p:spPr>
          <a:xfrm>
            <a:off x="179280" y="3860640"/>
            <a:ext cx="1800360" cy="2727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1"/>
          <p:cNvSpPr/>
          <p:nvPr/>
        </p:nvSpPr>
        <p:spPr>
          <a:xfrm>
            <a:off x="176364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Спасибо за просмотр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s://im0-tub-ru.yandex.net/i?id=1a5fbd4a340fa41418eeccdf5f11eaed&amp;n=33&amp;h=215&amp;w=324"/>
          <p:cNvPicPr/>
          <p:nvPr/>
        </p:nvPicPr>
        <p:blipFill>
          <a:blip r:embed="rId1"/>
          <a:stretch/>
        </p:blipFill>
        <p:spPr>
          <a:xfrm>
            <a:off x="755640" y="1268280"/>
            <a:ext cx="7583400" cy="4278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64072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Сахар-лучший источник энергии для человеческого организма,стимулирующий силу,ум,память,вынослив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1024.jpg"/>
          <p:cNvPicPr/>
          <p:nvPr/>
        </p:nvPicPr>
        <p:blipFill>
          <a:blip r:embed="rId1"/>
          <a:stretch/>
        </p:blipFill>
        <p:spPr>
          <a:xfrm>
            <a:off x="1332000" y="1916280"/>
            <a:ext cx="6327720" cy="4289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ttps://upload.wikimedia.org/wikipedia/commons/thumb/b/b3/Sucrose-inkscape.svg/1280px-Sucrose-inkscape.svg.png"/>
          <p:cNvPicPr/>
          <p:nvPr/>
        </p:nvPicPr>
        <p:blipFill>
          <a:blip r:embed="rId1"/>
          <a:stretch/>
        </p:blipFill>
        <p:spPr>
          <a:xfrm>
            <a:off x="1547640" y="1989000"/>
            <a:ext cx="5878800" cy="2778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vsezadachki.ru/uploads/posts/2014-11/14159541231him8gabrielan-6.png"/>
          <p:cNvPicPr/>
          <p:nvPr/>
        </p:nvPicPr>
        <p:blipFill>
          <a:blip r:embed="rId2"/>
          <a:stretch/>
        </p:blipFill>
        <p:spPr>
          <a:xfrm>
            <a:off x="5724360" y="260280"/>
            <a:ext cx="3149640" cy="87012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859760" y="1341360"/>
            <a:ext cx="553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Структурная формула саха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79720" y="189000"/>
            <a:ext cx="54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Химическая формула саха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http://mossahar.com/images/news/152083.jpg"/>
          <p:cNvPicPr/>
          <p:nvPr/>
        </p:nvPicPr>
        <p:blipFill>
          <a:blip r:embed="rId3"/>
          <a:stretch/>
        </p:blipFill>
        <p:spPr>
          <a:xfrm>
            <a:off x="250920" y="5084640"/>
            <a:ext cx="2719440" cy="153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http://muzei-co.ru/images/products_list/sugar/710.jpg"/>
          <p:cNvPicPr/>
          <p:nvPr/>
        </p:nvPicPr>
        <p:blipFill>
          <a:blip r:embed="rId4"/>
          <a:stretch/>
        </p:blipFill>
        <p:spPr>
          <a:xfrm>
            <a:off x="6300720" y="4724280"/>
            <a:ext cx="2664000" cy="1963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28036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Слово «сахар» происходит от индийского слова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 sarkara(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гравий,песок,сахар).В настоящее время в сахарной промышленности РФ насчитывается 95 сахарных завод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http://greenevolution.ru/wp-content/uploads/2013/02/%D0%92%D0%B8%D0%BD%D0%BE%D0%BA%D1%83%D1%80%D0%B0%D0%BC-%D0%B4%D0%B5%D0%BB%D0%B0-%D0%BD%D0%B5%D1%82-630x419.jpg"/>
          <p:cNvPicPr/>
          <p:nvPr/>
        </p:nvPicPr>
        <p:blipFill>
          <a:blip r:embed="rId1"/>
          <a:stretch/>
        </p:blipFill>
        <p:spPr>
          <a:xfrm>
            <a:off x="4140360" y="2637000"/>
            <a:ext cx="4679640" cy="392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s://static.apk-news.ru/uploads/2015/10/7954e8d5ba.jpg"/>
          <p:cNvPicPr/>
          <p:nvPr/>
        </p:nvPicPr>
        <p:blipFill>
          <a:blip r:embed="rId2"/>
          <a:stretch/>
        </p:blipFill>
        <p:spPr>
          <a:xfrm>
            <a:off x="108000" y="3357720"/>
            <a:ext cx="390204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mypresentation.ru/documents/7d0b4564b14b1a180586116c863f5295/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0" y="549360"/>
            <a:ext cx="77407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ахарный тростник с давних пор использовался людьми для получения сахара. Растение рода Saccharum выращивали в Индии более 3000 лет до н.э. Первыми европейцами, которые увидели и попробовали сахар, были воины Александра Македонского. Множество чудесных вещей они увидели в походе, а особенно их поразил белый сладкий камень: сахар-сырец.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0" y="2205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Русские люди узнали сахар приблизительно в XII веке, однако он не пользовался популярностью. Сладкий продукт можно было встретить только на пиру у царей, что стало возможным в связи с развитием торговых связей в XVI в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0" y="328464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ётр Великий издаёт указ о строительстве сахарного за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0" y="3573360"/>
            <a:ext cx="8424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При низком спросе один завод справлялся с поставленной задачей, но постепенно потребности в сахаре возрастают, и возникает вопрос о поиске источника сырья. В это время в Европе уже имеются предприятия по производству сахара из сахарной свеклы, поэтому перенимается зарубежный опыт и налаживается собственное производство с использованием этого сахаросодержащего овоща. Таким образом, привозной сахарный тростник в XVIII веке полностью заменяется отечественным сырь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О вреде и пользе сахара ведутся многочисленные споры, но факт остается фактом: сладкий продукт завоевал любовь человечества и присутствует почти на всех столах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2556000" y="1159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История поя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alibri"/>
              </a:rPr>
              <a:t>Сахарные культу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Прямая со стрелкой 3"/>
          <p:cNvCxnSpPr/>
          <p:nvPr/>
        </p:nvCxnSpPr>
        <p:spPr>
          <a:xfrm>
            <a:off x="4716000" y="1125000"/>
            <a:ext cx="648360" cy="108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7"/>
          <p:cNvCxnSpPr/>
          <p:nvPr/>
        </p:nvCxnSpPr>
        <p:spPr>
          <a:xfrm flipH="1">
            <a:off x="3132000" y="1143000"/>
            <a:ext cx="705240" cy="106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xtBox 17"/>
          <p:cNvSpPr/>
          <p:nvPr/>
        </p:nvSpPr>
        <p:spPr>
          <a:xfrm>
            <a:off x="915840" y="227664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ахарная св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5020560" y="2276640"/>
            <a:ext cx="296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Сахарный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трост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s://caribbeantravel.honeymoonwishes.com/images/registry_images/popup_204500.jpg"/>
          <p:cNvPicPr/>
          <p:nvPr/>
        </p:nvPicPr>
        <p:blipFill>
          <a:blip r:embed="rId1"/>
          <a:stretch/>
        </p:blipFill>
        <p:spPr>
          <a:xfrm>
            <a:off x="4643280" y="3284640"/>
            <a:ext cx="4270680" cy="2736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http://o-g-o-r-o-d.ru/wp-content/uploads/2015/03/Vyirashhivanie-semyan-stolovoy-sveklyi.jpg"/>
          <p:cNvPicPr/>
          <p:nvPr/>
        </p:nvPicPr>
        <p:blipFill>
          <a:blip r:embed="rId2"/>
          <a:stretch/>
        </p:blipFill>
        <p:spPr>
          <a:xfrm>
            <a:off x="179280" y="3284640"/>
            <a:ext cx="401184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Физические свойства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252000" y="1197000"/>
            <a:ext cx="19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Твёрд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270720" y="1700280"/>
            <a:ext cx="34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2060"/>
                </a:solidFill>
                <a:uFillTx/>
                <a:latin typeface="Arial"/>
              </a:rPr>
              <a:t>Кристалл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50920" y="220500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Вкус и запах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сладкий,без постороннего запаха и привк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250920" y="2997360"/>
            <a:ext cx="878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Сыпучесть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сыпучий,разваливается при лёгком нажа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250920" y="378936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Arial"/>
              </a:rPr>
              <a:t>Цвет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-белый(прозрачный),бывает с желтоватым отт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263880" y="4581360"/>
            <a:ext cx="33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Хорошо расствор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200160" y="5013360"/>
            <a:ext cx="47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Шикорое применение в пищ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http://cooks.kz/wp-content/uploads/2012/02/1283761608_sahar_syrets.jpg"/>
          <p:cNvPicPr/>
          <p:nvPr/>
        </p:nvPicPr>
        <p:blipFill>
          <a:blip r:embed="rId2"/>
          <a:stretch/>
        </p:blipFill>
        <p:spPr>
          <a:xfrm>
            <a:off x="5940360" y="4221000"/>
            <a:ext cx="3024360" cy="2460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Способы производства саха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hooligani.ru/wp-content/uploads/2016/02/bfbb8be9c5cc69b9c6fcfc7b88f79c26.jpg"/>
          <p:cNvPicPr/>
          <p:nvPr/>
        </p:nvPicPr>
        <p:blipFill>
          <a:blip r:embed="rId1"/>
          <a:stretch/>
        </p:blipFill>
        <p:spPr>
          <a:xfrm>
            <a:off x="324000" y="1628640"/>
            <a:ext cx="8627760" cy="4668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4:59:21Z</dcterms:created>
  <dc:creator>Дима</dc:creator>
  <dc:description/>
  <dc:language>en-US</dc:language>
  <cp:lastModifiedBy>Admin</cp:lastModifiedBy>
  <dcterms:modified xsi:type="dcterms:W3CDTF">2017-04-12T00:12:29Z</dcterms:modified>
  <cp:revision>200</cp:revision>
  <dc:subject/>
  <dc:title>Слайд 1</dc:title>
</cp:coreProperties>
</file>