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gif" ContentType="image/gif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BF9-9A7B-404C-A673-9C6270C8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CD5-360D-4E6A-AB96-4D2924761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7F0-F200-4043-9FEB-F2A07AF38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835-885A-47EF-A77E-183ADEA2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FF55-E167-4213-9A69-DF7CCF95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B007-DAC4-4FBE-9C0F-27339F6D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DDE9-E963-4C65-AB7D-2185F46F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1205B-170B-4B1E-A29B-59BB87AE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9E22-278C-4621-ACB8-FF38876B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422-A6FC-4186-94DC-D9A034CD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34AD8-5F07-4075-8A7A-4291235E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FA7-9778-4BF6-8161-A1F69D42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41ED-3415-4ECA-B599-DA6067A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05CA-F0EB-4B3A-AD01-45030ED2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E5C6-EB20-49F5-8264-146D982E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C626-7254-4AE9-BC55-B066A10E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97080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506280" y="14479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4356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97080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506280" y="3955320"/>
            <a:ext cx="241416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AD21-DA58-4316-9727-DCD83345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2E3-8D7A-4B21-AA34-4DBA457D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20BD-3BEE-4F09-958E-A82BB80F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A79-E9EC-421C-A10D-49851DF1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5680" y="274680"/>
            <a:ext cx="74977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4627-9326-4A62-8021-B63A1A8F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4D3-F844-4F2A-A378-CD109771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48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600" y="39553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F88-5D0C-481D-8F14-8B1B14DD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600" y="1447920"/>
            <a:ext cx="365868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5680" y="3955320"/>
            <a:ext cx="749772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FF70-6473-4611-B2F4-BBA8DDDB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C29FB6-72D7-42BC-BE6D-9C8051D176F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2B97F96-DE3B-42AB-9531-346EAFC0038D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85920" y="14288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Gill Sans MT"/>
              </a:rPr>
              <a:t>Знакомство   дошкольников</a:t>
            </a:r>
            <a:br>
              <a:rPr sz="4400"/>
            </a:br>
            <a:r>
              <a:rPr b="0" lang="ru-RU" sz="4400" spc="-1" strike="noStrike">
                <a:solidFill>
                  <a:schemeClr val="accent6">
                    <a:lumMod val="75000"/>
                  </a:schemeClr>
                </a:solidFill>
                <a:latin typeface="Gill Sans MT"/>
              </a:rPr>
              <a:t>с геометрическими  фигурами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Расскажи какие фигуры ты узна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8" name="Содержимое 3" descr="figure1.gif"/>
          <p:cNvPicPr/>
          <p:nvPr/>
        </p:nvPicPr>
        <p:blipFill>
          <a:blip r:embed="rId1"/>
          <a:stretch/>
        </p:blipFill>
        <p:spPr>
          <a:xfrm>
            <a:off x="3144600" y="1447920"/>
            <a:ext cx="407988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Расскажи какие   фигуры   использовали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10" name="Содержимое 3" descr="geom.jpg"/>
          <p:cNvPicPr/>
          <p:nvPr/>
        </p:nvPicPr>
        <p:blipFill>
          <a:blip r:embed="rId1"/>
          <a:stretch/>
        </p:blipFill>
        <p:spPr>
          <a:xfrm>
            <a:off x="1584360" y="1447920"/>
            <a:ext cx="720072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Содержимое 5" descr="0001-001-Figury.png"/>
          <p:cNvPicPr/>
          <p:nvPr/>
        </p:nvPicPr>
        <p:blipFill>
          <a:blip r:embed="rId1"/>
          <a:stretch/>
        </p:blipFill>
        <p:spPr>
          <a:xfrm>
            <a:off x="1983600" y="1447920"/>
            <a:ext cx="64022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3" descr="0007-007-Treugoln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одержимое 3" descr="584dd570-349e-462b-acfe-a4e48d641383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0003-003-Prjamougoln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               </a:t>
            </a:r>
            <a:r>
              <a:rPr b="0" lang="ru-RU" sz="2800" spc="-1" strike="noStrike">
                <a:solidFill>
                  <a:srgbClr val="572314"/>
                </a:solidFill>
                <a:latin typeface="Gill Sans MT"/>
              </a:rPr>
              <a:t>Посмотри на картинку</a:t>
            </a:r>
            <a:br>
              <a:rPr sz="2000"/>
            </a:br>
            <a:r>
              <a:rPr b="0" lang="ru-RU" sz="2000" spc="-1" strike="noStrike">
                <a:solidFill>
                  <a:srgbClr val="572314"/>
                </a:solidFill>
                <a:latin typeface="Gill Sans MT"/>
              </a:rPr>
              <a:t>Сколько на картинке   кругов ,треугольников, квадратов?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" name="Содержимое 3" descr="comb2.png"/>
          <p:cNvPicPr/>
          <p:nvPr/>
        </p:nvPicPr>
        <p:blipFill>
          <a:blip r:embed="rId1"/>
          <a:stretch/>
        </p:blipFill>
        <p:spPr>
          <a:xfrm>
            <a:off x="2339640" y="1845000"/>
            <a:ext cx="4455360" cy="464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572314"/>
                </a:solidFill>
                <a:latin typeface="Gill Sans MT"/>
              </a:rPr>
              <a:t>Из каких геометрических фигур   построен дом</a:t>
            </a:r>
            <a:r>
              <a:rPr b="0" lang="ru-RU" sz="2400" spc="-1" strike="noStrike">
                <a:solidFill>
                  <a:srgbClr val="572314"/>
                </a:solidFill>
                <a:latin typeface="Gill Sans MT"/>
              </a:rPr>
              <a:t>?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2" name="Содержимое 3" descr="0001-001-Applikatsija-iz-geometricheskikh-figur.jpg"/>
          <p:cNvPicPr/>
          <p:nvPr/>
        </p:nvPicPr>
        <p:blipFill>
          <a:blip r:embed="rId1"/>
          <a:stretch/>
        </p:blipFill>
        <p:spPr>
          <a:xfrm>
            <a:off x="1977480" y="1447920"/>
            <a:ext cx="641448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1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з каких фигур сделан кораблик?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4" name="Содержимое 3" descr="geometricheskie-figuryi-dlya-detey.jpg"/>
          <p:cNvPicPr/>
          <p:nvPr/>
        </p:nvPicPr>
        <p:blipFill>
          <a:blip r:embed="rId1"/>
          <a:stretch/>
        </p:blipFill>
        <p:spPr>
          <a:xfrm>
            <a:off x="3279600" y="1943280"/>
            <a:ext cx="38095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0000"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з каких фигур состоит грузовик?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6" name="Содержимое 3" descr="0006-006-Gruzovik.jpg"/>
          <p:cNvPicPr/>
          <p:nvPr/>
        </p:nvPicPr>
        <p:blipFill>
          <a:blip r:embed="rId1"/>
          <a:stretch/>
        </p:blipFill>
        <p:spPr>
          <a:xfrm>
            <a:off x="1984320" y="1447920"/>
            <a:ext cx="6400440" cy="48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37</TotalTime>
  <Application>LibreOffice/7.4.7.2$Linux_X86_64 LibreOffice_project/40$Build-2</Application>
  <AppVersion>15.0000</AppVersion>
  <Words>34</Words>
  <Paragraphs>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6T13:21:59Z</dcterms:created>
  <dc:creator>1</dc:creator>
  <dc:description/>
  <dc:language>en-US</dc:language>
  <cp:lastModifiedBy>uchitel</cp:lastModifiedBy>
  <dcterms:modified xsi:type="dcterms:W3CDTF">2017-09-26T10:54:24Z</dcterms:modified>
  <cp:revision>3</cp:revision>
  <dc:subject/>
  <dc:title>Знакомство  с геометрическими  фигур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