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00C-A888-4DF0-A157-E9EE3EC2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2AF-C947-44EE-9B40-CA7F40FD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EE1-E14D-44D7-B757-1FFC0808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239-8481-436A-AB1C-009431B1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FF1-E204-45A8-B5F4-B7A27953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E7FA-BC03-41C4-A91F-826FAE80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810D-6A20-4E6D-B80A-8F143A5D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73BB-BE9E-4686-BD7C-2D5C6C84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0013-F37C-4F43-B080-47E75A06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5E73-0816-4927-AD22-DC320B0A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74E2-C05D-491C-A67C-45E72F0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3C1-BE83-4459-9959-9D1D922F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4674-178B-4CF8-A729-EC883FBA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13B0-21A8-41CD-B835-5BFB272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6804-7FAF-4EE1-BFC0-88481977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B1BE-AAA1-4FF2-A023-573CA82F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8DD-19B0-458F-BFD4-4BAC86F6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1A3-0C14-4321-A328-3BF1365B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AC0-E8EB-4E64-A3D2-D3CFC81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B2A-F785-4403-9A88-9631998B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52D-855D-447F-B7C5-B7579422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AF6-DCEF-4DB7-84A4-51B1541A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57F-C989-455A-917D-EC3DCC10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041-8262-4FBD-A7E3-36A4CBB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34C454A-04B6-44BA-98FE-E4E77B861AFA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5C8089D-D3E3-4030-9A9A-7C5F2E6EB800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85920" y="14288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Gill Sans MT"/>
              </a:rPr>
              <a:t>Знакомство   дошкольников</a:t>
            </a:r>
            <a:br>
              <a:rPr sz="4400"/>
            </a:b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Gill Sans MT"/>
              </a:rPr>
              <a:t>с геометрическими  фигурами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Расскажи какие фигуры ты узна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Содержимое 3" descr="figure1.gif"/>
          <p:cNvPicPr/>
          <p:nvPr/>
        </p:nvPicPr>
        <p:blipFill>
          <a:blip r:embed="rId1"/>
          <a:stretch/>
        </p:blipFill>
        <p:spPr>
          <a:xfrm>
            <a:off x="3144600" y="1447920"/>
            <a:ext cx="407988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Расскажи какие   фигуры   использовал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Содержимое 3" descr="geom.jpg"/>
          <p:cNvPicPr/>
          <p:nvPr/>
        </p:nvPicPr>
        <p:blipFill>
          <a:blip r:embed="rId1"/>
          <a:stretch/>
        </p:blipFill>
        <p:spPr>
          <a:xfrm>
            <a:off x="1584360" y="1447920"/>
            <a:ext cx="720072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5" descr="0001-001-Figury.png"/>
          <p:cNvPicPr/>
          <p:nvPr/>
        </p:nvPicPr>
        <p:blipFill>
          <a:blip r:embed="rId1"/>
          <a:stretch/>
        </p:blipFill>
        <p:spPr>
          <a:xfrm>
            <a:off x="1983600" y="1447920"/>
            <a:ext cx="64022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0007-007-Treugolnik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4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584dd570-349e-462b-acfe-a4e48d641383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4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0003-003-Prjamougolnik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4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               </a:t>
            </a: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Посмотри на картинку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Сколько на картинке   кругов ,треугольников, квадратов?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Содержимое 3" descr="comb2.png"/>
          <p:cNvPicPr/>
          <p:nvPr/>
        </p:nvPicPr>
        <p:blipFill>
          <a:blip r:embed="rId1"/>
          <a:stretch/>
        </p:blipFill>
        <p:spPr>
          <a:xfrm>
            <a:off x="2339640" y="1845000"/>
            <a:ext cx="4455360" cy="464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572314"/>
                </a:solidFill>
                <a:latin typeface="Gill Sans MT"/>
              </a:rPr>
              <a:t>Из каких геометрических фигур   построен дом</a:t>
            </a: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Содержимое 3" descr="0001-001-Applikatsija-iz-geometricheskikh-figur.jpg"/>
          <p:cNvPicPr/>
          <p:nvPr/>
        </p:nvPicPr>
        <p:blipFill>
          <a:blip r:embed="rId1"/>
          <a:stretch/>
        </p:blipFill>
        <p:spPr>
          <a:xfrm>
            <a:off x="1977480" y="1447920"/>
            <a:ext cx="641448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з каких фигур сделан кораблик?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" name="Содержимое 3" descr="geometricheskie-figuryi-dlya-detey.jpg"/>
          <p:cNvPicPr/>
          <p:nvPr/>
        </p:nvPicPr>
        <p:blipFill>
          <a:blip r:embed="rId1"/>
          <a:stretch/>
        </p:blipFill>
        <p:spPr>
          <a:xfrm>
            <a:off x="3279600" y="1943280"/>
            <a:ext cx="380952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з каких фигур состоит грузовик?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Содержимое 3" descr="0006-006-Gruzovik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4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7</TotalTime>
  <Application>LibreOffice/7.4.7.2$Linux_X86_64 LibreOffice_project/40$Build-2</Application>
  <AppVersion>15.0000</AppVersion>
  <Words>34</Words>
  <Paragraphs>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3:21:59Z</dcterms:created>
  <dc:creator>1</dc:creator>
  <dc:description/>
  <dc:language>en-US</dc:language>
  <cp:lastModifiedBy>uchitel</cp:lastModifiedBy>
  <dcterms:modified xsi:type="dcterms:W3CDTF">2017-09-26T10:54:24Z</dcterms:modified>
  <cp:revision>3</cp:revision>
  <dc:subject/>
  <dc:title>Знакомство  с геометрическими  фигура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