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FF44-3C67-4CD4-8EB0-47E01768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60DF-AC51-47D4-934F-AC045E6A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C278-9DE4-4B7C-A0EF-C316E3FEC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71A-3B76-4FC3-9712-76AB9B3F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C8C9-81B5-4A9C-9CAE-706E8D7A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18D7-94D5-479E-8E8D-63F8D1E1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0A9-8B1C-4EFF-915F-0E6D12FC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893-B3DE-4588-BA06-E73644422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2217-3467-4C88-9824-19EC4205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8D0B-948A-415C-918C-F52AB6FA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C1BA-0001-4362-A53D-9934F47D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5CBF-7507-4110-ACD0-2B75C142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3B72-A215-4B93-A23D-3082A07278A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14440" y="428760"/>
            <a:ext cx="55292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Как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родилась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книг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28920" y="4857840"/>
            <a:ext cx="6400800" cy="10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Л.Ф. Дадонов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читель начальных клас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БОУ «СОШ №3 г. Красноармейска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аратовской обла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714120" y="614376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7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726240" y="3429000"/>
            <a:ext cx="165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russia_temn_front"/>
          <p:cNvPicPr/>
          <p:nvPr/>
        </p:nvPicPr>
        <p:blipFill>
          <a:blip r:embed="rId1"/>
          <a:stretch/>
        </p:blipFill>
        <p:spPr>
          <a:xfrm>
            <a:off x="246240" y="1071720"/>
            <a:ext cx="439704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2"/>
          <p:cNvSpPr/>
          <p:nvPr/>
        </p:nvSpPr>
        <p:spPr>
          <a:xfrm>
            <a:off x="357120" y="5072040"/>
            <a:ext cx="4783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a22"/>
                </a:solidFill>
                <a:latin typeface="Tahoma"/>
                <a:ea typeface="Tahoma"/>
              </a:rPr>
              <a:t>Папирус </a:t>
            </a:r>
            <a:r>
              <a:rPr b="0" lang="ru-RU" sz="2400" spc="-1" strike="noStrike">
                <a:solidFill>
                  <a:srgbClr val="2f2a22"/>
                </a:solidFill>
                <a:latin typeface="Arial"/>
                <a:ea typeface="Tahoma"/>
              </a:rPr>
              <a:t>–</a:t>
            </a:r>
            <a:r>
              <a:rPr b="0" lang="ru-RU" sz="2400" spc="-1" strike="noStrike">
                <a:solidFill>
                  <a:srgbClr val="2f2a22"/>
                </a:solidFill>
                <a:latin typeface="Tahoma"/>
                <a:ea typeface="Tahoma"/>
              </a:rPr>
              <a:t> речной тростник с высоким и толстым стволом.</a:t>
            </a:r>
            <a:r>
              <a:rPr b="0" lang="ru-RU" sz="2800" spc="-1" strike="noStrike">
                <a:solidFill>
                  <a:srgbClr val="2f2a22"/>
                </a:solidFill>
                <a:latin typeface="Arial"/>
                <a:ea typeface="Tahoma"/>
              </a:rPr>
              <a:t> </a:t>
            </a:r>
            <a:r>
              <a:rPr b="0" lang="ru-RU" sz="2800" spc="-1" strike="noStrike">
                <a:solidFill>
                  <a:srgbClr val="2f2a22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trezvenie.org/bible_study/%D1%81%D0%BB%D0%B0%D0%B9%D0%B4%D1%8B/flora/%D0%BF%D0%B0%D0%BF%D0%B8%D1%80%D1%83%D1%81.jpg"/>
          <p:cNvPicPr/>
          <p:nvPr/>
        </p:nvPicPr>
        <p:blipFill>
          <a:blip r:embed="rId1"/>
          <a:stretch/>
        </p:blipFill>
        <p:spPr>
          <a:xfrm>
            <a:off x="5286240" y="2286000"/>
            <a:ext cx="2916360" cy="3887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http://www.livingathome.de/pflanzen_gaertnern/zimmergarten/images/428/zypergras.jpg"/>
          <p:cNvPicPr/>
          <p:nvPr/>
        </p:nvPicPr>
        <p:blipFill>
          <a:blip r:embed="rId2"/>
          <a:stretch/>
        </p:blipFill>
        <p:spPr>
          <a:xfrm>
            <a:off x="642960" y="2071800"/>
            <a:ext cx="4076640" cy="285732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571680" y="40464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В древнем Египте </a:t>
            </a:r>
            <a:r>
              <a:rPr b="0" lang="ru-RU" sz="2800" spc="-1" strike="noStrike">
                <a:solidFill>
                  <a:srgbClr val="2f2a22"/>
                </a:solidFill>
                <a:latin typeface="Tahoma"/>
                <a:ea typeface="Tahoma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магу изготавлив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растения, которое называлось папирус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a22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0504d"/>
            </a:gs>
            <a:gs pos="100000">
              <a:srgbClr val="59252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4680"/>
            <a:ext cx="9144000" cy="1427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213920"/>
            <a:ext cx="9144000" cy="56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пирусная бумага пр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гибании ломалас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книги у египтя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глядели в виде лен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енту можно было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катать в трубку -  в свито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07svitok"/>
          <p:cNvPicPr/>
          <p:nvPr/>
        </p:nvPicPr>
        <p:blipFill>
          <a:blip r:embed="rId1"/>
          <a:stretch/>
        </p:blipFill>
        <p:spPr>
          <a:xfrm>
            <a:off x="5572080" y="1928880"/>
            <a:ext cx="3000600" cy="3787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decoracion2.com/imagenes/2010/09/papiro.jpg"/>
          <p:cNvPicPr/>
          <p:nvPr/>
        </p:nvPicPr>
        <p:blipFill>
          <a:blip r:embed="rId2"/>
          <a:stretch/>
        </p:blipFill>
        <p:spPr>
          <a:xfrm>
            <a:off x="642960" y="4286160"/>
            <a:ext cx="3141720" cy="23576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8"/>
          <p:cNvSpPr/>
          <p:nvPr/>
        </p:nvSpPr>
        <p:spPr>
          <a:xfrm>
            <a:off x="1866960" y="295200"/>
            <a:ext cx="5214960" cy="914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апир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koga"/>
          <p:cNvPicPr/>
          <p:nvPr/>
        </p:nvPicPr>
        <p:blipFill>
          <a:blip r:embed="rId1"/>
          <a:stretch/>
        </p:blipFill>
        <p:spPr>
          <a:xfrm>
            <a:off x="5857920" y="3643200"/>
            <a:ext cx="2585880" cy="2905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4186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гамент (от названия города Пергам в Малой Азии). Его получали из кожи ягнят, овец или коз, которую вымачивали в растворе извести, а затем высушивали и полировали. Для защиты переплета от царапин на нем укреплялись медные бляшки. Книга запиралась на застежки. Без  них она бы потеряла фор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infonositeli.narod.ru/images/image003.jpg"/>
          <p:cNvPicPr/>
          <p:nvPr/>
        </p:nvPicPr>
        <p:blipFill>
          <a:blip r:embed="rId2"/>
          <a:stretch/>
        </p:blipFill>
        <p:spPr>
          <a:xfrm>
            <a:off x="6000840" y="357120"/>
            <a:ext cx="2889000" cy="31021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7"/>
          <p:cNvSpPr/>
          <p:nvPr/>
        </p:nvSpPr>
        <p:spPr>
          <a:xfrm>
            <a:off x="1857240" y="214200"/>
            <a:ext cx="3214800" cy="914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га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"/>
          <p:cNvSpPr/>
          <p:nvPr/>
        </p:nvSpPr>
        <p:spPr>
          <a:xfrm>
            <a:off x="500040" y="2143080"/>
            <a:ext cx="357192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вы на берёсте процарапывались острым железным или костяным стержн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beresta"/>
          <p:cNvPicPr/>
          <p:nvPr/>
        </p:nvPicPr>
        <p:blipFill>
          <a:blip r:embed="rId1"/>
          <a:stretch/>
        </p:blipFill>
        <p:spPr>
          <a:xfrm>
            <a:off x="5214960" y="2357280"/>
            <a:ext cx="3433680" cy="41799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3"/>
          <p:cNvSpPr/>
          <p:nvPr/>
        </p:nvSpPr>
        <p:spPr>
          <a:xfrm>
            <a:off x="428760" y="1214280"/>
            <a:ext cx="8286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 древней Рус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али на тонкой коре берёзы -бер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2500200" y="428760"/>
            <a:ext cx="3929040" cy="914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ерё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896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нига в кожаном перепле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етописец трудился месяцами, а иногда и    годами, чтобы воспроизвести какое-либо  произведение. Стоили они очень дор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forum_image"/>
          <p:cNvPicPr/>
          <p:nvPr/>
        </p:nvPicPr>
        <p:blipFill>
          <a:blip r:embed="rId1"/>
          <a:stretch/>
        </p:blipFill>
        <p:spPr>
          <a:xfrm>
            <a:off x="2214720" y="2928960"/>
            <a:ext cx="4643280" cy="29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0d5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738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зобретение бумаг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71360" y="1125360"/>
            <a:ext cx="38574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первые бумага появилась в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Древне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Китае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post-29794-1176233266"/>
          <p:cNvPicPr/>
          <p:nvPr/>
        </p:nvPicPr>
        <p:blipFill>
          <a:blip r:embed="rId1"/>
          <a:stretch/>
        </p:blipFill>
        <p:spPr>
          <a:xfrm>
            <a:off x="5205240" y="920880"/>
            <a:ext cx="373068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"/>
          <p:cNvSpPr/>
          <p:nvPr/>
        </p:nvSpPr>
        <p:spPr>
          <a:xfrm>
            <a:off x="2162520" y="285840"/>
            <a:ext cx="545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ый печатный стан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571680" y="1428840"/>
            <a:ext cx="3286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обрел великий немецкий новатор Иоганн  Гутенберг            (ок. 1400 – 1468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guten3"/>
          <p:cNvPicPr/>
          <p:nvPr/>
        </p:nvPicPr>
        <p:blipFill>
          <a:blip r:embed="rId1"/>
          <a:stretch/>
        </p:blipFill>
        <p:spPr>
          <a:xfrm>
            <a:off x="4286160" y="1500120"/>
            <a:ext cx="349884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вая русская печатная книга «Апосто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Четвероевангелие 1560"/>
          <p:cNvPicPr/>
          <p:nvPr/>
        </p:nvPicPr>
        <p:blipFill>
          <a:blip r:embed="rId1"/>
          <a:stretch/>
        </p:blipFill>
        <p:spPr>
          <a:xfrm>
            <a:off x="2971800" y="1600200"/>
            <a:ext cx="3200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857240" y="642960"/>
            <a:ext cx="5643720" cy="376236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5"/>
          <p:cNvSpPr/>
          <p:nvPr/>
        </p:nvSpPr>
        <p:spPr>
          <a:xfrm>
            <a:off x="500040" y="4500720"/>
            <a:ext cx="82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книги лучше сохранялись, переплёты делались из деревянных дощечек. Их обтягива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нкой кожей или дорогой матер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Книги наших дн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век информационных технологий появились                                                          электронные кни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Диски"/>
          <p:cNvPicPr/>
          <p:nvPr/>
        </p:nvPicPr>
        <p:blipFill>
          <a:blip r:embed="rId1"/>
          <a:stretch/>
        </p:blipFill>
        <p:spPr>
          <a:xfrm>
            <a:off x="1071720" y="2143080"/>
            <a:ext cx="3025440" cy="235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Gvicciardini_4_front"/>
          <p:cNvPicPr/>
          <p:nvPr/>
        </p:nvPicPr>
        <p:blipFill>
          <a:blip r:embed="rId2"/>
          <a:stretch/>
        </p:blipFill>
        <p:spPr>
          <a:xfrm>
            <a:off x="5286240" y="1714680"/>
            <a:ext cx="314352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28760" y="571680"/>
            <a:ext cx="40003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Хоть не шляпа,  а с полям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цветок, а с корешк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зговаривает с на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пеливым язы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ds171.centerstart.ru/sites/ds171.centerstart.ru/files/fa10c1adbfaba20baa1d6ab1648502b8.png"/>
          <p:cNvPicPr/>
          <p:nvPr/>
        </p:nvPicPr>
        <p:blipFill>
          <a:blip r:embed="rId1"/>
          <a:stretch/>
        </p:blipFill>
        <p:spPr>
          <a:xfrm>
            <a:off x="4602240" y="1214280"/>
            <a:ext cx="3970440" cy="385776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500040" y="35002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еш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Прямая со стрелкой 7"/>
          <p:cNvCxnSpPr/>
          <p:nvPr/>
        </p:nvCxnSpPr>
        <p:spPr>
          <a:xfrm>
            <a:off x="1714320" y="3428640"/>
            <a:ext cx="572040" cy="214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0" name="Picture 5" descr="russia_temn_front"/>
          <p:cNvPicPr/>
          <p:nvPr/>
        </p:nvPicPr>
        <p:blipFill>
          <a:blip r:embed="rId2"/>
          <a:stretch/>
        </p:blipFill>
        <p:spPr>
          <a:xfrm>
            <a:off x="1500120" y="2786040"/>
            <a:ext cx="3319560" cy="30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63160" y="356760"/>
            <a:ext cx="8451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ы с книгой умней и богаче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Нам с нею расти и дружить,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на задает нам задачи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И учит, как думать и жить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http://more-cliparts.net/images/ziX5zdB5T.png"/>
          <p:cNvPicPr/>
          <p:nvPr/>
        </p:nvPicPr>
        <p:blipFill>
          <a:blip r:embed="rId1"/>
          <a:stretch/>
        </p:blipFill>
        <p:spPr>
          <a:xfrm>
            <a:off x="5214960" y="3143160"/>
            <a:ext cx="364320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66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859280" y="3860640"/>
            <a:ext cx="428472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WordArt 9"/>
          <p:cNvSpPr txBox="1"/>
          <p:nvPr/>
        </p:nvSpPr>
        <p:spPr>
          <a:xfrm>
            <a:off x="642960" y="476280"/>
            <a:ext cx="800100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714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 родилась </a:t>
            </a:r>
            <a:endParaRPr b="0" lang="en-US" sz="1800" spc="1" strike="noStrike">
              <a:ln w="0">
                <a:noFill/>
              </a:ln>
              <a:solidFill>
                <a:srgbClr val="ff714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714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714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нига</a:t>
            </a:r>
            <a:endParaRPr b="0" lang="en-US" sz="1800" spc="1" strike="noStrike">
              <a:ln w="0">
                <a:noFill/>
              </a:ln>
              <a:solidFill>
                <a:srgbClr val="ff714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3" name="Picture 4" descr="C:\Documents and Settings\Ирина Алексеевна\Мои документы\Мои рисунки\клипарт книга открытая с пером.png"/>
          <p:cNvPicPr/>
          <p:nvPr/>
        </p:nvPicPr>
        <p:blipFill>
          <a:blip r:embed="rId1"/>
          <a:stretch/>
        </p:blipFill>
        <p:spPr>
          <a:xfrm>
            <a:off x="5857920" y="214200"/>
            <a:ext cx="2357280" cy="21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572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рождение книг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3160" y="1598400"/>
            <a:ext cx="8629560" cy="463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е времена, когда не было ни букв, ни бумаги, ни пера, уже были гениальные сочинители, сказочники, поэты.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х произведения хранились в человеческой памяти. Человек, способный накрепко запомнить и вдохновенно рассказать то или иное произведение, как бы становился книг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9240" y="188640"/>
            <a:ext cx="8673840" cy="118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ревние люд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7120" y="1571400"/>
            <a:ext cx="421488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евние люди, не имея ещё азбуки, высекали изображения на скалах, стенах пеще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е «книги» были каменными, глиняными и деревянны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HWScan00045"/>
          <p:cNvPicPr/>
          <p:nvPr/>
        </p:nvPicPr>
        <p:blipFill>
          <a:blip r:embed="rId1"/>
          <a:stretch/>
        </p:blipFill>
        <p:spPr>
          <a:xfrm>
            <a:off x="5214960" y="1500120"/>
            <a:ext cx="3586320" cy="495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менные  «книг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www.time.kg/uploads/posts/1310353078_kamni-7.jpg"/>
          <p:cNvPicPr/>
          <p:nvPr/>
        </p:nvPicPr>
        <p:blipFill>
          <a:blip r:embed="rId1"/>
          <a:stretch/>
        </p:blipFill>
        <p:spPr>
          <a:xfrm>
            <a:off x="500040" y="1643040"/>
            <a:ext cx="4000680" cy="4500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old.eduvluki.ru/data/school/17/136/publ/65107/96480356.jpg"/>
          <p:cNvPicPr/>
          <p:nvPr/>
        </p:nvPicPr>
        <p:blipFill>
          <a:blip r:embed="rId2"/>
          <a:stretch/>
        </p:blipFill>
        <p:spPr>
          <a:xfrm>
            <a:off x="4929120" y="1643040"/>
            <a:ext cx="364356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линяные  «книг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s://fs00.infourok.ru/images/doc/133/155622/img9.jpg"/>
          <p:cNvPicPr/>
          <p:nvPr/>
        </p:nvPicPr>
        <p:blipFill>
          <a:blip r:embed="rId1"/>
          <a:srcRect l="0" t="31570" r="0" b="0"/>
          <a:stretch/>
        </p:blipFill>
        <p:spPr>
          <a:xfrm>
            <a:off x="1571760" y="1500120"/>
            <a:ext cx="6033960" cy="3097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704880" y="4929120"/>
            <a:ext cx="77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али на табличках из сырой глины металлической острой пало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ички нумеровали. Затем их сушили на солнце  или обжиг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3008160" cy="116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еревянная кни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311472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еревянные дощечки покрывали воском  и выдавливали  на нём палочкой  буквы.  Надпись  можно было стир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https://ds04.infourok.ru/uploads/ex/10aa/000826f9-8546f5be/img6.jpg"/>
          <p:cNvPicPr/>
          <p:nvPr/>
        </p:nvPicPr>
        <p:blipFill>
          <a:blip r:embed="rId1"/>
          <a:stretch/>
        </p:blipFill>
        <p:spPr>
          <a:xfrm>
            <a:off x="4214880" y="857160"/>
            <a:ext cx="4143240" cy="48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Металлическая кни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http://derzhava.today/wp-content/uploads/2016/09/1.jpg"/>
          <p:cNvPicPr/>
          <p:nvPr/>
        </p:nvPicPr>
        <p:blipFill>
          <a:blip r:embed="rId1"/>
          <a:stretch/>
        </p:blipFill>
        <p:spPr>
          <a:xfrm>
            <a:off x="2786040" y="1928880"/>
            <a:ext cx="3714840" cy="41418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4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0"/>
          <p:cNvSpPr/>
          <p:nvPr/>
        </p:nvSpPr>
        <p:spPr>
          <a:xfrm>
            <a:off x="4538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5T09:41:42Z</dcterms:created>
  <dc:creator>Л.Ф. дадонова</dc:creator>
  <dc:description/>
  <dc:language>en-US</dc:language>
  <cp:lastModifiedBy>Admin</cp:lastModifiedBy>
  <dcterms:modified xsi:type="dcterms:W3CDTF">2017-10-21T09:18:57Z</dcterms:modified>
  <cp:revision>71</cp:revision>
  <dc:subject/>
  <dc:title>Как родилась книга</dc:title>
</cp:coreProperties>
</file>