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ABA-38A9-40D9-B867-A5054DAE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970-97DD-4161-84B0-BDBA9AA9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B6ED-E45C-4A09-952F-68243633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29D5-6405-40D8-A434-85471685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B955-783B-46D5-BEFE-2546C15F6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646-6A55-442F-B56A-895F68D3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116-05FD-44D2-A949-F3CDECC1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CC96-89E2-4DFD-80B8-878FC719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B89-D948-47A7-B2D9-1FD265EC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C03D-92BD-406F-B547-1EF29D99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775E-9AAB-4711-AD69-411FC037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D08-031E-48C8-90B9-3D5CEAD2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531C-63B3-4125-BB5C-CB9248F8E8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автономное общеобразовательное учреждени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гимназия города Благовещенс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1680" y="1999800"/>
            <a:ext cx="78580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оролевая социализация дошкольников через программу "Мальчики и девочки - кто они?" </a:t>
            </a:r>
            <a:br>
              <a:rPr sz="44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одготовила : воспитатель  Волк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Ольга  Серге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4" descr="https://docviewer.yandex.ru/htmlimage?id=ehsk-1b2oagfsionazasmu74rxon3onyub2ylypgl07px2skq43zbjfg9dvyjqqc61ql80c60iemwbehi16a239nqdwg0l2evenx9oln&amp;name=image-AuTs0pSTnjZsEE2D8u.png&amp;uid=79996542"/>
          <p:cNvPicPr/>
          <p:nvPr/>
        </p:nvPicPr>
        <p:blipFill>
          <a:blip r:embed="rId1"/>
          <a:stretch/>
        </p:blipFill>
        <p:spPr>
          <a:xfrm>
            <a:off x="826920" y="3716280"/>
            <a:ext cx="285768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Users\User\Desktop\рабочий стол\фото\Новая папка\106___02\IMG_0354.JPG"/>
          <p:cNvPicPr/>
          <p:nvPr/>
        </p:nvPicPr>
        <p:blipFill>
          <a:blip r:embed="rId1"/>
          <a:stretch/>
        </p:blipFill>
        <p:spPr>
          <a:xfrm>
            <a:off x="3276720" y="2492280"/>
            <a:ext cx="5027400" cy="3772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C:\Users\User\Desktop\рабочий стол\фото\Новая папка\106___02\IMG_0350.JPG"/>
          <p:cNvPicPr/>
          <p:nvPr/>
        </p:nvPicPr>
        <p:blipFill>
          <a:blip r:embed="rId2"/>
          <a:stretch/>
        </p:blipFill>
        <p:spPr>
          <a:xfrm>
            <a:off x="468360" y="260280"/>
            <a:ext cx="4824360" cy="3618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11917440" y="981000"/>
            <a:ext cx="70405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Users\User\Desktop\рабочий стол\фото\Новая папка\106___02\IMG_0392.JPG"/>
          <p:cNvPicPr/>
          <p:nvPr/>
        </p:nvPicPr>
        <p:blipFill>
          <a:blip r:embed="rId1"/>
          <a:stretch/>
        </p:blipFill>
        <p:spPr>
          <a:xfrm>
            <a:off x="539640" y="333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C:\Users\Graf\Desktop\новые фото\Фото-0215.jpg"/>
          <p:cNvPicPr/>
          <p:nvPr/>
        </p:nvPicPr>
        <p:blipFill>
          <a:blip r:embed="rId2"/>
          <a:stretch/>
        </p:blipFill>
        <p:spPr>
          <a:xfrm>
            <a:off x="5435640" y="765000"/>
            <a:ext cx="2970000" cy="395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C:\Users\Graf\Desktop\новые фото\Фото-0198.jpg"/>
          <p:cNvPicPr/>
          <p:nvPr/>
        </p:nvPicPr>
        <p:blipFill>
          <a:blip r:embed="rId3"/>
          <a:stretch/>
        </p:blipFill>
        <p:spPr>
          <a:xfrm>
            <a:off x="1187280" y="3789360"/>
            <a:ext cx="32403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ыв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642960" y="1428840"/>
            <a:ext cx="7858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Гендерные роли формируются культурой (воспитание, образование, обуч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Половое воспитание в широком смысле слова – весь процесс гендерной соци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8989"/>
                </a:solidFill>
                <a:latin typeface="Calibri"/>
              </a:rPr>
              <a:t>Гендерная социализация дает девочкам «корни», а мальчикам - «крыл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929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71320" y="14997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льчики и девочки: дифференцированный подход к воспитанию детей» Т.В. Иванова, Волгоград: ИТД «Корифей»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Мальчики и девочки: дифференцированный подход к воспитанию детей старшего     дошкольного возраста», И.П. Шелухина, М.: ТЦ «Сфера», 200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грамма «Мальчики и девочки – кто они?» М.А.Радзивил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Формирование гендерной идентичности» Н.А. Виноградовой, Н.В.Микляевой, М. ТЦ «Сфера»,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льчики и девочки –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они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раздел содержит ряд тем, отражающих различные направления процесса полоролевого воспитания дошколь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- ознакомление детей с основными характеристиками мужского и женского пола, отличительными особенностями мужского и женского пове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42840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а «Мальчики и девочки —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то они?»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рины Анатольевны Радзивиловой включает пять больших разделов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2349000"/>
            <a:ext cx="77040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Что я знаю о себе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Различие полов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Мужской и женский этикет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Моя семья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Вместе весело иг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Что я знаю о себе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Различие полов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Мужской и женский этикет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Содержимое 3" descr=""/>
          <p:cNvPicPr/>
          <p:nvPr/>
        </p:nvPicPr>
        <p:blipFill>
          <a:blip r:embed="rId1"/>
          <a:stretch/>
        </p:blipFill>
        <p:spPr>
          <a:xfrm>
            <a:off x="450720" y="858960"/>
            <a:ext cx="8242560" cy="52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Моя семья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«Вместе весело играть»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1320" y="1642680"/>
            <a:ext cx="80010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" name="Овал 7"/>
          <p:cNvSpPr/>
          <p:nvPr/>
        </p:nvSpPr>
        <p:spPr>
          <a:xfrm>
            <a:off x="785880" y="2214720"/>
            <a:ext cx="3000240" cy="1714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гровое пространство для мальч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8"/>
          <p:cNvSpPr/>
          <p:nvPr/>
        </p:nvSpPr>
        <p:spPr>
          <a:xfrm>
            <a:off x="5357880" y="2143080"/>
            <a:ext cx="2928960" cy="17146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гровое пространство для девоч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4"/>
          <p:cNvCxnSpPr/>
          <p:nvPr/>
        </p:nvCxnSpPr>
        <p:spPr>
          <a:xfrm>
            <a:off x="3142800" y="3857400"/>
            <a:ext cx="637560" cy="508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2" name="Прямая со стрелкой 16"/>
          <p:cNvCxnSpPr/>
          <p:nvPr/>
        </p:nvCxnSpPr>
        <p:spPr>
          <a:xfrm flipH="1">
            <a:off x="4715640" y="3714480"/>
            <a:ext cx="1142280" cy="578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Овал 19"/>
          <p:cNvSpPr/>
          <p:nvPr/>
        </p:nvSpPr>
        <p:spPr>
          <a:xfrm>
            <a:off x="3132000" y="4365720"/>
            <a:ext cx="3000600" cy="1635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щие д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02560" cy="144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ПР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2:49:13Z</dcterms:created>
  <dc:creator>Admin</dc:creator>
  <dc:description/>
  <dc:language>en-US</dc:language>
  <cp:lastModifiedBy>User</cp:lastModifiedBy>
  <dcterms:modified xsi:type="dcterms:W3CDTF">2017-10-21T10:58:56Z</dcterms:modified>
  <cp:revision>123</cp:revision>
  <dc:subject/>
  <dc:title>Слайд 1</dc:title>
</cp:coreProperties>
</file>