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06E-AAC1-43F6-A992-E742E476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640-036F-4773-82EC-B815E242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429-95AE-4F44-97E1-E04FF54F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F60-168B-4CAD-A226-B53A9FE1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C92-DED3-44E6-982C-37593CCC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1D2-51ED-4141-9275-116B89A3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885-912D-44D1-8BEE-F301C39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8AE-BAA7-4D93-A938-8F9FEA90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9F1-52AB-45BD-80D9-6691F9C7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A5C-1031-4852-9BC6-8D7F4155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67A-1F61-471C-B8BE-EE125310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F00-6D26-4440-9940-5774E1C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62FF-9F4B-424D-8BF1-FB764F1B1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гимназия города Благовещенс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680" y="1999800"/>
            <a:ext cx="78580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оролевая социализация дошкольников через программу "Мальчики и девочки - кто они?"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дготовила : воспитатель  Волк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льга  Серг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https://docviewer.yandex.ru/htmlimage?id=ehsk-1b2oagfsionazasmu74rxon3onyub2ylypgl07px2skq43zbjfg9dvyjqqc61ql80c60iemwbehi16a239nqdwg0l2evenx9oln&amp;name=image-AuTs0pSTnjZsEE2D8u.png&amp;uid=79996542"/>
          <p:cNvPicPr/>
          <p:nvPr/>
        </p:nvPicPr>
        <p:blipFill>
          <a:blip r:embed="rId1"/>
          <a:stretch/>
        </p:blipFill>
        <p:spPr>
          <a:xfrm>
            <a:off x="826920" y="3716280"/>
            <a:ext cx="2857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User\Desktop\рабочий стол\фото\Новая папка\106___02\IMG_0354.JPG"/>
          <p:cNvPicPr/>
          <p:nvPr/>
        </p:nvPicPr>
        <p:blipFill>
          <a:blip r:embed="rId1"/>
          <a:stretch/>
        </p:blipFill>
        <p:spPr>
          <a:xfrm>
            <a:off x="3276720" y="2492280"/>
            <a:ext cx="5027400" cy="377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User\Desktop\рабочий стол\фото\Новая папка\106___02\IMG_0350.JPG"/>
          <p:cNvPicPr/>
          <p:nvPr/>
        </p:nvPicPr>
        <p:blipFill>
          <a:blip r:embed="rId2"/>
          <a:stretch/>
        </p:blipFill>
        <p:spPr>
          <a:xfrm>
            <a:off x="468360" y="260280"/>
            <a:ext cx="4824360" cy="361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11917440" y="981000"/>
            <a:ext cx="7040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User\Desktop\рабочий стол\фото\Новая папка\106___02\IMG_0392.JPG"/>
          <p:cNvPicPr/>
          <p:nvPr/>
        </p:nvPicPr>
        <p:blipFill>
          <a:blip r:embed="rId1"/>
          <a:stretch/>
        </p:blipFill>
        <p:spPr>
          <a:xfrm>
            <a:off x="539640" y="333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Graf\Desktop\новые фото\Фото-0215.jpg"/>
          <p:cNvPicPr/>
          <p:nvPr/>
        </p:nvPicPr>
        <p:blipFill>
          <a:blip r:embed="rId2"/>
          <a:stretch/>
        </p:blipFill>
        <p:spPr>
          <a:xfrm>
            <a:off x="5435640" y="765000"/>
            <a:ext cx="2970000" cy="395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:\Users\Graf\Desktop\новые фото\Фото-0198.jpg"/>
          <p:cNvPicPr/>
          <p:nvPr/>
        </p:nvPicPr>
        <p:blipFill>
          <a:blip r:embed="rId3"/>
          <a:stretch/>
        </p:blipFill>
        <p:spPr>
          <a:xfrm>
            <a:off x="1187280" y="3789360"/>
            <a:ext cx="3240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42960" y="142884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Гендерные роли формируются культурой (воспитание, образование, обуч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Половое воспитание в широком смысле слова – весь процесс гендерной соци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Гендерная социализация дает девочкам «корни», а мальчикам - «крыл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71320" y="14997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льчики и девочки: дифференцированный подход к воспитанию детей» Т.В. Иванова, Волгоград: ИТД «Корифей»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льчики и девочки: дифференцированный подход к воспитанию детей старшего     дошкольного возраста», И.П. Шелухина, М.: ТЦ «Сфера»,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а «Мальчики и девочки – кто они?» М.А.Радзивил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Формирование гендерной идентичности» Н.А. Виноградовой, Н.В.Микляевой, М. ТЦ «Сфера»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льчики и девочки –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они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аздел содержит ряд тем, отражающих различные направления процесса полоролевого воспитания дошколь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- ознакомление детей с основными характеристиками мужского и женского пола, отличительными особенностями мужского и женского пове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а «Мальчики и девочки —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то они?»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ины Анатольевны Радзивиловой включает пять больших раздел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2349000"/>
            <a:ext cx="77040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Что я знаю о себ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Различие полов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Мужской и женский этикет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Моя семь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Вместе весело иг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Что я знаю о себе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Различие полов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Мужской и женский этикет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50720" y="858960"/>
            <a:ext cx="824256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Моя семья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Вместе весело играть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1642680"/>
            <a:ext cx="80010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" name="Овал 7"/>
          <p:cNvSpPr/>
          <p:nvPr/>
        </p:nvSpPr>
        <p:spPr>
          <a:xfrm>
            <a:off x="785880" y="2214720"/>
            <a:ext cx="3000240" cy="1714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гровое пространство для мальч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8"/>
          <p:cNvSpPr/>
          <p:nvPr/>
        </p:nvSpPr>
        <p:spPr>
          <a:xfrm>
            <a:off x="5357880" y="2143080"/>
            <a:ext cx="2928960" cy="1714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гровое пространство для дев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4"/>
          <p:cNvCxnSpPr/>
          <p:nvPr/>
        </p:nvCxnSpPr>
        <p:spPr>
          <a:xfrm>
            <a:off x="3142800" y="3857400"/>
            <a:ext cx="637560" cy="508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6"/>
          <p:cNvCxnSpPr/>
          <p:nvPr/>
        </p:nvCxnSpPr>
        <p:spPr>
          <a:xfrm flipH="1">
            <a:off x="4715640" y="3714480"/>
            <a:ext cx="1142280" cy="578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Овал 19"/>
          <p:cNvSpPr/>
          <p:nvPr/>
        </p:nvSpPr>
        <p:spPr>
          <a:xfrm>
            <a:off x="3132000" y="4365720"/>
            <a:ext cx="3000600" cy="1635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щие д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П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2:49:13Z</dcterms:created>
  <dc:creator>Admin</dc:creator>
  <dc:description/>
  <dc:language>en-US</dc:language>
  <cp:lastModifiedBy>User</cp:lastModifiedBy>
  <dcterms:modified xsi:type="dcterms:W3CDTF">2017-10-21T10:58:56Z</dcterms:modified>
  <cp:revision>123</cp:revision>
  <dc:subject/>
  <dc:title>Слайд 1</dc:title>
</cp:coreProperties>
</file>