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0.gif" ContentType="image/gif"/>
  <Override PartName="/ppt/media/image8.jpeg" ContentType="image/jpeg"/>
  <Override PartName="/ppt/media/image11.png" ContentType="image/png"/>
  <Override PartName="/ppt/media/image7.jpeg" ContentType="image/jpeg"/>
  <Override PartName="/ppt/media/image15.gif" ContentType="image/gif"/>
  <Override PartName="/ppt/media/image6.jpeg" ContentType="image/jpeg"/>
  <Override PartName="/ppt/media/image5.jpeg" ContentType="image/jpeg"/>
  <Override PartName="/ppt/media/image13.gif" ContentType="image/gif"/>
  <Override PartName="/ppt/media/image22.wmf" ContentType="image/x-wmf"/>
  <Override PartName="/ppt/media/image19.gif" ContentType="image/gif"/>
  <Override PartName="/ppt/media/image1.jpeg" ContentType="image/jpeg"/>
  <Override PartName="/ppt/media/image20.gif" ContentType="image/gif"/>
  <Override PartName="/ppt/media/image18.gif" ContentType="image/gif"/>
  <Override PartName="/ppt/media/image17.png" ContentType="image/png"/>
  <Override PartName="/ppt/media/image21.png" ContentType="image/png"/>
  <Override PartName="/ppt/media/image16.gif" ContentType="image/gif"/>
  <Override PartName="/ppt/media/image23.wmf" ContentType="image/x-wmf"/>
  <Override PartName="/ppt/media/image9.jpeg" ContentType="image/jpeg"/>
  <Override PartName="/ppt/media/image4.jpeg" ContentType="image/jpeg"/>
  <Override PartName="/ppt/media/image2.png" ContentType="image/png"/>
  <Override PartName="/ppt/media/image14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00A-ECF3-4467-BE87-A50F5365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FF4-9BA9-40ED-9F6B-5F8EF5EA7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1674-22AE-494D-B17E-029C4151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9AAB-1D48-4250-ACAB-4D65DB96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47D9-EAED-4374-9B0F-CF7420C2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3B75-3366-4970-A0F7-DFFA52E4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497E-FFA3-498B-88D5-2CEB2C81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64FA-1E62-4DA7-9D01-B967D59C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B649-C7C1-4046-9BA1-C4268A24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E69-B652-427D-B4F0-8E5E49EFC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F67-51A3-4EF3-A8B8-B7092EF7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8090-B254-4B15-A315-2ED37826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06E0-60AE-4B89-861C-86F52BEE5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533520"/>
            <a:ext cx="769644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der Beschreibung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des Ausser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40600" y="3733920"/>
            <a:ext cx="2003400" cy="3124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3728880"/>
            <a:ext cx="203688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718080" cy="4419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809880" y="3733920"/>
            <a:ext cx="48006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rstaun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3322800" cy="426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733920" y="3657600"/>
            <a:ext cx="472428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skeptish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99744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0" y="3429000"/>
            <a:ext cx="40514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zorni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4495680" cy="37954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590920" y="4191120"/>
            <a:ext cx="617508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freundlich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4876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3352680" y="4495680"/>
            <a:ext cx="5578560" cy="20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fragen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3276720" y="4191120"/>
            <a:ext cx="5457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wutend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2471760" cy="6019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3276720" y="3352680"/>
            <a:ext cx="5159160" cy="22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vorsichti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5029200" cy="34416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114800" y="3657600"/>
            <a:ext cx="4546440" cy="27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mud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3519360" cy="4876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3276720" y="3886200"/>
            <a:ext cx="52070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kritisch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70520" cy="4724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419720" y="3962520"/>
            <a:ext cx="4457520" cy="21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heiter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rcRect l="47291" t="0" r="0" b="0"/>
          <a:stretch/>
        </p:blipFill>
        <p:spPr>
          <a:xfrm>
            <a:off x="213372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2725560" cy="555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276720" y="3429000"/>
            <a:ext cx="5422680" cy="23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arrogan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4302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1600200" y="4267080"/>
            <a:ext cx="7273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aufmerksam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981080" y="1752480"/>
            <a:ext cx="53341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es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51205" t="20421" r="24803" b="26759"/>
          <a:stretch/>
        </p:blipFill>
        <p:spPr>
          <a:xfrm>
            <a:off x="20574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8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51481" t="0" r="7509" b="36671"/>
          <a:stretch/>
        </p:blipFill>
        <p:spPr>
          <a:xfrm>
            <a:off x="1676520" y="0"/>
            <a:ext cx="591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rcRect l="21876" t="0" r="23047" b="26565"/>
          <a:stretch/>
        </p:blipFill>
        <p:spPr>
          <a:xfrm>
            <a:off x="10666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04920" y="214200"/>
            <a:ext cx="4724280" cy="339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514600" y="4191120"/>
            <a:ext cx="60958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zufriede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rcRect l="28248" t="0" r="16168" b="0"/>
          <a:stretch/>
        </p:blipFill>
        <p:spPr>
          <a:xfrm>
            <a:off x="0" y="0"/>
            <a:ext cx="3951360" cy="4724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1676520" y="4419720"/>
            <a:ext cx="70866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nachdenklich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4343400" cy="3006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886200" y="4038480"/>
            <a:ext cx="4876920" cy="21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lustig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14920" cy="3857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380880" y="4191120"/>
            <a:ext cx="846468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vertieft in einer Sach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3-26T14:23:2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