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0.gif" ContentType="image/gif"/>
  <Override PartName="/ppt/media/image8.jpeg" ContentType="image/jpeg"/>
  <Override PartName="/ppt/media/image11.png" ContentType="image/png"/>
  <Override PartName="/ppt/media/image7.jpeg" ContentType="image/jpeg"/>
  <Override PartName="/ppt/media/image15.gif" ContentType="image/gif"/>
  <Override PartName="/ppt/media/image6.jpeg" ContentType="image/jpeg"/>
  <Override PartName="/ppt/media/image5.jpeg" ContentType="image/jpeg"/>
  <Override PartName="/ppt/media/image13.gif" ContentType="image/gif"/>
  <Override PartName="/ppt/media/image22.wmf" ContentType="image/x-wmf"/>
  <Override PartName="/ppt/media/image19.gif" ContentType="image/gif"/>
  <Override PartName="/ppt/media/image1.jpeg" ContentType="image/jpeg"/>
  <Override PartName="/ppt/media/image20.gif" ContentType="image/gif"/>
  <Override PartName="/ppt/media/image18.gif" ContentType="image/gif"/>
  <Override PartName="/ppt/media/image17.png" ContentType="image/png"/>
  <Override PartName="/ppt/media/image21.png" ContentType="image/png"/>
  <Override PartName="/ppt/media/image16.gif" ContentType="image/gif"/>
  <Override PartName="/ppt/media/image23.wmf" ContentType="image/x-wmf"/>
  <Override PartName="/ppt/media/image9.jpeg" ContentType="image/jpeg"/>
  <Override PartName="/ppt/media/image4.jpeg" ContentType="image/jpeg"/>
  <Override PartName="/ppt/media/image2.png" ContentType="image/png"/>
  <Override PartName="/ppt/media/image14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2785-926E-4806-81C4-BEBB20831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01B7-26D1-4D1C-AD55-1514C26D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43C1-2EBA-432A-9464-837082B56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A797-B235-495D-955F-B36440574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ED6E-12AB-48ED-8BCA-5C088F6D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71AA-0A0C-4B21-BB52-A62B19C5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E442-D07F-4662-B317-70FD2D33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F60F-535E-4AC4-AD8D-88418EEC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855C-928D-4FDA-83DD-CA6B1104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E456-8C78-4805-B8BB-D3EA995E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7DB0-241B-4DAE-A2C6-2C8B009E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749F-BED2-41A1-878F-5B34FDAB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FC4B-0AAF-40C6-BFC8-D95926340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533520"/>
            <a:ext cx="769644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der Beschreibung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des Ausser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140600" y="3733920"/>
            <a:ext cx="2003400" cy="3124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3728880"/>
            <a:ext cx="203688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18080" cy="4419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809880" y="3733920"/>
            <a:ext cx="48006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erstaun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3322800" cy="4267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3733920" y="3657600"/>
            <a:ext cx="472428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skeptish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97440" cy="5257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572000" y="3429000"/>
            <a:ext cx="40514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zornig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4495680" cy="3795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2590920" y="4191120"/>
            <a:ext cx="617508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freundlich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3352680" y="4495680"/>
            <a:ext cx="5578560" cy="20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fragen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3276720" y="4191120"/>
            <a:ext cx="54576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wuten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2471760" cy="6019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3276720" y="3352680"/>
            <a:ext cx="5159160" cy="22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vorsichtig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5029200" cy="3441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114800" y="3657600"/>
            <a:ext cx="4546440" cy="27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mud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519360" cy="4876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3276720" y="3886200"/>
            <a:ext cx="52070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kritisch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70520" cy="4724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419720" y="3962520"/>
            <a:ext cx="4457520" cy="21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heiter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47291" t="0" r="0" b="0"/>
          <a:stretch/>
        </p:blipFill>
        <p:spPr>
          <a:xfrm>
            <a:off x="2133720" y="0"/>
            <a:ext cx="481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2725560" cy="5554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3276720" y="3429000"/>
            <a:ext cx="5422680" cy="23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arrogan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4302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600200" y="4267080"/>
            <a:ext cx="72738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aufmerksam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981080" y="1752480"/>
            <a:ext cx="53341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Tes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51205" t="20421" r="24803" b="26759"/>
          <a:stretch/>
        </p:blipFill>
        <p:spPr>
          <a:xfrm>
            <a:off x="20574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51481" t="0" r="7509" b="36671"/>
          <a:stretch/>
        </p:blipFill>
        <p:spPr>
          <a:xfrm>
            <a:off x="1676520" y="0"/>
            <a:ext cx="591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rcRect l="21876" t="0" r="23047" b="26565"/>
          <a:stretch/>
        </p:blipFill>
        <p:spPr>
          <a:xfrm>
            <a:off x="10666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04920" y="214200"/>
            <a:ext cx="4724280" cy="3394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514600" y="4191120"/>
            <a:ext cx="60958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zufriede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rcRect l="28248" t="0" r="16168" b="0"/>
          <a:stretch/>
        </p:blipFill>
        <p:spPr>
          <a:xfrm>
            <a:off x="0" y="0"/>
            <a:ext cx="3951360" cy="4724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676520" y="4419720"/>
            <a:ext cx="70866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nachdenklich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4343400" cy="3006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886200" y="4038480"/>
            <a:ext cx="4876920" cy="21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lustig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14920" cy="3857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380880" y="4191120"/>
            <a:ext cx="84646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vertieft in einer Sach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3-26T14:23:2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