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o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2F2-D609-49F3-BFB4-E1F30CC2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C49-CBD3-4F29-9294-511D4888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9D6-E50A-4D0D-978E-E7574497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B09-B68E-4D1C-8601-C33706DE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8D3-5C08-4A95-9D46-3F84B870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C04-8150-4B66-814F-FF94672B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0FD-20B3-4933-9016-7388922C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E27-927C-4F86-9585-1DEE7462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E41-F3AF-4664-9A79-A88C3814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3E7-3391-4A38-A89E-7DDDF4A2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428-4D8E-457F-8138-5CF39DB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D5C-9748-41F0-B6AD-F3683DF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E29-21F8-420E-8A9C-C767C81AC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0160" y="944640"/>
            <a:ext cx="8743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сновные формы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немецких глаголов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Box 20"/>
          <p:cNvSpPr/>
          <p:nvPr/>
        </p:nvSpPr>
        <p:spPr>
          <a:xfrm>
            <a:off x="426960" y="4268880"/>
            <a:ext cx="797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меленок Николай Павлов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однянский центр детского и юношеск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ниг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3"/>
          <p:cNvSpPr txBox="1"/>
          <p:nvPr/>
        </p:nvSpPr>
        <p:spPr>
          <a:xfrm>
            <a:off x="571680" y="649440"/>
            <a:ext cx="283500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ie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ie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ie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au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8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lau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6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3"/>
          <p:cNvSpPr txBox="1"/>
          <p:nvPr/>
        </p:nvSpPr>
        <p:spPr>
          <a:xfrm>
            <a:off x="571680" y="604800"/>
            <a:ext cx="28350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e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w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we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2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755720" y="2182680"/>
            <a:ext cx="221148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6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itz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6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755720" y="2182680"/>
            <a:ext cx="25513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itz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7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571680" y="530280"/>
            <a:ext cx="28350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rach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rach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ru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755720" y="2079720"/>
            <a:ext cx="255132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bri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8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fuh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fuh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fuh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fah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4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1755720" y="2182680"/>
            <a:ext cx="25513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fah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8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u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u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u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8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1755720" y="2182680"/>
            <a:ext cx="25513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i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571680" y="530280"/>
            <a:ext cx="28350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lie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li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leib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leib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102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blei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9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7"/>
          <p:cNvSpPr txBox="1"/>
          <p:nvPr/>
        </p:nvSpPr>
        <p:spPr>
          <a:xfrm>
            <a:off x="914400" y="1752480"/>
            <a:ext cx="754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бирайте свой приз!</a:t>
            </a:r>
            <a:endParaRPr b="1" i="1" lang="en-US" sz="18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990720" y="304920"/>
            <a:ext cx="6629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А  вот  и  приз!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6" name="Oval 23"/>
          <p:cNvSpPr/>
          <p:nvPr/>
        </p:nvSpPr>
        <p:spPr>
          <a:xfrm rot="11878800">
            <a:off x="5485680" y="4572000"/>
            <a:ext cx="1219320" cy="3808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4"/>
          <p:cNvSpPr/>
          <p:nvPr/>
        </p:nvSpPr>
        <p:spPr>
          <a:xfrm rot="11301600">
            <a:off x="6171480" y="5029200"/>
            <a:ext cx="1219320" cy="380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5"/>
          <p:cNvSpPr/>
          <p:nvPr/>
        </p:nvSpPr>
        <p:spPr>
          <a:xfrm rot="10800000">
            <a:off x="6248520" y="5562720"/>
            <a:ext cx="1218960" cy="380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6"/>
          <p:cNvSpPr/>
          <p:nvPr/>
        </p:nvSpPr>
        <p:spPr>
          <a:xfrm rot="9283200">
            <a:off x="4723920" y="4723560"/>
            <a:ext cx="1219320" cy="381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7"/>
          <p:cNvSpPr/>
          <p:nvPr/>
        </p:nvSpPr>
        <p:spPr>
          <a:xfrm rot="12097200">
            <a:off x="5409720" y="5181120"/>
            <a:ext cx="121932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149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8"/>
          <p:cNvSpPr/>
          <p:nvPr/>
        </p:nvSpPr>
        <p:spPr>
          <a:xfrm rot="10800000">
            <a:off x="4266720" y="5257800"/>
            <a:ext cx="1219320" cy="380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9"/>
          <p:cNvSpPr/>
          <p:nvPr/>
        </p:nvSpPr>
        <p:spPr>
          <a:xfrm rot="21337200">
            <a:off x="4343400" y="5867280"/>
            <a:ext cx="1219320" cy="3812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0"/>
          <p:cNvSpPr/>
          <p:nvPr/>
        </p:nvSpPr>
        <p:spPr>
          <a:xfrm rot="9684600">
            <a:off x="5028480" y="5486400"/>
            <a:ext cx="121932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1"/>
          <p:cNvSpPr/>
          <p:nvPr/>
        </p:nvSpPr>
        <p:spPr>
          <a:xfrm rot="10800000">
            <a:off x="5866920" y="594360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4" descr="4Q09LSCAXIS7QCCA7TN6S0CA06QFXZCA9HE5CZCAJQX9QMCAD33PYICAVUSCFZCAKEDC5HCA50X1E1CAUPMOU5CAPAHL6TCA49SOYQCAOOD365CA2VQ5WQCAZGJ1ADCAVWSI6PCAQIW4RM"/>
          <p:cNvPicPr/>
          <p:nvPr/>
        </p:nvPicPr>
        <p:blipFill>
          <a:blip r:embed="rId1"/>
          <a:stretch/>
        </p:blipFill>
        <p:spPr>
          <a:xfrm>
            <a:off x="838080" y="350532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01080" y="619596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4" y="3794"/>
                </a:moveTo>
                <a:lnTo>
                  <a:pt x="24016" y="10800"/>
                </a:lnTo>
                <a:lnTo>
                  <a:pt x="1000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nah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nehm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nah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nomm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46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nehm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46336 -0.23425 E">
                                      <p:cBhvr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571680" y="574560"/>
            <a:ext cx="28350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ha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hol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ho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hol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hel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07407E-006 L 0.49046 0.26018 E">
                                      <p:cBhvr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571680" y="590400"/>
            <a:ext cx="2835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a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4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3"/>
          <p:cNvSpPr txBox="1"/>
          <p:nvPr/>
        </p:nvSpPr>
        <p:spPr>
          <a:xfrm>
            <a:off x="571680" y="649440"/>
            <a:ext cx="283500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t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t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t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tan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8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t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486 -0.25393 E">
                                      <p:cBhvr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3"/>
          <p:cNvSpPr txBox="1"/>
          <p:nvPr/>
        </p:nvSpPr>
        <p:spPr>
          <a:xfrm>
            <a:off x="571680" y="825480"/>
            <a:ext cx="28350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g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i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g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2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g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571680" y="649440"/>
            <a:ext cx="283500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tru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tru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tra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tru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6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tri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71680" y="825480"/>
            <a:ext cx="28350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e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ie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lie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5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3"/>
          <p:cNvSpPr txBox="1"/>
          <p:nvPr/>
        </p:nvSpPr>
        <p:spPr>
          <a:xfrm>
            <a:off x="571680" y="530280"/>
            <a:ext cx="28350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g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4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4T18:46:28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