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oin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37C3-D9E8-4C64-9409-9647BDC1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673-0F83-4D39-BCA4-ED381483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3DD8-519E-4ED6-83A8-064CBE097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0754-D8B7-4F2E-8C38-A8BFEFEF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B07-778D-4046-842A-79E4C2C3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FD6C-CEC9-4D36-BFE8-54654F41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78A-EC19-4855-9B7C-43363559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67F8-9201-4662-8A1A-FF7D5C09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484A-BE46-4E72-93BB-23AF66E4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86E-BAB9-49C4-A51B-47C37606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F09-05BC-4B82-8D89-BEF60B6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8C7-4071-4576-9BE2-8AD86210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F9C5-43CE-4CA6-89DD-8B4473C663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oin.wav"/><Relationship Id="rId3" Type="http://schemas.openxmlformats.org/officeDocument/2006/relationships/audio" Target="../media/coin.wav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00160" y="944640"/>
            <a:ext cx="874368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Основные формы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немецких глаголов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TextBox 20"/>
          <p:cNvSpPr/>
          <p:nvPr/>
        </p:nvSpPr>
        <p:spPr>
          <a:xfrm>
            <a:off x="426960" y="4268880"/>
            <a:ext cx="7978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меленок Николай Павлович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однянский центр детского и юношеского твор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ниг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3"/>
          <p:cNvSpPr txBox="1"/>
          <p:nvPr/>
        </p:nvSpPr>
        <p:spPr>
          <a:xfrm>
            <a:off x="571680" y="649440"/>
            <a:ext cx="283500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ie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ie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ie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au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8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lau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6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WordArt 3"/>
          <p:cNvSpPr txBox="1"/>
          <p:nvPr/>
        </p:nvSpPr>
        <p:spPr>
          <a:xfrm>
            <a:off x="571680" y="604800"/>
            <a:ext cx="2835000" cy="10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e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ei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wa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we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2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3"/>
          <p:cNvSpPr txBox="1"/>
          <p:nvPr/>
        </p:nvSpPr>
        <p:spPr>
          <a:xfrm>
            <a:off x="1755720" y="2182680"/>
            <a:ext cx="221148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68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itz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5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6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755720" y="2182680"/>
            <a:ext cx="25513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itz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7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3"/>
          <p:cNvSpPr txBox="1"/>
          <p:nvPr/>
        </p:nvSpPr>
        <p:spPr>
          <a:xfrm>
            <a:off x="571680" y="530280"/>
            <a:ext cx="28350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rach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rach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89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ru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1755720" y="2079720"/>
            <a:ext cx="2551320" cy="92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bri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8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fuh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fuh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3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fuh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fah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4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1755720" y="2182680"/>
            <a:ext cx="25513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fahr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8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u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u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u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98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3"/>
          <p:cNvSpPr txBox="1"/>
          <p:nvPr/>
        </p:nvSpPr>
        <p:spPr>
          <a:xfrm>
            <a:off x="1755720" y="2182680"/>
            <a:ext cx="255132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in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9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3"/>
          <p:cNvSpPr txBox="1"/>
          <p:nvPr/>
        </p:nvSpPr>
        <p:spPr>
          <a:xfrm>
            <a:off x="571680" y="530280"/>
            <a:ext cx="28350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lie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li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bleibt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bleib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102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blei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93" dur="indefinite" restart="never" nodeType="tmRoot">
          <p:childTnLst>
            <p:seq>
              <p:cTn id="9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98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7"/>
          <p:cNvSpPr txBox="1"/>
          <p:nvPr/>
        </p:nvSpPr>
        <p:spPr>
          <a:xfrm>
            <a:off x="914400" y="1752480"/>
            <a:ext cx="7543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936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бирайте свой приз!</a:t>
            </a:r>
            <a:endParaRPr b="1" i="1" lang="en-US" sz="1800" spc="1" strike="noStrike">
              <a:ln cap="rnd" w="936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66ff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990720" y="304920"/>
            <a:ext cx="662940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А  вот  и  приз!</a:t>
            </a:r>
            <a:endParaRPr b="1" i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106" name="Oval 23"/>
          <p:cNvSpPr/>
          <p:nvPr/>
        </p:nvSpPr>
        <p:spPr>
          <a:xfrm rot="11878800">
            <a:off x="5485680" y="4572000"/>
            <a:ext cx="1219320" cy="38088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4"/>
          <p:cNvSpPr/>
          <p:nvPr/>
        </p:nvSpPr>
        <p:spPr>
          <a:xfrm rot="11301600">
            <a:off x="6171480" y="5029200"/>
            <a:ext cx="1219320" cy="38088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5"/>
          <p:cNvSpPr/>
          <p:nvPr/>
        </p:nvSpPr>
        <p:spPr>
          <a:xfrm rot="10800000">
            <a:off x="6248520" y="5562720"/>
            <a:ext cx="1218960" cy="380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6"/>
          <p:cNvSpPr/>
          <p:nvPr/>
        </p:nvSpPr>
        <p:spPr>
          <a:xfrm rot="9283200">
            <a:off x="4723920" y="4723560"/>
            <a:ext cx="1219320" cy="3812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7"/>
          <p:cNvSpPr/>
          <p:nvPr/>
        </p:nvSpPr>
        <p:spPr>
          <a:xfrm rot="12097200">
            <a:off x="5409720" y="5181120"/>
            <a:ext cx="1219320" cy="381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00"/>
              </a:gs>
              <a:gs pos="100000">
                <a:srgbClr val="ffffff"/>
              </a:gs>
            </a:gsLst>
            <a:lin ang="1490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8"/>
          <p:cNvSpPr/>
          <p:nvPr/>
        </p:nvSpPr>
        <p:spPr>
          <a:xfrm rot="10800000">
            <a:off x="4266720" y="5257800"/>
            <a:ext cx="1219320" cy="38088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9"/>
          <p:cNvSpPr/>
          <p:nvPr/>
        </p:nvSpPr>
        <p:spPr>
          <a:xfrm rot="21337200">
            <a:off x="4343400" y="5867280"/>
            <a:ext cx="1219320" cy="38124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30"/>
          <p:cNvSpPr/>
          <p:nvPr/>
        </p:nvSpPr>
        <p:spPr>
          <a:xfrm rot="9684600">
            <a:off x="5028480" y="5486400"/>
            <a:ext cx="1219320" cy="3808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31"/>
          <p:cNvSpPr/>
          <p:nvPr/>
        </p:nvSpPr>
        <p:spPr>
          <a:xfrm rot="10800000">
            <a:off x="5866920" y="5943600"/>
            <a:ext cx="121932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comic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4" descr="4Q09LSCAXIS7QCCA7TN6S0CA06QFXZCA9HE5CZCAJQX9QMCAD33PYICAVUSCFZCAKEDC5HCA50X1E1CAUPMOU5CAPAHL6TCA49SOYQCAOOD365CA2VQ5WQCAZGJ1ADCAVWSI6PCAQIW4RM"/>
          <p:cNvPicPr/>
          <p:nvPr/>
        </p:nvPicPr>
        <p:blipFill>
          <a:blip r:embed="rId1"/>
          <a:stretch/>
        </p:blipFill>
        <p:spPr>
          <a:xfrm>
            <a:off x="838080" y="3505320"/>
            <a:ext cx="2971800" cy="2514600"/>
          </a:xfrm>
          <a:prstGeom prst="rect">
            <a:avLst/>
          </a:prstGeom>
          <a:ln w="0">
            <a:noFill/>
          </a:ln>
        </p:spPr>
      </p:pic>
      <p:sp>
        <p:nvSpPr>
          <p:cNvPr id="116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101080" y="6195960"/>
            <a:ext cx="1042920" cy="662040"/>
          </a:xfrm>
          <a:custGeom>
            <a:avLst/>
            <a:gdLst>
              <a:gd name="textAreaLeft" fmla="*/ 42840 w 1042920"/>
              <a:gd name="textAreaRight" fmla="*/ 1000080 w 10429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34020" h="21600">
                <a:moveTo>
                  <a:pt x="0" y="0"/>
                </a:moveTo>
                <a:lnTo>
                  <a:pt x="34020" y="0"/>
                </a:lnTo>
                <a:lnTo>
                  <a:pt x="34020" y="21600"/>
                </a:lnTo>
                <a:lnTo>
                  <a:pt x="0" y="21600"/>
                </a:lnTo>
                <a:close/>
              </a:path>
              <a:path fill="lightenLess" w="34020" h="21600">
                <a:moveTo>
                  <a:pt x="0" y="0"/>
                </a:moveTo>
                <a:lnTo>
                  <a:pt x="34020" y="0"/>
                </a:lnTo>
                <a:lnTo>
                  <a:pt x="32620" y="1400"/>
                </a:lnTo>
                <a:lnTo>
                  <a:pt x="1400" y="1400"/>
                </a:lnTo>
                <a:close/>
              </a:path>
              <a:path fill="darken" w="34020" h="21600">
                <a:moveTo>
                  <a:pt x="34020" y="0"/>
                </a:moveTo>
                <a:lnTo>
                  <a:pt x="34020" y="21600"/>
                </a:lnTo>
                <a:lnTo>
                  <a:pt x="32620" y="20200"/>
                </a:lnTo>
                <a:lnTo>
                  <a:pt x="32620" y="1400"/>
                </a:lnTo>
                <a:close/>
              </a:path>
              <a:path fill="darkenLess" w="34020" h="21600">
                <a:moveTo>
                  <a:pt x="340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20" y="20200"/>
                </a:lnTo>
                <a:close/>
              </a:path>
              <a:path fill="lighten" w="340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20" h="21600">
                <a:moveTo>
                  <a:pt x="10004" y="3794"/>
                </a:moveTo>
                <a:lnTo>
                  <a:pt x="24016" y="10800"/>
                </a:lnTo>
                <a:lnTo>
                  <a:pt x="10004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3"/>
          <p:cNvSpPr txBox="1"/>
          <p:nvPr/>
        </p:nvSpPr>
        <p:spPr>
          <a:xfrm>
            <a:off x="571680" y="633240"/>
            <a:ext cx="2835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nah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nehm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45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nah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nomm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46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nehm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81481E-006 L 0.46336 -0.23425 E">
                                      <p:cBhvr>
                                        <p:cTn id="1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571680" y="574560"/>
            <a:ext cx="2835000" cy="109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ha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hol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ho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hol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helf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07407E-006 L 0.49046 0.26018 E">
                                      <p:cBhvr>
                                        <p:cTn id="20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3"/>
          <p:cNvSpPr txBox="1"/>
          <p:nvPr/>
        </p:nvSpPr>
        <p:spPr>
          <a:xfrm>
            <a:off x="571680" y="590400"/>
            <a:ext cx="283500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a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a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4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2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3"/>
          <p:cNvSpPr txBox="1"/>
          <p:nvPr/>
        </p:nvSpPr>
        <p:spPr>
          <a:xfrm>
            <a:off x="571680" y="649440"/>
            <a:ext cx="283500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t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t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7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sta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stand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58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steh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486 -0.25393 E">
                                      <p:cBhvr>
                                        <p:cTn id="32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3"/>
          <p:cNvSpPr txBox="1"/>
          <p:nvPr/>
        </p:nvSpPr>
        <p:spPr>
          <a:xfrm>
            <a:off x="571680" y="825480"/>
            <a:ext cx="28350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g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i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g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2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geb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33" dur="indefinite" restart="never" nodeType="tmRoot">
          <p:childTnLst>
            <p:seq>
              <p:cTn id="3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3"/>
          <p:cNvSpPr txBox="1"/>
          <p:nvPr/>
        </p:nvSpPr>
        <p:spPr>
          <a:xfrm>
            <a:off x="571680" y="649440"/>
            <a:ext cx="283500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tru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tru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5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tran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tru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6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trink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844 -0.24513 E">
                                      <p:cBhvr>
                                        <p:cTn id="44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71680" y="825480"/>
            <a:ext cx="2835000" cy="84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e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lie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0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lieg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5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3"/>
          <p:cNvSpPr txBox="1"/>
          <p:nvPr/>
        </p:nvSpPr>
        <p:spPr>
          <a:xfrm>
            <a:off x="571680" y="530280"/>
            <a:ext cx="283500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g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3" name="WordArt 4"/>
          <p:cNvSpPr txBox="1"/>
          <p:nvPr/>
        </p:nvSpPr>
        <p:spPr>
          <a:xfrm>
            <a:off x="571680" y="3833640"/>
            <a:ext cx="2835000" cy="11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a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+mn-lt"/>
              </a:rPr>
              <a:t>ge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+mn-lt"/>
              <a:ea typeface="+mn-lt"/>
            </a:endParaRPr>
          </a:p>
        </p:txBody>
      </p:sp>
      <p:sp>
        <p:nvSpPr>
          <p:cNvPr id="74" name="AutoShape 24">
            <a:hlinkClick r:id="" action="ppaction://hlinkshowjump?jump=nextslide"/>
          </p:cNvPr>
          <p:cNvSpPr/>
          <p:nvPr/>
        </p:nvSpPr>
        <p:spPr>
          <a:xfrm>
            <a:off x="7866000" y="5869080"/>
            <a:ext cx="990720" cy="582480"/>
          </a:xfrm>
          <a:custGeom>
            <a:avLst/>
            <a:gdLst>
              <a:gd name="textAreaLeft" fmla="*/ 37440 w 990720"/>
              <a:gd name="textAreaRight" fmla="*/ 953280 w 990720"/>
              <a:gd name="textAreaTop" fmla="*/ 37440 h 582480"/>
              <a:gd name="textAreaBottom" fmla="*/ 545040 h 582480"/>
            </a:gdLst>
            <a:ahLst/>
            <a:rect l="textAreaLeft" t="textAreaTop" r="textAreaRight" b="textAreaBottom"/>
            <a:pathLst>
              <a:path w="36729" h="21600">
                <a:moveTo>
                  <a:pt x="0" y="0"/>
                </a:moveTo>
                <a:lnTo>
                  <a:pt x="36729" y="0"/>
                </a:lnTo>
                <a:lnTo>
                  <a:pt x="36729" y="21600"/>
                </a:lnTo>
                <a:lnTo>
                  <a:pt x="0" y="21600"/>
                </a:lnTo>
                <a:close/>
              </a:path>
              <a:path fill="lightenLess" w="36729" h="21600">
                <a:moveTo>
                  <a:pt x="0" y="0"/>
                </a:moveTo>
                <a:lnTo>
                  <a:pt x="36729" y="0"/>
                </a:lnTo>
                <a:lnTo>
                  <a:pt x="35329" y="1400"/>
                </a:lnTo>
                <a:lnTo>
                  <a:pt x="1400" y="1400"/>
                </a:lnTo>
                <a:close/>
              </a:path>
              <a:path fill="darken" w="36729" h="21600">
                <a:moveTo>
                  <a:pt x="36729" y="0"/>
                </a:moveTo>
                <a:lnTo>
                  <a:pt x="36729" y="21600"/>
                </a:lnTo>
                <a:lnTo>
                  <a:pt x="35329" y="20200"/>
                </a:lnTo>
                <a:lnTo>
                  <a:pt x="35329" y="1400"/>
                </a:lnTo>
                <a:close/>
              </a:path>
              <a:path fill="darkenLess" w="36729" h="21600">
                <a:moveTo>
                  <a:pt x="36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29" y="20200"/>
                </a:lnTo>
                <a:close/>
              </a:path>
              <a:path fill="lighten" w="36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729" h="21600">
                <a:moveTo>
                  <a:pt x="11358" y="3794"/>
                </a:moveTo>
                <a:lnTo>
                  <a:pt x="25371" y="10800"/>
                </a:lnTo>
                <a:lnTo>
                  <a:pt x="11358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1755720" y="2374920"/>
            <a:ext cx="2551320" cy="63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+mn-lt"/>
              </a:rPr>
              <a:t>esse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+mn-lt"/>
              <a:ea typeface="+mn-lt"/>
            </a:endParaRPr>
          </a:p>
        </p:txBody>
      </p:sp>
    </p:spTree>
  </p:cSld>
  <p:transition>
    <p:wedge/>
  </p:transition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96296E-006 L 0.49046 0.23334 E">
                                      <p:cBhvr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1-04-04T18:46:28Z</dcterms:modified>
  <cp:revision>1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