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5A5B-1067-4023-9925-79F01A1606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4F89-A149-499F-8278-1BF177DDB0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2F26-5062-4A3A-A583-D7656913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7CE5-9D7C-4BEF-AE06-8ACE92CB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C39-CCA4-4E8C-B91C-74CAD68A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11C-56DC-4A13-8C5F-98505F02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B42D-6425-4A3E-B008-A9E4CABD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9C1E-20ED-47F9-A5CD-95F996CA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33EB-7AFB-443A-B2D7-E656BB1D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9CAC-F409-4578-BA3B-CFCDA4C2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0A1E-9409-41D1-9D5B-DBB10CA1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8ADB-3DA4-446B-B374-C8015B0B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94BC-8BF6-44A4-8204-F671CCDC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A0E-22D6-4B78-9DCF-3C3A7272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BC0F-922C-4E22-809D-38021743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F538-0406-4944-9BC2-DF004FCC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24F9-BB0E-476F-864C-369E1754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F256-1803-4C60-A124-08D429B5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6E5D-728E-4AF5-AB70-B9BC3872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168-3A82-42EF-ACC7-0EB40478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DBF1-1F3E-48E0-BD1A-D2F65365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CC0D-06C2-449B-97B5-BC290EA9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E613-EAF5-4E3D-ADA7-628DFB73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79E-0391-4988-ADA1-CB87E432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828-0A1B-42AC-99D3-784B4AEF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397-156F-4C76-8EFF-CE4E5399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6607-B3C5-44FC-91D3-78BF9551FD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D2E1-8E99-45B6-8008-85E78A71E3BD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6734160" cy="8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20000"/>
                </a:solidFill>
                <a:latin typeface="Times New Roman"/>
              </a:rPr>
              <a:t>Тема:</a:t>
            </a:r>
            <a:endParaRPr b="0" lang="en-US" sz="27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105160" y="6324120"/>
            <a:ext cx="38098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90240"/>
            <a:ext cx="822960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еобразование выражений, содержащих операцию извлечения квадратного кор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2" descr="image002"/>
          <p:cNvPicPr/>
          <p:nvPr/>
        </p:nvPicPr>
        <p:blipFill>
          <a:blip r:embed="rId1"/>
          <a:stretch/>
        </p:blipFill>
        <p:spPr>
          <a:xfrm>
            <a:off x="2209680" y="4114800"/>
            <a:ext cx="457200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Пример 1. </a:t>
            </a:r>
            <a:r>
              <a:rPr b="0" lang="ru-RU" sz="3200" spc="-1" strike="noStrike" u="sng">
                <a:solidFill>
                  <a:srgbClr val="660000"/>
                </a:solidFill>
                <a:uFillTx/>
                <a:latin typeface="Times New Roman"/>
              </a:rPr>
              <a:t>Упростить выраж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0000"/>
                </a:solidFill>
                <a:uFillTx/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        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                               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0000"/>
                </a:solidFill>
                <a:latin typeface="Times New Roman"/>
              </a:rPr>
              <a:t>Рассмотрим несколько примеров, причем во всех примерах будем предполагать, что </a:t>
            </a:r>
            <a:r>
              <a:rPr b="0" lang="ru-RU" sz="2800" spc="-1" strike="noStrike" u="sng">
                <a:solidFill>
                  <a:srgbClr val="420000"/>
                </a:solidFill>
                <a:uFillTx/>
                <a:latin typeface="Times New Roman"/>
              </a:rPr>
              <a:t>переменные принимают только неотрицательные значения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9"/>
              <p:cNvSpPr txBox="1"/>
              <p:nvPr/>
            </p:nvSpPr>
            <p:spPr>
              <a:xfrm>
                <a:off x="2209680" y="2895480"/>
                <a:ext cx="1067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8"/>
              <p:cNvSpPr txBox="1"/>
              <p:nvPr/>
            </p:nvSpPr>
            <p:spPr>
              <a:xfrm>
                <a:off x="3962520" y="2819520"/>
                <a:ext cx="2819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2133720" y="3886200"/>
                <a:ext cx="10666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4038480" y="3733920"/>
                <a:ext cx="24386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Rectangle 11"/>
          <p:cNvSpPr/>
          <p:nvPr/>
        </p:nvSpPr>
        <p:spPr>
          <a:xfrm>
            <a:off x="3352680" y="2547000"/>
            <a:ext cx="8384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6326280" y="2520720"/>
            <a:ext cx="26604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3352680" y="3244320"/>
            <a:ext cx="58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914400" y="2286000"/>
                <a:ext cx="1066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Пример 2. </a:t>
            </a:r>
            <a:r>
              <a:rPr b="0" lang="ru-RU" sz="3200" spc="-1" strike="noStrike" u="sng">
                <a:solidFill>
                  <a:srgbClr val="420000"/>
                </a:solidFill>
                <a:uFillTx/>
                <a:latin typeface="Times New Roman"/>
              </a:rPr>
              <a:t>Вынести множитель из-под знака квадратного корня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2454120" y="2362320"/>
                <a:ext cx="2482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>
                      <m:t xml:space="preserve">9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0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990720" y="3581280"/>
                <a:ext cx="11430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2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1"/>
              <p:cNvSpPr txBox="1"/>
              <p:nvPr/>
            </p:nvSpPr>
            <p:spPr>
              <a:xfrm>
                <a:off x="2590920" y="3505320"/>
                <a:ext cx="5105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4" name="Rectangle 14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3"/>
              <p:cNvSpPr txBox="1"/>
              <p:nvPr/>
            </p:nvSpPr>
            <p:spPr>
              <a:xfrm>
                <a:off x="990720" y="4572000"/>
                <a:ext cx="10666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6" name="Rectangle 16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5"/>
              <p:cNvSpPr txBox="1"/>
              <p:nvPr/>
            </p:nvSpPr>
            <p:spPr>
              <a:xfrm>
                <a:off x="2514600" y="4648320"/>
                <a:ext cx="25812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6"/>
              <p:cNvSpPr txBox="1"/>
              <p:nvPr/>
            </p:nvSpPr>
            <p:spPr>
              <a:xfrm>
                <a:off x="5181480" y="4648320"/>
                <a:ext cx="32767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7"/>
              <p:cNvSpPr txBox="1"/>
              <p:nvPr/>
            </p:nvSpPr>
            <p:spPr>
              <a:xfrm>
                <a:off x="1066680" y="5562720"/>
                <a:ext cx="2819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Пример 3. </a:t>
            </a:r>
            <a:r>
              <a:rPr b="0" lang="ru-RU" sz="3200" spc="-1" strike="noStrike" u="sng">
                <a:solidFill>
                  <a:srgbClr val="420000"/>
                </a:solidFill>
                <a:uFillTx/>
                <a:latin typeface="Times New Roman"/>
              </a:rPr>
              <a:t>Внести множитель под знак квадратного корня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7"/>
              <p:cNvSpPr txBox="1"/>
              <p:nvPr/>
            </p:nvSpPr>
            <p:spPr>
              <a:xfrm>
                <a:off x="1371600" y="2362320"/>
                <a:ext cx="609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2590920" y="2438280"/>
                <a:ext cx="2438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1295280" y="3352680"/>
                <a:ext cx="9907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а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2666880" y="3276720"/>
                <a:ext cx="38862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6" name="Rectangle 8"/>
          <p:cNvSpPr/>
          <p:nvPr/>
        </p:nvSpPr>
        <p:spPr>
          <a:xfrm>
            <a:off x="3640320" y="21027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20000"/>
                </a:solidFill>
                <a:latin typeface="Times New Roman"/>
              </a:rPr>
              <a:t>Закрепление нового материала:</a:t>
            </a:r>
            <a:endParaRPr b="0" lang="en-US" sz="27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2133720" y="1752480"/>
            <a:ext cx="4952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тно:   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№ 15.1;   15.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№ 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15.5 (а,б);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№ 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15.8 (а,б);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 № 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15.10 (а,б);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 № 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15.13 (а,б);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 № 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15.16 (а,б)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  № 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15.20 (а,б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Предлагаю вам примеры</a:t>
            </a: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для самостоятельно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реш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Рисунок 22" descr="PE02604_.WMF"/>
          <p:cNvPicPr/>
          <p:nvPr/>
        </p:nvPicPr>
        <p:blipFill>
          <a:blip r:embed="rId1"/>
          <a:stretch/>
        </p:blipFill>
        <p:spPr>
          <a:xfrm>
            <a:off x="2971800" y="2590920"/>
            <a:ext cx="3927600" cy="32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учающая самостоятельная работа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10240" cy="3962160"/>
          </a:xfrm>
          <a:prstGeom prst="rect">
            <a:avLst/>
          </a:prstGeom>
          <a:solidFill>
            <a:srgbClr val="bfffab"/>
          </a:solidFill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) 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) 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191120" y="990720"/>
            <a:ext cx="4572000" cy="3504960"/>
          </a:xfrm>
          <a:prstGeom prst="rect">
            <a:avLst/>
          </a:prstGeom>
          <a:solidFill>
            <a:srgbClr val="bfffab"/>
          </a:solidFill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)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) 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1"/>
              <p:cNvSpPr txBox="1"/>
              <p:nvPr/>
            </p:nvSpPr>
            <p:spPr>
              <a:xfrm>
                <a:off x="914400" y="1066680"/>
                <a:ext cx="89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0"/>
              <p:cNvSpPr txBox="1"/>
              <p:nvPr/>
            </p:nvSpPr>
            <p:spPr>
              <a:xfrm>
                <a:off x="990720" y="160020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9"/>
              <p:cNvSpPr txBox="1"/>
              <p:nvPr/>
            </p:nvSpPr>
            <p:spPr>
              <a:xfrm>
                <a:off x="914400" y="2133720"/>
                <a:ext cx="91440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8"/>
              <p:cNvSpPr txBox="1"/>
              <p:nvPr/>
            </p:nvSpPr>
            <p:spPr>
              <a:xfrm>
                <a:off x="762120" y="2666880"/>
                <a:ext cx="1371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7"/>
              <p:cNvSpPr txBox="1"/>
              <p:nvPr/>
            </p:nvSpPr>
            <p:spPr>
              <a:xfrm>
                <a:off x="914400" y="3276720"/>
                <a:ext cx="1143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6"/>
              <p:cNvSpPr txBox="1"/>
              <p:nvPr/>
            </p:nvSpPr>
            <p:spPr>
              <a:xfrm>
                <a:off x="838080" y="3809880"/>
                <a:ext cx="12956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4" name="Rectangle 23"/>
          <p:cNvSpPr/>
          <p:nvPr/>
        </p:nvSpPr>
        <p:spPr>
          <a:xfrm>
            <a:off x="4326120" y="16610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1"/>
              <p:cNvSpPr txBox="1"/>
              <p:nvPr/>
            </p:nvSpPr>
            <p:spPr>
              <a:xfrm>
                <a:off x="4724280" y="990720"/>
                <a:ext cx="1067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0"/>
              <p:cNvSpPr txBox="1"/>
              <p:nvPr/>
            </p:nvSpPr>
            <p:spPr>
              <a:xfrm>
                <a:off x="4724280" y="1523880"/>
                <a:ext cx="914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9"/>
              <p:cNvSpPr txBox="1"/>
              <p:nvPr/>
            </p:nvSpPr>
            <p:spPr>
              <a:xfrm>
                <a:off x="4724280" y="2133720"/>
                <a:ext cx="10670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38"/>
              <p:cNvSpPr txBox="1"/>
              <p:nvPr/>
            </p:nvSpPr>
            <p:spPr>
              <a:xfrm>
                <a:off x="4648320" y="2743200"/>
                <a:ext cx="11430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7"/>
              <p:cNvSpPr txBox="1"/>
              <p:nvPr/>
            </p:nvSpPr>
            <p:spPr>
              <a:xfrm>
                <a:off x="4724280" y="3352680"/>
                <a:ext cx="10670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36"/>
              <p:cNvSpPr txBox="1"/>
              <p:nvPr/>
            </p:nvSpPr>
            <p:spPr>
              <a:xfrm>
                <a:off x="4800600" y="3886200"/>
                <a:ext cx="1143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1" name="Rectangle 42"/>
          <p:cNvSpPr/>
          <p:nvPr/>
        </p:nvSpPr>
        <p:spPr>
          <a:xfrm>
            <a:off x="0" y="12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50"/>
          <p:cNvSpPr/>
          <p:nvPr/>
        </p:nvSpPr>
        <p:spPr>
          <a:xfrm>
            <a:off x="0" y="457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1.  </a:t>
            </a:r>
            <a:r>
              <a:rPr b="0" lang="ru-RU" sz="2400" spc="-1" strike="noStrike" u="sng">
                <a:solidFill>
                  <a:srgbClr val="420000"/>
                </a:solidFill>
                <a:uFillTx/>
                <a:latin typeface="Times New Roman"/>
              </a:rPr>
              <a:t>Вынесите множитель из–под знака корня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1"/>
          <p:cNvSpPr/>
          <p:nvPr/>
        </p:nvSpPr>
        <p:spPr>
          <a:xfrm>
            <a:off x="1219320" y="45720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Внесите множитель под знак корн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2"/>
          <p:cNvSpPr/>
          <p:nvPr/>
        </p:nvSpPr>
        <p:spPr>
          <a:xfrm>
            <a:off x="533520" y="502920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        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3"/>
              <p:cNvSpPr txBox="1"/>
              <p:nvPr/>
            </p:nvSpPr>
            <p:spPr>
              <a:xfrm>
                <a:off x="1143000" y="5010120"/>
                <a:ext cx="838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55"/>
              <p:cNvSpPr txBox="1"/>
              <p:nvPr/>
            </p:nvSpPr>
            <p:spPr>
              <a:xfrm>
                <a:off x="1066680" y="5943600"/>
                <a:ext cx="762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7" name="Rectangle 56"/>
          <p:cNvSpPr/>
          <p:nvPr/>
        </p:nvSpPr>
        <p:spPr>
          <a:xfrm>
            <a:off x="4114800" y="502920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57"/>
              <p:cNvSpPr txBox="1"/>
              <p:nvPr/>
            </p:nvSpPr>
            <p:spPr>
              <a:xfrm>
                <a:off x="4648320" y="5029200"/>
                <a:ext cx="10666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58"/>
              <p:cNvSpPr txBox="1"/>
              <p:nvPr/>
            </p:nvSpPr>
            <p:spPr>
              <a:xfrm>
                <a:off x="4800600" y="5867280"/>
                <a:ext cx="9144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59"/>
              <p:cNvSpPr txBox="1"/>
              <p:nvPr/>
            </p:nvSpPr>
            <p:spPr>
              <a:xfrm>
                <a:off x="2438280" y="1066680"/>
                <a:ext cx="11430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60"/>
              <p:cNvSpPr txBox="1"/>
              <p:nvPr/>
            </p:nvSpPr>
            <p:spPr>
              <a:xfrm>
                <a:off x="2438280" y="1600200"/>
                <a:ext cx="1143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1"/>
              <p:cNvSpPr txBox="1"/>
              <p:nvPr/>
            </p:nvSpPr>
            <p:spPr>
              <a:xfrm>
                <a:off x="2438280" y="2133720"/>
                <a:ext cx="1143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62"/>
              <p:cNvSpPr txBox="1"/>
              <p:nvPr/>
            </p:nvSpPr>
            <p:spPr>
              <a:xfrm>
                <a:off x="2438280" y="2666880"/>
                <a:ext cx="1143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63"/>
              <p:cNvSpPr txBox="1"/>
              <p:nvPr/>
            </p:nvSpPr>
            <p:spPr>
              <a:xfrm>
                <a:off x="2438280" y="3276720"/>
                <a:ext cx="11271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у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64"/>
              <p:cNvSpPr txBox="1"/>
              <p:nvPr/>
            </p:nvSpPr>
            <p:spPr>
              <a:xfrm>
                <a:off x="2438280" y="3886200"/>
                <a:ext cx="1143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65"/>
              <p:cNvSpPr txBox="1"/>
              <p:nvPr/>
            </p:nvSpPr>
            <p:spPr>
              <a:xfrm>
                <a:off x="2500200" y="5029200"/>
                <a:ext cx="1081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7" name="Rectangle 6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69"/>
              <p:cNvSpPr txBox="1"/>
              <p:nvPr/>
            </p:nvSpPr>
            <p:spPr>
              <a:xfrm>
                <a:off x="2514600" y="5943600"/>
                <a:ext cx="10666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1"/>
              <p:cNvSpPr txBox="1"/>
              <p:nvPr/>
            </p:nvSpPr>
            <p:spPr>
              <a:xfrm>
                <a:off x="6194520" y="1066680"/>
                <a:ext cx="10983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72"/>
              <p:cNvSpPr txBox="1"/>
              <p:nvPr/>
            </p:nvSpPr>
            <p:spPr>
              <a:xfrm>
                <a:off x="6172200" y="1600200"/>
                <a:ext cx="1143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73"/>
              <p:cNvSpPr txBox="1"/>
              <p:nvPr/>
            </p:nvSpPr>
            <p:spPr>
              <a:xfrm>
                <a:off x="6194520" y="2133720"/>
                <a:ext cx="1098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74"/>
              <p:cNvSpPr txBox="1"/>
              <p:nvPr/>
            </p:nvSpPr>
            <p:spPr>
              <a:xfrm>
                <a:off x="6172200" y="2666880"/>
                <a:ext cx="1143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75"/>
              <p:cNvSpPr txBox="1"/>
              <p:nvPr/>
            </p:nvSpPr>
            <p:spPr>
              <a:xfrm>
                <a:off x="6172200" y="3276720"/>
                <a:ext cx="114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5" name="Rectangle 7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77"/>
              <p:cNvSpPr txBox="1"/>
              <p:nvPr/>
            </p:nvSpPr>
            <p:spPr>
              <a:xfrm>
                <a:off x="6172200" y="3886200"/>
                <a:ext cx="114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9"/>
              <p:cNvSpPr txBox="1"/>
              <p:nvPr/>
            </p:nvSpPr>
            <p:spPr>
              <a:xfrm>
                <a:off x="6095880" y="5029200"/>
                <a:ext cx="12574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80"/>
              <p:cNvSpPr txBox="1"/>
              <p:nvPr/>
            </p:nvSpPr>
            <p:spPr>
              <a:xfrm>
                <a:off x="6078600" y="5837400"/>
                <a:ext cx="13129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Подведём  итоги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0" y="30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1800" y="329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143000" y="2514600"/>
          <a:ext cx="7315200" cy="21938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Кол-во прав-ых отв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4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;</a:t>
                      </a:r>
                      <a:r>
                        <a:rPr b="1" lang="en-US" sz="4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4;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оцен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5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«4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«3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99840" y="2286000"/>
            <a:ext cx="388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0000"/>
                </a:solidFill>
                <a:uFillTx/>
                <a:latin typeface="Times New Roman"/>
              </a:rPr>
              <a:t>Дом. Задание:</a:t>
            </a: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№ </a:t>
            </a:r>
            <a:r>
              <a:rPr b="0" lang="ru-RU" sz="3600" spc="-1" strike="noStrike">
                <a:solidFill>
                  <a:srgbClr val="d60093"/>
                </a:solidFill>
                <a:latin typeface="Times New Roman"/>
              </a:rPr>
              <a:t>15.7</a:t>
            </a: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;  № </a:t>
            </a:r>
            <a:r>
              <a:rPr b="0" lang="ru-RU" sz="3600" spc="-1" strike="noStrike">
                <a:solidFill>
                  <a:srgbClr val="d60093"/>
                </a:solidFill>
                <a:latin typeface="Times New Roman"/>
              </a:rPr>
              <a:t>15.12</a:t>
            </a: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№ </a:t>
            </a:r>
            <a:r>
              <a:rPr b="0" lang="ru-RU" sz="3600" spc="-1" strike="noStrike">
                <a:solidFill>
                  <a:srgbClr val="d60093"/>
                </a:solidFill>
                <a:latin typeface="Times New Roman"/>
              </a:rPr>
              <a:t>15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5" descr="D:\всё здесь моё\попробую ещё\для кабинета\картинки\2.jpg"/>
          <p:cNvPicPr/>
          <p:nvPr/>
        </p:nvPicPr>
        <p:blipFill>
          <a:blip r:embed="rId1"/>
          <a:stretch/>
        </p:blipFill>
        <p:spPr>
          <a:xfrm>
            <a:off x="5857920" y="1816200"/>
            <a:ext cx="2560680" cy="32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43400" y="159984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Знание –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самое превосходное из владений. </a:t>
            </a:r>
            <a:br>
              <a:rPr sz="3200"/>
            </a:b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Все стремятся к нему, само оно не приходит</a:t>
            </a: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.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  Абу Рейхан ал-Берун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2666880" cy="3276720"/>
          </a:xfrm>
          <a:prstGeom prst="rect">
            <a:avLst/>
          </a:prstGeom>
          <a:ln w="9360">
            <a:solidFill>
              <a:srgbClr val="660000"/>
            </a:solidFill>
            <a:miter/>
          </a:ln>
        </p:spPr>
      </p:pic>
      <p:sp>
        <p:nvSpPr>
          <p:cNvPr id="109" name="Rectangle 2"/>
          <p:cNvSpPr/>
          <p:nvPr/>
        </p:nvSpPr>
        <p:spPr>
          <a:xfrm>
            <a:off x="228600" y="5791320"/>
            <a:ext cx="8915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20000"/>
                </a:solidFill>
                <a:latin typeface="Times New Roman"/>
              </a:rPr>
              <a:t>04.09.973-9.12.1048</a:t>
            </a: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420000"/>
                </a:solidFill>
                <a:latin typeface="Times New Roman"/>
              </a:rPr>
              <a:t>- великий ученый из Хорезм</a:t>
            </a:r>
            <a:r>
              <a:rPr b="0" i="1" lang="en-US" sz="3200" spc="-1" strike="noStrike">
                <a:solidFill>
                  <a:srgbClr val="4200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торить свойства квадратных корней; объяснить правила вынесения множителя из-под знака корня, внесения множителя под знак кор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рить знания и умения с помощью обучающей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700" spc="-1" strike="noStrike">
              <a:solidFill>
                <a:srgbClr val="420000"/>
              </a:solidFill>
              <a:latin typeface="Alexei Copperplat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39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План уро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ематическая разми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мотреть правила вынесения множителя из-под знака корня, внесения множителя под знак кор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епление свойств квадратного корня на пример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ведение итог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 на 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68544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Повтори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выражение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каком значени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ыражение        имеет смысл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формулировках и записях свойств арифметических корней заполните пропуски: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корень из произведения неотрицательных    множителей равен_____________корней из этих множител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  корень из дроби, числитель которой неотрицателен, а знаменатель______,  равен корню из числителя, делённому на _______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20000"/>
                </a:solidFill>
                <a:latin typeface="Times New Roman"/>
              </a:rPr>
              <a:t>                                   </a:t>
            </a:r>
            <a:br>
              <a:rPr sz="2700"/>
            </a:br>
            <a:endParaRPr b="0" lang="en-US" sz="27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4"/>
              <p:cNvSpPr txBox="1"/>
              <p:nvPr/>
            </p:nvSpPr>
            <p:spPr>
              <a:xfrm>
                <a:off x="6019920" y="2209680"/>
                <a:ext cx="6094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6"/>
              <p:cNvSpPr txBox="1"/>
              <p:nvPr/>
            </p:nvSpPr>
            <p:spPr>
              <a:xfrm>
                <a:off x="5105520" y="1752480"/>
                <a:ext cx="4460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0" y="609120"/>
            <a:ext cx="4495680" cy="6248520"/>
          </a:xfrm>
          <a:prstGeom prst="rect">
            <a:avLst/>
          </a:prstGeom>
          <a:solidFill>
            <a:srgbClr val="bfffa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447840" indent="-447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Вычислить квадратный корень из заданных выражен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Найти корень квадратный из произведения чисел 16 и 0,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Вычислить произведение корней квадратных чисел 20 и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Вычислить квадратный корень разности квадратов 13 и 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ческая разминк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495680" y="609120"/>
            <a:ext cx="4648320" cy="6248520"/>
          </a:xfrm>
          <a:prstGeom prst="rect">
            <a:avLst/>
          </a:prstGeom>
          <a:solidFill>
            <a:srgbClr val="bfffa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Вычислить квадратный корень из заданных выражен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Найти квадратный корень из произведения чисел 25 и 0,00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Найти частное квадратных корней 192 и 7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Вычислить квадратный корень разности квадратов 41 и 4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8"/>
              <p:cNvSpPr txBox="1"/>
              <p:nvPr/>
            </p:nvSpPr>
            <p:spPr>
              <a:xfrm>
                <a:off x="2438280" y="1828800"/>
                <a:ext cx="1524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  <m:r>
                      <m:t xml:space="preserve">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e>
                    </m:rad>
                    <m:r>
                      <m:t xml:space="preserve">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0"/>
              <p:cNvSpPr txBox="1"/>
              <p:nvPr/>
            </p:nvSpPr>
            <p:spPr>
              <a:xfrm>
                <a:off x="6934320" y="1828800"/>
                <a:ext cx="1676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тветы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752480"/>
          <a:ext cx="8305920" cy="4378320"/>
        </p:xfrm>
        <a:graphic>
          <a:graphicData uri="http://schemas.openxmlformats.org/drawingml/2006/table">
            <a:tbl>
              <a:tblPr/>
              <a:tblGrid>
                <a:gridCol w="4191120"/>
                <a:gridCol w="4114800"/>
              </a:tblGrid>
              <a:tr h="43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660000"/>
                          </a:solidFill>
                          <a:uFillTx/>
                          <a:latin typeface="Times New Roman"/>
                        </a:rPr>
                        <a:t>Вариант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r>
                        <a:rPr b="0" lang="ru-RU" sz="36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а)</a:t>
                      </a:r>
                      <a:r>
                        <a:rPr b="0" lang="en-US" sz="36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  </a:t>
                      </a:r>
                      <a:r>
                        <a:rPr b="0" lang="ru-RU" sz="36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б)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,9  </a:t>
                      </a:r>
                      <a:r>
                        <a:rPr b="0" lang="ru-RU" sz="36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в)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660000"/>
                          </a:solidFill>
                          <a:uFillTx/>
                          <a:latin typeface="Times New Roman"/>
                        </a:rPr>
                        <a:t>Вариант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r>
                        <a:rPr b="0" lang="ru-RU" sz="32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а)</a:t>
                      </a:r>
                      <a:r>
                        <a:rPr b="0" lang="en-US" sz="32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32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б)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,2   </a:t>
                      </a:r>
                      <a:r>
                        <a:rPr b="0" lang="ru-RU" sz="32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в)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e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1" name="Object 57"/>
              <p:cNvSpPr txBox="1"/>
              <p:nvPr/>
            </p:nvSpPr>
            <p:spPr>
              <a:xfrm>
                <a:off x="1295280" y="3657600"/>
                <a:ext cx="6098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Rectangle 3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36"/>
              <p:cNvSpPr txBox="1"/>
              <p:nvPr/>
            </p:nvSpPr>
            <p:spPr>
              <a:xfrm>
                <a:off x="4114800" y="2362320"/>
                <a:ext cx="4762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61"/>
              <p:cNvSpPr txBox="1"/>
              <p:nvPr/>
            </p:nvSpPr>
            <p:spPr>
              <a:xfrm>
                <a:off x="8153280" y="2362320"/>
                <a:ext cx="4669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Оценочная таблица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43000" y="2514600"/>
          <a:ext cx="7315200" cy="21938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Кол-во прав-ых отв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4;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оцен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5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«4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«3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46479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Используя эти формулы, можно выполнять различные преобразования выражений, содержащих операцию извлечения квадратного корн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Повторим свойства квадратных корней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2895480" y="1676520"/>
                <a:ext cx="2754360" cy="28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а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а</m:t>
                        </m:r>
                        <m:r>
                          <m:t xml:space="preserve">;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b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;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</m:den>
                        </m:f>
                        <m:r>
                          <m:t xml:space="preserve">;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7-09-21T19:20:17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