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97F-9A45-402E-917F-D063B382F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004-9ADC-49D7-BE1F-5D73C903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B55B-EB70-4E08-947A-DCFD5546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CFA-9C81-4719-81DE-D0296A4C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FAB9-2C06-4DC6-A9BE-3DF76197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401-0A2D-4048-8A39-82A0A1F7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9153-CABB-4F70-A5CE-AC786C70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2B83-AA9C-45C1-949E-B5C49205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DDDA-B6D9-4CBB-AE07-62322BAB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8A0-835C-4467-90EF-E77C2BCC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E3F1-8E5E-4FD8-A9A8-83B903F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329-909B-4E80-B25D-75C08583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9B988B-2C83-4349-99D3-023F7EC5CAC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3" descr="848"/>
          <p:cNvPicPr/>
          <p:nvPr/>
        </p:nvPicPr>
        <p:blipFill>
          <a:blip r:embed="rId1"/>
          <a:stretch/>
        </p:blipFill>
        <p:spPr>
          <a:xfrm>
            <a:off x="428760" y="2571840"/>
            <a:ext cx="3612240" cy="4071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2" name="Picture 32" descr="Поворот 558"/>
          <p:cNvPicPr/>
          <p:nvPr/>
        </p:nvPicPr>
        <p:blipFill>
          <a:blip r:embed="rId2"/>
          <a:stretch/>
        </p:blipFill>
        <p:spPr>
          <a:xfrm rot="19830000">
            <a:off x="6784560" y="813960"/>
            <a:ext cx="595800" cy="729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15"/>
          <p:cNvSpPr txBox="1"/>
          <p:nvPr/>
        </p:nvSpPr>
        <p:spPr>
          <a:xfrm>
            <a:off x="428760" y="1000080"/>
            <a:ext cx="279000" cy="22824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ln w="0">
                <a:noFill/>
              </a:ln>
              <a:solidFill>
                <a:srgbClr val="729fcf"/>
              </a:solidFill>
              <a:latin typeface="Arial Black"/>
            </a:endParaRPr>
          </a:p>
        </p:txBody>
      </p:sp>
      <p:sp>
        <p:nvSpPr>
          <p:cNvPr id="44" name="WordArt 12"/>
          <p:cNvSpPr txBox="1"/>
          <p:nvPr/>
        </p:nvSpPr>
        <p:spPr>
          <a:xfrm>
            <a:off x="714240" y="1428840"/>
            <a:ext cx="1044360" cy="342720"/>
          </a:xfrm>
          <a:prstGeom prst="rect">
            <a:avLst/>
          </a:prstGeom>
        </p:spPr>
        <p:txBody>
          <a:bodyPr wrap="none" lIns="90000" rIns="90000" tIns="45000" bIns="45000" anchor="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endParaRPr b="1" lang="ru-RU" sz="1800" spc="-1" strike="noStrike">
              <a:ln w="0">
                <a:noFill/>
              </a:ln>
              <a:solidFill>
                <a:srgbClr val="729fcf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2843640" y="1600200"/>
            <a:ext cx="5688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70c0"/>
                </a:solidFill>
                <a:latin typeface="Calibri"/>
              </a:rPr>
              <a:t>Проект по благоустройству территории участка детского с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4000" spc="-1" strike="noStrike">
                <a:solidFill>
                  <a:srgbClr val="0ba528"/>
                </a:solidFill>
                <a:latin typeface="Calibri"/>
              </a:rPr>
              <a:t>«Радужный остров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000" spc="-1" strike="noStrike">
                <a:solidFill>
                  <a:srgbClr val="17375e"/>
                </a:solidFill>
                <a:latin typeface="Calibri"/>
              </a:rPr>
              <a:t>Выполн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Гасанбекова Виктория Зия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2857320" y="1071720"/>
            <a:ext cx="54288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3643200" y="902880"/>
            <a:ext cx="42145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Машина. Для с/р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(из старой лавоч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5" descr="8.jpg.jpg"/>
          <p:cNvPicPr/>
          <p:nvPr/>
        </p:nvPicPr>
        <p:blipFill>
          <a:blip r:embed="rId1"/>
          <a:stretch/>
        </p:blipFill>
        <p:spPr>
          <a:xfrm>
            <a:off x="1143000" y="1643040"/>
            <a:ext cx="5295600" cy="39715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2714760" y="1000080"/>
            <a:ext cx="571464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2857320" y="504000"/>
            <a:ext cx="557172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Улитка. Для подлезания или просто пос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5" descr="9.jpg"/>
          <p:cNvPicPr/>
          <p:nvPr/>
        </p:nvPicPr>
        <p:blipFill>
          <a:blip r:embed="rId1"/>
          <a:stretch/>
        </p:blipFill>
        <p:spPr>
          <a:xfrm>
            <a:off x="1357200" y="1785960"/>
            <a:ext cx="6095520" cy="4571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"/>
          <p:cNvSpPr/>
          <p:nvPr/>
        </p:nvSpPr>
        <p:spPr>
          <a:xfrm>
            <a:off x="3071880" y="645120"/>
            <a:ext cx="478584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Пароход.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Для с/р игр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5" descr="10.jpg.jpg"/>
          <p:cNvPicPr/>
          <p:nvPr/>
        </p:nvPicPr>
        <p:blipFill>
          <a:blip r:embed="rId1"/>
          <a:stretch/>
        </p:blipFill>
        <p:spPr>
          <a:xfrm>
            <a:off x="1357200" y="1285920"/>
            <a:ext cx="6571800" cy="4928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571680" y="1532880"/>
            <a:ext cx="8143560" cy="1432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2800" spc="-1" strike="noStrike">
                <a:solidFill>
                  <a:schemeClr val="accent6">
                    <a:lumMod val="50000"/>
                  </a:schemeClr>
                </a:solidFill>
                <a:latin typeface="Bookman Old Style"/>
                <a:ea typeface="Calibri"/>
              </a:rPr>
              <a:t> </a:t>
            </a:r>
            <a:r>
              <a:rPr b="1" i="1" lang="ru-RU" sz="28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Стол и табур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Bookman Old Style"/>
                <a:ea typeface="Calibri"/>
              </a:rPr>
              <a:t>Из брёвен больших и маленьких сделать столик и табуреты, которые можно будет использовать в с/р игре или просто отдохну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642960" y="3112920"/>
            <a:ext cx="8072280" cy="20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</a:rPr>
              <a:t>Маленькие клумбы из старых тазов или буты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2000" spc="-1" strike="noStrike">
                <a:solidFill>
                  <a:srgbClr val="002060"/>
                </a:solidFill>
                <a:latin typeface="Bookman Old Style"/>
              </a:rPr>
              <a:t>В центре больше свободного места (чтобы избежать столкновений) для организации подвижных игр, хороводов и свободной двигательной деятельности. Для сохранения здоровья и жизн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2"/>
          <p:cNvSpPr/>
          <p:nvPr/>
        </p:nvSpPr>
        <p:spPr>
          <a:xfrm>
            <a:off x="2428920" y="642960"/>
            <a:ext cx="5643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Bookman Old Style"/>
              </a:rPr>
              <a:t>Песочницу можно украсить старыми цветными зонтиками на высоких стой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" descr="11.jpg.jpg"/>
          <p:cNvPicPr/>
          <p:nvPr/>
        </p:nvPicPr>
        <p:blipFill>
          <a:blip r:embed="rId1"/>
          <a:stretch/>
        </p:blipFill>
        <p:spPr>
          <a:xfrm>
            <a:off x="1643040" y="1714680"/>
            <a:ext cx="5562360" cy="4166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2"/>
          <p:cNvSpPr/>
          <p:nvPr/>
        </p:nvSpPr>
        <p:spPr>
          <a:xfrm>
            <a:off x="2214720" y="500040"/>
            <a:ext cx="6357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  <a:ea typeface="Calibri"/>
              </a:rPr>
              <a:t>Дорожка для  перепрыг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5" descr="18.jpg.jpg"/>
          <p:cNvPicPr/>
          <p:nvPr/>
        </p:nvPicPr>
        <p:blipFill>
          <a:blip r:embed="rId1"/>
          <a:stretch/>
        </p:blipFill>
        <p:spPr>
          <a:xfrm>
            <a:off x="1438920" y="1175040"/>
            <a:ext cx="6373080" cy="47739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1285920" y="123120"/>
            <a:ext cx="721476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лумба в виде горки  , окрашенная в цвета раду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7" descr="поделки-для-дачи-сада-двора4.jpg"/>
          <p:cNvPicPr/>
          <p:nvPr/>
        </p:nvPicPr>
        <p:blipFill>
          <a:blip r:embed="rId1"/>
          <a:stretch/>
        </p:blipFill>
        <p:spPr>
          <a:xfrm>
            <a:off x="1115640" y="1200240"/>
            <a:ext cx="7180920" cy="54198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C:\Users\инна.инна-ПК\Desktop\инна\оформление группы\стенды\Gruppa_sun\оформление группа солнышко\4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1" name="TextBox 2"/>
          <p:cNvSpPr/>
          <p:nvPr/>
        </p:nvSpPr>
        <p:spPr>
          <a:xfrm>
            <a:off x="2357280" y="714240"/>
            <a:ext cx="507168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Самолёт. </a:t>
            </a:r>
            <a:r>
              <a:rPr b="0" i="1" lang="ru-RU" sz="2400" spc="-1" strike="noStrike">
                <a:solidFill>
                  <a:srgbClr val="c00000"/>
                </a:solidFill>
                <a:latin typeface="Bookman Old Style"/>
              </a:rPr>
              <a:t>Для с/р игр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3" descr="27.jpg.jpg"/>
          <p:cNvPicPr/>
          <p:nvPr/>
        </p:nvPicPr>
        <p:blipFill>
          <a:blip r:embed="rId2"/>
          <a:stretch/>
        </p:blipFill>
        <p:spPr>
          <a:xfrm>
            <a:off x="1571760" y="1214280"/>
            <a:ext cx="6453000" cy="48394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857160" y="857160"/>
            <a:ext cx="7786440" cy="5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2800" spc="-1" strike="noStrike">
              <a:solidFill>
                <a:schemeClr val="accent3">
                  <a:lumMod val="50000"/>
                </a:schemeClr>
              </a:solidFill>
              <a:latin typeface="Bookman Old Style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1979640" y="1118880"/>
            <a:ext cx="644688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Развитие проекта после реализаци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анный проект, ценен тем, что деятельность его не ограничится определенными сроками. Оборудованный групповой участок на территории детского сада позволит вести системную физкультурно-оздоровительную и воспитательно-образовательную работу с детьми дошкольного возраста во время проведения прогулок, организовывать досуг семей воспитанников детского сада.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Рисунок 9"/>
          <p:cNvSpPr/>
          <p:nvPr/>
        </p:nvSpPr>
        <p:spPr>
          <a:xfrm>
            <a:off x="857160" y="3714840"/>
            <a:ext cx="1865160" cy="264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"/>
          <p:cNvSpPr/>
          <p:nvPr/>
        </p:nvSpPr>
        <p:spPr>
          <a:xfrm>
            <a:off x="857160" y="1882440"/>
            <a:ext cx="7786440" cy="1919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ookman Old Style"/>
                <a:ea typeface="Calibri"/>
              </a:rPr>
              <a:t>«Лучший способ сделать ребенка хорошим – это сделать его счастливым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1000" fill="hold"/>
                                        <p:tgtEl>
                                          <p:spTgt spid="46"/>
                                        </p:tgtEl>
                                      </p:cBhvr>
                                      <p:by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857160" y="857160"/>
            <a:ext cx="7786440" cy="522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1" lang="ru-RU" sz="2800" spc="-1" strike="noStrike">
              <a:solidFill>
                <a:schemeClr val="accent3">
                  <a:lumMod val="50000"/>
                </a:schemeClr>
              </a:solidFill>
              <a:latin typeface="Bookman Old Style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928800" y="1156320"/>
            <a:ext cx="757188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600" spc="-1" strike="noStrike">
                <a:solidFill>
                  <a:srgbClr val="17375e"/>
                </a:solidFill>
                <a:latin typeface="Bookman Old Style"/>
                <a:ea typeface="Times New Roman"/>
              </a:rPr>
              <a:t>Проект направлен на благоустройство и декоративное оформление участка группы «Радуг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Старый процессор\КАРТИНКИ Молящева О\ДЕТИ\5faf770b19.png"/>
          <p:cNvPicPr/>
          <p:nvPr/>
        </p:nvPicPr>
        <p:blipFill>
          <a:blip r:embed="rId1"/>
          <a:stretch/>
        </p:blipFill>
        <p:spPr>
          <a:xfrm>
            <a:off x="4357800" y="3429000"/>
            <a:ext cx="3840840" cy="2999880"/>
          </a:xfrm>
          <a:prstGeom prst="rect">
            <a:avLst/>
          </a:prstGeom>
          <a:ln w="9525">
            <a:noFill/>
          </a:ln>
        </p:spPr>
      </p:pic>
      <p:pic>
        <p:nvPicPr>
          <p:cNvPr id="51" name="Рисунок 2" descr=""/>
          <p:cNvPicPr/>
          <p:nvPr/>
        </p:nvPicPr>
        <p:blipFill>
          <a:blip r:embed="rId2"/>
          <a:stretch/>
        </p:blipFill>
        <p:spPr>
          <a:xfrm>
            <a:off x="2136600" y="3303720"/>
            <a:ext cx="6051960" cy="32504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p14:dur="10"/>
    </mc:Choice>
    <mc:Fallback>
      <p:transition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143000" y="428760"/>
            <a:ext cx="73576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rgbClr val="7030a0"/>
                </a:solidFill>
                <a:latin typeface="Bookman Old Style"/>
                <a:ea typeface="Calibri"/>
              </a:rPr>
              <a:t>Цель проект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32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создание благоприятной предметно-развивающей среды на участке группы «Радуга» для всестороннего развития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785880" y="4396680"/>
            <a:ext cx="7643520" cy="94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Bookman Old Style"/>
                <a:ea typeface="Calibri"/>
              </a:rPr>
              <a:t>Участники проекта</a:t>
            </a:r>
            <a:r>
              <a:rPr b="1" i="1" lang="ru-RU" sz="2400" spc="-1" strike="noStrike">
                <a:solidFill>
                  <a:srgbClr val="7030a0"/>
                </a:solidFill>
                <a:latin typeface="Bookman Old Style"/>
                <a:ea typeface="Calibri"/>
              </a:rPr>
              <a:t>: </a:t>
            </a:r>
            <a:r>
              <a:rPr b="1" i="1" lang="ru-RU" sz="24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родители воспитанников, педагоги,  дети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857240" y="3643200"/>
            <a:ext cx="2203920" cy="274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5357880" y="3357720"/>
            <a:ext cx="2204640" cy="29890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6" name="Прямоугольник 1"/>
          <p:cNvSpPr/>
          <p:nvPr/>
        </p:nvSpPr>
        <p:spPr>
          <a:xfrm>
            <a:off x="3132000" y="476640"/>
            <a:ext cx="5472360" cy="36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Создание развивающего пространства  для самостоятельной деятельности детей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Улучшение экологического и эстетического состояния территории участка ДО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Повышение функциональности оборудования на участк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 Привлечение родителей воспитанников к работе по улучшению состояния территории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3"/>
          <p:cNvSpPr/>
          <p:nvPr/>
        </p:nvSpPr>
        <p:spPr>
          <a:xfrm>
            <a:off x="714240" y="571320"/>
            <a:ext cx="785772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Прямоугольник 2"/>
          <p:cNvSpPr/>
          <p:nvPr/>
        </p:nvSpPr>
        <p:spPr>
          <a:xfrm>
            <a:off x="2793600" y="612360"/>
            <a:ext cx="576036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Актуальнос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авильно организованные и продуманные прогулки помогают осуществлять задачи всестороннего развит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    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Для этого необходимо создать определенные условия, а именно установить оборудование для развития движений, которое бы имело привлекательный вид, было прочным, хорошо обработанным, закрепленным и соответствовало возрасту и силам детей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2483640" y="908640"/>
            <a:ext cx="5939640" cy="52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Этапы осуществления деятельности по проект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Ι.Подготов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обсудить с родителями дизайн по облагораживанию учас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ивлечь родителей к оформлению учас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брать необходимый бросовый материал для изготовления малых форм и выносного материала (пластиковые бутылки, шины, шишки, ракушк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иобретение семян и посадка рассады цве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</a:rPr>
              <a:t>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1214280" y="1500120"/>
            <a:ext cx="692928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m6-tub-ru.yandex.net/i?id=246235357-34-72&amp;n=21"/>
          <p:cNvPicPr/>
          <p:nvPr/>
        </p:nvPicPr>
        <p:blipFill>
          <a:blip r:embed="rId1"/>
          <a:stretch/>
        </p:blipFill>
        <p:spPr>
          <a:xfrm>
            <a:off x="6643800" y="5143680"/>
            <a:ext cx="1999800" cy="1499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2" name="Прямоугольник 1"/>
          <p:cNvSpPr/>
          <p:nvPr/>
        </p:nvSpPr>
        <p:spPr>
          <a:xfrm>
            <a:off x="2843640" y="1052640"/>
            <a:ext cx="5525640" cy="49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ΙΙ.Ос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ерекапывание клумб с привлечением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окраска клумб, забора и малых ф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высадка рассады цветов на клум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сооружение необходимых конструкций на учас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6">
                    <a:lumMod val="50000"/>
                  </a:schemeClr>
                </a:solidFill>
                <a:latin typeface="Calibri"/>
              </a:rPr>
              <a:t>ΙΙΙ. Заключитель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</a:rPr>
              <a:t>презентация учас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755640" y="1261800"/>
            <a:ext cx="8072280" cy="43574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i="1" lang="ru-RU" sz="3200" spc="-1" strike="noStrike">
                <a:solidFill>
                  <a:schemeClr val="accent6">
                    <a:lumMod val="75000"/>
                  </a:schemeClr>
                </a:solidFill>
                <a:latin typeface="Bookman Old Style"/>
                <a:ea typeface="Calibri"/>
              </a:rPr>
              <a:t>Предполагаемый результат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сестороннее развитие личности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овышение двигательной активности уровня физического развития до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Воспитание человека, который проявляет заботу о своём здоровье и окружающей сред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Повышение материальной технической базы Д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 </a:t>
            </a:r>
            <a:r>
              <a:rPr b="1" i="1" lang="ru-RU" sz="2400" spc="-1" strike="noStrike">
                <a:solidFill>
                  <a:srgbClr val="002060"/>
                </a:solidFill>
                <a:latin typeface="Calibri"/>
                <a:ea typeface="Calibri"/>
              </a:rPr>
              <a:t>Упрочение связей «детский сад-родитель», «ребенок-родите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  <Words>288</Words>
  <Paragraphs>53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4:37:58Z</dcterms:created>
  <dc:creator>инна</dc:creator>
  <dc:description/>
  <dc:language>en-US</dc:language>
  <cp:lastModifiedBy>Виктория Гасанбекова</cp:lastModifiedBy>
  <dcterms:modified xsi:type="dcterms:W3CDTF">2014-05-20T08:37:03Z</dcterms:modified>
  <cp:revision>5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