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746-8445-4690-9527-2AA6AE3E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A3E-2A22-4A8F-B1B1-824BF27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52D-77FC-48B7-B26D-5BB8EAA9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4E9-5DF1-4A24-84E1-43BCB459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A70-B2FF-4D5A-95D0-775A882A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BEB-1710-4208-9D88-DD5F2A2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759-8B67-4E02-A70F-73EA9AD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6EE-2902-4C2F-8BD5-895A902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C4E-E00B-4693-BD1C-DA94020C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063-726B-4BF6-B38A-34E8BB2E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EF0-4477-4502-ABC1-1AA3B8B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B52-6181-4E68-8B89-EAEEA1D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60DF1-63F4-4FCD-A29D-852369D3E2B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848"/>
          <p:cNvPicPr/>
          <p:nvPr/>
        </p:nvPicPr>
        <p:blipFill>
          <a:blip r:embed="rId1"/>
          <a:stretch/>
        </p:blipFill>
        <p:spPr>
          <a:xfrm>
            <a:off x="428760" y="2571840"/>
            <a:ext cx="3612240" cy="4071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2" name="Picture 32" descr="Поворот 558"/>
          <p:cNvPicPr/>
          <p:nvPr/>
        </p:nvPicPr>
        <p:blipFill>
          <a:blip r:embed="rId2"/>
          <a:stretch/>
        </p:blipFill>
        <p:spPr>
          <a:xfrm rot="19830000">
            <a:off x="6784560" y="813960"/>
            <a:ext cx="595800" cy="729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15"/>
          <p:cNvSpPr txBox="1"/>
          <p:nvPr/>
        </p:nvSpPr>
        <p:spPr>
          <a:xfrm>
            <a:off x="428760" y="1000080"/>
            <a:ext cx="279000" cy="2282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714240" y="1428840"/>
            <a:ext cx="1044360" cy="3427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43640" y="1600200"/>
            <a:ext cx="5688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оект по благоустройству территории участка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ba528"/>
                </a:solidFill>
                <a:latin typeface="Calibri"/>
              </a:rPr>
              <a:t>«Радужный остров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Гасанбекова Виктория Зия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857320" y="1071720"/>
            <a:ext cx="5428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3643200" y="902880"/>
            <a:ext cx="42145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Машина. Для с/р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(из старой ла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8.jpg.jpg"/>
          <p:cNvPicPr/>
          <p:nvPr/>
        </p:nvPicPr>
        <p:blipFill>
          <a:blip r:embed="rId1"/>
          <a:stretch/>
        </p:blipFill>
        <p:spPr>
          <a:xfrm>
            <a:off x="1143000" y="1643040"/>
            <a:ext cx="5295600" cy="397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714760" y="1000080"/>
            <a:ext cx="5714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857320" y="504000"/>
            <a:ext cx="55717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Улитка. Для подлезания или просто пос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9.jpg"/>
          <p:cNvPicPr/>
          <p:nvPr/>
        </p:nvPicPr>
        <p:blipFill>
          <a:blip r:embed="rId1"/>
          <a:stretch/>
        </p:blipFill>
        <p:spPr>
          <a:xfrm>
            <a:off x="1357200" y="1785960"/>
            <a:ext cx="6095520" cy="457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071880" y="645120"/>
            <a:ext cx="478584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Пароход.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Для с/р игр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10.jpg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71800" cy="4928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571680" y="1532880"/>
            <a:ext cx="8143560" cy="143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  <a:ea typeface="Calibri"/>
              </a:rPr>
              <a:t> </a:t>
            </a: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Стол и табур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з брёвен больших и маленьких сделать столик и табуреты, которые можно будет использовать в с/р игре или просто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42960" y="3112920"/>
            <a:ext cx="8072280" cy="20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</a:rPr>
              <a:t>Маленькие клумбы из старых тазов или буты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2060"/>
                </a:solidFill>
                <a:latin typeface="Bookman Old Style"/>
              </a:rPr>
              <a:t>В центре больше свободного места (чтобы избежать столкновений) для организации подвижных игр, хороводов и свободной двигательной деятельности. Для сохранения здоровья и жизн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2428920" y="642960"/>
            <a:ext cx="5643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Песочницу можно украсить старыми цветными зонтиками на высоких стой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1.jpg.jpg"/>
          <p:cNvPicPr/>
          <p:nvPr/>
        </p:nvPicPr>
        <p:blipFill>
          <a:blip r:embed="rId1"/>
          <a:stretch/>
        </p:blipFill>
        <p:spPr>
          <a:xfrm>
            <a:off x="1643040" y="1714680"/>
            <a:ext cx="5562360" cy="416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214720" y="500040"/>
            <a:ext cx="635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Дорожка для  перепрыг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18.jpg.jpg"/>
          <p:cNvPicPr/>
          <p:nvPr/>
        </p:nvPicPr>
        <p:blipFill>
          <a:blip r:embed="rId1"/>
          <a:stretch/>
        </p:blipFill>
        <p:spPr>
          <a:xfrm>
            <a:off x="1438920" y="1175040"/>
            <a:ext cx="6373080" cy="4773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85920" y="123120"/>
            <a:ext cx="7214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лумба в виде горки  , окрашенная в цвета рад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поделки-для-дачи-сада-двора4.jpg"/>
          <p:cNvPicPr/>
          <p:nvPr/>
        </p:nvPicPr>
        <p:blipFill>
          <a:blip r:embed="rId1"/>
          <a:stretch/>
        </p:blipFill>
        <p:spPr>
          <a:xfrm>
            <a:off x="1115640" y="1200240"/>
            <a:ext cx="7180920" cy="5419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Users\инна.инна-ПК\Desktop\инна\оформление группы\стенды\Gruppa_sun\оформление группа солнышко\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357280" y="714240"/>
            <a:ext cx="50716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Самолёт. 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</a:rPr>
              <a:t>Для с/р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27.jpg.jpg"/>
          <p:cNvPicPr/>
          <p:nvPr/>
        </p:nvPicPr>
        <p:blipFill>
          <a:blip r:embed="rId2"/>
          <a:stretch/>
        </p:blipFill>
        <p:spPr>
          <a:xfrm>
            <a:off x="1571760" y="1214280"/>
            <a:ext cx="6453000" cy="4839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857160" y="857160"/>
            <a:ext cx="7786440" cy="5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chemeClr val="accent3">
                  <a:lumMod val="50000"/>
                </a:schemeClr>
              </a:solidFill>
              <a:latin typeface="Bookman Old Style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979640" y="1118880"/>
            <a:ext cx="64468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азвитие проекта после реализаци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анный проект, ценен тем, что деятельность его не ограничится определенными сроками. Оборудованный групповой участок на территории детского сада позволит вести системную физкультурно-оздоровительную и воспитательно-образовательную работу с детьми дошкольного возраста во время проведения прогулок, организовывать досуг семей воспитанников детского сада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исунок 9"/>
          <p:cNvSpPr/>
          <p:nvPr/>
        </p:nvSpPr>
        <p:spPr>
          <a:xfrm>
            <a:off x="857160" y="3714840"/>
            <a:ext cx="1865160" cy="264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857160" y="1882440"/>
            <a:ext cx="7786440" cy="191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  <a:ea typeface="Calibri"/>
              </a:rPr>
              <a:t>«Лучший способ сделать ребенка хорошим – это сделать его счастливы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857160" y="857160"/>
            <a:ext cx="7786440" cy="5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chemeClr val="accent3">
                  <a:lumMod val="50000"/>
                </a:schemeClr>
              </a:solidFill>
              <a:latin typeface="Bookman Old Style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928800" y="1156320"/>
            <a:ext cx="757188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Проект направлен на благоустройство и декоративное оформление участка группы «Радуг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Старый процессор\КАРТИНКИ Молящева О\ДЕТИ\5faf770b19.png"/>
          <p:cNvPicPr/>
          <p:nvPr/>
        </p:nvPicPr>
        <p:blipFill>
          <a:blip r:embed="rId1"/>
          <a:stretch/>
        </p:blipFill>
        <p:spPr>
          <a:xfrm>
            <a:off x="4357800" y="3429000"/>
            <a:ext cx="3840840" cy="2999880"/>
          </a:xfrm>
          <a:prstGeom prst="rect">
            <a:avLst/>
          </a:prstGeom>
          <a:ln w="9525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2136600" y="3303720"/>
            <a:ext cx="6051960" cy="325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143000" y="428760"/>
            <a:ext cx="7357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Цель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создание благоприятной предметно-развивающей среды на участке группы «Радуга» для всестороннего развития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785880" y="4396680"/>
            <a:ext cx="764352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Участники проекта</a:t>
            </a: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  <a:ea typeface="Calibri"/>
              </a:rPr>
              <a:t>: </a:t>
            </a:r>
            <a:r>
              <a:rPr b="1" i="1" lang="ru-RU" sz="24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родители воспитанников, педагоги,  дет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857240" y="3643200"/>
            <a:ext cx="2203920" cy="274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5357880" y="3357720"/>
            <a:ext cx="2204640" cy="2989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6" name="Прямоугольник 1"/>
          <p:cNvSpPr/>
          <p:nvPr/>
        </p:nvSpPr>
        <p:spPr>
          <a:xfrm>
            <a:off x="3132000" y="476640"/>
            <a:ext cx="547236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Создание развивающего пространства  для самостоятельной деятельност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Улучшение экологического и эстетического состояния территории участка Д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Повышение функциональности оборудования на участ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Привлечение родителей воспитанников к работе по улучшению состояния территории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714240" y="571320"/>
            <a:ext cx="7857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793600" y="612360"/>
            <a:ext cx="576036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авильно организованные и продуманные прогулки помогают осуществлять задачи всестороннего развит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    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этого необходимо создать определенные условия, а именно установить оборудование для развития движений, которое бы имело привлекательный вид, было прочным, хорошо обработанным, закрепленным и соответствовало возрасту и силам детей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483640" y="908640"/>
            <a:ext cx="593964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Этапы осуществления деятельности по проект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.Подгото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бсудить с родителями дизайн по облагораживанию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ивлечь родителей к оформлению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брать необходимый бросовый материал для изготовления малых форм и выносного материала (пластиковые бутылки, шины, шишки, ракушк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иобретение семян и посадка рассады цве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214280" y="1500120"/>
            <a:ext cx="69292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m6-tub-ru.yandex.net/i?id=246235357-34-72&amp;n=21"/>
          <p:cNvPicPr/>
          <p:nvPr/>
        </p:nvPicPr>
        <p:blipFill>
          <a:blip r:embed="rId1"/>
          <a:stretch/>
        </p:blipFill>
        <p:spPr>
          <a:xfrm>
            <a:off x="6643800" y="5143680"/>
            <a:ext cx="19998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2" name="Прямоугольник 1"/>
          <p:cNvSpPr/>
          <p:nvPr/>
        </p:nvSpPr>
        <p:spPr>
          <a:xfrm>
            <a:off x="2843640" y="1052640"/>
            <a:ext cx="552564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Ι.Ос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ерекапывание клумб с привлечением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окраска клумб, забора и малых ф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ысадка рассады цветов на клум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оружение необходимых конструкций на учас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ΙΙ. Заключ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езентация уча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55640" y="1261800"/>
            <a:ext cx="8072280" cy="435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Предполагаемый результат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сестороннее развитие личности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овышение двигательной активности уровня физического развития до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оспитание человека, который проявляет заботу о своём здоровье и окружающе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овышение материальной технической базы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прочение связей «детский сад-родитель», «ребенок-роди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  <Words>288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37:58Z</dcterms:created>
  <dc:creator>инна</dc:creator>
  <dc:description/>
  <dc:language>en-US</dc:language>
  <cp:lastModifiedBy>Виктория Гасанбекова</cp:lastModifiedBy>
  <dcterms:modified xsi:type="dcterms:W3CDTF">2014-05-20T08:37:03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