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9C4B-258C-4D2A-8CBC-882E7C0874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FB5B-F02B-4DDD-85FB-6C224DEFD7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9CC-40D0-471A-86A3-B6680436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6B8-F829-4041-BFDA-3D760816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BB6-DB84-40EE-8CF3-8A81AC0E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6EA-9D3E-4644-A7DB-DB86A711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3748-EDD8-423B-9C33-7C148750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C46C-865C-495E-AC1A-90D4E280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CD01-9490-4DDC-A9F8-9854406E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6268-B52E-4558-AE3D-DD57EDD2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8A4C-CE61-49D6-8E4F-4887BF42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821D-92F1-4248-B11F-EA9B5652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ECA0-DB59-4197-A1CD-3C9AA533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C34-953E-489C-894B-AA290E76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C2C6-1BDF-472D-ADC9-49C8F4AC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D0D2-A40A-4AD0-9E9F-D8CE41E9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5A94-12C7-481F-A6CD-834DDAB2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145C-4907-43D3-ABA9-7A6B5625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EE48-EA8B-40A1-A36A-D79B2E2D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B25-CB50-4A13-B6DC-12453125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C7B-AEAA-4A6F-8BBC-440830E9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24A-8AFA-456C-B3E9-11362C78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F2E-557A-438E-856C-08660384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F9D-C2D6-4D1B-AB40-4D202805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740-F458-43C5-BD17-5DD86373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E33-984E-49BE-B437-020A8B8D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Bookman Old Style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  <a:ea typeface="宋体"/>
              </a:rPr>
              <a:t>Суворкина А.В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  <a:ea typeface="宋体"/>
              </a:rPr>
              <a:t>«МБОУ СОШ №8» г.Калуг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«Сделал, что мог, пусть другие сделают лучше».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5640" y="2491920"/>
            <a:ext cx="78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«Не знаю, чем я могу казаться миру, но самому себе я кажусь мальчиком, играющим у моря, которому удалось найти более красивый камешек, чем другие: но океан неизвестного лежит передо мной»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И. Ньютон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Сила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5486400" y="2286000"/>
            <a:ext cx="3276720" cy="14479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057400" y="2743200"/>
            <a:ext cx="281952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152280" y="1371600"/>
            <a:ext cx="129564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762120" y="1447920"/>
            <a:ext cx="0" cy="13716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895480" y="2133720"/>
            <a:ext cx="1143000" cy="609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8"/>
          <p:cNvSpPr/>
          <p:nvPr/>
        </p:nvSpPr>
        <p:spPr>
          <a:xfrm>
            <a:off x="533520" y="2819520"/>
            <a:ext cx="457200" cy="45720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 rot="1406400">
            <a:off x="6324480" y="2362320"/>
            <a:ext cx="1143000" cy="531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762120" y="3048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3462480" y="2462040"/>
            <a:ext cx="9360" cy="12668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6858000" y="266688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762120" y="2209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4"/>
          <p:cNvSpPr/>
          <p:nvPr/>
        </p:nvSpPr>
        <p:spPr>
          <a:xfrm>
            <a:off x="3462480" y="1442880"/>
            <a:ext cx="1440" cy="1290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5"/>
          <p:cNvSpPr/>
          <p:nvPr/>
        </p:nvSpPr>
        <p:spPr>
          <a:xfrm>
            <a:off x="6781680" y="1523880"/>
            <a:ext cx="552600" cy="1328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6"/>
          <p:cNvSpPr/>
          <p:nvPr/>
        </p:nvSpPr>
        <p:spPr>
          <a:xfrm>
            <a:off x="5843520" y="2433600"/>
            <a:ext cx="938160" cy="4190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7"/>
          <p:cNvGrpSpPr/>
          <p:nvPr/>
        </p:nvGrpSpPr>
        <p:grpSpPr>
          <a:xfrm>
            <a:off x="914400" y="2209680"/>
            <a:ext cx="345960" cy="569880"/>
            <a:chOff x="914400" y="2209680"/>
            <a:chExt cx="345960" cy="569880"/>
          </a:xfrm>
        </p:grpSpPr>
        <p:sp>
          <p:nvSpPr>
            <p:cNvPr id="200" name="WordArt 18"/>
            <p:cNvSpPr txBox="1"/>
            <p:nvPr/>
          </p:nvSpPr>
          <p:spPr>
            <a:xfrm>
              <a:off x="914400" y="231300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Т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914400" y="22096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"/>
          <p:cNvGrpSpPr/>
          <p:nvPr/>
        </p:nvGrpSpPr>
        <p:grpSpPr>
          <a:xfrm>
            <a:off x="838080" y="3429000"/>
            <a:ext cx="685800" cy="618840"/>
            <a:chOff x="838080" y="3429000"/>
            <a:chExt cx="685800" cy="618840"/>
          </a:xfrm>
        </p:grpSpPr>
        <p:sp>
          <p:nvSpPr>
            <p:cNvPr id="203" name="WordArt 21"/>
            <p:cNvSpPr txBox="1"/>
            <p:nvPr/>
          </p:nvSpPr>
          <p:spPr>
            <a:xfrm>
              <a:off x="838080" y="3581280"/>
              <a:ext cx="6858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>
              <a:off x="838080" y="34290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23"/>
          <p:cNvGrpSpPr/>
          <p:nvPr/>
        </p:nvGrpSpPr>
        <p:grpSpPr>
          <a:xfrm>
            <a:off x="7467480" y="1219320"/>
            <a:ext cx="345960" cy="569880"/>
            <a:chOff x="7467480" y="1219320"/>
            <a:chExt cx="345960" cy="569880"/>
          </a:xfrm>
        </p:grpSpPr>
        <p:sp>
          <p:nvSpPr>
            <p:cNvPr id="206" name="WordArt 24"/>
            <p:cNvSpPr txBox="1"/>
            <p:nvPr/>
          </p:nvSpPr>
          <p:spPr>
            <a:xfrm>
              <a:off x="7467480" y="132264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207" name="Line 25"/>
            <p:cNvSpPr/>
            <p:nvPr/>
          </p:nvSpPr>
          <p:spPr>
            <a:xfrm>
              <a:off x="7467480" y="121932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6"/>
          <p:cNvGrpSpPr/>
          <p:nvPr/>
        </p:nvGrpSpPr>
        <p:grpSpPr>
          <a:xfrm>
            <a:off x="5791320" y="1725480"/>
            <a:ext cx="457200" cy="569880"/>
            <a:chOff x="5791320" y="1725480"/>
            <a:chExt cx="457200" cy="569880"/>
          </a:xfrm>
        </p:grpSpPr>
        <p:sp>
          <p:nvSpPr>
            <p:cNvPr id="209" name="WordArt 27"/>
            <p:cNvSpPr txBox="1"/>
            <p:nvPr/>
          </p:nvSpPr>
          <p:spPr>
            <a:xfrm>
              <a:off x="5791320" y="1828800"/>
              <a:ext cx="4572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р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210" name="Line 28"/>
            <p:cNvSpPr/>
            <p:nvPr/>
          </p:nvSpPr>
          <p:spPr>
            <a:xfrm>
              <a:off x="5791320" y="17254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9"/>
          <p:cNvGrpSpPr/>
          <p:nvPr/>
        </p:nvGrpSpPr>
        <p:grpSpPr>
          <a:xfrm>
            <a:off x="7010280" y="3809880"/>
            <a:ext cx="685800" cy="619200"/>
            <a:chOff x="7010280" y="3809880"/>
            <a:chExt cx="685800" cy="619200"/>
          </a:xfrm>
        </p:grpSpPr>
        <p:sp>
          <p:nvSpPr>
            <p:cNvPr id="212" name="WordArt 30"/>
            <p:cNvSpPr txBox="1"/>
            <p:nvPr/>
          </p:nvSpPr>
          <p:spPr>
            <a:xfrm>
              <a:off x="7010280" y="3962160"/>
              <a:ext cx="685800" cy="46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213" name="Line 31"/>
            <p:cNvSpPr/>
            <p:nvPr/>
          </p:nvSpPr>
          <p:spPr>
            <a:xfrm>
              <a:off x="7010280" y="38098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32"/>
          <p:cNvGrpSpPr/>
          <p:nvPr/>
        </p:nvGrpSpPr>
        <p:grpSpPr>
          <a:xfrm>
            <a:off x="3733920" y="1295280"/>
            <a:ext cx="345960" cy="569880"/>
            <a:chOff x="3733920" y="1295280"/>
            <a:chExt cx="345960" cy="569880"/>
          </a:xfrm>
        </p:grpSpPr>
        <p:sp>
          <p:nvSpPr>
            <p:cNvPr id="215" name="WordArt 33"/>
            <p:cNvSpPr txBox="1"/>
            <p:nvPr/>
          </p:nvSpPr>
          <p:spPr>
            <a:xfrm>
              <a:off x="3733920" y="139860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216" name="Line 34"/>
            <p:cNvSpPr/>
            <p:nvPr/>
          </p:nvSpPr>
          <p:spPr>
            <a:xfrm>
              <a:off x="3733920" y="12952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35"/>
          <p:cNvGrpSpPr/>
          <p:nvPr/>
        </p:nvGrpSpPr>
        <p:grpSpPr>
          <a:xfrm>
            <a:off x="3581280" y="3352680"/>
            <a:ext cx="685800" cy="618840"/>
            <a:chOff x="3581280" y="3352680"/>
            <a:chExt cx="685800" cy="618840"/>
          </a:xfrm>
        </p:grpSpPr>
        <p:sp>
          <p:nvSpPr>
            <p:cNvPr id="218" name="WordArt 36"/>
            <p:cNvSpPr txBox="1"/>
            <p:nvPr/>
          </p:nvSpPr>
          <p:spPr>
            <a:xfrm>
              <a:off x="3581280" y="3504960"/>
              <a:ext cx="6858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219" name="Line 37"/>
            <p:cNvSpPr/>
            <p:nvPr/>
          </p:nvSpPr>
          <p:spPr>
            <a:xfrm>
              <a:off x="3581280" y="33526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0" name="Object 38"/>
              <p:cNvSpPr txBox="1"/>
              <p:nvPr/>
            </p:nvSpPr>
            <p:spPr>
              <a:xfrm>
                <a:off x="1763640" y="4508640"/>
                <a:ext cx="482616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</m:nary>
                        <m:r>
                          <m:t xml:space="preserve">,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число сил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1" name="WordArt 41"/>
          <p:cNvSpPr txBox="1"/>
          <p:nvPr/>
        </p:nvSpPr>
        <p:spPr>
          <a:xfrm>
            <a:off x="7086600" y="4876920"/>
            <a:ext cx="1905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8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Цель урока: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0" lang="ru-RU" sz="4000" spc="-1" strike="noStrike">
                <a:solidFill>
                  <a:srgbClr val="ffff00"/>
                </a:solidFill>
                <a:latin typeface="Bookman Old Style"/>
              </a:rPr>
              <a:t>УСТАНОВИТЬ ЗАВИСИМОСТЬ</a:t>
            </a:r>
            <a:r>
              <a:rPr b="0" lang="ru-RU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         </a:t>
            </a:r>
            <a:r>
              <a:rPr b="0" lang="ru-RU" sz="4000" spc="-1" strike="noStrike">
                <a:solidFill>
                  <a:srgbClr val="ffff00"/>
                </a:solidFill>
                <a:latin typeface="Bookman Old Style"/>
              </a:rPr>
              <a:t>УСКОРЕНИЯ ОТ СИЛЫ, ДЕЙСТВУЮЩЕЙ НА ТЕЛО,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Bookman Old Style"/>
              </a:rPr>
              <a:t>И МАССЫ ЭТОГО ТЕЛА.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93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Зависимость ускорения тела от его массы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Проверка справедливости соотношений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872000" y="1828800"/>
            <a:ext cx="141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  <a:ea typeface="宋体"/>
              </a:rPr>
              <a:t>a ~ 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4419720" y="1447920"/>
            <a:ext cx="2286000" cy="1523880"/>
            <a:chOff x="4419720" y="1447920"/>
            <a:chExt cx="2286000" cy="1523880"/>
          </a:xfrm>
        </p:grpSpPr>
        <p:sp>
          <p:nvSpPr>
            <p:cNvPr id="229" name="Text Box 5"/>
            <p:cNvSpPr/>
            <p:nvPr/>
          </p:nvSpPr>
          <p:spPr>
            <a:xfrm>
              <a:off x="4419720" y="1447920"/>
              <a:ext cx="1100160" cy="1523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Bookman Old Style"/>
                  <a:ea typeface="宋体"/>
                </a:rPr>
                <a:t>a ~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6"/>
                <p:cNvSpPr txBox="1"/>
                <p:nvPr/>
              </p:nvSpPr>
              <p:spPr>
                <a:xfrm>
                  <a:off x="5486400" y="1447920"/>
                  <a:ext cx="121932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Text Box 7"/>
          <p:cNvSpPr/>
          <p:nvPr/>
        </p:nvSpPr>
        <p:spPr>
          <a:xfrm>
            <a:off x="186120" y="3121200"/>
            <a:ext cx="862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Движение тележки считаем равноускорен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без начальной скорости, поэтому ускорение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ычислять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8"/>
              <p:cNvSpPr txBox="1"/>
              <p:nvPr/>
            </p:nvSpPr>
            <p:spPr>
              <a:xfrm>
                <a:off x="3276720" y="4419720"/>
                <a:ext cx="236196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Второй закон Ньютона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В инерциальной системе отсчета ускорение тела прямо пропорционально силе, приложенной к телу и обратно пропорционально его массе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3778200" y="4221000"/>
                <a:ext cx="244944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Второй закон Ньютона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В инерциальной системе отсчета ускорение тела прямо пропорционально равнодействующей сил, приложенных к телу и обратно пропорционально его массе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1692360" y="4221000"/>
                <a:ext cx="25146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р</m:t>
                                </m:r>
                              </m:sub>
                            </m:sSub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5"/>
              <p:cNvSpPr txBox="1"/>
              <p:nvPr/>
            </p:nvSpPr>
            <p:spPr>
              <a:xfrm>
                <a:off x="5867280" y="3933720"/>
                <a:ext cx="2044800" cy="26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м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Н</m:t>
                            </m:r>
                          </m:e>
                        </m:d>
                      </m:e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Как работать с формулой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1981080" y="1752480"/>
            <a:ext cx="5029200" cy="4114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3048120" y="400536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"/>
          <p:cNvSpPr/>
          <p:nvPr/>
        </p:nvSpPr>
        <p:spPr>
          <a:xfrm flipV="1">
            <a:off x="4495680" y="411480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6"/>
          <p:cNvSpPr txBox="1"/>
          <p:nvPr/>
        </p:nvSpPr>
        <p:spPr>
          <a:xfrm>
            <a:off x="3962520" y="274320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R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45" name="WordArt 7"/>
          <p:cNvSpPr txBox="1"/>
          <p:nvPr/>
        </p:nvSpPr>
        <p:spPr>
          <a:xfrm>
            <a:off x="3124080" y="441972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m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4952880" y="441972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a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47" name="Стрелка вправо 8"/>
          <p:cNvSpPr/>
          <p:nvPr/>
        </p:nvSpPr>
        <p:spPr>
          <a:xfrm>
            <a:off x="4211640" y="2349360"/>
            <a:ext cx="647640" cy="33984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право 9"/>
          <p:cNvSpPr/>
          <p:nvPr/>
        </p:nvSpPr>
        <p:spPr>
          <a:xfrm>
            <a:off x="5219640" y="4076640"/>
            <a:ext cx="647640" cy="34128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Границы применимости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Для макроскопических тел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од телом подразумевается материальная точка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Движение материальной точки рассматривается в инерциальной системе отсчета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Для скоростей, много меньших скорости света в вакууме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Особенности второго закона Ньютона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Закон справедлив для любых сил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ила является причиной изменения скорости и определяет ускорение тела    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на тело действует несколько сил, то результат действия – сила, равная геометрической сумме приложенных сил – равнодействующа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ектор ускорения сонаправлен с вектором равнодействующей силы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равнодействующая сила равна нулю, то ускорение тела равно нулю, т.е. получаем первый закон Ньютон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Причина ускорения –  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   равнодействующая всех сил.</a:t>
            </a:r>
            <a:endParaRPr b="1" lang="en-US" sz="3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ектор ускорения и вектор силы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сегда сонаправлены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Bookman Old Style"/>
              </a:rPr>
              <a:t>a    R</a:t>
            </a:r>
            <a:endParaRPr b="0" lang="en-US" sz="6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3276720" y="38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486108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 flipV="1">
            <a:off x="3995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5"/>
          <p:cNvSpPr/>
          <p:nvPr/>
        </p:nvSpPr>
        <p:spPr>
          <a:xfrm flipV="1">
            <a:off x="435600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Второй закон Ньютона</a:t>
            </a:r>
            <a:endParaRPr b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940360" y="4147560"/>
            <a:ext cx="18288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Заполните пропуски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д действием постоянной силы тело движется …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при неизменной массе тела увеличить силу в 2 раза, то ускорение …                в … раз(а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массу тела уменьшить в 4 раза, а силу, действующую на тело, увеличить в 2 раза, то ускорение …                  в … раз(а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силу увеличить в 3 раза, а массу …             , то ускорение останется неизменным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940680" y="198900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авноускор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4308120" y="278136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вели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6603480" y="2781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2507760" y="393372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вели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874760" y="39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6835680" y="43657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3 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Закреплен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Тест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 1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 2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787640" y="227628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1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4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7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0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1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4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Закрепление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№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1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акую скорость приобретает тело массой 3кг под действием силы, равной 9 Н, по истечении 5 с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№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оезд массой 500 т, трогаясь с места, через 25 с набрал скорость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18 км/ч. Определите силу тяги.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Домашнее задание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§ 11, вопросы после параграфа, Упр.11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Блиц-опрос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Что изучает динамика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акое движение называется движением по инерции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акую систему отсчета называют инерциальной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формулируйте первый закон Ньютона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3203640" y="1125360"/>
            <a:ext cx="1863720" cy="622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3409920" y="1542960"/>
            <a:ext cx="414360" cy="4161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4446720" y="1542960"/>
            <a:ext cx="414360" cy="4161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8"/>
          <p:cNvSpPr/>
          <p:nvPr/>
        </p:nvSpPr>
        <p:spPr>
          <a:xfrm>
            <a:off x="5032440" y="506520"/>
            <a:ext cx="507960" cy="990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9"/>
          <p:cNvSpPr/>
          <p:nvPr/>
        </p:nvSpPr>
        <p:spPr>
          <a:xfrm>
            <a:off x="5043600" y="917640"/>
            <a:ext cx="461880" cy="1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3"/>
          <p:cNvSpPr/>
          <p:nvPr/>
        </p:nvSpPr>
        <p:spPr>
          <a:xfrm>
            <a:off x="5030640" y="352440"/>
            <a:ext cx="1168560" cy="771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971640" y="1989000"/>
            <a:ext cx="7632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5"/>
          <p:cNvSpPr/>
          <p:nvPr/>
        </p:nvSpPr>
        <p:spPr>
          <a:xfrm>
            <a:off x="5275440" y="920880"/>
            <a:ext cx="125280" cy="2127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5275440" y="1125360"/>
            <a:ext cx="129960" cy="4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9"/>
          <p:cNvSpPr/>
          <p:nvPr/>
        </p:nvSpPr>
        <p:spPr>
          <a:xfrm>
            <a:off x="3274920" y="4294080"/>
            <a:ext cx="1863720" cy="622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0"/>
          <p:cNvSpPr/>
          <p:nvPr/>
        </p:nvSpPr>
        <p:spPr>
          <a:xfrm>
            <a:off x="3481560" y="4711680"/>
            <a:ext cx="41400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1"/>
          <p:cNvSpPr/>
          <p:nvPr/>
        </p:nvSpPr>
        <p:spPr>
          <a:xfrm>
            <a:off x="4518000" y="4711680"/>
            <a:ext cx="41436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42"/>
          <p:cNvSpPr/>
          <p:nvPr/>
        </p:nvSpPr>
        <p:spPr>
          <a:xfrm>
            <a:off x="5103720" y="3675240"/>
            <a:ext cx="507960" cy="990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43"/>
          <p:cNvSpPr/>
          <p:nvPr/>
        </p:nvSpPr>
        <p:spPr>
          <a:xfrm>
            <a:off x="5114880" y="4086360"/>
            <a:ext cx="461880" cy="1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44"/>
          <p:cNvSpPr/>
          <p:nvPr/>
        </p:nvSpPr>
        <p:spPr>
          <a:xfrm>
            <a:off x="5102280" y="3521160"/>
            <a:ext cx="1168200" cy="771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5"/>
          <p:cNvSpPr/>
          <p:nvPr/>
        </p:nvSpPr>
        <p:spPr>
          <a:xfrm>
            <a:off x="1042920" y="5157720"/>
            <a:ext cx="756144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46"/>
          <p:cNvSpPr/>
          <p:nvPr/>
        </p:nvSpPr>
        <p:spPr>
          <a:xfrm>
            <a:off x="5346720" y="4089240"/>
            <a:ext cx="125280" cy="2127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7"/>
          <p:cNvSpPr/>
          <p:nvPr/>
        </p:nvSpPr>
        <p:spPr>
          <a:xfrm>
            <a:off x="5346720" y="4294080"/>
            <a:ext cx="130320" cy="4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6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8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0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2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9"/>
          <p:cNvSpPr/>
          <p:nvPr/>
        </p:nvSpPr>
        <p:spPr>
          <a:xfrm>
            <a:off x="3059280" y="2833560"/>
            <a:ext cx="1863720" cy="622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0"/>
          <p:cNvSpPr/>
          <p:nvPr/>
        </p:nvSpPr>
        <p:spPr>
          <a:xfrm>
            <a:off x="3265560" y="3251160"/>
            <a:ext cx="41436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1"/>
          <p:cNvSpPr/>
          <p:nvPr/>
        </p:nvSpPr>
        <p:spPr>
          <a:xfrm>
            <a:off x="4302000" y="3251160"/>
            <a:ext cx="41436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2"/>
          <p:cNvSpPr/>
          <p:nvPr/>
        </p:nvSpPr>
        <p:spPr>
          <a:xfrm>
            <a:off x="4888080" y="2214720"/>
            <a:ext cx="507960" cy="990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3"/>
          <p:cNvSpPr/>
          <p:nvPr/>
        </p:nvSpPr>
        <p:spPr>
          <a:xfrm>
            <a:off x="4898880" y="2625840"/>
            <a:ext cx="462240" cy="1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4"/>
          <p:cNvSpPr/>
          <p:nvPr/>
        </p:nvSpPr>
        <p:spPr>
          <a:xfrm>
            <a:off x="4886280" y="2060640"/>
            <a:ext cx="1168560" cy="771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826920" y="3697200"/>
            <a:ext cx="756144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6"/>
          <p:cNvSpPr/>
          <p:nvPr/>
        </p:nvSpPr>
        <p:spPr>
          <a:xfrm>
            <a:off x="5130720" y="2629080"/>
            <a:ext cx="125640" cy="2124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7"/>
          <p:cNvSpPr/>
          <p:nvPr/>
        </p:nvSpPr>
        <p:spPr>
          <a:xfrm>
            <a:off x="5130720" y="2833560"/>
            <a:ext cx="130320" cy="4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1"/>
          <p:cNvSpPr/>
          <p:nvPr/>
        </p:nvSpPr>
        <p:spPr>
          <a:xfrm>
            <a:off x="4500720" y="1052640"/>
            <a:ext cx="1374480" cy="460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2"/>
          <p:cNvSpPr/>
          <p:nvPr/>
        </p:nvSpPr>
        <p:spPr>
          <a:xfrm>
            <a:off x="4653000" y="136224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3"/>
          <p:cNvSpPr/>
          <p:nvPr/>
        </p:nvSpPr>
        <p:spPr>
          <a:xfrm>
            <a:off x="5416560" y="1362240"/>
            <a:ext cx="3063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4"/>
          <p:cNvSpPr/>
          <p:nvPr/>
        </p:nvSpPr>
        <p:spPr>
          <a:xfrm>
            <a:off x="4164120" y="549360"/>
            <a:ext cx="858600" cy="498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179280" y="1700280"/>
            <a:ext cx="8713800" cy="158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817720" y="1052640"/>
            <a:ext cx="1376280" cy="460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7"/>
          <p:cNvSpPr/>
          <p:nvPr/>
        </p:nvSpPr>
        <p:spPr>
          <a:xfrm>
            <a:off x="2971800" y="136224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8"/>
          <p:cNvSpPr/>
          <p:nvPr/>
        </p:nvSpPr>
        <p:spPr>
          <a:xfrm>
            <a:off x="3735360" y="1362240"/>
            <a:ext cx="3063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9"/>
          <p:cNvSpPr/>
          <p:nvPr/>
        </p:nvSpPr>
        <p:spPr>
          <a:xfrm>
            <a:off x="4168800" y="596880"/>
            <a:ext cx="355680" cy="714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0"/>
          <p:cNvSpPr/>
          <p:nvPr/>
        </p:nvSpPr>
        <p:spPr>
          <a:xfrm>
            <a:off x="4184640" y="901800"/>
            <a:ext cx="325440" cy="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1"/>
          <p:cNvSpPr/>
          <p:nvPr/>
        </p:nvSpPr>
        <p:spPr>
          <a:xfrm>
            <a:off x="4346640" y="903240"/>
            <a:ext cx="93600" cy="1555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4346640" y="1052640"/>
            <a:ext cx="96840" cy="30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3"/>
          <p:cNvSpPr/>
          <p:nvPr/>
        </p:nvSpPr>
        <p:spPr>
          <a:xfrm>
            <a:off x="4194000" y="1512720"/>
            <a:ext cx="30672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4"/>
          <p:cNvSpPr/>
          <p:nvPr/>
        </p:nvSpPr>
        <p:spPr>
          <a:xfrm>
            <a:off x="4500720" y="3213000"/>
            <a:ext cx="13744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5"/>
          <p:cNvSpPr/>
          <p:nvPr/>
        </p:nvSpPr>
        <p:spPr>
          <a:xfrm>
            <a:off x="46530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6"/>
          <p:cNvSpPr/>
          <p:nvPr/>
        </p:nvSpPr>
        <p:spPr>
          <a:xfrm>
            <a:off x="54165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7"/>
          <p:cNvSpPr/>
          <p:nvPr/>
        </p:nvSpPr>
        <p:spPr>
          <a:xfrm>
            <a:off x="4164120" y="2709720"/>
            <a:ext cx="858600" cy="49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179280" y="3860640"/>
            <a:ext cx="8713800" cy="158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2817720" y="3213000"/>
            <a:ext cx="13762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0"/>
          <p:cNvSpPr/>
          <p:nvPr/>
        </p:nvSpPr>
        <p:spPr>
          <a:xfrm>
            <a:off x="29718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1"/>
          <p:cNvSpPr/>
          <p:nvPr/>
        </p:nvSpPr>
        <p:spPr>
          <a:xfrm>
            <a:off x="37353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2"/>
          <p:cNvSpPr/>
          <p:nvPr/>
        </p:nvSpPr>
        <p:spPr>
          <a:xfrm>
            <a:off x="4168800" y="2757600"/>
            <a:ext cx="355680" cy="714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3"/>
          <p:cNvSpPr/>
          <p:nvPr/>
        </p:nvSpPr>
        <p:spPr>
          <a:xfrm>
            <a:off x="4184640" y="3062160"/>
            <a:ext cx="325440" cy="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4"/>
          <p:cNvSpPr/>
          <p:nvPr/>
        </p:nvSpPr>
        <p:spPr>
          <a:xfrm>
            <a:off x="4346640" y="3063960"/>
            <a:ext cx="93600" cy="1555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5"/>
          <p:cNvSpPr/>
          <p:nvPr/>
        </p:nvSpPr>
        <p:spPr>
          <a:xfrm>
            <a:off x="4346640" y="3213000"/>
            <a:ext cx="96840" cy="30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6"/>
          <p:cNvSpPr/>
          <p:nvPr/>
        </p:nvSpPr>
        <p:spPr>
          <a:xfrm>
            <a:off x="4194000" y="3673440"/>
            <a:ext cx="30672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7"/>
          <p:cNvSpPr/>
          <p:nvPr/>
        </p:nvSpPr>
        <p:spPr>
          <a:xfrm>
            <a:off x="4500720" y="5302080"/>
            <a:ext cx="13744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8"/>
          <p:cNvSpPr/>
          <p:nvPr/>
        </p:nvSpPr>
        <p:spPr>
          <a:xfrm>
            <a:off x="4653000" y="5611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9"/>
          <p:cNvSpPr/>
          <p:nvPr/>
        </p:nvSpPr>
        <p:spPr>
          <a:xfrm>
            <a:off x="5416560" y="561168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40"/>
          <p:cNvSpPr/>
          <p:nvPr/>
        </p:nvSpPr>
        <p:spPr>
          <a:xfrm>
            <a:off x="4164120" y="4799160"/>
            <a:ext cx="858600" cy="498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179280" y="5950080"/>
            <a:ext cx="8713800" cy="15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2"/>
          <p:cNvSpPr/>
          <p:nvPr/>
        </p:nvSpPr>
        <p:spPr>
          <a:xfrm>
            <a:off x="2817720" y="5302080"/>
            <a:ext cx="13762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3"/>
          <p:cNvSpPr/>
          <p:nvPr/>
        </p:nvSpPr>
        <p:spPr>
          <a:xfrm>
            <a:off x="2971800" y="5611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4"/>
          <p:cNvSpPr/>
          <p:nvPr/>
        </p:nvSpPr>
        <p:spPr>
          <a:xfrm>
            <a:off x="3735360" y="561168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5"/>
          <p:cNvSpPr/>
          <p:nvPr/>
        </p:nvSpPr>
        <p:spPr>
          <a:xfrm>
            <a:off x="4168800" y="4846680"/>
            <a:ext cx="355680" cy="714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6"/>
          <p:cNvSpPr/>
          <p:nvPr/>
        </p:nvSpPr>
        <p:spPr>
          <a:xfrm>
            <a:off x="4184640" y="5151600"/>
            <a:ext cx="325440" cy="2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7"/>
          <p:cNvSpPr/>
          <p:nvPr/>
        </p:nvSpPr>
        <p:spPr>
          <a:xfrm>
            <a:off x="4346640" y="5153040"/>
            <a:ext cx="93600" cy="1555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8"/>
          <p:cNvSpPr/>
          <p:nvPr/>
        </p:nvSpPr>
        <p:spPr>
          <a:xfrm>
            <a:off x="4346640" y="5302080"/>
            <a:ext cx="96840" cy="30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9"/>
          <p:cNvSpPr/>
          <p:nvPr/>
        </p:nvSpPr>
        <p:spPr>
          <a:xfrm>
            <a:off x="4194000" y="5762520"/>
            <a:ext cx="30672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4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5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0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5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6" dur="25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" dur="25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1"/>
          <p:cNvSpPr/>
          <p:nvPr/>
        </p:nvSpPr>
        <p:spPr>
          <a:xfrm>
            <a:off x="4500720" y="3213000"/>
            <a:ext cx="13744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46530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54165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4"/>
          <p:cNvSpPr/>
          <p:nvPr/>
        </p:nvSpPr>
        <p:spPr>
          <a:xfrm>
            <a:off x="4164120" y="2709720"/>
            <a:ext cx="858600" cy="49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179280" y="3846600"/>
            <a:ext cx="8713800" cy="158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2817720" y="3213000"/>
            <a:ext cx="13762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29718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8"/>
          <p:cNvSpPr/>
          <p:nvPr/>
        </p:nvSpPr>
        <p:spPr>
          <a:xfrm>
            <a:off x="37353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9"/>
          <p:cNvSpPr/>
          <p:nvPr/>
        </p:nvSpPr>
        <p:spPr>
          <a:xfrm>
            <a:off x="4168800" y="2757600"/>
            <a:ext cx="355680" cy="714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20"/>
          <p:cNvSpPr/>
          <p:nvPr/>
        </p:nvSpPr>
        <p:spPr>
          <a:xfrm>
            <a:off x="4184640" y="3062160"/>
            <a:ext cx="325440" cy="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1"/>
          <p:cNvSpPr/>
          <p:nvPr/>
        </p:nvSpPr>
        <p:spPr>
          <a:xfrm>
            <a:off x="4346640" y="3063960"/>
            <a:ext cx="93600" cy="1555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4346640" y="3213000"/>
            <a:ext cx="96840" cy="30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3"/>
          <p:cNvSpPr/>
          <p:nvPr/>
        </p:nvSpPr>
        <p:spPr>
          <a:xfrm>
            <a:off x="4194000" y="3673440"/>
            <a:ext cx="30672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8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9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0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2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Сила -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оличественная мера действия тел друг на друга, в результате которого тела получают ускорения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1676520" y="3352680"/>
            <a:ext cx="761760" cy="1255680"/>
            <a:chOff x="1676520" y="3352680"/>
            <a:chExt cx="761760" cy="1255680"/>
          </a:xfrm>
        </p:grpSpPr>
        <p:sp>
          <p:nvSpPr>
            <p:cNvPr id="178" name="WordArt 5"/>
            <p:cNvSpPr txBox="1"/>
            <p:nvPr/>
          </p:nvSpPr>
          <p:spPr>
            <a:xfrm>
              <a:off x="1676520" y="3581280"/>
              <a:ext cx="761760" cy="102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Bookman Old Style"/>
                </a:rPr>
                <a:t>F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1676520" y="3352680"/>
              <a:ext cx="7617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WordArt 7"/>
          <p:cNvSpPr txBox="1"/>
          <p:nvPr/>
        </p:nvSpPr>
        <p:spPr>
          <a:xfrm>
            <a:off x="3492360" y="3429000"/>
            <a:ext cx="3581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[ F ] = 1Н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2895480" y="4952880"/>
            <a:ext cx="3962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ила опреде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Моду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апра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Точкой 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7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Равнодействующая сил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83" name="Приложение1.avi" descr=""/>
          <p:cNvPicPr/>
          <p:nvPr/>
        </p:nvPicPr>
        <p:blipFill>
          <a:blip r:embed="rId1"/>
          <a:stretch/>
        </p:blipFill>
        <p:spPr>
          <a:xfrm>
            <a:off x="1042920" y="966960"/>
            <a:ext cx="720108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7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9:12:24Z</dcterms:created>
  <dc:creator>Алла</dc:creator>
  <dc:description/>
  <dc:language>en-US</dc:language>
  <cp:lastModifiedBy>ADMIN</cp:lastModifiedBy>
  <dcterms:modified xsi:type="dcterms:W3CDTF">2017-10-16T11:02:47Z</dcterms:modified>
  <cp:revision>49</cp:revision>
  <dc:subject/>
  <dc:title>Второй закон Ньютона</dc:title>
</cp:coreProperties>
</file>