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6DA-E4A7-4787-9C12-7C0DCCDF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96C-8E41-488B-A2B9-6BDF44DE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C82-F449-441B-BDD6-DB64614F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030-B4BF-4F4D-9122-2A966145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1CAC-A2FF-4DC7-9C83-16800DA5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368B-BE4E-43B2-A6A3-BAB3165B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1027-FF35-4D5C-9390-DBA8B258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98F7-0CA5-4831-8A7B-32056ACD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4CBF-40F2-41EF-A21C-8C46527A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1D37-92CC-4E15-B7C9-6B9B59E4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D9D2-461C-43F4-80E6-F5CC5E54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1A1-4935-4E71-8440-91378D46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4145-6C73-485B-ABBC-A6D1B4D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7FCF-0722-4846-8AA3-8667C917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7779-F3B8-49AE-B046-9E1B6BE0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565F-FE4D-459C-AD55-4D7D9774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29DA-57E9-48EA-9E65-2549AA45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581-CABC-48AC-833B-EA51DB1B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5D4-6FC6-4866-9DA9-CA7CF418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05B-3309-4E52-91F6-C1A1B414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01F-A86E-46C5-A0D8-2E3B6E6D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7E8-AEFC-49B9-A758-D641CCCE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B05-7AD7-4C6E-A296-6773C6E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8F7-89A6-4C22-BF6F-C80EDCF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D3D-D70E-4DEE-A572-4DED4B6E05F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38CB-4D62-4905-9533-D7BAEE615BC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071440" y="3643200"/>
            <a:ext cx="6615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читель физической  культур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ебедева Евгения Валер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143080" y="6072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6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1258920" y="189000"/>
            <a:ext cx="6913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Муниципальное бюджетное общеобразовательное учреждение «Школа №179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1547640" y="1268280"/>
            <a:ext cx="6615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Здоровьесберегающие технологии на уроках физическ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7120" y="285840"/>
            <a:ext cx="83296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ктуальность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Здоровье детей – забота общая. Последние статистические данные медицинских осмотров в Российских школах свидетельствуют о том, что за период обучения детей в школе состояние их здоровья ухудшается в 4 - 5 раз, поэтому проблемы сохранения здоровья учащихся сегодня очень актуаль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Рисунок 3" descr="3554.jpg"/>
          <p:cNvPicPr/>
          <p:nvPr/>
        </p:nvPicPr>
        <p:blipFill>
          <a:blip r:embed="rId1"/>
          <a:stretch/>
        </p:blipFill>
        <p:spPr>
          <a:xfrm>
            <a:off x="5072040" y="3429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375.jpg"/>
          <p:cNvPicPr/>
          <p:nvPr/>
        </p:nvPicPr>
        <p:blipFill>
          <a:blip r:embed="rId2"/>
          <a:stretch/>
        </p:blipFill>
        <p:spPr>
          <a:xfrm>
            <a:off x="1357200" y="3500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32968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Цель  работы  учителя физической культуры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just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еспечить каждому ученику высокий уровень реального здоровья, вооружив его необходимым багажом знаний, умений и навыков, необходимых для ведения здорового образа жизни, и воспитав у него культуру здоровья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Рисунок 3" descr="lifestyle.jpg"/>
          <p:cNvPicPr/>
          <p:nvPr/>
        </p:nvPicPr>
        <p:blipFill>
          <a:blip r:embed="rId1"/>
          <a:stretch/>
        </p:blipFill>
        <p:spPr>
          <a:xfrm>
            <a:off x="6072120" y="3708360"/>
            <a:ext cx="2517840" cy="2863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22.jpg"/>
          <p:cNvPicPr/>
          <p:nvPr/>
        </p:nvPicPr>
        <p:blipFill>
          <a:blip r:embed="rId2"/>
          <a:stretch/>
        </p:blipFill>
        <p:spPr>
          <a:xfrm>
            <a:off x="1071720" y="3902040"/>
            <a:ext cx="4286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57120" y="428400"/>
            <a:ext cx="832968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ыполнение д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остигается решением следующих задач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 сформировать устойчивый интерес и потребность к систематическим  занятиям физической культурой и спорто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 повысить уровень физической подготовленности школь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 решаю эти задачи, используя классно-урочную и внеклассную формы рабо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85840" y="428400"/>
            <a:ext cx="832968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физической культуры проводятся 3 раза в неделю по 45 мин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уроках физкультуры я использую различные методы организации урока, планирую уроки, с применением различных средств и мет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 процессе обучения,  использую дифференцированный подход, учитывая возраст, пол, медицинские показатели, решая этим весь комплекс задач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тельных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здоровительных и воспитатель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Рисунок 3" descr="1321952841_lechebnaya-fizkultura.jpg"/>
          <p:cNvPicPr/>
          <p:nvPr/>
        </p:nvPicPr>
        <p:blipFill>
          <a:blip r:embed="rId1"/>
          <a:stretch/>
        </p:blipFill>
        <p:spPr>
          <a:xfrm>
            <a:off x="6072120" y="485784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pedotdelenie.preview.JPG"/>
          <p:cNvPicPr/>
          <p:nvPr/>
        </p:nvPicPr>
        <p:blipFill>
          <a:blip r:embed="rId2"/>
          <a:stretch/>
        </p:blipFill>
        <p:spPr>
          <a:xfrm>
            <a:off x="3143160" y="4946760"/>
            <a:ext cx="25005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85840" y="357120"/>
            <a:ext cx="840096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3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ля решения образовательных, оздоровительных и воспитательных задач уро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ю и совершенствую у учащихся жизненно важные навыки и умения в ходьбе, беге, прыжках и метани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аю подвижным играм и упражнениям базовых видов спорта, (гимнастики, легкой атлетики, спортивных игр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аю технике двигательных действий в базовых видах спорт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ю физические качества учащихся, обучаю способам контроля за состоянием их здоровья (образовательные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13840" y="285840"/>
            <a:ext cx="847260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ю оптимальную нагрузк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ожу инструктаж по технике безопас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уществляю контроль за физическим состоянием ученик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ежу за моторной плотностью уро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теоретических занятиях рассматриваю вопросы валеологии и здорового образа жизни (оздоровительные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ываю чувства товарищества на занятиях в группах, команда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щи и взаимопомощи в работе в парах, тройк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ю волевые качества уче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285840"/>
            <a:ext cx="832968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уя у учащихся интерес и  потребность к систематическим занятиям физкультурой и спортом, стремление к укреплению здоровья, мы получаем результаты, которые можно сложить в следующую цепочку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величение  двигательной активности школьников,  способствует улучшению их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ые дети показывают высокий уровень успеваемости на уроках как физической культуры так и других предметов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7:14:52Z</dcterms:created>
  <dc:creator>Customer</dc:creator>
  <dc:description/>
  <dc:language>en-US</dc:language>
  <cp:lastModifiedBy>Евгения Лебедева</cp:lastModifiedBy>
  <dcterms:modified xsi:type="dcterms:W3CDTF">2017-10-28T18:20:24Z</dcterms:modified>
  <cp:revision>16</cp:revision>
  <dc:subject/>
  <dc:title>Слайд 1</dc:title>
</cp:coreProperties>
</file>