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73E-600F-49F6-B257-05393ACA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6E6-BDFB-4C0D-B381-0A32D920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9F5-C2F7-45F1-A283-D39588E1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C8D-32AB-4AA5-AC2F-2988CBF0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313B-3340-444D-8A03-B62A992F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B95E-3CE2-41E0-B1DB-FAAD5A40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0123-0621-4142-B285-411D9E94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2A0F-CE96-49B9-84B4-E8942CA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D507-9F78-4034-910E-34224731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4003-FF61-409A-BB65-B0125AFD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078-A5A1-40C6-8764-CCEBBE05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322-BC77-4815-A803-07FD1C04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8E10-DBF4-411C-B319-B53BCE0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4748-ED24-414B-8E22-DC4BD3F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9DB4-0114-4B70-83E4-0379F16C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FAE-C5BC-4A06-819D-D7167BFC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FB53-86B6-4E3F-99F8-9357DA07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E80-16E4-4E76-8745-CB58931F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099-F266-4B53-AE54-EE40DBE0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5ED-CFAF-425B-9F8E-3F5B6C55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1B3-E78B-4C8A-AA4D-4A27D923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EE4-E6BB-4FC1-99E2-BFE7036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61B-A88F-4502-B66E-C7E1001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75F-1A14-498C-B1FD-DFA616D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9DB8-1827-4707-BDAC-AF2FCE8693A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25D-CC1E-4A43-A12E-7ED43312465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071440" y="3643200"/>
            <a:ext cx="6615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читель физической  культур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ебедева Евгения Вале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143080" y="6072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1258920" y="189000"/>
            <a:ext cx="6913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Муниципальное бюджетное общеобразовательное учреждение «Школа №179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1547640" y="1268280"/>
            <a:ext cx="6615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Здоровьесберегающие технологии на уроках физическ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7120" y="285840"/>
            <a:ext cx="83296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ктуальност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Здоровье детей – забота общая. Последние статистические данные медицинских осмотров в Российских школах свидетельствуют о том, что за период обучения детей в школе состояние их здоровья ухудшается в 4 - 5 раз, поэтому проблемы сохранения здоровья учащихся сегодня очень актуаль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Рисунок 3" descr="3554.jpg"/>
          <p:cNvPicPr/>
          <p:nvPr/>
        </p:nvPicPr>
        <p:blipFill>
          <a:blip r:embed="rId1"/>
          <a:stretch/>
        </p:blipFill>
        <p:spPr>
          <a:xfrm>
            <a:off x="5072040" y="3429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375.jpg"/>
          <p:cNvPicPr/>
          <p:nvPr/>
        </p:nvPicPr>
        <p:blipFill>
          <a:blip r:embed="rId2"/>
          <a:stretch/>
        </p:blipFill>
        <p:spPr>
          <a:xfrm>
            <a:off x="1357200" y="3500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3296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Цель  работы  учителя физической культуры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just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еспечить каждому ученику высокий уровень реального здоровья, вооружив его необходимым багажом знаний, умений и навыков, необходимых для ведения здорового образа жизни, и воспитав у него культуру здоровья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3" descr="lifestyle.jpg"/>
          <p:cNvPicPr/>
          <p:nvPr/>
        </p:nvPicPr>
        <p:blipFill>
          <a:blip r:embed="rId1"/>
          <a:stretch/>
        </p:blipFill>
        <p:spPr>
          <a:xfrm>
            <a:off x="6072120" y="3708360"/>
            <a:ext cx="2517840" cy="2863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22.jpg"/>
          <p:cNvPicPr/>
          <p:nvPr/>
        </p:nvPicPr>
        <p:blipFill>
          <a:blip r:embed="rId2"/>
          <a:stretch/>
        </p:blipFill>
        <p:spPr>
          <a:xfrm>
            <a:off x="1071720" y="3902040"/>
            <a:ext cx="4286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57120" y="428400"/>
            <a:ext cx="83296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ыполнение д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остигается решением следующих задач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 сформировать устойчивый интерес и потребность к систематическим  занятиям физической культурой и спорт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 повысить уровень физической подготовленности школь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решаю эти задачи, используя классно-урочную и внеклассную формы рабо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85840" y="428400"/>
            <a:ext cx="832968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физической культуры проводятся 3 раза в неделю по 45 мин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уроках физкультуры я использую различные методы организации урока, планирую уроки, с применением различных средств и мет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 процессе обучения,  использую дифференцированный подход, учитывая возраст, пол, медицинские показатели, решая этим весь комплекс задач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тельных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здоровительных и воспитатель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Рисунок 3" descr="1321952841_lechebnaya-fizkultura.jpg"/>
          <p:cNvPicPr/>
          <p:nvPr/>
        </p:nvPicPr>
        <p:blipFill>
          <a:blip r:embed="rId1"/>
          <a:stretch/>
        </p:blipFill>
        <p:spPr>
          <a:xfrm>
            <a:off x="6072120" y="485784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pedotdelenie.preview.JPG"/>
          <p:cNvPicPr/>
          <p:nvPr/>
        </p:nvPicPr>
        <p:blipFill>
          <a:blip r:embed="rId2"/>
          <a:stretch/>
        </p:blipFill>
        <p:spPr>
          <a:xfrm>
            <a:off x="3143160" y="4946760"/>
            <a:ext cx="25005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5840" y="357120"/>
            <a:ext cx="840096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3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ля решения образовательных, оздоровительных и воспитательных задач уро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и совершенствую у учащихся жизненно важные навыки и умения в ходьбе, беге, прыжках и метани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 подвижным играм и упражнениям базовых видов спорта, (гимнастики, легкой атлетики, спортивных игр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 технике двигательных действий в базовых видах спорт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физические качества учащихся, обучаю способам контроля за состоянием их здоровья (образовательные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3840" y="285840"/>
            <a:ext cx="84726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ю оптимальную нагрузк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ожу инструктаж по технике безопас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уществляю контроль за физическим состоянием учени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ежу за моторной плотностью уро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теоретических занятиях рассматриваю вопросы валеологии и здорового образа жизни (оздоровительные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ываю чувства товарищества на занятиях в группах, команда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щи и взаимопомощи в работе в парах, тройк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ю волевые качества уче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285840"/>
            <a:ext cx="832968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уя у учащихся интерес и  потребность к систематическим занятиям физкультурой и спортом, стремление к укреплению здоровья, мы получаем результаты, которые можно сложить в следующую цепочку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ие  двигательной активности школьников,  способствует улучшению их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ые дети показывают высокий уровень успеваемости на уроках как физической культуры так и других предметов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7:14:52Z</dcterms:created>
  <dc:creator>Customer</dc:creator>
  <dc:description/>
  <dc:language>en-US</dc:language>
  <cp:lastModifiedBy>Евгения Лебедева</cp:lastModifiedBy>
  <dcterms:modified xsi:type="dcterms:W3CDTF">2017-10-28T18:20:24Z</dcterms:modified>
  <cp:revision>16</cp:revision>
  <dc:subject/>
  <dc:title>Слайд 1</dc:title>
</cp:coreProperties>
</file>