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537-FB1B-44E8-9C37-9DFC520B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B61-2651-42F1-BEBD-52A0A6B4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1A8-A367-407A-8D83-E233DA5B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38A-4043-4580-BBF7-55190B03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CAE1-E3C9-41FC-B426-080BC664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818B-12B6-4DAE-9825-69BF7BC7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6500-59C0-40D0-B7AD-F0C14523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243B-557D-43F5-ABA5-7EED885A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C629-534C-4FCD-96A7-302552F1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2238-6A9F-4FEA-91A4-4474D207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0639-A38F-42D4-9CDE-B7F5C563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4B9-90EA-4DDF-B667-6AF7EA78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ED7E-EAB1-49DF-A609-3EF56775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E1E3-72E9-4750-8872-9A50D46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2B1E-8765-4764-9F93-3A3984D3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7626-711B-46B0-AE7A-B4A3766C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9E9D-ED97-4A15-9C62-ACC586DC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0B4-66A3-4243-BB6E-0901F93C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2FC-6B4B-4700-864B-916FF8F2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3AD-2A10-429A-863F-85982758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BAE-5EFA-41E1-BCBA-7FFA54CB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A81-48A4-4A30-B056-5B889808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125-EF6F-4095-9C38-CCEC8AF1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AB9-662A-40A8-95CC-A95D6533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F4F8-BB1E-4BA1-A3E8-81ED4512794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7677-C8C2-4447-8355-365C30DE595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071440" y="3643200"/>
            <a:ext cx="6615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читель физической  культур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ебедева Евгения Валерь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2143080" y="6072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6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1258920" y="189000"/>
            <a:ext cx="6913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Муниципальное бюджетное общеобразовательное учреждение «Школа №179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1547640" y="1268280"/>
            <a:ext cx="6615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Здоровьесберегающие технологии на уроках физическ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57120" y="285840"/>
            <a:ext cx="83296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ктуальность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Здоровье детей – забота общая. Последние статистические данные медицинских осмотров в Российских школах свидетельствуют о том, что за период обучения детей в школе состояние их здоровья ухудшается в 4 - 5 раз, поэтому проблемы сохранения здоровья учащихся сегодня очень актуаль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Рисунок 3" descr="3554.jpg"/>
          <p:cNvPicPr/>
          <p:nvPr/>
        </p:nvPicPr>
        <p:blipFill>
          <a:blip r:embed="rId1"/>
          <a:stretch/>
        </p:blipFill>
        <p:spPr>
          <a:xfrm>
            <a:off x="5072040" y="3429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375.jpg"/>
          <p:cNvPicPr/>
          <p:nvPr/>
        </p:nvPicPr>
        <p:blipFill>
          <a:blip r:embed="rId2"/>
          <a:stretch/>
        </p:blipFill>
        <p:spPr>
          <a:xfrm>
            <a:off x="1357200" y="3500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32968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Цель  работы  учителя физической культуры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just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еспечить каждому ученику высокий уровень реального здоровья, вооружив его необходимым багажом знаний, умений и навыков, необходимых для ведения здорового образа жизни, и воспитав у него культуру здоровья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Рисунок 3" descr="lifestyle.jpg"/>
          <p:cNvPicPr/>
          <p:nvPr/>
        </p:nvPicPr>
        <p:blipFill>
          <a:blip r:embed="rId1"/>
          <a:stretch/>
        </p:blipFill>
        <p:spPr>
          <a:xfrm>
            <a:off x="6072120" y="3708360"/>
            <a:ext cx="2517840" cy="2863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22.jpg"/>
          <p:cNvPicPr/>
          <p:nvPr/>
        </p:nvPicPr>
        <p:blipFill>
          <a:blip r:embed="rId2"/>
          <a:stretch/>
        </p:blipFill>
        <p:spPr>
          <a:xfrm>
            <a:off x="1071720" y="3902040"/>
            <a:ext cx="4286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57120" y="428400"/>
            <a:ext cx="832968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ыполнение д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остигается решением следующих задач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 сформировать устойчивый интерес и потребность к систематическим  занятиям физической культурой и спорто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 повысить уровень физической подготовленности школь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 решаю эти задачи, используя классно-урочную и внеклассную формы рабо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85840" y="428400"/>
            <a:ext cx="832968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физической культуры проводятся 3 раза в неделю по 45 мину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уроках физкультуры я использую различные методы организации урока, планирую уроки, с применением различных средств и мет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 процессе обучения,  использую дифференцированный подход, учитывая возраст, пол, медицинские показатели, решая этим весь комплекс задач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тельных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здоровительных и воспитатель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Рисунок 3" descr="1321952841_lechebnaya-fizkultura.jpg"/>
          <p:cNvPicPr/>
          <p:nvPr/>
        </p:nvPicPr>
        <p:blipFill>
          <a:blip r:embed="rId1"/>
          <a:stretch/>
        </p:blipFill>
        <p:spPr>
          <a:xfrm>
            <a:off x="6072120" y="4857840"/>
            <a:ext cx="2500560" cy="1874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pedotdelenie.preview.JPG"/>
          <p:cNvPicPr/>
          <p:nvPr/>
        </p:nvPicPr>
        <p:blipFill>
          <a:blip r:embed="rId2"/>
          <a:stretch/>
        </p:blipFill>
        <p:spPr>
          <a:xfrm>
            <a:off x="3143160" y="4946760"/>
            <a:ext cx="25005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85840" y="357120"/>
            <a:ext cx="840096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3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ля решения образовательных, оздоровительных и воспитательных задач урок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ю и совершенствую у учащихся жизненно важные навыки и умения в ходьбе, беге, прыжках и метани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учаю подвижным играм и упражнениям базовых видов спорта, (гимнастики, легкой атлетики, спортивных игр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учаю технике двигательных действий в базовых видах спорт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ю физические качества учащихся, обучаю способам контроля за состоянием их здоровья (образовательные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13840" y="285840"/>
            <a:ext cx="847260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ю оптимальную нагрузк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ожу инструктаж по технике безопас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уществляю контроль за физическим состоянием ученик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ежу за моторной плотностью уро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теоретических занятиях рассматриваю вопросы валеологии и здорового образа жизни (оздоровительные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ываю чувства товарищества на занятиях в группах, команда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щи и взаимопомощи в работе в парах, тройка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ю волевые качества уче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285840"/>
            <a:ext cx="832968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уя у учащихся интерес и  потребность к систематическим занятиям физкультурой и спортом, стремление к укреплению здоровья, мы получаем результаты, которые можно сложить в следующую цепочку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величение  двигательной активности школьников,  способствует улучшению их здоровь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ые дети показывают высокий уровень успеваемости на уроках как физической культуры так и других предметов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7:14:52Z</dcterms:created>
  <dc:creator>Customer</dc:creator>
  <dc:description/>
  <dc:language>en-US</dc:language>
  <cp:lastModifiedBy>Евгения Лебедева</cp:lastModifiedBy>
  <dcterms:modified xsi:type="dcterms:W3CDTF">2017-10-28T18:20:24Z</dcterms:modified>
  <cp:revision>16</cp:revision>
  <dc:subject/>
  <dc:title>Слайд 1</dc:title>
</cp:coreProperties>
</file>