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30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0D5-91F3-44EE-93F6-04114CC2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E9C-E0E1-4E3A-B7CC-C0509892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A6F-CBB4-4E79-8B99-5664BCD3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C27-6028-431C-86FC-082DC18D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D834-5655-49FA-8CFA-CAAC4081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84D2-C2BF-496D-87C4-FB6CD965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9020-71A5-4B14-96ED-B759E3F7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EC06-5A51-448C-B1C8-94527832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3657-486C-4C4C-BCCD-4CCEBD0F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F35E-2CED-44DE-91D9-0E883AEE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3CED-37E9-4BAB-A3EB-169E6E09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F9D-C97B-4594-97FB-720F4F45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418C-456D-4584-AFC1-5CCF1BDC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A96D-AD14-4679-8FA4-38240113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7DB4-03F3-431F-A7F3-A04E19E2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7BA0-3B5D-4649-822E-D9AEB780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FAEF-9DDB-44B7-A916-23D80A52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A79-953B-4D32-9181-64E16780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F27-DE9C-4F02-AEDF-631C9F66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68D-4237-4C6C-A830-8A7CE23D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E93-6881-45F8-ADA8-72D6B751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C2F-3021-4593-8D71-57815805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156-2EA6-4885-9E8E-4546FE20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14A-8BDE-4FCA-871E-7C5CE718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44D8-714F-45A5-949C-65F96CED262A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5E37-0D88-43B6-916A-1A7450592C7F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530280" y="1616040"/>
            <a:ext cx="8516880" cy="1908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4643280" y="4143240"/>
            <a:ext cx="40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одготовил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Неустроева Юл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Коваленко Макси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capillary"/>
          <p:cNvPicPr/>
          <p:nvPr/>
        </p:nvPicPr>
        <p:blipFill>
          <a:blip r:embed="rId1"/>
          <a:srcRect l="0" t="0" r="16465" b="-584"/>
          <a:stretch/>
        </p:blipFill>
        <p:spPr>
          <a:xfrm>
            <a:off x="285840" y="1143000"/>
            <a:ext cx="4979880" cy="4138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5572080" y="1571760"/>
            <a:ext cx="307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Капиляры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. Образованы одним слоем клеток эндотели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У человека более 150 млрд. Капиляров общей длиной более 100тыс. К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кровообращение"/>
          <p:cNvPicPr/>
          <p:nvPr/>
        </p:nvPicPr>
        <p:blipFill>
          <a:blip r:embed="rId1"/>
          <a:stretch/>
        </p:blipFill>
        <p:spPr>
          <a:xfrm>
            <a:off x="2857680" y="214200"/>
            <a:ext cx="3435120" cy="64296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85840" y="85716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Малый круг кровообращ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6429240" y="392904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Большой круг кровообращ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4" descr=""/>
          <p:cNvPicPr/>
          <p:nvPr/>
        </p:nvPicPr>
        <p:blipFill>
          <a:blip r:embed="rId1"/>
          <a:stretch/>
        </p:blipFill>
        <p:spPr>
          <a:xfrm>
            <a:off x="-182520" y="-171360"/>
            <a:ext cx="933300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179280" y="907920"/>
          <a:ext cx="8785440" cy="57168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к 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лы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ьшо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начин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авом желудоч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евом желудоч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заканчив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евом предсерд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авом предсерд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пилляр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ёгки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голове, конечностях, органах те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артерия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ноз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тер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вен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тер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ноз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кровь  - кровь, насыщенная 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бедная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нозная кровь – кровь, насыщенная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бедная 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3348000" y="1225440"/>
            <a:ext cx="5438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 всех тканях есть слепо заканчивающиеся лимфатические  капиляры, в них концентрируется тканевая жидкость, превращаясь в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лимфу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 сутки образуется около 3 литров лимф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ияние сосудов образуют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лимфатические узл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 в них аккумулируются лимфоциты (осуществляют фагоцитоз и образование антител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узлах задерживаются микроорганизмы, попавшие в организм. При этом происходит набухание лимфоузлов, за счет образования лимфоцит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 лимфатических узлов лимфа по лимфатическим сосудам двигается к правому и левому грудным лимфатическим протокам, которые впадают в нижнюю полую вену.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4" descr="E:\Documents and Settings\Андрей\Рабочий стол\1.png"/>
          <p:cNvPicPr/>
          <p:nvPr/>
        </p:nvPicPr>
        <p:blipFill>
          <a:blip r:embed="rId2"/>
          <a:stretch/>
        </p:blipFill>
        <p:spPr>
          <a:xfrm>
            <a:off x="250920" y="2060640"/>
            <a:ext cx="297972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571680" y="1785960"/>
            <a:ext cx="52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Пульс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– ритмические колебания стенок сосудов, возникшие при гидродинимическом ударе во время сердечного выброса. Норма у взрослого человека составляет 60-80 ударов в минут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71680" y="3714840"/>
            <a:ext cx="464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ульс прощупывается в крупных артериях, близко расположенных к поверхности тела (на внутренней стороне запястья, на висках, по бокам шеи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5" descr="E:\Documents and Settings\Андрей\Рабочий стол\2.jpg"/>
          <p:cNvPicPr/>
          <p:nvPr/>
        </p:nvPicPr>
        <p:blipFill>
          <a:blip r:embed="rId2"/>
          <a:stretch/>
        </p:blipFill>
        <p:spPr>
          <a:xfrm>
            <a:off x="5386320" y="3213000"/>
            <a:ext cx="3573360" cy="346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-792000" y="36360"/>
            <a:ext cx="10369440" cy="1444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Гипертония -</a:t>
            </a:r>
            <a:r>
              <a:rPr b="1" lang="ru-RU" sz="33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 стойкое повышение артериального давлени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Атеросклероз</a:t>
            </a:r>
            <a:r>
              <a:rPr b="1" lang="ru-RU" sz="33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80808"/>
                </a:solidFill>
                <a:latin typeface="Times New Roman"/>
              </a:rPr>
              <a:t>-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отложение на стенках  сосудов холестерин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Инфаркт миокарда</a:t>
            </a:r>
            <a:r>
              <a:rPr b="1" lang="ru-RU" sz="3300" spc="-1" strike="noStrike">
                <a:solidFill>
                  <a:srgbClr val="080808"/>
                </a:solidFill>
                <a:latin typeface="Times New Roman"/>
              </a:rPr>
              <a:t> -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омертвление мышц сердц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Стенокардия -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приступы сильной боли, связанные со спазмом коронарных артери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Эндартериит</a:t>
            </a:r>
            <a:r>
              <a:rPr b="1" lang="ru-RU" sz="33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80808"/>
                </a:solidFill>
                <a:latin typeface="Times New Roman"/>
              </a:rPr>
              <a:t>- 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«перемежающаяся  хромота курильщиков»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Тромбофлебит</a:t>
            </a:r>
            <a:r>
              <a:rPr b="1" lang="ru-RU" sz="33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80808"/>
                </a:solidFill>
                <a:latin typeface="Times New Roman"/>
              </a:rPr>
              <a:t>-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  воспаление вен и образование в них  тромб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357800" y="1643040"/>
            <a:ext cx="4438440" cy="47084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642960" y="157176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Избыток жиров и холестерина ухудшае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работу сосудов и сердц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642960" y="3500280"/>
            <a:ext cx="307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теросклероз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аркт миокар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428760" y="1357200"/>
            <a:ext cx="307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Вещества , входящие в соста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табачного дыма, вызывают спаз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сосудов, и ткани организма получаю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значительно меньше питательных веществ из кислорода, чем нужн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785880" y="4714920"/>
            <a:ext cx="271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теросклеро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аркт миокар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ндартерии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омбофлеби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7" descr="7"/>
          <p:cNvPicPr/>
          <p:nvPr/>
        </p:nvPicPr>
        <p:blipFill>
          <a:blip r:embed="rId2"/>
          <a:stretch/>
        </p:blipFill>
        <p:spPr>
          <a:xfrm>
            <a:off x="5643720" y="4000680"/>
            <a:ext cx="3151080" cy="2612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7"/>
          <p:cNvPicPr/>
          <p:nvPr/>
        </p:nvPicPr>
        <p:blipFill>
          <a:blip r:embed="rId3"/>
          <a:stretch/>
        </p:blipFill>
        <p:spPr>
          <a:xfrm>
            <a:off x="3929040" y="1357200"/>
            <a:ext cx="3843360" cy="293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6840" y="1599840"/>
            <a:ext cx="5543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Алкоголь разрушает клетки сердечной мышцы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Нарушается кровообращение внутри сердц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Сердце покрывается жировой тканью  и его сосуды поражаются атеросклероз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В сосудах образуются тромб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Нарушается питание клеток сердца и они отмира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6143760" y="435780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теросклероз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аркт миокард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781200" y="517680"/>
            <a:ext cx="7783200" cy="79344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714680" y="185724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ердц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786200" y="1857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ос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071880" y="335772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артер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929120" y="3357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вен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6286680" y="335772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капиля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0" name="Прямая со стрелкой 9"/>
          <p:cNvCxnSpPr/>
          <p:nvPr/>
        </p:nvCxnSpPr>
        <p:spPr>
          <a:xfrm flipH="1">
            <a:off x="2928240" y="1214280"/>
            <a:ext cx="786600" cy="5011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cxnSp>
        <p:nvCxnSpPr>
          <p:cNvPr id="91" name="Прямая со стрелкой 11"/>
          <p:cNvCxnSpPr/>
          <p:nvPr/>
        </p:nvCxnSpPr>
        <p:spPr>
          <a:xfrm>
            <a:off x="4142880" y="1143000"/>
            <a:ext cx="786600" cy="6433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cxnSp>
        <p:nvCxnSpPr>
          <p:cNvPr id="92" name="Прямая со стрелкой 13"/>
          <p:cNvCxnSpPr/>
          <p:nvPr/>
        </p:nvCxnSpPr>
        <p:spPr>
          <a:xfrm flipH="1">
            <a:off x="4357080" y="2428920"/>
            <a:ext cx="786600" cy="9295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cxnSp>
        <p:nvCxnSpPr>
          <p:cNvPr id="93" name="Прямая со стрелкой 15"/>
          <p:cNvCxnSpPr/>
          <p:nvPr/>
        </p:nvCxnSpPr>
        <p:spPr>
          <a:xfrm flipH="1">
            <a:off x="5357520" y="2428920"/>
            <a:ext cx="2160" cy="9295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cxnSp>
        <p:nvCxnSpPr>
          <p:cNvPr id="94" name="Прямая со стрелкой 17"/>
          <p:cNvCxnSpPr/>
          <p:nvPr/>
        </p:nvCxnSpPr>
        <p:spPr>
          <a:xfrm>
            <a:off x="5643720" y="2428920"/>
            <a:ext cx="1072080" cy="9295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sp>
        <p:nvSpPr>
          <p:cNvPr id="95" name="TextBox 18"/>
          <p:cNvSpPr/>
          <p:nvPr/>
        </p:nvSpPr>
        <p:spPr>
          <a:xfrm>
            <a:off x="214200" y="4071960"/>
            <a:ext cx="8715600" cy="26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Функци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1)Транспортная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(транспорт крови с питательными веществами, транспорт О</a:t>
            </a:r>
            <a:r>
              <a:rPr b="0" lang="ru-RU" sz="1800" spc="-1" strike="noStrike" baseline="-25000">
                <a:solidFill>
                  <a:srgbClr val="080808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к органам, СО</a:t>
            </a:r>
            <a:r>
              <a:rPr b="0" lang="ru-RU" sz="1800" spc="-1" strike="noStrike" baseline="-25000">
                <a:solidFill>
                  <a:srgbClr val="080808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– к легким, транспорт продуктов распада к органам выделени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2) Терморегулирующая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перераспределение тепла в организм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3) Защитная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обеспечивается функциями крови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4) Гуморальная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транспорт гормонов и других БАВ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785880" y="142884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Возрастает  частота пульс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артериальное давление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корость кровотока, повышает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температура те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1071720" y="471492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суль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аркт миокард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928800" y="1643040"/>
            <a:ext cx="3357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Verdana"/>
              </a:rPr>
              <a:t>Гиподинамия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недостаток двигательн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активно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5072040" y="1571760"/>
            <a:ext cx="314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едостаток  движения оказывается причиной нарушений в деятельност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рдца, нарушает циркуляцию крови и лимф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071720" y="3500280"/>
            <a:ext cx="321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теросклероз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аркт миокард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суль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омбофлеби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781200" y="281160"/>
            <a:ext cx="778320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4643280" y="2500200"/>
            <a:ext cx="378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Verdana"/>
              </a:rPr>
              <a:t>Сердце</a:t>
            </a: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 - это полый мышечный орган, расположенный в левой половине грудной клетки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Масса - около 300г.(у мужчин-330г, у женщин-240г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642960" y="1214280"/>
            <a:ext cx="3851280" cy="511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596880" y="311040"/>
            <a:ext cx="8199360" cy="90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СЕРДЦЕ"/>
          <p:cNvPicPr/>
          <p:nvPr/>
        </p:nvPicPr>
        <p:blipFill>
          <a:blip r:embed="rId2"/>
          <a:stretch/>
        </p:blipFill>
        <p:spPr>
          <a:xfrm>
            <a:off x="2714760" y="1285920"/>
            <a:ext cx="360036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2357280" y="285768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2428920" y="4286160"/>
            <a:ext cx="1439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429160" y="421488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643720" y="2428920"/>
            <a:ext cx="1439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571680" y="2428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равое предсерд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785880" y="40006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равый желудоче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7286760" y="20718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Левое предсерд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700092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Левый желудоче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798480" y="603360"/>
            <a:ext cx="8143920" cy="12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стенка-сердца"/>
          <p:cNvPicPr/>
          <p:nvPr/>
        </p:nvPicPr>
        <p:blipFill>
          <a:blip r:embed="rId2"/>
          <a:stretch/>
        </p:blipFill>
        <p:spPr>
          <a:xfrm>
            <a:off x="357120" y="1857240"/>
            <a:ext cx="4470480" cy="46198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5072040" y="1928880"/>
            <a:ext cx="3857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Наружный     соединительнотканны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Эпикард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2) Средний мышечны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Миокард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3) Внутренний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эпителиальный (Эндокард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176040" y="225360"/>
            <a:ext cx="4243680" cy="72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eart4"/>
          <p:cNvPicPr/>
          <p:nvPr/>
        </p:nvPicPr>
        <p:blipFill>
          <a:blip r:embed="rId2"/>
          <a:stretch/>
        </p:blipFill>
        <p:spPr>
          <a:xfrm>
            <a:off x="3214800" y="1214280"/>
            <a:ext cx="5618160" cy="4496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4714920" y="571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Полулунные клапа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786200" y="607212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Створчатые клапа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57880" y="1000080"/>
            <a:ext cx="357120" cy="2878200"/>
          </a:xfrm>
          <a:prstGeom prst="line">
            <a:avLst/>
          </a:prstGeom>
          <a:ln w="572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13"/>
          <p:cNvSpPr/>
          <p:nvPr/>
        </p:nvSpPr>
        <p:spPr>
          <a:xfrm flipH="1">
            <a:off x="5786280" y="1071720"/>
            <a:ext cx="46080" cy="2786040"/>
          </a:xfrm>
          <a:prstGeom prst="line">
            <a:avLst/>
          </a:prstGeom>
          <a:ln w="572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Line 10"/>
          <p:cNvSpPr/>
          <p:nvPr/>
        </p:nvSpPr>
        <p:spPr>
          <a:xfrm flipH="1" flipV="1">
            <a:off x="5071680" y="4357440"/>
            <a:ext cx="792360" cy="1725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Line 10"/>
          <p:cNvSpPr/>
          <p:nvPr/>
        </p:nvSpPr>
        <p:spPr>
          <a:xfrm flipH="1" flipV="1">
            <a:off x="6214680" y="3786120"/>
            <a:ext cx="428760" cy="228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285840" y="1214280"/>
            <a:ext cx="271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ри сокращении предсердий клапаны открывают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ри сокращении желудочков клапаны закрываются, поэтому кровь движется в одном направлении. Натяжение сухожильных нитей предотвращает выворачивание створок клапанов в предсерд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4" descr=""/>
          <p:cNvPicPr/>
          <p:nvPr/>
        </p:nvPicPr>
        <p:blipFill>
          <a:blip r:embed="rId1"/>
          <a:stretch/>
        </p:blipFill>
        <p:spPr>
          <a:xfrm>
            <a:off x="530280" y="317520"/>
            <a:ext cx="3833640" cy="1407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систола предсердий"/>
          <p:cNvPicPr/>
          <p:nvPr/>
        </p:nvPicPr>
        <p:blipFill>
          <a:blip r:embed="rId2"/>
          <a:stretch/>
        </p:blipFill>
        <p:spPr>
          <a:xfrm>
            <a:off x="777960" y="1828800"/>
            <a:ext cx="3511440" cy="4038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систола желуд"/>
          <p:cNvPicPr/>
          <p:nvPr/>
        </p:nvPicPr>
        <p:blipFill>
          <a:blip r:embed="rId3"/>
          <a:stretch/>
        </p:blipFill>
        <p:spPr>
          <a:xfrm>
            <a:off x="4888080" y="1828800"/>
            <a:ext cx="3595680" cy="4038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4788000" y="476280"/>
            <a:ext cx="367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imes New Roman"/>
              </a:rPr>
              <a:t>Систол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imes New Roman"/>
              </a:rPr>
              <a:t>желудочко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536400" y="285840"/>
            <a:ext cx="82360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250920" y="1628640"/>
          <a:ext cx="8713800" cy="4680000"/>
        </p:xfrm>
        <a:graphic>
          <a:graphicData uri="http://schemas.openxmlformats.org/drawingml/2006/table">
            <a:tbl>
              <a:tblPr/>
              <a:tblGrid>
                <a:gridCol w="3316320"/>
                <a:gridCol w="3230280"/>
                <a:gridCol w="21672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Фазы сердечного цик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виже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ров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Продолжи 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ельность ф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окра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систол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предсерд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з предсердий в желуд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,1 с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окра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систол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елудоч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з желудочков в артерию и аор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,3 с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асслаб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диастола) предсердий и желудоч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з вен в предсерд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 в желуд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,4 с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artery-vein"/>
          <p:cNvPicPr/>
          <p:nvPr/>
        </p:nvPicPr>
        <p:blipFill>
          <a:blip r:embed="rId1"/>
          <a:srcRect l="8606" t="0" r="2157" b="14005"/>
          <a:stretch/>
        </p:blipFill>
        <p:spPr>
          <a:xfrm>
            <a:off x="1785960" y="1714680"/>
            <a:ext cx="5313240" cy="38401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214200" y="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Артерии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- сосуды, по которым кровь движется от сердц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Стенки образованы наружной соединительной оболочкой, средний слой- гладкие мышцы с эластичными волокнами, внутренний слой- эндотелиальны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о мере удаления от сердца артерии ветвятся и становятся тоньш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0" y="571500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Вена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– сосуды, по которым кровь движется к сердц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Стенки вен тоньше, чем у артерий, так как давление в них меньш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Стенки также образованы тремя оболочка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06:43:35Z</dcterms:created>
  <dc:creator>Ilja</dc:creator>
  <dc:description/>
  <dc:language>en-US</dc:language>
  <cp:lastModifiedBy>Юлия</cp:lastModifiedBy>
  <dcterms:modified xsi:type="dcterms:W3CDTF">2012-12-05T16:29:15Z</dcterms:modified>
  <cp:revision>26</cp:revision>
  <dc:subject/>
  <dc:title>Кровеносная система человека.</dc:title>
</cp:coreProperties>
</file>