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A72-88DE-43F6-A127-EBCAB1E9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86E-9269-487E-A216-B50A889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0C0-A887-48C8-A223-428CF245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3CB-13DC-44F8-8325-5B936253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28A0-7538-4968-8B2E-F59D4173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950-09FC-4FA5-B501-D7E42406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0B05-4393-4DEE-A7D7-B10E8C8E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E7A1-EB60-44FF-8717-16BBF09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EC97-0F7A-427B-97FE-FC5CB98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FB9-3B89-4178-9396-AE7409B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B3E-1EAA-4018-A081-AED9742E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30A-5759-45AC-A9D6-80AB941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BD9A-0F1E-497C-8730-8657E4F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2081-F373-4919-834B-EF022D5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815-3D8A-469B-B004-AC59E58E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F7DA-0884-44FC-BCD8-87B7206F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FC1-91C4-4252-9EC8-CEB86367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9ED-1005-481B-8639-825832D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7A6-3D45-4915-B2EC-8E083728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CD9-6390-4038-B007-67B531CE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CB6-7307-4A1C-918C-75E4934C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927-1A49-4F6E-9E42-324AF87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69E-B449-477B-98C9-40E1645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5A-4654-481E-A173-6E84778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657-AE9A-4406-AAFA-CA0C0D905E98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3BB2-E3C5-42B9-A475-8EB5DB756318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530280" y="1616040"/>
            <a:ext cx="8516880" cy="190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4643280" y="4143240"/>
            <a:ext cx="40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дготовил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устроева Юл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валенко Макс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apillary"/>
          <p:cNvPicPr/>
          <p:nvPr/>
        </p:nvPicPr>
        <p:blipFill>
          <a:blip r:embed="rId1"/>
          <a:srcRect l="0" t="0" r="16465" b="-584"/>
          <a:stretch/>
        </p:blipFill>
        <p:spPr>
          <a:xfrm>
            <a:off x="285840" y="1143000"/>
            <a:ext cx="4979880" cy="4138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572080" y="157176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. Образованы одним слоем клеток эндотел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У человека более 150 млрд. Капиляров общей длиной более 100тыс. К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кровообращение"/>
          <p:cNvPicPr/>
          <p:nvPr/>
        </p:nvPicPr>
        <p:blipFill>
          <a:blip r:embed="rId1"/>
          <a:stretch/>
        </p:blipFill>
        <p:spPr>
          <a:xfrm>
            <a:off x="2857680" y="214200"/>
            <a:ext cx="3435120" cy="6429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8571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лы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429240" y="39290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Большой круг кровооб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-182520" y="-171360"/>
            <a:ext cx="933300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кровь  - кровь, насыщен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озная кровь – кровь, насыщенная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бедная 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348000" y="1225440"/>
            <a:ext cx="54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 всех тканях есть слепо заканчивающиеся лимфатические  капиляры, в них концентрируется тканевая жидкость, превращаясь в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у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 сутки образуется около 3 литров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ияние сосудов образуют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лимфатические узл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в них аккумулируются лимфоциты (осуществляют фагоцитоз и образование антител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узлах задерживаются микроорганизмы, попавшие в организм. При этом происходит набухание лимфоузлов, за счет образования лимфоцит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лимфатических узлов лимфа по лимфатическим сосудам двигается к правому и левому грудным лимфатическим протокам, которые впадают в нижнюю полую вену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4" descr="E:\Documents and Settings\Андрей\Рабочий стол\1.png"/>
          <p:cNvPicPr/>
          <p:nvPr/>
        </p:nvPicPr>
        <p:blipFill>
          <a:blip r:embed="rId2"/>
          <a:stretch/>
        </p:blipFill>
        <p:spPr>
          <a:xfrm>
            <a:off x="250920" y="2060640"/>
            <a:ext cx="297972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571680" y="1785960"/>
            <a:ext cx="52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ульс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ритмические колебания стенок сосудов, возникшие при гидродинимическом ударе во время сердечного выброса. Норма у взрослого человека составляет 60-80 ударов в мину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71680" y="3714840"/>
            <a:ext cx="464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ульс прощупывается в крупных артериях, близко расположенных к поверхности тела (на внутренней стороне запястья, на висках, по бокам ше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E:\Documents and Settings\Андрей\Рабочий стол\2.jpg"/>
          <p:cNvPicPr/>
          <p:nvPr/>
        </p:nvPicPr>
        <p:blipFill>
          <a:blip r:embed="rId2"/>
          <a:stretch/>
        </p:blipFill>
        <p:spPr>
          <a:xfrm>
            <a:off x="5386320" y="3213000"/>
            <a:ext cx="3573360" cy="346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-792000" y="36360"/>
            <a:ext cx="10369440" cy="1444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Гипертония -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стойкое повышение артериального давле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Атеросклероз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тложение на стенках  сосудов холестерин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Инфаркт миокарда</a:t>
            </a:r>
            <a:r>
              <a:rPr b="1" lang="ru-RU" sz="3300" spc="-1" strike="noStrike">
                <a:solidFill>
                  <a:srgbClr val="080808"/>
                </a:solidFill>
                <a:latin typeface="Times New Roman"/>
              </a:rPr>
              <a:t>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омертвление мышц сердц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Стенокардия -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приступы сильной боли, связанные со спазмом коронарных артер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Эндартери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  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«перемежающаяся  хромота курильщиков»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0808"/>
                </a:solidFill>
                <a:latin typeface="Times New Roman"/>
              </a:rPr>
              <a:t>Тромбофлебит</a:t>
            </a:r>
            <a:r>
              <a:rPr b="1" lang="ru-RU" sz="33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ru-RU" sz="2600" spc="-1" strike="noStrike">
                <a:solidFill>
                  <a:srgbClr val="080808"/>
                </a:solidFill>
                <a:latin typeface="Times New Roman"/>
              </a:rPr>
              <a:t>  воспаление вен и образование в них  тромб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357800" y="1643040"/>
            <a:ext cx="4438440" cy="470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642960" y="157176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Избыток жиров и холестерина ухудша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работу сосудов и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42960" y="3500280"/>
            <a:ext cx="307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28760" y="1357200"/>
            <a:ext cx="307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щества , входящие в соста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табачного дыма, вызывают спаз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осудов, и ткани организма получаю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значительно меньше питательных веществ из кислорода, чем нуж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785880" y="4714920"/>
            <a:ext cx="27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ндартери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7" descr="7"/>
          <p:cNvPicPr/>
          <p:nvPr/>
        </p:nvPicPr>
        <p:blipFill>
          <a:blip r:embed="rId2"/>
          <a:stretch/>
        </p:blipFill>
        <p:spPr>
          <a:xfrm>
            <a:off x="5643720" y="4000680"/>
            <a:ext cx="3151080" cy="2612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7"/>
          <p:cNvPicPr/>
          <p:nvPr/>
        </p:nvPicPr>
        <p:blipFill>
          <a:blip r:embed="rId3"/>
          <a:stretch/>
        </p:blipFill>
        <p:spPr>
          <a:xfrm>
            <a:off x="3929040" y="1357200"/>
            <a:ext cx="3843360" cy="293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6840" y="1599840"/>
            <a:ext cx="5543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Алкоголь разрушает клетки сердечной мышцы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кровообращение внутри сердц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Сердце покрывается жировой тканью  и его сосуды поражаются атеросклероз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В сосудах образуются тромб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imes New Roman"/>
              </a:rPr>
              <a:t>Нарушается питание клеток сердца и они отмир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143760" y="43578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781200" y="517680"/>
            <a:ext cx="7783200" cy="7934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714680" y="185724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ердц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86200" y="1857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ос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71880" y="33577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929120" y="3357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е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6286680" y="33577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пиля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90" name="Прямая со стрелкой 9"/>
          <p:cNvCxnSpPr/>
          <p:nvPr/>
        </p:nvCxnSpPr>
        <p:spPr>
          <a:xfrm flipH="1">
            <a:off x="2928240" y="1214280"/>
            <a:ext cx="786600" cy="5011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4142880" y="1143000"/>
            <a:ext cx="786600" cy="6433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2" name="Прямая со стрелкой 13"/>
          <p:cNvCxnSpPr/>
          <p:nvPr/>
        </p:nvCxnSpPr>
        <p:spPr>
          <a:xfrm flipH="1">
            <a:off x="4357080" y="2428920"/>
            <a:ext cx="78660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3" name="Прямая со стрелкой 15"/>
          <p:cNvCxnSpPr/>
          <p:nvPr/>
        </p:nvCxnSpPr>
        <p:spPr>
          <a:xfrm flipH="1">
            <a:off x="5357520" y="2428920"/>
            <a:ext cx="216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cxnSp>
        <p:nvCxnSpPr>
          <p:cNvPr id="94" name="Прямая со стрелкой 17"/>
          <p:cNvCxnSpPr/>
          <p:nvPr/>
        </p:nvCxnSpPr>
        <p:spPr>
          <a:xfrm>
            <a:off x="5643720" y="2428920"/>
            <a:ext cx="1072080" cy="929520"/>
          </a:xfrm>
          <a:prstGeom prst="straightConnector1">
            <a:avLst/>
          </a:prstGeom>
          <a:ln w="9360">
            <a:solidFill>
              <a:srgbClr val="9f9f9f"/>
            </a:solidFill>
            <a:miter/>
            <a:tailEnd len="med" type="arrow" w="med"/>
          </a:ln>
        </p:spPr>
      </p:cxnSp>
      <p:sp>
        <p:nvSpPr>
          <p:cNvPr id="95" name="TextBox 18"/>
          <p:cNvSpPr/>
          <p:nvPr/>
        </p:nvSpPr>
        <p:spPr>
          <a:xfrm>
            <a:off x="214200" y="4071960"/>
            <a:ext cx="871560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ункц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1)Транспортная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(транспорт крови с питательными веществами, транспорт 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к органам, СО</a:t>
            </a:r>
            <a:r>
              <a:rPr b="0" lang="ru-RU" sz="1800" spc="-1" strike="noStrike" baseline="-25000">
                <a:solidFill>
                  <a:srgbClr val="080808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– к легким, транспорт продуктов распада к органам выделени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2) Терморегулирующ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перераспределение тепла в организм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3) Защит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обеспечивается функциями кров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4) Гуморальная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транспорт гормонов и других БАВ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785880" y="142884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Возрастает  частота пульс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ртериальное давлени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корость кровотока, повыша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температура те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071720" y="471492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928800" y="1643040"/>
            <a:ext cx="3357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Гиподинамия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недостаток двигатель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ктив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072040" y="157176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достаток  движения оказывается причиной нарушений в деятельно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рдца, нарушает циркуляцию крови и лимф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071720" y="3500280"/>
            <a:ext cx="321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теросклероз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аркт миокар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суль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омбофлеби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781200" y="281160"/>
            <a:ext cx="778320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4643280" y="2500200"/>
            <a:ext cx="378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Verdana"/>
              </a:rPr>
              <a:t>Сердце</a:t>
            </a: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 - это полый мышечный орган, расположенный в левой половине грудной клетки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Масса - около 300г.(у мужчин-330г, у женщин-240г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642960" y="1214280"/>
            <a:ext cx="3851280" cy="511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596880" y="311040"/>
            <a:ext cx="8199360" cy="90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СЕРДЦЕ"/>
          <p:cNvPicPr/>
          <p:nvPr/>
        </p:nvPicPr>
        <p:blipFill>
          <a:blip r:embed="rId2"/>
          <a:stretch/>
        </p:blipFill>
        <p:spPr>
          <a:xfrm>
            <a:off x="2714760" y="1285920"/>
            <a:ext cx="36003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357280" y="28576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428920" y="428616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429160" y="4214880"/>
            <a:ext cx="1440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643720" y="242892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71680" y="2428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а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7286760" y="2071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ое предсерд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700092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Левый желудоч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798480" y="603360"/>
            <a:ext cx="8143920" cy="12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стенка-сердца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4619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5072040" y="1928880"/>
            <a:ext cx="3857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Наружный     соединительноткан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Эпи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2) Средний мышеч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(Ми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3) Внутренний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эпителиальный (Эндокард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4243680" cy="72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eart4"/>
          <p:cNvPicPr/>
          <p:nvPr/>
        </p:nvPicPr>
        <p:blipFill>
          <a:blip r:embed="rId2"/>
          <a:stretch/>
        </p:blipFill>
        <p:spPr>
          <a:xfrm>
            <a:off x="3214800" y="1214280"/>
            <a:ext cx="5618160" cy="4496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4714920" y="571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Полулунн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86200" y="6072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Створчатые клап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57880" y="1000080"/>
            <a:ext cx="357120" cy="287820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5786280" y="1071720"/>
            <a:ext cx="46080" cy="278604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 flipH="1" flipV="1">
            <a:off x="5071680" y="4357440"/>
            <a:ext cx="792360" cy="172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 flipH="1" flipV="1">
            <a:off x="6214680" y="3786120"/>
            <a:ext cx="42876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285840" y="1214280"/>
            <a:ext cx="271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предсердий клапаны открываю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ри сокращении желудочков клапаны закрываются, поэтому кровь движется в одном направлении. Натяжение сухожильных нитей предотвращает выворачивание створок клапанов в предсерд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4" descr=""/>
          <p:cNvPicPr/>
          <p:nvPr/>
        </p:nvPicPr>
        <p:blipFill>
          <a:blip r:embed="rId1"/>
          <a:stretch/>
        </p:blipFill>
        <p:spPr>
          <a:xfrm>
            <a:off x="530280" y="317520"/>
            <a:ext cx="3833640" cy="140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систола предсердий"/>
          <p:cNvPicPr/>
          <p:nvPr/>
        </p:nvPicPr>
        <p:blipFill>
          <a:blip r:embed="rId2"/>
          <a:stretch/>
        </p:blipFill>
        <p:spPr>
          <a:xfrm>
            <a:off x="777960" y="1828800"/>
            <a:ext cx="3511440" cy="4038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систола желуд"/>
          <p:cNvPicPr/>
          <p:nvPr/>
        </p:nvPicPr>
        <p:blipFill>
          <a:blip r:embed="rId3"/>
          <a:stretch/>
        </p:blipFill>
        <p:spPr>
          <a:xfrm>
            <a:off x="4888080" y="1828800"/>
            <a:ext cx="3595680" cy="40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4788000" y="476280"/>
            <a:ext cx="367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Систол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Times New Roman"/>
              </a:rPr>
              <a:t>желудочк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23608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3316320"/>
                <a:gridCol w="3230280"/>
                <a:gridCol w="21672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Фазы сердечного цик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виж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одолжи 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ельность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предсерд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предсердий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1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ок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систол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желудочков в артерию и аор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3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асслаб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диастола) предсердий и желудоч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з вен в предсерд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 в желуд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0,4 с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artery-vein"/>
          <p:cNvPicPr/>
          <p:nvPr/>
        </p:nvPicPr>
        <p:blipFill>
          <a:blip r:embed="rId1"/>
          <a:srcRect l="8606" t="0" r="2157" b="14005"/>
          <a:stretch/>
        </p:blipFill>
        <p:spPr>
          <a:xfrm>
            <a:off x="1785960" y="1714680"/>
            <a:ext cx="5313240" cy="3840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1420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Артерии 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- сосуды, по которым кровь движется от сердц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образованы наружной соединительной оболочкой, средний слой- гладкие мышцы с эластичными волокнами, внутренний слой- эндотелиальны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По мере удаления от сердца артерии ветвятся и становятся то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571500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Verdana"/>
              </a:rPr>
              <a:t>Вена</a:t>
            </a: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 – сосуды, по которым кровь движется к сердц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вен тоньше, чем у артерий, так как давление в них мен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Verdana"/>
              </a:rPr>
              <a:t>Стенки также образованы тремя оболочк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6:43:35Z</dcterms:created>
  <dc:creator>Ilja</dc:creator>
  <dc:description/>
  <dc:language>en-US</dc:language>
  <cp:lastModifiedBy>Юлия</cp:lastModifiedBy>
  <dcterms:modified xsi:type="dcterms:W3CDTF">2012-12-05T16:29:15Z</dcterms:modified>
  <cp:revision>26</cp:revision>
  <dc:subject/>
  <dc:title>Кровеносная система человека.</dc:title>
</cp:coreProperties>
</file>