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30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80E-2318-46C7-AA26-2097FB3E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766-3800-42EE-AA86-6CFD3201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C89-A915-457F-9634-D517BA37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AFF-72DD-4DFB-88FA-8C4B9018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0B42-E050-4B6D-860A-64A725C2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5E09-C4AD-400B-8527-E9F4518F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EF99-A77C-498D-805A-1074FF55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977D-4A08-400A-BEEF-0FFCB5AF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D481-4E4F-4686-9FA2-615B7C57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9059-3DF3-4280-BCFF-7B0E28E6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57AB-A3B5-4D93-95E4-D4322DF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2C6-C99E-4784-A95F-1269BEE8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7482-C8C4-44E6-B0BD-86DB7801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EBE2-0D6E-4EF1-A33E-D064BFD7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0C87-9577-4EFC-B329-1D526209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C273-3311-46F9-81A9-5D75AD1B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1692-790E-43EB-8A05-79590B2A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DAB-C1D9-4F8A-BAEB-7495D818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484-1E8F-4D41-AA6D-772569AD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F4D-5454-4C97-A19D-C64DBD37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6C0-9DF9-4B91-842B-E15258F0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501-21F2-433E-81E2-B140F96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BD3-07A3-4254-9245-3EB3F50D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C70-DF2C-413A-B8DF-98736F87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471D-2F70-4902-B8ED-4A8AA0E65E30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CF14-E65D-4E1A-A2CE-8B38C580B165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530280" y="1616040"/>
            <a:ext cx="8516880" cy="1908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4643280" y="4143240"/>
            <a:ext cx="40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одготовил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Неустроева Юл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Коваленко Макси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capillary"/>
          <p:cNvPicPr/>
          <p:nvPr/>
        </p:nvPicPr>
        <p:blipFill>
          <a:blip r:embed="rId1"/>
          <a:srcRect l="0" t="0" r="16465" b="-584"/>
          <a:stretch/>
        </p:blipFill>
        <p:spPr>
          <a:xfrm>
            <a:off x="285840" y="1143000"/>
            <a:ext cx="4979880" cy="4138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5572080" y="157176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Капиляры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. Образованы одним слоем клеток эндотели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У человека более 150 млрд. Капиляров общей длиной более 100тыс. К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кровообращение"/>
          <p:cNvPicPr/>
          <p:nvPr/>
        </p:nvPicPr>
        <p:blipFill>
          <a:blip r:embed="rId1"/>
          <a:stretch/>
        </p:blipFill>
        <p:spPr>
          <a:xfrm>
            <a:off x="2857680" y="214200"/>
            <a:ext cx="3435120" cy="64296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85840" y="85716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Малый круг кровообращ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429240" y="392904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Большой круг кровообращ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4" descr=""/>
          <p:cNvPicPr/>
          <p:nvPr/>
        </p:nvPicPr>
        <p:blipFill>
          <a:blip r:embed="rId1"/>
          <a:stretch/>
        </p:blipFill>
        <p:spPr>
          <a:xfrm>
            <a:off x="-182520" y="-171360"/>
            <a:ext cx="933300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179280" y="907920"/>
          <a:ext cx="8785440" cy="57168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к 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лы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ьшо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начин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авом желуд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вом желуд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заканчив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вом предсерд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авом предсерд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пилляр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ёгки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голове, конечностях, органах те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артерия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вен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кровь  - кровь, насыщенная 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бедная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нозная кровь – кровь, насыщенная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бедная 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3348000" y="1225440"/>
            <a:ext cx="5438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 всех тканях есть слепо заканчивающиеся лимфатические  капиляры, в них концентрируется тканевая жидкость, превращаясь в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лимфу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 сутки образуется около 3 литров лимф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ияние сосудов образуют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лимфатические узл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в них аккумулируются лимфоциты (осуществляют фагоцитоз и образование антител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узлах задерживаются микроорганизмы, попавшие в организм. При этом происходит набухание лимфоузлов, за счет образования лимфоцит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 лимфатических узлов лимфа по лимфатическим сосудам двигается к правому и левому грудным лимфатическим протокам, которые впадают в нижнюю полую вену.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4" descr="E:\Documents and Settings\Андрей\Рабочий стол\1.png"/>
          <p:cNvPicPr/>
          <p:nvPr/>
        </p:nvPicPr>
        <p:blipFill>
          <a:blip r:embed="rId2"/>
          <a:stretch/>
        </p:blipFill>
        <p:spPr>
          <a:xfrm>
            <a:off x="250920" y="2060640"/>
            <a:ext cx="297972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571680" y="1785960"/>
            <a:ext cx="52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Пульс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– ритмические колебания стенок сосудов, возникшие при гидродинимическом ударе во время сердечного выброса. Норма у взрослого человека составляет 60-80 ударов в минут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71680" y="3714840"/>
            <a:ext cx="464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ульс прощупывается в крупных артериях, близко расположенных к поверхности тела (на внутренней стороне запястья, на висках, по бокам шеи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5" descr="E:\Documents and Settings\Андрей\Рабочий стол\2.jpg"/>
          <p:cNvPicPr/>
          <p:nvPr/>
        </p:nvPicPr>
        <p:blipFill>
          <a:blip r:embed="rId2"/>
          <a:stretch/>
        </p:blipFill>
        <p:spPr>
          <a:xfrm>
            <a:off x="5386320" y="3213000"/>
            <a:ext cx="3573360" cy="346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-792000" y="36360"/>
            <a:ext cx="10369440" cy="1444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Гипертония -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 стойкое повышение артериального давлени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Атеросклероз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80808"/>
                </a:solidFill>
                <a:latin typeface="Times New Roman"/>
              </a:rPr>
              <a:t>-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отложение на стенках  сосудов холестерин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Инфаркт миокарда</a:t>
            </a:r>
            <a:r>
              <a:rPr b="1" lang="ru-RU" sz="3300" spc="-1" strike="noStrike">
                <a:solidFill>
                  <a:srgbClr val="080808"/>
                </a:solidFill>
                <a:latin typeface="Times New Roman"/>
              </a:rPr>
              <a:t> -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омертвление мышц сердц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Стенокардия -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приступы сильной боли, связанные со спазмом коронарных артери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Эндартериит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80808"/>
                </a:solidFill>
                <a:latin typeface="Times New Roman"/>
              </a:rPr>
              <a:t>- 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«перемежающаяся  хромота курильщиков»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Тромбофлебит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80808"/>
                </a:solidFill>
                <a:latin typeface="Times New Roman"/>
              </a:rPr>
              <a:t>-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  воспаление вен и образование в них  тромб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357800" y="1643040"/>
            <a:ext cx="4438440" cy="4708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642960" y="157176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Избыток жиров и холестерина ухудшае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работу сосудов и сердц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642960" y="3500280"/>
            <a:ext cx="307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теросклероз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аркт миокар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428760" y="1357200"/>
            <a:ext cx="307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Вещества , входящие в соста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табачного дыма, вызывают спаз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сосудов, и ткани организма получаю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значительно меньше питательных веществ из кислорода, чем нужн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785880" y="4714920"/>
            <a:ext cx="271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теросклеро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ндартерии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омбофлеби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7" descr="7"/>
          <p:cNvPicPr/>
          <p:nvPr/>
        </p:nvPicPr>
        <p:blipFill>
          <a:blip r:embed="rId2"/>
          <a:stretch/>
        </p:blipFill>
        <p:spPr>
          <a:xfrm>
            <a:off x="5643720" y="4000680"/>
            <a:ext cx="3151080" cy="2612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7"/>
          <p:cNvPicPr/>
          <p:nvPr/>
        </p:nvPicPr>
        <p:blipFill>
          <a:blip r:embed="rId3"/>
          <a:stretch/>
        </p:blipFill>
        <p:spPr>
          <a:xfrm>
            <a:off x="3929040" y="1357200"/>
            <a:ext cx="3843360" cy="293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6840" y="1599840"/>
            <a:ext cx="5543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Алкоголь разрушает клетки сердечной мышцы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Нарушается кровообращение внутри сердц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Сердце покрывается жировой тканью  и его сосуды поражаются атеросклероз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В сосудах образуются тромб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Нарушается питание клеток сердца и они отмира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6143760" y="435780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теросклероз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781200" y="517680"/>
            <a:ext cx="7783200" cy="7934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714680" y="185724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ердц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786200" y="1857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ос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071880" y="335772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артер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929120" y="3357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ве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6286680" y="335772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капиля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0" name="Прямая со стрелкой 9"/>
          <p:cNvCxnSpPr/>
          <p:nvPr/>
        </p:nvCxnSpPr>
        <p:spPr>
          <a:xfrm flipH="1">
            <a:off x="2928240" y="1214280"/>
            <a:ext cx="786600" cy="5011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1" name="Прямая со стрелкой 11"/>
          <p:cNvCxnSpPr/>
          <p:nvPr/>
        </p:nvCxnSpPr>
        <p:spPr>
          <a:xfrm>
            <a:off x="4142880" y="1143000"/>
            <a:ext cx="786600" cy="6433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2" name="Прямая со стрелкой 13"/>
          <p:cNvCxnSpPr/>
          <p:nvPr/>
        </p:nvCxnSpPr>
        <p:spPr>
          <a:xfrm flipH="1">
            <a:off x="4357080" y="2428920"/>
            <a:ext cx="786600" cy="9295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3" name="Прямая со стрелкой 15"/>
          <p:cNvCxnSpPr/>
          <p:nvPr/>
        </p:nvCxnSpPr>
        <p:spPr>
          <a:xfrm flipH="1">
            <a:off x="5357520" y="2428920"/>
            <a:ext cx="2160" cy="9295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4" name="Прямая со стрелкой 17"/>
          <p:cNvCxnSpPr/>
          <p:nvPr/>
        </p:nvCxnSpPr>
        <p:spPr>
          <a:xfrm>
            <a:off x="5643720" y="2428920"/>
            <a:ext cx="1072080" cy="9295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sp>
        <p:nvSpPr>
          <p:cNvPr id="95" name="TextBox 18"/>
          <p:cNvSpPr/>
          <p:nvPr/>
        </p:nvSpPr>
        <p:spPr>
          <a:xfrm>
            <a:off x="214200" y="4071960"/>
            <a:ext cx="8715600" cy="26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Функци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1)Транспортная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(транспорт крови с питательными веществами, транспорт О</a:t>
            </a:r>
            <a:r>
              <a:rPr b="0" lang="ru-RU" sz="1800" spc="-1" strike="noStrike" baseline="-25000">
                <a:solidFill>
                  <a:srgbClr val="080808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к органам, СО</a:t>
            </a:r>
            <a:r>
              <a:rPr b="0" lang="ru-RU" sz="1800" spc="-1" strike="noStrike" baseline="-25000">
                <a:solidFill>
                  <a:srgbClr val="080808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– к легким, транспорт продуктов распада к органам выделени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2) Терморегулирующая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перераспределение тепла в организм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3) Защитная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обеспечивается функциями крови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4) Гуморальная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транспорт гормонов и других БАВ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785880" y="142884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Возрастает  частота пульс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артериальное давлени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корость кровотока, повышает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температура те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1071720" y="471492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суль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928800" y="1643040"/>
            <a:ext cx="3357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Verdana"/>
              </a:rPr>
              <a:t>Гиподинамия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недостаток двигательн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актив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5072040" y="1571760"/>
            <a:ext cx="314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достаток  движения оказывается причиной нарушений в деятельност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рдца, нарушает циркуляцию крови и лимф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071720" y="3500280"/>
            <a:ext cx="321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теросклероз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суль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омбофлеби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781200" y="281160"/>
            <a:ext cx="778320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4643280" y="2500200"/>
            <a:ext cx="378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Verdana"/>
              </a:rPr>
              <a:t>Сердце</a:t>
            </a: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 - это полый мышечный орган, расположенный в левой половине грудной клетки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Масса - около 300г.(у мужчин-330г, у женщин-240г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642960" y="1214280"/>
            <a:ext cx="3851280" cy="511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596880" y="311040"/>
            <a:ext cx="8199360" cy="90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СЕРДЦЕ"/>
          <p:cNvPicPr/>
          <p:nvPr/>
        </p:nvPicPr>
        <p:blipFill>
          <a:blip r:embed="rId2"/>
          <a:stretch/>
        </p:blipFill>
        <p:spPr>
          <a:xfrm>
            <a:off x="2714760" y="1285920"/>
            <a:ext cx="360036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2357280" y="285768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2428920" y="4286160"/>
            <a:ext cx="1439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429160" y="421488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643720" y="2428920"/>
            <a:ext cx="1439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71680" y="2428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авое предсерд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785880" y="40006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авый желудоче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7286760" y="20718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Левое предсерд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700092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Левый желудоче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798480" y="603360"/>
            <a:ext cx="8143920" cy="12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стенка-сердца"/>
          <p:cNvPicPr/>
          <p:nvPr/>
        </p:nvPicPr>
        <p:blipFill>
          <a:blip r:embed="rId2"/>
          <a:stretch/>
        </p:blipFill>
        <p:spPr>
          <a:xfrm>
            <a:off x="357120" y="1857240"/>
            <a:ext cx="4470480" cy="46198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5072040" y="1928880"/>
            <a:ext cx="3857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Наружный     соединительнотканны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Эпикард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2) Средний мышечны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Миокард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3) Внутренний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эпителиальный (Эндокард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176040" y="225360"/>
            <a:ext cx="4243680" cy="72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eart4"/>
          <p:cNvPicPr/>
          <p:nvPr/>
        </p:nvPicPr>
        <p:blipFill>
          <a:blip r:embed="rId2"/>
          <a:stretch/>
        </p:blipFill>
        <p:spPr>
          <a:xfrm>
            <a:off x="3214800" y="1214280"/>
            <a:ext cx="5618160" cy="4496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4714920" y="571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Полулунные клапа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786200" y="607212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Створчатые клапа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57880" y="1000080"/>
            <a:ext cx="357120" cy="2878200"/>
          </a:xfrm>
          <a:prstGeom prst="line">
            <a:avLst/>
          </a:prstGeom>
          <a:ln w="572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13"/>
          <p:cNvSpPr/>
          <p:nvPr/>
        </p:nvSpPr>
        <p:spPr>
          <a:xfrm flipH="1">
            <a:off x="5786280" y="1071720"/>
            <a:ext cx="46080" cy="2786040"/>
          </a:xfrm>
          <a:prstGeom prst="line">
            <a:avLst/>
          </a:prstGeom>
          <a:ln w="572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Line 10"/>
          <p:cNvSpPr/>
          <p:nvPr/>
        </p:nvSpPr>
        <p:spPr>
          <a:xfrm flipH="1" flipV="1">
            <a:off x="5071680" y="4357440"/>
            <a:ext cx="792360" cy="1725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Line 10"/>
          <p:cNvSpPr/>
          <p:nvPr/>
        </p:nvSpPr>
        <p:spPr>
          <a:xfrm flipH="1" flipV="1">
            <a:off x="6214680" y="3786120"/>
            <a:ext cx="428760" cy="228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285840" y="1214280"/>
            <a:ext cx="271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и сокращении предсердий клапаны открывают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и сокращении желудочков клапаны закрываются, поэтому кровь движется в одном направлении. Натяжение сухожильных нитей предотвращает выворачивание створок клапанов в предсерд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4" descr=""/>
          <p:cNvPicPr/>
          <p:nvPr/>
        </p:nvPicPr>
        <p:blipFill>
          <a:blip r:embed="rId1"/>
          <a:stretch/>
        </p:blipFill>
        <p:spPr>
          <a:xfrm>
            <a:off x="530280" y="317520"/>
            <a:ext cx="3833640" cy="1407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систола предсердий"/>
          <p:cNvPicPr/>
          <p:nvPr/>
        </p:nvPicPr>
        <p:blipFill>
          <a:blip r:embed="rId2"/>
          <a:stretch/>
        </p:blipFill>
        <p:spPr>
          <a:xfrm>
            <a:off x="777960" y="1828800"/>
            <a:ext cx="3511440" cy="4038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систола желуд"/>
          <p:cNvPicPr/>
          <p:nvPr/>
        </p:nvPicPr>
        <p:blipFill>
          <a:blip r:embed="rId3"/>
          <a:stretch/>
        </p:blipFill>
        <p:spPr>
          <a:xfrm>
            <a:off x="4888080" y="1828800"/>
            <a:ext cx="3595680" cy="4038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4788000" y="476280"/>
            <a:ext cx="367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imes New Roman"/>
              </a:rPr>
              <a:t>Систол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imes New Roman"/>
              </a:rPr>
              <a:t>желудочко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536400" y="285840"/>
            <a:ext cx="82360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250920" y="1628640"/>
          <a:ext cx="8713800" cy="4680000"/>
        </p:xfrm>
        <a:graphic>
          <a:graphicData uri="http://schemas.openxmlformats.org/drawingml/2006/table">
            <a:tbl>
              <a:tblPr/>
              <a:tblGrid>
                <a:gridCol w="3316320"/>
                <a:gridCol w="3230280"/>
                <a:gridCol w="21672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Фазы сердечного цик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виже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ров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Продолжи 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ельность ф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окра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систол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предсерд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з предсердий в желуд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,1 с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окра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систол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елудоч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з желудочков в артерию и аор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,3 с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асслаб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диастола) предсердий и желудоч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з вен в предсерд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 в желуд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,4 с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artery-vein"/>
          <p:cNvPicPr/>
          <p:nvPr/>
        </p:nvPicPr>
        <p:blipFill>
          <a:blip r:embed="rId1"/>
          <a:srcRect l="8606" t="0" r="2157" b="14005"/>
          <a:stretch/>
        </p:blipFill>
        <p:spPr>
          <a:xfrm>
            <a:off x="1785960" y="1714680"/>
            <a:ext cx="5313240" cy="38401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214200" y="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Артерии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- сосуды, по которым кровь движется от сердц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Стенки образованы наружной соединительной оболочкой, средний слой- гладкие мышцы с эластичными волокнами, внутренний слой- эндотелиальны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о мере удаления от сердца артерии ветвятся и становятся тоньш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0" y="571500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Вена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– сосуды, по которым кровь движется к сердц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Стенки вен тоньше, чем у артерий, так как давление в них меньш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Стенки также образованы тремя оболочка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06:43:35Z</dcterms:created>
  <dc:creator>Ilja</dc:creator>
  <dc:description/>
  <dc:language>en-US</dc:language>
  <cp:lastModifiedBy>Юлия</cp:lastModifiedBy>
  <dcterms:modified xsi:type="dcterms:W3CDTF">2012-12-05T16:29:15Z</dcterms:modified>
  <cp:revision>26</cp:revision>
  <dc:subject/>
  <dc:title>Кровеносная система человека.</dc:title>
</cp:coreProperties>
</file>