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6A4-AE9A-43F4-9FC7-5AEC12DA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74C-5E39-4E44-A7EB-04025FE5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4ED-B870-4E7F-B69A-666DE3AF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74E3-232A-496A-8F7C-E99060C0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339-72CB-450F-B3F7-A2B1BA71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4D5-23F4-436B-8A01-56763933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3A8D-95D8-4DF6-A7DA-FD55B387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5E5A-9A8A-41AA-AED2-3C2D3A53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7EF-F0F8-45BE-90ED-306EE831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43C-80FC-494C-AB07-2E464DB2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140-B634-4C0B-9172-252A2444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3CF-0DF4-45A4-8EC2-6F2497C0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B18C-6FB9-4481-AB34-702A444486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755640" y="333360"/>
            <a:ext cx="7704000" cy="57456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 Движущая сила - 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777960" y="1916280"/>
            <a:ext cx="7704000" cy="129672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 Движущая сила - 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)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)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)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755640" y="4221000"/>
            <a:ext cx="7704000" cy="216072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 Движущая сила - 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) 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) 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) 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) 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трелка вниз 4"/>
          <p:cNvSpPr/>
          <p:nvPr/>
        </p:nvSpPr>
        <p:spPr>
          <a:xfrm>
            <a:off x="3492360" y="907920"/>
            <a:ext cx="1871640" cy="1081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трелка вниз 5"/>
          <p:cNvSpPr/>
          <p:nvPr/>
        </p:nvSpPr>
        <p:spPr>
          <a:xfrm>
            <a:off x="3492360" y="3213000"/>
            <a:ext cx="1871640" cy="1152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Красивые птицы павлины. Фото"/>
          <p:cNvPicPr/>
          <p:nvPr/>
        </p:nvPicPr>
        <p:blipFill>
          <a:blip r:embed="rId1"/>
          <a:stretch/>
        </p:blipFill>
        <p:spPr>
          <a:xfrm>
            <a:off x="395280" y="368280"/>
            <a:ext cx="8353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4211640" y="404640"/>
            <a:ext cx="4681440" cy="604872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«Индустриальный меланизм» представляет собой резкое повышение доли меланистических (имеющих тёмную окраску) особей в тех популяциях насекомых (например, бабочек), которые обитают в промышленных районах. Из-за промышленного воздействия стволы деревьев значительно потемнели, а также погибли светлые лишайники, из-за чего светлые бабочки стали лучше видны для птиц, а тёмные — хуже. В XX веке в ряде районов доля тёмноокрашенных бабочек в некоторых хорошо изученных популяциях </a:t>
            </a:r>
            <a:r>
              <a:rPr b="0" lang="ru-RU" sz="1800" spc="-1" strike="noStrike">
                <a:solidFill>
                  <a:srgbClr val="0b0080"/>
                </a:solidFill>
                <a:latin typeface="Arial"/>
              </a:rPr>
              <a:t>березовой пяденицы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 в Англии достигла 95 %, в то время как впервые тёмная бабочка (</a:t>
            </a:r>
            <a:r>
              <a:rPr b="0" i="1" lang="ru-RU" sz="1800" spc="-1" strike="noStrike">
                <a:solidFill>
                  <a:srgbClr val="252525"/>
                </a:solidFill>
                <a:latin typeface="Arial"/>
              </a:rPr>
              <a:t>morfa carbonaria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) была отловлена в 184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55520" y="1417680"/>
            <a:ext cx="4035600" cy="40291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395280" y="404640"/>
            <a:ext cx="3384720" cy="72072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йте объяснения следующим фак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324000" y="3357720"/>
            <a:ext cx="8569080" cy="201600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На первый взгляд кажется, что наибольший вклад в генофонд следующего поколения должны вносить особи с максимальной плодовитостью. Однако наблюдения над природными популяциями птиц и млекопитающих показывают, что это не так. Чем больше птенцов или детёнышей в гнезде, тем труднее их выкормить, тем каждый из них меньше и слабее. В результате наиболее приспособленными оказываются особи со средней плодовит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324000" y="5589720"/>
            <a:ext cx="8569080" cy="107928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У млекопитающих новорождённые с очень низким и очень высоким весом чаще погибают при рождении или в первые недели жизни, чем новорождённые со средним весо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324000" y="115920"/>
            <a:ext cx="8640720" cy="302580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ьшая группа примеров ведущего действия отбора описана в связи с повышением резистентности (устойчивости) крыс и насекомых к ядохимикатам и микроорганизмов — к антибиотикам. Так, в 1947 г. применение антикоагулята — варфарина в небольших дозах приводило через 5 дней к гибели всей затравливаемой популяции крыс. Однако недавно было обнаружено, что крысы пожирают варфарин без всякого вреда для себя. Повышение устойчивости крыс к варфарину — результат отбора и последующего распространения особей, случайно оказавшихся невосприимчивыми в пределах популяции. Так возникла раса крыс, названная «суперкрысами», причем возникли они на основе нескольких разных мутаций почти во всех странах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00080" y="115920"/>
            <a:ext cx="4052880" cy="328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4751280" y="115920"/>
            <a:ext cx="4038840" cy="27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135000" y="3821040"/>
            <a:ext cx="4038480" cy="294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04030402"/>
          <p:cNvPicPr/>
          <p:nvPr/>
        </p:nvPicPr>
        <p:blipFill>
          <a:blip r:embed="rId4"/>
          <a:stretch/>
        </p:blipFill>
        <p:spPr>
          <a:xfrm>
            <a:off x="4572000" y="2884320"/>
            <a:ext cx="397368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Реликтовое растение вельвичия удивительная"/>
          <p:cNvPicPr/>
          <p:nvPr/>
        </p:nvPicPr>
        <p:blipFill>
          <a:blip r:embed="rId1"/>
          <a:stretch/>
        </p:blipFill>
        <p:spPr>
          <a:xfrm>
            <a:off x="318960" y="981000"/>
            <a:ext cx="8629920" cy="5761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9120" y="1440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ЛЬВИЧИЯ  УДИВИТЕЛЬ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250920" y="333360"/>
            <a:ext cx="8642160" cy="107964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Учёт размера крыльев у воробьёв, погибших после бури в 50-х годах под Ленинградом, показал, что большинство из них имели слишком маленькие или слишком большие крылья. И в этом случае наиболее приспособленными оказались средние особ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250920" y="1557360"/>
            <a:ext cx="8642160" cy="165564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В нормальных условиях сроки цветения и созревания семян у  растения  </a:t>
            </a:r>
            <a:r>
              <a:rPr b="0" lang="ru-RU" sz="1800" spc="-1" strike="noStrike" u="sng">
                <a:solidFill>
                  <a:srgbClr val="a55858"/>
                </a:solidFill>
                <a:uFillTx/>
                <a:latin typeface="Arial"/>
              </a:rPr>
              <a:t>погремка большого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  покрывают всё лето. Но на сенокосных лугах семена дают преимущественно те растения, которые успевают отцвести и созреть либо до периода покоса, либо цветут в конце лета, после покоса. В результате образуются две расы погремка — ранне - и позднецвету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250920" y="3386160"/>
            <a:ext cx="8642160" cy="309564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гда в сороковых и пятидесятых годах 20 века в медицине впервые стали применять </a:t>
            </a:r>
            <a:r>
              <a:rPr b="1" lang="ru-RU" sz="1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пенициллин, стрептомици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другие антибиотики, они были эффективны в отношении болезнетворных микроорганизмов даже в небольших дозах. Однако вскоре после того как применение антибиотиков расширилось, их эффективность начала снижаться и для достижения желаемых результатов приходилось использовать более высокие дозы. Существуют штаммы бактерий, устойчивые к антибиотикам и чувствительные к ним. Появление устойчивых штаммов обусловлено спонтанными мутациями, возникающими с некоторой низкой частотой. Таким образом, применение антибиотиков в низких или умеренных дозах приводит в действие процесс отбора, благоприятствующий появлению устойчивых штам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85840" y="333360"/>
            <a:ext cx="8680320" cy="237492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 Ф. Р. Уэлд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 1898 г. опубликовал результаты многолетнего исследования 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популя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бов в бухте Плимута. После постройки нового большого мола в Плимутской бухте, загородившего узкий вход в бухту, было замечено, что ширина головогруди у крабов достоверно уменьшилась. Биометрические измерения показали, что средняя ширина головогруди краба из года в год уб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285840" y="3500280"/>
            <a:ext cx="8680320" cy="230508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элдон выяснил, что избирательная гибель крабов происходит из-за загрязнения жаберной полости илом, поднимаемым со дна винтами пароходов. В специальном аквариуме Уэлдон поставил опыт, в котором 248 отловленных крабов жили в условиях постоянного взмучивания ила. Оказалось, что у 154 погибших крабов жаберные полости были забиты илом. Биометрические исследования показали, что у выживших крабов относительная ширина головогруди была меньше, чем у погибш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4"/>
          <p:cNvSpPr/>
          <p:nvPr/>
        </p:nvSpPr>
        <p:spPr>
          <a:xfrm>
            <a:off x="3780000" y="2349360"/>
            <a:ext cx="1368360" cy="129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infoniac.ru/upload/medialibrary/bab/baba2acde34ed6602b9ac6f14b7d8786.jpg"/>
          <p:cNvPicPr/>
          <p:nvPr/>
        </p:nvPicPr>
        <p:blipFill>
          <a:blip r:embed="rId1"/>
          <a:stretch/>
        </p:blipFill>
        <p:spPr>
          <a:xfrm>
            <a:off x="173160" y="1484280"/>
            <a:ext cx="3311280" cy="33130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3532320" y="115920"/>
            <a:ext cx="545436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Существу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Roboto"/>
              </a:rPr>
              <a:t>13 видов галапагосских зябликов</a:t>
            </a: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, также известные как зяблики Дарвина, они все разделяют одни и те же привычки и особенности, за исключением одной: у всех 13 разные клювы. Различия в их клювах – это самый важный аспект, благодаря которому они смогли выжить. Существу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Roboto"/>
              </a:rPr>
              <a:t>два документально подтвержденных примера</a:t>
            </a: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 их выживания в конце 1970-х годов и в середине 1980-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Во-первых, когда в 1977 году остров пострадал от сильнейшей засухи, основное питание зябликов – семена – стало дефицитным продуктом. Зябли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Roboto"/>
              </a:rPr>
              <a:t>с крупными, жесткими клювами </a:t>
            </a: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были в состоянии съедать большие семена, которые, как правило, не являлись частью их обычного рациона. В результате они выжили. Зяблики с маленькими клювами не смогли справиться с большими семенами и погибли.                       Благодаря процессу естественного отбора, птицы, которые были в состоянии адаптироваться к условиям обитания, продолжали дальше жить и воспроизводить потомство, в то время как другие погиба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Тем не менее, адаптация может происходить в обоих направлениях, как это и случилось в дождливый сезон 1984-1985 годов. Проливные дожди благоприятствовали появлению большого количества маленьких, мягких семян, но этот раз выжило больше птиц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Roboto"/>
              </a:rPr>
              <a:t>с меньшим клювом</a:t>
            </a: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infoniac.ru/upload/medialibrary/3dc/3dc387a687817a8dee98c7653a953f88.jpg"/>
          <p:cNvPicPr/>
          <p:nvPr/>
        </p:nvPicPr>
        <p:blipFill>
          <a:blip r:embed="rId1"/>
          <a:stretch/>
        </p:blipFill>
        <p:spPr>
          <a:xfrm>
            <a:off x="182520" y="915840"/>
            <a:ext cx="3808440" cy="38084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4140360" y="190440"/>
            <a:ext cx="4716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Roboto"/>
              </a:rPr>
              <a:t>Оленья мышь </a:t>
            </a:r>
            <a:r>
              <a:rPr b="0" lang="ru-RU" sz="1800" spc="-1" strike="noStrike">
                <a:solidFill>
                  <a:srgbClr val="000000"/>
                </a:solidFill>
                <a:latin typeface="Roboto"/>
              </a:rPr>
              <a:t>является одним из примеров максимально быстро развившегося естественного отбора среди животных. Оленья мышь, как правило, темно-коричневого цвета, который идеально подходит мышам, живущим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Roboto"/>
              </a:rPr>
              <a:t>в лесах </a:t>
            </a:r>
            <a:r>
              <a:rPr b="0" lang="ru-RU" sz="1800" spc="-1" strike="noStrike">
                <a:solidFill>
                  <a:srgbClr val="000000"/>
                </a:solidFill>
                <a:latin typeface="Roboto"/>
              </a:rPr>
              <a:t>и прилегающих районах, поскольку именно эта особенность позволяет им лучше скрываться от хищников. Но эта мышь проживает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Roboto"/>
              </a:rPr>
              <a:t>в песчаных долинах</a:t>
            </a:r>
            <a:r>
              <a:rPr b="0" lang="ru-RU" sz="1800" spc="-1" strike="noStrike">
                <a:solidFill>
                  <a:srgbClr val="000000"/>
                </a:solidFill>
                <a:latin typeface="Roboto"/>
              </a:rPr>
              <a:t>, поэтому она быстро приспособилась к окружающей среде и стала песчаного цвета. Без этих перемен мышь стала бы слишком легкой добычей для хищника. Причем, чтобы стать светлее, в организме мыши "сменил род своей деятельности" всего лиш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Roboto"/>
              </a:rPr>
              <a:t>один ген</a:t>
            </a:r>
            <a:r>
              <a:rPr b="0" lang="ru-RU" sz="1800" spc="-1" strike="noStrike">
                <a:solidFill>
                  <a:srgbClr val="000000"/>
                </a:solidFill>
                <a:latin typeface="Roboto"/>
              </a:rPr>
              <a:t>. Что еще больше впечатляет, так это тот факт, что данное изменение произошло всего лишь за 8000 лет, что эквивалентно секунде в эволюционном масшта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5T09:26:34Z</dcterms:created>
  <dc:creator>User</dc:creator>
  <dc:description/>
  <dc:language>en-US</dc:language>
  <cp:lastModifiedBy>Колышкина Е.Ю.</cp:lastModifiedBy>
  <dcterms:modified xsi:type="dcterms:W3CDTF">2017-10-31T03:22:07Z</dcterms:modified>
  <cp:revision>25</cp:revision>
  <dc:subject/>
  <dc:title>……….… ОТБОР</dc:title>
</cp:coreProperties>
</file>