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6E8-87E6-4AC0-A8D0-0030E558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ECB-B73F-4D28-B78C-FAB6851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B5F-885E-4C76-B63F-202B2E32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81E-1D15-470D-B1A0-C2CDCD01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0E7-1F21-48E4-B1CE-C0AE317F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DCD-2731-4CE0-B7B0-4D43897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70D-82F8-4F9D-89C1-6462B23B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B34-C321-443C-9CBB-58B98F6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203-F451-4806-9299-E8AC0FA1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BBC-8019-46B6-B24D-7C93791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622-1C01-408B-A629-A472B3A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23A-0329-409B-9342-2785ED7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2F5-C7E2-43F0-A728-F06B0F659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333360"/>
            <a:ext cx="7704000" cy="57456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 Движущая сила - 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77960" y="1916280"/>
            <a:ext cx="7704000" cy="1296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Движущая сила - 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55640" y="4221000"/>
            <a:ext cx="7704000" cy="2160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Движущая сила - 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4"/>
          <p:cNvSpPr/>
          <p:nvPr/>
        </p:nvSpPr>
        <p:spPr>
          <a:xfrm>
            <a:off x="3492360" y="907920"/>
            <a:ext cx="1871640" cy="1081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трелка вниз 5"/>
          <p:cNvSpPr/>
          <p:nvPr/>
        </p:nvSpPr>
        <p:spPr>
          <a:xfrm>
            <a:off x="3492360" y="3213000"/>
            <a:ext cx="1871640" cy="11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расивые птицы павлины. Фото"/>
          <p:cNvPicPr/>
          <p:nvPr/>
        </p:nvPicPr>
        <p:blipFill>
          <a:blip r:embed="rId1"/>
          <a:stretch/>
        </p:blipFill>
        <p:spPr>
          <a:xfrm>
            <a:off x="395280" y="36828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11640" y="404640"/>
            <a:ext cx="4681440" cy="60487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«Индустриальный меланизм» представляет собой резкое повышение доли меланистических (имеющих тёмную окраску) особей в тех популяциях насекомых (например, бабочек), которые обитают в промышленных районах. Из-за промышленного воздействия стволы деревьев значительно потемнели, а также погибли светлые лишайники, из-за чего светлые бабочки стали лучше видны для птиц, а тёмные — хуже. В XX веке в ряде районов доля тёмноокрашенных бабочек в некоторых хорошо изученных популяциях </a:t>
            </a:r>
            <a:r>
              <a:rPr b="0" lang="ru-RU" sz="1800" spc="-1" strike="noStrike">
                <a:solidFill>
                  <a:srgbClr val="0b0080"/>
                </a:solidFill>
                <a:latin typeface="Arial"/>
              </a:rPr>
              <a:t>березовой пяденицы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 в Англии достигла 95 %, в то время как впервые тёмная бабочка (</a:t>
            </a:r>
            <a:r>
              <a:rPr b="0" i="1" lang="ru-RU" sz="1800" spc="-1" strike="noStrike">
                <a:solidFill>
                  <a:srgbClr val="252525"/>
                </a:solidFill>
                <a:latin typeface="Arial"/>
              </a:rPr>
              <a:t>morfa carbonaria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) была отловлена в 184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5520" y="1417680"/>
            <a:ext cx="4035600" cy="4029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95280" y="404640"/>
            <a:ext cx="3384720" cy="720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йте объяснения следующим фак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324000" y="3357720"/>
            <a:ext cx="8569080" cy="20160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На первый взгляд кажется, что наибольший вклад в генофонд следующего поколения должны вносить особи с максимальной плодовитостью. Однако наблюдения над природными популяциями птиц и млекопитающих показывают, что это не так. Чем больше птенцов или детёнышей в гнезде, тем труднее их выкормить, тем каждый из них меньше и слабее. В результате наиболее приспособленными оказываются особи со средней плодовит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24000" y="5589720"/>
            <a:ext cx="8569080" cy="10792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У млекопитающих новорождённые с очень низким и очень высоким весом чаще погибают при рождении или в первые недели жизни, чем новорождённые со средним вес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24000" y="115920"/>
            <a:ext cx="8640720" cy="30258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ьшая группа примеров ведущего действия отбора описана в связи с повышением резистентности (устойчивости) крыс и насекомых к ядохимикатам и микроорганизмов — к антибиотикам. Так, в 1947 г. применение антикоагулята — варфарина в небольших дозах приводило через 5 дней к гибели всей затравливаемой популяции крыс. Однако недавно было обнаружено, что крысы пожирают варфарин без всякого вреда для себя. Повышение устойчивости крыс к варфарину — результат отбора и последующего распространения особей, случайно оказавшихся невосприимчивыми в пределах популяции. Так возникла раса крыс, названная «суперкрысами», причем возникли они на основе нескольких разных мутаций почти во всех стран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0080" y="115920"/>
            <a:ext cx="405288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751280" y="115920"/>
            <a:ext cx="4038840" cy="27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135000" y="3821040"/>
            <a:ext cx="403848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4030402"/>
          <p:cNvPicPr/>
          <p:nvPr/>
        </p:nvPicPr>
        <p:blipFill>
          <a:blip r:embed="rId4"/>
          <a:stretch/>
        </p:blipFill>
        <p:spPr>
          <a:xfrm>
            <a:off x="4572000" y="2884320"/>
            <a:ext cx="39736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еликтовое растение вельвичия удивительная"/>
          <p:cNvPicPr/>
          <p:nvPr/>
        </p:nvPicPr>
        <p:blipFill>
          <a:blip r:embed="rId1"/>
          <a:stretch/>
        </p:blipFill>
        <p:spPr>
          <a:xfrm>
            <a:off x="318960" y="981000"/>
            <a:ext cx="86299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9120" y="144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ЬВИЧИЯ  УДИВИТЕ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333360"/>
            <a:ext cx="8642160" cy="1079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Учёт размера крыльев у воробьёв, погибших после бури в 50-х годах под Ленинградом, показал, что большинство из них имели слишком маленькие или слишком большие крылья. И в этом случае наиболее приспособленными оказались средние ос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50920" y="1557360"/>
            <a:ext cx="8642160" cy="1655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В нормальных условиях сроки цветения и созревания семян у  растения  </a:t>
            </a:r>
            <a:r>
              <a:rPr b="0" lang="ru-RU" sz="1800" spc="-1" strike="noStrike" u="sng">
                <a:solidFill>
                  <a:srgbClr val="a55858"/>
                </a:solidFill>
                <a:uFillTx/>
                <a:latin typeface="Arial"/>
              </a:rPr>
              <a:t>погремка большого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покрывают всё лето. Но на сенокосных лугах семена дают преимущественно те растения, которые успевают отцвести и созреть либо до периода покоса, либо цветут в конце лета, после покоса. В результате образуются две расы погремка — ранне - и позднецвету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0920" y="3386160"/>
            <a:ext cx="8642160" cy="3095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гда в сороковых и пятидесятых годах 20 века в медицине впервые стали применять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пенициллин, стрептомиц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угие антибиотики, они были эффективны в отношении болезнетворных микроорганизмов даже в небольших дозах. Однако вскоре после того как применение антибиотиков расширилось, их эффективность начала снижаться и для достижения желаемых результатов приходилось использовать более высокие дозы. Существуют штаммы бактерий, устойчивые к антибиотикам и чувствительные к ним. Появление устойчивых штаммов обусловлено спонтанными мутациями, возникающими с некоторой низкой частотой. Таким образом, применение антибиотиков в низких или умеренных дозах приводит в действие процесс отбора, благоприятствующий появлению устойчивых штам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333360"/>
            <a:ext cx="8680320" cy="23749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Ф. Р. Уэлд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1898 г. опубликовал результаты многолетнего исследования 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пуля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бов в бухте Плимута. После постройки нового большого мола в Плимутской бухте, загородившего узкий вход в бухту, было замечено, что ширина головогруди у крабов достоверно уменьшилась. Биометрические измерения показали, что средняя ширина головогруди краба из года в год у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85840" y="3500280"/>
            <a:ext cx="8680320" cy="23050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элдон выяснил, что избирательная гибель крабов происходит из-за загрязнения жаберной полости илом, поднимаемым со дна винтами пароходов. В специальном аквариуме Уэлдон поставил опыт, в котором 248 отловленных крабов жили в условиях постоянного взмучивания ила. Оказалось, что у 154 погибших крабов жаберные полости были забиты илом. Биометрические исследования показали, что у выживших крабов относительная ширина головогруди была меньше, чем у погиб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4"/>
          <p:cNvSpPr/>
          <p:nvPr/>
        </p:nvSpPr>
        <p:spPr>
          <a:xfrm>
            <a:off x="3780000" y="2349360"/>
            <a:ext cx="1368360" cy="129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infoniac.ru/upload/medialibrary/bab/baba2acde34ed6602b9ac6f14b7d8786.jpg"/>
          <p:cNvPicPr/>
          <p:nvPr/>
        </p:nvPicPr>
        <p:blipFill>
          <a:blip r:embed="rId1"/>
          <a:stretch/>
        </p:blipFill>
        <p:spPr>
          <a:xfrm>
            <a:off x="173160" y="1484280"/>
            <a:ext cx="3311280" cy="3313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532320" y="115920"/>
            <a:ext cx="545436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Существу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13 видов галапагосских зябликов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, также известные как зяблики Дарвина, они все разделяют одни и те же привычки и особенности, за исключением одной: у всех 13 разные клювы. Различия в их клювах – это самый важный аспект, благодаря которому они смогли выжить. Существу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два документально подтвержденных примера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их выживания в конце 1970-х годов и в середине 1980-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Во-первых, когда в 1977 году остров пострадал от сильнейшей засухи, основное питание зябликов – семена – стало дефицитным продуктом. Зябли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с крупными, жесткими клювами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были в состоянии съедать большие семена, которые, как правило, не являлись частью их обычного рациона. В результате они выжили. Зяблики с маленькими клювами не смогли справиться с большими семенами и погибли.                       Благодаря процессу естественного отбора, птицы, которые были в состоянии адаптироваться к условиям обитания, продолжали дальше жить и воспроизводить потомство, в то время как другие погиба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Тем не менее, адаптация может происходить в обоих направлениях, как это и случилось в дождливый сезон 1984-1985 годов. Проливные дожди благоприятствовали появлению большого количества маленьких, мягких семян, но этот раз выжило больше птиц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с меньшим клювом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infoniac.ru/upload/medialibrary/3dc/3dc387a687817a8dee98c7653a953f88.jpg"/>
          <p:cNvPicPr/>
          <p:nvPr/>
        </p:nvPicPr>
        <p:blipFill>
          <a:blip r:embed="rId1"/>
          <a:stretch/>
        </p:blipFill>
        <p:spPr>
          <a:xfrm>
            <a:off x="182520" y="915840"/>
            <a:ext cx="3808440" cy="38084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140360" y="190440"/>
            <a:ext cx="471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Оленья мышь 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является одним из примеров максимально быстро развившегося естественного отбора среди животных. Оленья мышь, как правило, темно-коричневого цвета, который идеально подходит мышам, живущи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в лесах 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и прилегающих районах, поскольку именно эта особенность позволяет им лучше скрываться от хищников. Но эта мышь проживае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в песчаных долинах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, поэтому она быстро приспособилась к окружающей среде и стала песчаного цвета. Без этих перемен мышь стала бы слишком легкой добычей для хищника. Причем, чтобы стать светлее, в организме мыши "сменил род своей деятельности" всего лиш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один ген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. Что еще больше впечатляет, так это тот факт, что данное изменение произошло всего лишь за 8000 лет, что эквивалентно секунде в эволюционном масшта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09:26:34Z</dcterms:created>
  <dc:creator>User</dc:creator>
  <dc:description/>
  <dc:language>en-US</dc:language>
  <cp:lastModifiedBy>Колышкина Е.Ю.</cp:lastModifiedBy>
  <dcterms:modified xsi:type="dcterms:W3CDTF">2017-10-31T03:22:07Z</dcterms:modified>
  <cp:revision>25</cp:revision>
  <dc:subject/>
  <dc:title>……….… ОТБОР</dc:title>
</cp:coreProperties>
</file>