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788D-1F95-4A74-83E3-E429FB464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DE98-7041-49F8-A757-386BC32A9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3799-DDA3-452F-889A-FE3EBB59B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D04-7D1C-409E-A8FF-654AF8B44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58D04F-6BBA-4287-861C-0BAD62770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BFFF08-20BB-4C89-AA9F-88C7ADAD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DCCF77-5382-4F4A-8BBC-4C119AE1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1A3E2-2261-48B6-8856-79EC31B6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4F1EF7-842E-4858-B620-EEC089B32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91972-98FF-4970-B195-60842206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BBF580-A6F4-4ECD-9AE5-5EB322E6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102-5D35-4F5A-B51E-90D722271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C8541B-1181-4F97-8CD1-2E8210C3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E5F160-2515-43AB-8866-74E2BA2F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BA3BB1-D2D1-4967-9D41-0E81DAFE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D01744-62B0-43DF-86A7-3572A853F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E7402C-7106-42EC-8AC6-F3D06CEDE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3B95-8249-4F1E-B43F-B3B0D9657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02DA5A-8676-4333-8A6A-C721B76C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57B009-4F5F-4710-86A5-3E2EEE692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A11F5-D322-414D-9C7E-C0975D332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6485E-1E6A-41C0-B06A-7A4B67A43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26E3-85B1-4656-804A-C91E7846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7DCD6-F50F-4BE0-AA2D-EB39565F9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3DCD94-6DA1-4A5F-BD70-217DEF90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D6E65-777B-44D2-816F-058994AE8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7954-C40F-4D8D-8D36-4528691CB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5A3E4-ABC0-49F3-B0F8-8B172B846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82FCD0-E794-44E8-9DC2-45E3B489A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BAD45-E309-4697-8FA9-1EC10DEB5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9C0091-BAF9-47C6-A4B8-3863012DE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632BBE-36CB-4C9F-814B-C08452F3F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DFF5DC-9EA8-408B-8128-15F74AB12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984F6-1BF0-4853-8750-711BC514F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FA9AD8-2F71-4113-B6BC-B824CE2B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258AFA-0344-40A8-8818-0BF4CD162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9C818F-1294-42CC-A6BB-1F1E3D6EE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06D28C-2256-47B6-9FC8-8EEF1F070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734426-F665-4E88-91A8-010804D4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428506-672A-4987-A3E6-7DDFD106D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E1803-9FE5-49D0-BBF4-3E7344B9F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EF999A-7101-4984-82F2-12FEF96C9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52B07F3-8B87-4667-9729-6C348FCAB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B858-1615-4AE5-BFF9-6B369B6E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B7C-C9E8-4B49-8162-602F92D0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6B2D-2221-423F-95A4-FF5CE2B13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8311-0C37-43A0-A466-F629DB0E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D1B-82CC-4EF6-815F-C3513863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EE01D-0724-41D5-926D-B3C5C98C59D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3" descr="H:\графика\asadal\scool\scool\38 [Converted].png"/>
          <p:cNvPicPr/>
          <p:nvPr/>
        </p:nvPicPr>
        <p:blipFill>
          <a:blip r:embed="rId3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4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185BE-AC25-42DF-845A-5016A5FA0647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EC810-70F1-4905-A526-265BB6133F6A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B63A-BAFB-4DDE-8580-5379E181A833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1146240" y="1231920"/>
            <a:ext cx="65530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50560" y="549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Иван Суриков  «Детство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Слушаю я сказку –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Сердце так и мрёт…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                          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37372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50560" y="549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Иван Суриков  «Детство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Слушаю я сказку –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Сердце так и мрёт…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      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хорей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37372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4100" spc="-1" strike="noStrike">
                <a:solidFill>
                  <a:srgbClr val="ff0000"/>
                </a:solidFill>
                <a:latin typeface="Constantia"/>
              </a:rPr>
              <a:t>М.Ю. Лермонтов «Бородино»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Звучал булат, картечь визжала,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Рука бойцов колоть устала…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                                    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                             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95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4100" spc="-1" strike="noStrike">
                <a:solidFill>
                  <a:srgbClr val="ff0000"/>
                </a:solidFill>
                <a:latin typeface="Constantia"/>
              </a:rPr>
              <a:t>М.Ю. Лермонтов «Бородино»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Звучал булат, картечь визжала,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Рука бойцов колоть устала…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                                    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ямб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79280" y="126828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А.Н.Плещеев  «Весна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Уж тает снег, бегут ручьи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В окно повеяло весною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79280" y="126828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А.Н.Плещеев  «Весна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Уж тает снег, бегут ручьи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В окно повеяло весною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Georgia"/>
              </a:rPr>
              <a:t>                             </a:t>
            </a: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ямб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-360" y="981000"/>
            <a:ext cx="878508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А.А.Фет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***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Зреет рожь над жаркой нивой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от нивы и до нивы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-360" y="981000"/>
            <a:ext cx="878508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А.А.Фет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***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Зреет рожь над жаркой нивой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от нивы и до нивы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                    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хоре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очетание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ударных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безударных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слогов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строк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Georgia"/>
              </a:rPr>
              <a:t>Наша Таня громко плачет…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792000" y="165240"/>
            <a:ext cx="94680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0" y="1125360"/>
            <a:ext cx="8785080" cy="8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fcf04"/>
                </a:solidFill>
                <a:latin typeface="Georgia"/>
              </a:rPr>
              <a:t>Наша Таня громко плачет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Содержимое 2"/>
          <p:cNvSpPr/>
          <p:nvPr/>
        </p:nvSpPr>
        <p:spPr>
          <a:xfrm>
            <a:off x="179280" y="1916280"/>
            <a:ext cx="8605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На-ша Та-ня гром-ко пла-ч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179280" y="2997360"/>
            <a:ext cx="8640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ru-RU" sz="4000" spc="-1" strike="noStrike">
                <a:solidFill>
                  <a:srgbClr val="f2f2f2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-ша Т</a:t>
            </a:r>
            <a:r>
              <a:rPr b="1" i="1" lang="ru-RU" sz="4000" spc="-1" strike="noStrike">
                <a:solidFill>
                  <a:srgbClr val="f2f2f2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-ня гр</a:t>
            </a:r>
            <a:r>
              <a:rPr b="1" i="1" lang="ru-RU" sz="4000" spc="-1" strike="noStrike">
                <a:solidFill>
                  <a:srgbClr val="f2f2f2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м-ко пл</a:t>
            </a:r>
            <a:r>
              <a:rPr b="1" i="1" lang="ru-RU" sz="4000" spc="-1" strike="noStrike">
                <a:solidFill>
                  <a:srgbClr val="f2f2f2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-ч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0" y="3573360"/>
            <a:ext cx="8964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  _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 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  _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Содержимое 2"/>
          <p:cNvSpPr/>
          <p:nvPr/>
        </p:nvSpPr>
        <p:spPr>
          <a:xfrm>
            <a:off x="324000" y="4365720"/>
            <a:ext cx="8208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fc00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00b0f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5400" spc="-1" strike="noStrike">
                <a:solidFill>
                  <a:srgbClr val="7030a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7030a0"/>
                </a:solidFill>
                <a:latin typeface="Georgia"/>
              </a:rPr>
              <a:t>  _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0" y="1571760"/>
            <a:ext cx="9144000" cy="20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_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́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  _ </a:t>
            </a:r>
            <a:r>
              <a:rPr b="0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0" i="1" lang="ru-RU" sz="6000" spc="-1" strike="noStrike">
                <a:solidFill>
                  <a:srgbClr val="ffc000"/>
                </a:solidFill>
                <a:latin typeface="Georgia"/>
              </a:rPr>
              <a:t>_</a:t>
            </a:r>
            <a:r>
              <a:rPr b="0" i="1" lang="ru-RU" sz="6000" spc="-1" strike="noStrike">
                <a:solidFill>
                  <a:srgbClr val="ffc000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fc000"/>
                </a:solidFill>
                <a:latin typeface="Georgia"/>
              </a:rPr>
              <a:t>  _ </a:t>
            </a:r>
            <a:r>
              <a:rPr b="0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0" i="1" lang="ru-RU" sz="6000" spc="-1" strike="noStrike">
                <a:solidFill>
                  <a:srgbClr val="00b0f0"/>
                </a:solidFill>
                <a:latin typeface="Georgia"/>
              </a:rPr>
              <a:t>_</a:t>
            </a:r>
            <a:r>
              <a:rPr b="0" i="1" lang="ru-RU" sz="6000" spc="-1" strike="noStrike">
                <a:solidFill>
                  <a:srgbClr val="00b0f0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00b0f0"/>
                </a:solidFill>
                <a:latin typeface="Georgia"/>
              </a:rPr>
              <a:t>  _ </a:t>
            </a:r>
            <a:r>
              <a:rPr b="0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0" i="1" lang="ru-RU" sz="6000" spc="-1" strike="noStrike">
                <a:solidFill>
                  <a:srgbClr val="7030a0"/>
                </a:solidFill>
                <a:latin typeface="Georgia"/>
              </a:rPr>
              <a:t>_</a:t>
            </a:r>
            <a:r>
              <a:rPr b="0" i="1" lang="ru-RU" sz="6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7030a0"/>
                </a:solidFill>
                <a:latin typeface="Georgia"/>
              </a:rPr>
              <a:t>  _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81" name="Правая фигурная скобка 9"/>
          <p:cNvGrpSpPr/>
          <p:nvPr/>
        </p:nvGrpSpPr>
        <p:grpSpPr>
          <a:xfrm>
            <a:off x="49320" y="2511360"/>
            <a:ext cx="2382840" cy="579600"/>
            <a:chOff x="49320" y="2511360"/>
            <a:chExt cx="2382840" cy="579600"/>
          </a:xfrm>
        </p:grpSpPr>
        <p:pic>
          <p:nvPicPr>
            <p:cNvPr id="182" name="Правая фигурная скобка 9" descr=""/>
            <p:cNvPicPr/>
            <p:nvPr/>
          </p:nvPicPr>
          <p:blipFill>
            <a:blip r:embed="rId1"/>
            <a:stretch/>
          </p:blipFill>
          <p:spPr>
            <a:xfrm>
              <a:off x="49320" y="2511360"/>
              <a:ext cx="23828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5400000">
              <a:off x="1184040" y="1639800"/>
              <a:ext cx="1141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Скругленный прямоугольник 10"/>
          <p:cNvGrpSpPr/>
          <p:nvPr/>
        </p:nvGrpSpPr>
        <p:grpSpPr>
          <a:xfrm>
            <a:off x="23760" y="2859120"/>
            <a:ext cx="2470320" cy="1474920"/>
            <a:chOff x="23760" y="2859120"/>
            <a:chExt cx="2470320" cy="1474920"/>
          </a:xfrm>
        </p:grpSpPr>
        <p:pic>
          <p:nvPicPr>
            <p:cNvPr id="18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23760" y="2859120"/>
              <a:ext cx="24703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58920" y="3176640"/>
              <a:ext cx="18018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nstantia"/>
                </a:rPr>
                <a:t>стоп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Скругленный прямоугольник 11"/>
          <p:cNvGrpSpPr/>
          <p:nvPr/>
        </p:nvGrpSpPr>
        <p:grpSpPr>
          <a:xfrm>
            <a:off x="2523960" y="3024360"/>
            <a:ext cx="6400800" cy="1365120"/>
            <a:chOff x="2523960" y="3024360"/>
            <a:chExt cx="6400800" cy="1365120"/>
          </a:xfrm>
        </p:grpSpPr>
        <p:pic>
          <p:nvPicPr>
            <p:cNvPr id="188" name="Скругленный 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2523960" y="3024360"/>
              <a:ext cx="64008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70120" y="3255840"/>
              <a:ext cx="61070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сочетание ударного и безударного слого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90" name="Прямая со стрелкой 13"/>
          <p:cNvCxnSpPr/>
          <p:nvPr/>
        </p:nvCxnSpPr>
        <p:spPr>
          <a:xfrm>
            <a:off x="2195280" y="3499920"/>
            <a:ext cx="361080" cy="25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0" y="-55440"/>
            <a:ext cx="8686800" cy="1927080"/>
          </a:xfrm>
          <a:prstGeom prst="rect">
            <a:avLst/>
          </a:prstGeom>
          <a:ln w="0">
            <a:noFill/>
          </a:ln>
        </p:spPr>
      </p:pic>
      <p:grpSp>
        <p:nvGrpSpPr>
          <p:cNvPr id="193" name="Стрелка вниз 5"/>
          <p:cNvGrpSpPr/>
          <p:nvPr/>
        </p:nvGrpSpPr>
        <p:grpSpPr>
          <a:xfrm>
            <a:off x="3084480" y="1352520"/>
            <a:ext cx="1049400" cy="1135080"/>
            <a:chOff x="3084480" y="1352520"/>
            <a:chExt cx="1049400" cy="1135080"/>
          </a:xfrm>
        </p:grpSpPr>
        <p:pic>
          <p:nvPicPr>
            <p:cNvPr id="194" name="Стрелка вниз 5" descr=""/>
            <p:cNvPicPr/>
            <p:nvPr/>
          </p:nvPicPr>
          <p:blipFill>
            <a:blip r:embed="rId3"/>
            <a:stretch/>
          </p:blipFill>
          <p:spPr>
            <a:xfrm>
              <a:off x="3084480" y="1352520"/>
              <a:ext cx="10494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365200">
              <a:off x="3487320" y="1473120"/>
              <a:ext cx="25236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Стрелка вниз 6"/>
          <p:cNvGrpSpPr/>
          <p:nvPr/>
        </p:nvGrpSpPr>
        <p:grpSpPr>
          <a:xfrm>
            <a:off x="4956120" y="1427040"/>
            <a:ext cx="1060560" cy="1108080"/>
            <a:chOff x="4956120" y="1427040"/>
            <a:chExt cx="1060560" cy="1108080"/>
          </a:xfrm>
        </p:grpSpPr>
        <p:pic>
          <p:nvPicPr>
            <p:cNvPr id="197" name="Стрелка вниз 6" descr=""/>
            <p:cNvPicPr/>
            <p:nvPr/>
          </p:nvPicPr>
          <p:blipFill>
            <a:blip r:embed="rId4"/>
            <a:stretch/>
          </p:blipFill>
          <p:spPr>
            <a:xfrm>
              <a:off x="4956120" y="1427040"/>
              <a:ext cx="1060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19095600">
              <a:off x="5359320" y="1539360"/>
              <a:ext cx="25236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573120" y="274680"/>
            <a:ext cx="8570880" cy="2487600"/>
          </a:xfrm>
          <a:prstGeom prst="rect">
            <a:avLst/>
          </a:prstGeom>
          <a:ln w="0">
            <a:noFill/>
          </a:ln>
        </p:spPr>
      </p:pic>
      <p:grpSp>
        <p:nvGrpSpPr>
          <p:cNvPr id="200" name="Выгнутая вправо стрелка 3"/>
          <p:cNvGrpSpPr/>
          <p:nvPr/>
        </p:nvGrpSpPr>
        <p:grpSpPr>
          <a:xfrm>
            <a:off x="3243240" y="2243160"/>
            <a:ext cx="1219320" cy="1420920"/>
            <a:chOff x="3243240" y="2243160"/>
            <a:chExt cx="1219320" cy="1420920"/>
          </a:xfrm>
        </p:grpSpPr>
        <p:pic>
          <p:nvPicPr>
            <p:cNvPr id="201" name="Выгнутая вправо стрелка 3" descr=""/>
            <p:cNvPicPr/>
            <p:nvPr/>
          </p:nvPicPr>
          <p:blipFill>
            <a:blip r:embed="rId2"/>
            <a:stretch/>
          </p:blipFill>
          <p:spPr>
            <a:xfrm>
              <a:off x="3243240" y="2243160"/>
              <a:ext cx="12193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348000" y="2349360"/>
              <a:ext cx="1008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Выгнутая влево стрелка 5"/>
          <p:cNvGrpSpPr/>
          <p:nvPr/>
        </p:nvGrpSpPr>
        <p:grpSpPr>
          <a:xfrm>
            <a:off x="4541760" y="2243160"/>
            <a:ext cx="1139760" cy="1420920"/>
            <a:chOff x="4541760" y="2243160"/>
            <a:chExt cx="1139760" cy="1420920"/>
          </a:xfrm>
        </p:grpSpPr>
        <p:pic>
          <p:nvPicPr>
            <p:cNvPr id="204" name="Выгнутая влево стрелка 5" descr=""/>
            <p:cNvPicPr/>
            <p:nvPr/>
          </p:nvPicPr>
          <p:blipFill>
            <a:blip r:embed="rId3"/>
            <a:stretch/>
          </p:blipFill>
          <p:spPr>
            <a:xfrm>
              <a:off x="4541760" y="2243160"/>
              <a:ext cx="1139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643280" y="2349360"/>
              <a:ext cx="9367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6" name="Горизонтальный свиток 7" descr=""/>
          <p:cNvPicPr/>
          <p:nvPr/>
        </p:nvPicPr>
        <p:blipFill>
          <a:blip r:embed="rId4"/>
          <a:stretch/>
        </p:blipFill>
        <p:spPr>
          <a:xfrm>
            <a:off x="554040" y="3517920"/>
            <a:ext cx="3998880" cy="1974960"/>
          </a:xfrm>
          <a:prstGeom prst="rect">
            <a:avLst/>
          </a:prstGeom>
          <a:ln w="0">
            <a:noFill/>
          </a:ln>
        </p:spPr>
      </p:pic>
      <p:pic>
        <p:nvPicPr>
          <p:cNvPr id="207" name="Горизонтальный свиток 8" descr=""/>
          <p:cNvPicPr/>
          <p:nvPr/>
        </p:nvPicPr>
        <p:blipFill>
          <a:blip r:embed="rId5"/>
          <a:stretch/>
        </p:blipFill>
        <p:spPr>
          <a:xfrm>
            <a:off x="4591080" y="3517920"/>
            <a:ext cx="3998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-360" y="907560"/>
            <a:ext cx="8785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ХОРЕЙ ( от греческого 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choreios –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лясовой) –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вусложный размер стихотвор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 ударением на первом слог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i="1" lang="ru-RU" sz="4000" spc="-1" strike="noStrike">
                <a:solidFill>
                  <a:srgbClr val="f2f2f2"/>
                </a:solidFill>
                <a:latin typeface="Georgia"/>
              </a:rPr>
              <a:t>День за днём идёт, мелькая…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Д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е</a:t>
            </a: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нь-за-дн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м-и-д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т-мель-к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-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Д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е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нь-за /дн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м-и/д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т-мель/к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-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0" i="1" lang="ru-RU" sz="6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  _ / _</a:t>
            </a:r>
            <a:r>
              <a:rPr b="0" i="1" lang="ru-RU" sz="6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  _ /_</a:t>
            </a:r>
            <a:r>
              <a:rPr b="0" i="1" lang="ru-RU" sz="6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  _ /_</a:t>
            </a:r>
            <a:r>
              <a:rPr b="0" i="1" lang="ru-RU" sz="6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  </a:t>
            </a:r>
            <a:r>
              <a:rPr b="0" i="1" lang="ru-RU" sz="6000" spc="-1" strike="noStrike">
                <a:solidFill>
                  <a:srgbClr val="7030a0"/>
                </a:solidFill>
                <a:latin typeface="Georgia"/>
              </a:rPr>
              <a:t>_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7030a0"/>
                </a:solidFill>
                <a:latin typeface="Georgia"/>
              </a:rPr>
              <a:t>          </a:t>
            </a:r>
            <a:r>
              <a:rPr b="0" i="1" lang="ru-RU" sz="6000" spc="-1" strike="noStrike">
                <a:solidFill>
                  <a:srgbClr val="ffff00"/>
                </a:solidFill>
                <a:latin typeface="Georgia"/>
              </a:rPr>
              <a:t>1 – 3 – 5 – 7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-360" y="475920"/>
            <a:ext cx="8389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        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ЯМБ </a:t>
            </a:r>
            <a:r>
              <a:rPr b="0" lang="ru-RU" sz="1600" spc="-1" strike="noStrike">
                <a:solidFill>
                  <a:srgbClr val="ffff00"/>
                </a:solidFill>
                <a:latin typeface="Constantia"/>
              </a:rPr>
              <a:t>( от греческого </a:t>
            </a:r>
            <a:r>
              <a:rPr b="0" lang="en-US" sz="1600" spc="-1" strike="noStrike">
                <a:solidFill>
                  <a:srgbClr val="ffff00"/>
                </a:solidFill>
                <a:latin typeface="Constantia"/>
              </a:rPr>
              <a:t>iambos) –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двусложный размер стихотворения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с ударением на втором слоге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У лукоморья дуб зелёны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У-л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у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-ко-м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о</a:t>
            </a: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рь-я-д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у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б-зе-л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ё-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ны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У-л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у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/ко-м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о</a:t>
            </a: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рь/я-д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у</a:t>
            </a: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б/зе-л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/ны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_ _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 / _ _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 /_ _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 /_ _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 /_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2f2f2"/>
                </a:solidFill>
                <a:latin typeface="Georgia"/>
              </a:rPr>
              <a:t>          </a:t>
            </a:r>
            <a:r>
              <a:rPr b="0" i="1" lang="ru-RU" sz="4800" spc="-1" strike="noStrike">
                <a:solidFill>
                  <a:srgbClr val="f2f2f2"/>
                </a:solidFill>
                <a:latin typeface="Georgia"/>
              </a:rPr>
              <a:t>2 – 4 – 6 – 8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делить слова в строке на слог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2. Расставить ударение в строк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3. Составить рисунок стопы  _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́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_  или _  _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4. Определить разм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я́мб        _  _́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хоре́й      _́  _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8:08:14Z</dcterms:created>
  <dc:creator>Димка</dc:creator>
  <dc:description/>
  <dc:language>en-US</dc:language>
  <cp:lastModifiedBy>BEST</cp:lastModifiedBy>
  <dcterms:modified xsi:type="dcterms:W3CDTF">2017-11-01T09:44:36Z</dcterms:modified>
  <cp:revision>28</cp:revision>
  <dc:subject/>
  <dc:title>Двусложные размеры стих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7630</vt:lpwstr>
  </property>
</Properties>
</file>