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EF3-A82D-4AF7-9266-62060851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0A15-5767-42B6-A64E-7C9CAD73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286-0650-4337-9EB0-D9D2AD18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387-856D-43FD-AB29-7F2DA4F5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88B-E69B-494F-8F1F-3979C33B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34DB-8891-43FC-9F77-6157C3B2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373-5525-4449-8035-AFF86485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FFB-E590-4E13-B720-545C4DF4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391A-472E-4BAD-BF2A-A5C14AEE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C3C-A4CA-4BA0-B840-1EF3CB7E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535-94D7-4599-B8DC-526C5D9C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BA3C-9163-40B9-A2E2-7749A1A2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83C3-6A43-4D0B-AB1C-5496FA9C1D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0920" y="836280"/>
            <a:ext cx="79930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и дети — это наша ста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е воспитание — это наша счастли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рость, плохое воспитание — это наше буду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е, это наши слезы, это наша вина пере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и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нтон Семенович Макар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i?id=173648360-14"/>
          <p:cNvPicPr/>
          <p:nvPr/>
        </p:nvPicPr>
        <p:blipFill>
          <a:blip r:embed="rId1"/>
          <a:stretch/>
        </p:blipFill>
        <p:spPr>
          <a:xfrm>
            <a:off x="4788000" y="1413000"/>
            <a:ext cx="3959280" cy="482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i?id=115676105-09"/>
          <p:cNvPicPr/>
          <p:nvPr/>
        </p:nvPicPr>
        <p:blipFill>
          <a:blip r:embed="rId2"/>
          <a:stretch/>
        </p:blipFill>
        <p:spPr>
          <a:xfrm>
            <a:off x="468360" y="1413000"/>
            <a:ext cx="4248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i?id=34295443-09"/>
          <p:cNvPicPr/>
          <p:nvPr/>
        </p:nvPicPr>
        <p:blipFill>
          <a:blip r:embed="rId1"/>
          <a:stretch/>
        </p:blipFill>
        <p:spPr>
          <a:xfrm>
            <a:off x="4643280" y="1557360"/>
            <a:ext cx="4032360" cy="453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i?id=66607790-08"/>
          <p:cNvPicPr/>
          <p:nvPr/>
        </p:nvPicPr>
        <p:blipFill>
          <a:blip r:embed="rId2"/>
          <a:stretch/>
        </p:blipFill>
        <p:spPr>
          <a:xfrm>
            <a:off x="468360" y="1484280"/>
            <a:ext cx="40323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6"/>
          <p:cNvGraphicFramePr/>
          <p:nvPr/>
        </p:nvGraphicFramePr>
        <p:xfrm>
          <a:off x="510552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8" descr="i?id=174383881-04"/>
          <p:cNvPicPr/>
          <p:nvPr/>
        </p:nvPicPr>
        <p:blipFill>
          <a:blip r:embed="rId3"/>
          <a:stretch/>
        </p:blipFill>
        <p:spPr>
          <a:xfrm>
            <a:off x="468360" y="1628640"/>
            <a:ext cx="4032360" cy="443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Картинка 319 из 952"/>
          <p:cNvPicPr/>
          <p:nvPr/>
        </p:nvPicPr>
        <p:blipFill>
          <a:blip r:embed="rId4"/>
          <a:stretch/>
        </p:blipFill>
        <p:spPr>
          <a:xfrm>
            <a:off x="4716360" y="1628640"/>
            <a:ext cx="4427640" cy="4606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режим"/>
          <p:cNvPicPr/>
          <p:nvPr/>
        </p:nvPicPr>
        <p:blipFill>
          <a:blip r:embed="rId5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i?id=1110503-01"/>
          <p:cNvPicPr/>
          <p:nvPr/>
        </p:nvPicPr>
        <p:blipFill>
          <a:blip r:embed="rId1"/>
          <a:stretch/>
        </p:blipFill>
        <p:spPr>
          <a:xfrm>
            <a:off x="468360" y="1484280"/>
            <a:ext cx="4032360" cy="475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CIMG1714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ивидуальные особенности познавательной сфе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вень развития памяти, внимания, мышления, речи; несформированность необходимых мыслительных действий и операций (анализа и синтеза),  плохое речевое развитие, недостаточное развитие внимания и памя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релость коры головного моз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обладающий канал восприятия и тип памяти (визуал, аудиал или кинестетик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ные особ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вень трево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еренность в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шение к ситуациям проверки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шение к ожиданиям окружаю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i?id=7651811-10"/>
          <p:cNvPicPr/>
          <p:nvPr/>
        </p:nvPicPr>
        <p:blipFill>
          <a:blip r:embed="rId1"/>
          <a:stretch/>
        </p:blipFill>
        <p:spPr>
          <a:xfrm>
            <a:off x="4648320" y="1413000"/>
            <a:ext cx="40384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тивация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Внешня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ме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нужденный дол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ёба ради престижа, лидерства,  материального вознагра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бегание наказан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нутрення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овлетворение от самой   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емление к успе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имание необходимости для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е как возможность об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Картинка 48 из 2526"/>
          <p:cNvPicPr/>
          <p:nvPr/>
        </p:nvPicPr>
        <p:blipFill>
          <a:blip r:embed="rId1"/>
          <a:stretch/>
        </p:blipFill>
        <p:spPr>
          <a:xfrm>
            <a:off x="5292720" y="333360"/>
            <a:ext cx="3382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1600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муникативные навы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ие выстраивать отношения с учителями и сверст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оотношения между учениками в классе могут сильно влиять на успеваемость учащихся. При нормальных отношениях и при мотивациях большинства учеников, направленных на учебу, класс считается сильным, и, как правило, большинство ребят хорошо уча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i?id=129688725-09"/>
          <p:cNvPicPr/>
          <p:nvPr/>
        </p:nvPicPr>
        <p:blipFill>
          <a:blip r:embed="rId1"/>
          <a:stretch/>
        </p:blipFill>
        <p:spPr>
          <a:xfrm>
            <a:off x="250920" y="189000"/>
            <a:ext cx="3241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выки самообраз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Скорость и качество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Управление информ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Саморегуля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Картинка 12 из 2922"/>
          <p:cNvPicPr/>
          <p:nvPr/>
        </p:nvPicPr>
        <p:blipFill>
          <a:blip r:embed="rId1"/>
          <a:stretch/>
        </p:blipFill>
        <p:spPr>
          <a:xfrm>
            <a:off x="4643280" y="1484280"/>
            <a:ext cx="4176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ивается количество предметов и, соответственно, информационный поток, что вызывает перегрузки и отставание в учебе.  Ученик за время обучения решает 30000 задач, прочитывает 800 000 страниц текста, из-под его пера выходят 500 сочинений и изложений, он получает около 2000 отм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i?id=145779797-00"/>
          <p:cNvPicPr/>
          <p:nvPr/>
        </p:nvPicPr>
        <p:blipFill>
          <a:blip r:embed="rId2"/>
          <a:stretch/>
        </p:blipFill>
        <p:spPr>
          <a:xfrm>
            <a:off x="395280" y="1557360"/>
            <a:ext cx="410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стка дн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и первой четвер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лияет на учебу?Отметка.Оценка.Как к ней относ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оветы родите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Раз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чество выполнения домашне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м домашних заданий по всем предметам в 2классе– до 1 -2ча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Картинка 17 из 3869"/>
          <p:cNvPicPr/>
          <p:nvPr/>
        </p:nvPicPr>
        <p:blipFill>
          <a:blip r:embed="rId1"/>
          <a:stretch/>
        </p:blipFill>
        <p:spPr>
          <a:xfrm>
            <a:off x="4572000" y="1557360"/>
            <a:ext cx="417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ала трудности учебных предме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любимые пред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600" cy="6400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образовательные предмет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аллов (ранг трудности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имый предм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.чт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.яз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наком.с окружающ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.культу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 навред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тели нередко предъявляют к ребенку необоснованные требования — они хотят, чтобы их дети были отличниками любой ценой, при этом нанося ребенку непоправимый вре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i?id=44047993-07"/>
          <p:cNvPicPr/>
          <p:nvPr/>
        </p:nvPicPr>
        <p:blipFill>
          <a:blip r:embed="rId1"/>
          <a:stretch/>
        </p:blipFill>
        <p:spPr>
          <a:xfrm>
            <a:off x="4500720" y="1341360"/>
            <a:ext cx="43909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вило первое: не бей лежачег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“Двойка” - достаточное наказание, и не стоит дважды наказывать за одни и те же ошиб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i?id=27801706-04"/>
          <p:cNvPicPr/>
          <p:nvPr/>
        </p:nvPicPr>
        <p:blipFill>
          <a:blip r:embed="rId1"/>
          <a:stretch/>
        </p:blipFill>
        <p:spPr>
          <a:xfrm>
            <a:off x="4643280" y="1484280"/>
            <a:ext cx="4176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второе: не более одного недостатка в минут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. Знайте меру, ин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бенок станет нечувствительным к вашим оцен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07612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Картинка 61 из 101"/>
          <p:cNvPicPr/>
          <p:nvPr/>
        </p:nvPicPr>
        <p:blipFill>
          <a:blip r:embed="rId1"/>
          <a:stretch/>
        </p:blipFill>
        <p:spPr>
          <a:xfrm>
            <a:off x="4427640" y="1413000"/>
            <a:ext cx="446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вило третье: за двумя зайцами погонишься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Начните с ликвидации тех учебных трудностей, которые наиболее значимы в данный момент дл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i?id=128668316-09"/>
          <p:cNvPicPr/>
          <p:nvPr/>
        </p:nvPicPr>
        <p:blipFill>
          <a:blip r:embed="rId1"/>
          <a:stretch/>
        </p:blipFill>
        <p:spPr>
          <a:xfrm>
            <a:off x="4643280" y="1484280"/>
            <a:ext cx="4249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четвертое: хвалить - исполнителя, критиковать - исполн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i?id=7119532-08"/>
          <p:cNvPicPr/>
          <p:nvPr/>
        </p:nvPicPr>
        <p:blipFill>
          <a:blip r:embed="rId1"/>
          <a:stretch/>
        </p:blipFill>
        <p:spPr>
          <a:xfrm>
            <a:off x="4643280" y="1628640"/>
            <a:ext cx="4105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пятое: оценка должна сравнивать сегодняшние успехи ребенка с его собственными вчерашними неудач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i?id=24714429-06"/>
          <p:cNvPicPr/>
          <p:nvPr/>
        </p:nvPicPr>
        <p:blipFill>
          <a:blip r:embed="rId1"/>
          <a:stretch/>
        </p:blipFill>
        <p:spPr>
          <a:xfrm>
            <a:off x="4643280" y="1341360"/>
            <a:ext cx="417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шестое: не скупитесь на похвал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95280" y="3160800"/>
            <a:ext cx="396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дь родительское: “Не сделал, не старался, не учил” порождает Эхо: “не хочу, не могу, не буду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i?id=90470063-02"/>
          <p:cNvPicPr/>
          <p:nvPr/>
        </p:nvPicPr>
        <p:blipFill>
          <a:blip r:embed="rId1"/>
          <a:stretch/>
        </p:blipFill>
        <p:spPr>
          <a:xfrm>
            <a:off x="4643280" y="1413000"/>
            <a:ext cx="417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икогда  не выполняйте домашнее задание за ребенка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i?id=90212282-08"/>
          <p:cNvPicPr/>
          <p:nvPr/>
        </p:nvPicPr>
        <p:blipFill>
          <a:blip r:embed="rId1"/>
          <a:stretch/>
        </p:blipFill>
        <p:spPr>
          <a:xfrm>
            <a:off x="4643280" y="1557360"/>
            <a:ext cx="4249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помочь ребен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ыявить причины неуспеваемости. Ребёнок не станет учиться лучше, если его заставлять. Напротив, излишняя строгость может спровоцировать тяжёлый стресс, который, в свою очередь, снизит успеваемость ещё больше. Поэтому целесообразно внимательно присмотреться и определить, что конкретно мешает ребёнку. И меры предпринять соответств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улярно беседуйте с учителями вашего ребенка о его успеваемости, поведении и взаимоотношениях с другими деть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всегда рады видеть ВАС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Возможно следует пересмотреть свои требования к ребенку. Быть первым во всём  и всегда -невозможно. Помочь ребенку найти и развить свои способности -например, к музыке, к танцам, рисованию или математике. Это поможет ребёнку развить положительное отношени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Помнить о том, что отличная оценка -не показатель знаний и не самоцель. Культ пятерки может иметь серьёзные последствия, проявляющие во взросл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и 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Быть наблюдательными и внимательными к своим детям, отмечать изменения в их поведении, изменения их работоспосо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Дать возможность каждому ученику проявить себя с наилучшей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нить, что учебные успехи – это ещё н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Быть объективными не только в оценке ученика, но и в оценке сложившейся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тоги первой четвер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3284640"/>
            <a:ext cx="64436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обучения – 49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ваемость -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i?id=58449328-00"/>
          <p:cNvPicPr/>
          <p:nvPr/>
        </p:nvPicPr>
        <p:blipFill>
          <a:blip r:embed="rId1"/>
          <a:stretch/>
        </p:blipFill>
        <p:spPr>
          <a:xfrm>
            <a:off x="6588000" y="4005360"/>
            <a:ext cx="2087640" cy="230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i?id=135073433-03"/>
          <p:cNvPicPr/>
          <p:nvPr/>
        </p:nvPicPr>
        <p:blipFill>
          <a:blip r:embed="rId2"/>
          <a:stretch/>
        </p:blipFill>
        <p:spPr>
          <a:xfrm>
            <a:off x="250920" y="836640"/>
            <a:ext cx="230508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тоги административных контрольных раб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2560" y="1600200"/>
            <a:ext cx="85438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а чтения: 40слов- «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слов- «4» 60слов- «5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5»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4» -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3» 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2»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в:9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чест:5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ье психическое и физ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сихологическое здоровье» - это, прежде всего, открытые и доверительные отношения, это «здоровая и адекватная» самооценка, это умение уступать и договариваться, это способность оценивать себя со стороны.   Подрастающего ребенка следует учить справляться с различными стрессовыми и критическим ситуациями,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ть своими мыслями и чувствами,  уметь не идти «на поводу» у своих эмоций, быть сдержанным и выносливым не только физически, но и эмоциона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7" descr="607815457.gif"/>
          <p:cNvPicPr/>
          <p:nvPr/>
        </p:nvPicPr>
        <p:blipFill>
          <a:blip r:embed="rId1"/>
          <a:stretch/>
        </p:blipFill>
        <p:spPr>
          <a:xfrm>
            <a:off x="324000" y="260280"/>
            <a:ext cx="201600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4:48:59Z</dcterms:created>
  <dc:creator>Admin</dc:creator>
  <dc:description/>
  <dc:language>en-US</dc:language>
  <cp:lastModifiedBy>2а2</cp:lastModifiedBy>
  <dcterms:modified xsi:type="dcterms:W3CDTF">2016-10-12T08:49:37Z</dcterms:modified>
  <cp:revision>18</cp:revision>
  <dc:subject/>
  <dc:title>Родительское собрание </dc:title>
</cp:coreProperties>
</file>