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CC98-5D32-4163-AC25-7E887CD9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0391-CB18-4EB4-BC80-126DDACD9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D508-3985-4EBC-8538-4CD9C083E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6141-97B8-4D53-81DC-7EB283E0F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018B4-772D-4EC8-9E04-F3DEBF3E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43837-A9AE-4E4A-91EC-FA1F3F18E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FA7BC-8AD4-46B5-AE1A-AB6E3F32B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21083-77AF-40EB-99BF-74E0DCFC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161E-3152-4C3F-8513-BDB83139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1DA4F-1785-4E00-9FE7-92C2664E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34C8B-8B29-4778-8DC4-8966DFA4C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36AF-415E-44C3-A0AD-173EEAC9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987E1-B4E7-4BFC-B6F6-4CEA27DA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E23AC-8ECA-4AE3-92EA-AB6726E7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4597D-40E1-4139-8702-226CE9F29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40CCB-2E0D-4FEC-80AC-BFD8A1972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159AF-370B-4000-823D-BA955756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9393-1DDD-4D4D-876E-0541A483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B8D2-B641-4817-A877-96B2FC3D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5F5E-BB17-45CB-BF0D-82CBBC062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0449-B7D4-4E65-9CC3-C48BBEC2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25D5-DE7E-48DF-BC8F-C9D4C107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6B65-B1AD-4382-9ED2-D7A98C8D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F87-E932-4467-BB5A-3537E0E6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ACD6A-73EB-402C-9462-B2D4F0F43E3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52F0F-4122-49B6-88E5-156DF991FE3B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proshkolu.ru/content/media/pic/std/1000000/425000/424765-86cf2045127cbb5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611280" y="1341360"/>
            <a:ext cx="784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ы стихосложения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 зависимости от расположения ударений в рифмующихся словах рифма бывает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Мужска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- рифма с ударением на последнем слоге в стро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 море, и буря качали наш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лн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;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Я, сонный,был предан всей прихоти в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лн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Две беспредельности были во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м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 мной своевольно играли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о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210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Женска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- с ударением на предпоследнем слоге в стро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Тихой ночью, поздним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л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том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ак на небе звезды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д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ют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ак под сумрачным их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св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том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ивы дремлющие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зр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ют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Дактилическа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- с ударением на третьем от конца строки слог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Девочка во поле с дудочкой 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ивовой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чем ты поранила веточку в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ешнюю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?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лачет у губ она утренней 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иволгой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лачет все горше и все безут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ешне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920" y="1905120"/>
            <a:ext cx="749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Гипердактилическая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- с ударением на четвертом и последующих от конца строки слог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Леший бороду поч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есывает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алку сумрачно обт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есывает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Рифма точная и неточн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очему Незнайка был неправ, утверждая, что "палка - селедка" - тоже рифма? Потому, что он не знал, что на самом деле рифмуются не звуки, а фонемы , достаточно совпадения части этих признаков, чтобы стало возможно рифменное звучание. Чем меньше совпадающих признаков фонемы, тем отдаленнее, тем "хуже" созвуч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85016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Согласные фонемы различаютс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1) по месту образования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2) по способу образования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3) по участию голоса и шума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4) по твердости и мягкости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5) по глухости и звонк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Строки о строфа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- от греч. strophe - оборот, кру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 порядке расположения рифм в стихах основывается такая сложная ритмическая единица стихотворных произведений, как строф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Строфа</a:t>
            </a:r>
            <a:r>
              <a:rPr b="0" lang="ru-RU" sz="4200" spc="-1" strike="noStrike">
                <a:solidFill>
                  <a:srgbClr val="0033cc"/>
                </a:solidFill>
                <a:latin typeface="Arial"/>
              </a:rPr>
              <a:t> -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5345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это группа стихов с определенным расположением рифм, обычно повторяющимся в других равных группах. В большинстве случаев строфа являет собой законченное синтаксическое и семантическое целое - она содержит свою особую тему, которая меняется с переходом к другой строф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аименьшей из строф является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двустишие.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Наиболее распространенными видами строф в классической поэзии прошлого были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четверостишия, октавы, терц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33cc"/>
                </a:solidFill>
                <a:latin typeface="Arial"/>
              </a:rPr>
              <a:t>Существуют также строф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негинские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         балладные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                  одические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онеты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            триолет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                             рондо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      лимери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инквей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Двустишие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бывают </a:t>
            </a:r>
            <a:r>
              <a:rPr b="0" lang="ru-RU" sz="3000" spc="-1" strike="noStrike" u="sng">
                <a:solidFill>
                  <a:srgbClr val="0033cc"/>
                </a:solidFill>
                <a:uFillTx/>
                <a:latin typeface="Arial"/>
              </a:rPr>
              <a:t>нестрофическими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(не образуют отдельную строфу) и строфическими (отделяются пробелами от других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Стихосложение (версификация)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850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овокупность основных принципов и правил, в соответствии с которыми производится построение стихотворной ре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3880" y="691920"/>
            <a:ext cx="7010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Нестрофические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встречаю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стихотворениях вольной рифмовки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- в них используется смешение различных 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схем рифмовки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(смежной, кольцевой, перекрестной) и нет разделения на строфу. Пары, создаваемые смежными рифмами, и есть наши 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нестрофические двустиши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6920" y="620640"/>
            <a:ext cx="73472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течески пенаты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 пестуны мои!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ы златом не богаты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о любите свои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оры и темны кельи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Где вас на новосельи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миренно здесь и там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асставил по углам;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Где странник я бездомный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сегда в желаньях скромный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ыскал себе приют.</a:t>
            </a:r>
            <a:br>
              <a:rPr sz="30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К.Н.Батюшков, Мои пенаты (отрыв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катрен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 - наиболее распространенный вид строфы, знакомый всем с раннего детства. Популярен из-за обилия систем рифмовк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92360" y="620640"/>
            <a:ext cx="45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Четверостиши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Смежн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ифмовка смежных стихов: первого со вторым, третьего с четвертым (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абб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 (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одинаковыми буквами обозначаются рифмующиеся друг с другом окончания стихов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ыткался на озере алый свет зари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 бору со звонами плачут глухари.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лачет где-то иволга, схоронясь в дупло.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Только мне не плачется - на душе светл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Перекрестн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5345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ифмовка первого стиха с третьим, второго - с четвертым (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баб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Люблю грозу в начале мая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огда весенний первый гром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ак бы резвяся и играя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Грохочет в небе голуб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Кольцев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опоясанная, охватна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 - первый стих - с четвертым, а второй - с третьим.(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бба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Глядел я, стоя над Невой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ак Исаака-великана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о мгле морозного тумана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ветился купол золот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Октавой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1052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азывается восьмистишная строфа, в которой рифмуется первый стих с третьим и пятым, второй стих - с четвертым и шестым, седьмой стих - с восьмы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Схема октавы: </a:t>
            </a: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абабабв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шесть лет он был ребенок очень милый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 даже, по ребячеству, шалил;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двенадцать приобрел он вид унылый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 был хотя хорош, но как-то хил.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несса горделиво говорила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Что метод в нем натуру изменил: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Философ юный, не смотря на годы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Был тих и скромен, будто от природ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Онегинская строфа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14-стишие 4-х стопного ямба с рифмовкой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abab ccdd effe gg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, созданное А.С.Пушкиным ("Евгений Онегин" 1823 -31 г.); у других поэтов - как сознательное подраж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Балладная строф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трофа, в которой четные и нечетные стихи состоят из разного количества стоп. Используется в баллад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иболее распространены строфы из четырех четных анапестических стоп, и трех нече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06616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оролева Британии тяжко больна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Дни и ночи ее сочтены.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 позвать исповедников просит она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з родной, из французской страны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о пока из Парижа попов привезешь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оролеве настанет конец...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 король посылает двенадцаць вельмож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Лорда-маршала звать во дворец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Размеры стих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иболее распространены двусложные и трехсложные размеры, но не стоит думать, что ими все и ограничивает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уществуют и сверхдлинные размеры (от четырех слогов и выше), хотя далеко не все авторы используют и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Одическая строфа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562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трофа из десяти стихов, рифмуемых по схеме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бабввгддг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, употреблявшаяся в жанре торжественной о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 вы, которых ожидает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течество от недр своих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 видеть таковых желает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аких зовет от стран чужих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, ваши дни благословенны!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Соне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53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бывает </a:t>
            </a:r>
            <a:r>
              <a:rPr b="0" lang="ru-RU" sz="3000" spc="-1" strike="noStrike" u="sng">
                <a:solidFill>
                  <a:srgbClr val="ffffcc"/>
                </a:solidFill>
                <a:uFillTx/>
                <a:latin typeface="Arial"/>
              </a:rPr>
              <a:t>итальянский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и </a:t>
            </a:r>
            <a:r>
              <a:rPr b="0" lang="ru-RU" sz="3000" spc="-1" strike="noStrike" u="sng">
                <a:solidFill>
                  <a:srgbClr val="ffffcc"/>
                </a:solidFill>
                <a:uFillTx/>
                <a:latin typeface="Arial"/>
              </a:rPr>
              <a:t>английский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Итальянский сонет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- четырнадцатистрочное стихотворение, разделенное на два четверостишия и два заключительных трехстишия. В четверостишиях применяется или перекрестная, или кольцевая рифмовка, причем одинаковая для обоих четверостиший. Порядок чередования рифм в трехстишиях различе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640" y="0"/>
            <a:ext cx="77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хема рифмовки в итальянских сонетах может быть, например, тако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баб или абба</a:t>
            </a:r>
            <a:br>
              <a:rPr sz="3000"/>
            </a:b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абаб абба</a:t>
            </a:r>
            <a:br>
              <a:rPr sz="3000"/>
            </a:b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вбв вгв</a:t>
            </a:r>
            <a:br>
              <a:rPr sz="3000"/>
            </a:b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гбг гвг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оэт! не дорожи любовию народной,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осторженных похвал пройдет минутный шум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слышишь суд глупца и смех толпы холодной,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о ты останься тверд, спокоен и угрю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42920" y="333360"/>
            <a:ext cx="7491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Ты царь: живи один. Дорогою свободной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ди, куда влечет тебя свободный ум,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совершенствуя плоды любимых дум,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е требуя наград за подвиг благородны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ни в самом тебе. Ты сам свой высший суд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сех строже оценить умеешь ты свой труд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Ты им доволен ли, взыскательный художник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Доволен? Так пускай толпа его бранит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 плюет на алтарь, где огонь твой горит,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 в детской резвости колеблет твой трено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13924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ffffcc"/>
                </a:solidFill>
                <a:latin typeface="Arial"/>
              </a:rPr>
              <a:t>лимрики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) - пятистишия, написанные анапестом. Схема рифмовки - </a:t>
            </a: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аабба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, первая и последняя рифмы, как правило, повторяются. Третья и четвертая строки состоят из меньшего количества сто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Широко известны лимерики стали благодаря </a:t>
            </a: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Эдварду Лиру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(1812-1888), который издал несколько книг стихов, написанных в жанре бессмыслиц. В стихах широко использовались каламбуры и неологиз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187280" y="333360"/>
            <a:ext cx="4606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имери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апример: Кто? Откуд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дин ученик из Калуги ( а )Чем отличалс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мел боевые заслуги: ( а ) Что сделал? (б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калошу папаше налил простоквашу                                                        Кто? Откуд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дин ученик из Калуги. ( а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дин ученик из Некрасов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осил необыкновенные кроссов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 бегал он лучше всех в Центр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дин ученик из Некрасов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92324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В примере даны лимерики в переводе М.Фрейдки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епослушную внучку из Йены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абка сжечь собралась как полено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о заметила тонко: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"А не сжечь ли котенка?"-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евозможная внучка из Йен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 удалому флейтисту из Конго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аз в сапог заползла анаконда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о настолько отвратно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н играл, что обратно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Через час уползла анаконда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675640" cy="74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Схема анализа 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1. О стихотворении и его авторе.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Кем и когда написано стихотворение, кому оно посвящено, особенности эпохи - вся та информация, которая относится к стихотворению вооб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2. Жанровое своеобразие стихотворения (ода, гимн, романс, элегия..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3. Структура образов и развитие конфли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а ) Тема и основная мысль произведения.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б) Как развивается в тексте мысль и чувство автора (с чего стихотворение начинается и чем заканчиваетс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как вы думаете, почему автор выбирает именно такую композицию)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в) Система художественных образов стихотворения (как эти образы соотносятся с жизнью человека и его чувствами).</a:t>
            </a:r>
            <a:br>
              <a:rPr sz="2600"/>
            </a:b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ffffcc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Черты лирического гер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5.а) Тропы и фигуры (сравнение, эпитет, метафора, метонимия, олицетворение, символ, гипербола, инверсия)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) Языковой поуровневый анализ;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* поэтическая фонетика (ассонанс, аллитерация.)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* поэтическая лексика (синонимы, антонимы, архаизмы, неологизмы)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* Использование явлений морфологии и синтаксис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6. Ритм. Стихотворный размер. Рифм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7. Мое восприяти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Картинка 16 из 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Двусложные размеры</a:t>
            </a:r>
            <a:br>
              <a:rPr sz="3800"/>
            </a:b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Хор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210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двусложный размер с ударением в стопе на первом слоге (схема стопы хорея —), а в строчке в целом -  на 1,3,5,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небе тают облака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, лучистая на зное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 В искрах катится река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       Словно зеркало сталь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 — — —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 — — —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 — — —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 — — —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21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вусложный размер с ударением в стопе на втором слоге (схема стопы ямба —),  на 2,4,6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ять стою я над Невой,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 снова, как в былые годы,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мотрю и я, как бы живой,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 эти дремлющ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— — — —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— — — — 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— — — —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Ямб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Трехсложные размер Дактиль</a:t>
            </a:r>
            <a:r>
              <a:rPr b="0" lang="ru-RU" sz="4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1392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трехсложный размер с ударением в стопе на первом слоге (схема стопы дактиля —), а в стихе в целом -  1,4,7,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Как хорошо ты, о море ночное,-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Здесь лучезарно, там сизо-темно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лунном сиянии, словно живое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Ходит, и дышит, и блещет о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 — — —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 — — —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5345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- трехсложный размер с ударением в стопе на втором слоге (схема стопы амфибрахия —),  на 2,5,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 песчаных степях аравийской земли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Три гордые пальмы высоко рос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————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———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835280" y="981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Амфибрахи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Анапес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трехсложный размер с ударением в стопе на третьем слоге (схема стопы анапеста —), а в  3,6,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Прозвучало над ясной рекою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Прозвенело в померкшем лугу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Прокатилось над рощей немою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Засветилось на том берег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— — —  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— — —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— — — 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Рифма и её разновидности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83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- повтор звуков, связывающих окончания двух и более строк или симметрично расположенных частей стихотворных строк. В русском классическом стихосложении основным признаком рифмы является совпадение ударных гласных. Рифма отмечает звуковым повтором окончания стиха (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клаузулы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, подчеркивая междустрочную паузу, а тем самым и </a:t>
            </a:r>
            <a:r>
              <a:rPr b="0" lang="ru-RU" sz="3000" spc="-1" strike="noStrike">
                <a:solidFill>
                  <a:srgbClr val="0033cc"/>
                </a:solidFill>
                <a:latin typeface="Arial"/>
              </a:rPr>
              <a:t>ритм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стих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1:41:34Z</dcterms:created>
  <dc:creator>пользователь</dc:creator>
  <dc:description/>
  <dc:language>en-US</dc:language>
  <cp:lastModifiedBy>BEST</cp:lastModifiedBy>
  <dcterms:modified xsi:type="dcterms:W3CDTF">2017-11-01T09:44:04Z</dcterms:modified>
  <cp:revision>6</cp:revision>
  <dc:subject/>
  <dc:title>Системы стихосложения </dc:title>
</cp:coreProperties>
</file>