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1CDD-459E-4730-B295-236AF80802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AEAC76-B8C4-4FC3-8F92-FC09B4D250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7EAF5E-EA48-4AC7-9F99-96C5FF3CB4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A80F49-9095-4D9C-A5A6-D763C9856F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DB46AF-4B5A-47ED-90FE-9E78B1A8310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8C6C7E-7601-4914-88CD-8DB2922FE6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5DDAA1-9F7E-491F-A6C7-CF47F1C97D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46E7FE-6D39-4B73-B70D-4455675815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3A8735-8A3B-436C-9919-7083C0801D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99E423-E206-4424-8EF8-FAE40818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BC0659-D825-40F5-BE22-3E8C7EDA8C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70D49-CC0C-4682-85D7-8E5B6ADFB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303CB-AF71-44CF-8308-488750E55A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033CD4-F844-4736-8563-75AFCFF74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0B5850-03C7-4E95-B228-97F0557EFF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15ED64-8BD5-4AB4-B2FC-810045858F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9448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264720" y="190512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5238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9448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264720" y="4054680"/>
            <a:ext cx="22572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8E0118-61BD-454A-AC3E-F4F4B3C3AF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346E8-72C2-4D9F-BA63-C37439283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F552F-77EA-4B2E-A9A6-8E837EAD3B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EB48A-1443-41B5-927D-DF6A4D2AD4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523880" y="190440"/>
            <a:ext cx="7010640" cy="70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4CC43-657C-47B4-8831-42E2880DCA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FFFB8-0E32-4B0C-8397-F22688A96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116320" y="405468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4164F8-B338-4A64-B154-8D6ED80E50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116320" y="1905120"/>
            <a:ext cx="34210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523880" y="4054680"/>
            <a:ext cx="701064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14CDB4-E5C7-4F2E-ABCB-B9FFD551F3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7d2f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6294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1523520" y="6248520"/>
            <a:ext cx="1295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F78B2B-4EB6-4C5B-82B1-6443BED81B90}" type="slidenum">
              <a:rPr b="0" lang="ru-RU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Line 7"/>
          <p:cNvSpPr/>
          <p:nvPr/>
        </p:nvSpPr>
        <p:spPr>
          <a:xfrm flipV="1">
            <a:off x="1371600" y="304920"/>
            <a:ext cx="0" cy="12952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6" name="Oval 8"/>
          <p:cNvSpPr/>
          <p:nvPr/>
        </p:nvSpPr>
        <p:spPr>
          <a:xfrm>
            <a:off x="152280" y="838080"/>
            <a:ext cx="228600" cy="22860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" name="Oval 9"/>
          <p:cNvSpPr/>
          <p:nvPr/>
        </p:nvSpPr>
        <p:spPr>
          <a:xfrm>
            <a:off x="539640" y="838080"/>
            <a:ext cx="228600" cy="22860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" name="Oval 10"/>
          <p:cNvSpPr/>
          <p:nvPr/>
        </p:nvSpPr>
        <p:spPr>
          <a:xfrm>
            <a:off x="927000" y="838080"/>
            <a:ext cx="228600" cy="22860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a49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Line 7"/>
          <p:cNvSpPr/>
          <p:nvPr/>
        </p:nvSpPr>
        <p:spPr>
          <a:xfrm>
            <a:off x="1905120" y="1219320"/>
            <a:ext cx="0" cy="2057400"/>
          </a:xfrm>
          <a:prstGeom prst="line">
            <a:avLst/>
          </a:prstGeom>
          <a:ln w="3492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Oval 8"/>
          <p:cNvSpPr/>
          <p:nvPr/>
        </p:nvSpPr>
        <p:spPr>
          <a:xfrm>
            <a:off x="163440" y="2103480"/>
            <a:ext cx="347760" cy="347760"/>
          </a:xfrm>
          <a:prstGeom prst="ellipse">
            <a:avLst/>
          </a:prstGeom>
          <a:solidFill>
            <a:srgbClr val="ffff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7" name="Oval 9"/>
          <p:cNvSpPr/>
          <p:nvPr/>
        </p:nvSpPr>
        <p:spPr>
          <a:xfrm>
            <a:off x="739800" y="2104920"/>
            <a:ext cx="349200" cy="347760"/>
          </a:xfrm>
          <a:prstGeom prst="ellipse">
            <a:avLst/>
          </a:prstGeom>
          <a:solidFill>
            <a:srgbClr val="805d3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8" name="Oval 10"/>
          <p:cNvSpPr/>
          <p:nvPr/>
        </p:nvSpPr>
        <p:spPr>
          <a:xfrm>
            <a:off x="1317600" y="2104920"/>
            <a:ext cx="347760" cy="347760"/>
          </a:xfrm>
          <a:prstGeom prst="ellipse">
            <a:avLst/>
          </a:prstGeom>
          <a:solidFill>
            <a:srgbClr val="7d2f3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805d3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51"/>
              </a:spcBef>
              <a:buClr>
                <a:srgbClr val="7d2f3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51"/>
              </a:spcBef>
              <a:buClr>
                <a:srgbClr val="ffffcc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7086240" y="6248520"/>
            <a:ext cx="15238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8098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2209320" y="6248520"/>
            <a:ext cx="12193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cc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AE361-6E48-4684-A26D-5F565A54839C}" type="slidenum">
              <a:rPr b="0" lang="ru-RU" sz="1400" spc="-1" strike="noStrike">
                <a:solidFill>
                  <a:srgbClr val="ffffcc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hyperlink" Target="http://www.proshkolu.ru/content/media/pic/std/1000000/425000/424765-86cf2045127cbb59.jpg" TargetMode="Externa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WordArt 4"/>
          <p:cNvSpPr txBox="1"/>
          <p:nvPr/>
        </p:nvSpPr>
        <p:spPr>
          <a:xfrm>
            <a:off x="611280" y="1341360"/>
            <a:ext cx="784836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0066cc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Системы стихосложения</a:t>
            </a:r>
            <a:endParaRPr b="0" lang="en-US" sz="3200" spc="1" strike="noStrike">
              <a:ln w="19080">
                <a:solidFill>
                  <a:srgbClr val="99ccff"/>
                </a:solidFill>
                <a:miter/>
              </a:ln>
              <a:solidFill>
                <a:srgbClr val="0066cc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33cc"/>
                </a:solidFill>
                <a:latin typeface="Arial"/>
              </a:rPr>
              <a:t>В зависимости от расположения ударений в рифмующихся словах рифма бывает</a:t>
            </a:r>
            <a:r>
              <a:rPr b="0" lang="ru-RU" sz="3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94920" y="1905120"/>
            <a:ext cx="8139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Мужская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- рифма с ударением на последнем слоге в стро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 море, и буря качали наш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ч</a:t>
            </a: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лн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;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Я, сонный,был предан всей прихоти в</a:t>
            </a: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о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лн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Две беспредельности были во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м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н</a:t>
            </a: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 мной своевольно играли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о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н</a:t>
            </a: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323640" y="1557360"/>
            <a:ext cx="8210520" cy="4462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Женская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- с ударением на предпоследнем слоге в строк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Тихой ночью, поздним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л</a:t>
            </a: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том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ак на небе звезды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рд</a:t>
            </a: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ют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ак под сумрачным их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св</a:t>
            </a: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том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ивы дремлющие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зр</a:t>
            </a:r>
            <a:r>
              <a:rPr b="1" i="1" lang="ru-RU" sz="3000" spc="-1" strike="noStrike">
                <a:solidFill>
                  <a:srgbClr val="0033cc"/>
                </a:solidFill>
                <a:latin typeface="Arial"/>
              </a:rPr>
              <a:t>е</a:t>
            </a:r>
            <a:r>
              <a:rPr b="1" i="1" lang="ru-RU" sz="3000" spc="-1" strike="noStrike">
                <a:solidFill>
                  <a:srgbClr val="ffffcc"/>
                </a:solidFill>
                <a:latin typeface="Arial"/>
              </a:rPr>
              <a:t>ют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-360" y="1905120"/>
            <a:ext cx="853452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Дактилическая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- с ударением на третьем от конца строки слог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Девочка во поле с дудочкой 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ивовой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чем ты поранила веточку в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ешнюю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?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лачет у губ она утренней 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иволгой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лачет все горше и все безут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ешне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/>
          </p:nvPr>
        </p:nvSpPr>
        <p:spPr>
          <a:xfrm>
            <a:off x="1042920" y="1905120"/>
            <a:ext cx="7491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Гипердактилическая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- с ударением на четвертом и последующих от конца строки слог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Леший бороду поч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есывает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алку сумрачно обт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есывает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1403280" y="33336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Рифма точная и неточна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250560" y="1483920"/>
            <a:ext cx="8893080" cy="537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очему Незнайка был неправ, утверждая, что "палка - селедка" - тоже рифма? Потому, что он не знал, что на самом деле рифмуются не звуки, а фонемы , достаточно совпадения части этих признаков, чтобы стало возможно рифменное звучание. Чем меньше совпадающих признаков фонемы, тем отдаленнее, тем "хуже" созвуч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/>
          </p:nvPr>
        </p:nvSpPr>
        <p:spPr>
          <a:xfrm>
            <a:off x="684360" y="333360"/>
            <a:ext cx="785016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Согласные фонемы различаются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: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1) по месту образования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2) по способу образования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3) по участию голоса и шума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4) по твердости и мягкости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5) по глухости и звонкост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Строки о строфах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- от греч. strophe - оборот, кружение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а порядке расположения рифм в стихах основывается такая сложная ритмическая единица стихотворных произведений, как строф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Строфа</a:t>
            </a:r>
            <a:r>
              <a:rPr b="0" lang="ru-RU" sz="4200" spc="-1" strike="noStrike">
                <a:solidFill>
                  <a:srgbClr val="0033cc"/>
                </a:solidFill>
                <a:latin typeface="Arial"/>
              </a:rPr>
              <a:t> -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-360" y="1341360"/>
            <a:ext cx="8534520" cy="467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это группа стихов с определенным расположением рифм, обычно повторяющимся в других равных группах. В большинстве случаев строфа являет собой законченное синтаксическое и семантическое целое - она содержит свою особую тему, которая меняется с переходом к другой строф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Наименьшей из строф является </a:t>
            </a: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двустишие.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Наиболее распространенными видами строф в классической поэзии прошлого были </a:t>
            </a: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четверостишия, октавы, терцин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200" spc="-1" strike="noStrike">
                <a:solidFill>
                  <a:srgbClr val="0033cc"/>
                </a:solidFill>
                <a:latin typeface="Arial"/>
              </a:rPr>
              <a:t>Существуют также строфы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онегинские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            балладные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                     одические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онеты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               триолет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                                рондо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         лимерики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    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инквейн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Двустишие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бывают </a:t>
            </a:r>
            <a:r>
              <a:rPr b="0" lang="ru-RU" sz="3000" spc="-1" strike="noStrike" u="sng">
                <a:solidFill>
                  <a:srgbClr val="0033cc"/>
                </a:solidFill>
                <a:uFillTx/>
                <a:latin typeface="Arial"/>
              </a:rPr>
              <a:t>нестрофическими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(не образуют отдельную строфу) и строфическими (отделяются пробелами от других)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Стихосложение (версификация)</a:t>
            </a:r>
            <a:r>
              <a:rPr b="0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4360" y="1699920"/>
            <a:ext cx="7850160" cy="431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–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овокупность основных принципов и правил, в соответствии с которыми производится построение стихотворной речи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/>
          </p:nvPr>
        </p:nvSpPr>
        <p:spPr>
          <a:xfrm>
            <a:off x="1523880" y="691920"/>
            <a:ext cx="70106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33cc"/>
                </a:solidFill>
                <a:latin typeface="Arial"/>
              </a:rPr>
              <a:t>Нестрофические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встречаются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стихотворениях вольной рифмовки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- в них используется смешение различных 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схем рифмовки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(смежной, кольцевой, перекрестной) и нет разделения на строфу. Пары, создаваемые смежными рифмами, и есть наши 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нестрофические двустишия</a:t>
            </a:r>
            <a:r>
              <a:rPr b="0" i="1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/>
          </p:nvPr>
        </p:nvSpPr>
        <p:spPr>
          <a:xfrm>
            <a:off x="1186920" y="620640"/>
            <a:ext cx="7347240" cy="539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Отечески пенаты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О пестуны мои!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ы златом не богаты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о любите свои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оры и темны кельи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Где вас на новосельи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миренно здесь и там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Расставил по углам;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Где странник я бездомный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сегда в желаньях скромный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ыскал себе приют.</a:t>
            </a:r>
            <a:br>
              <a:rPr sz="30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К.Н.Батюшков, Мои пенаты (отрывок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катрен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) - наиболее распространенный вид строфы, знакомый всем с раннего детства. Популярен из-за обилия систем рифмовки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1692360" y="620640"/>
            <a:ext cx="4554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Четверостишие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Смежна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611280" y="1197000"/>
            <a:ext cx="8208720" cy="5184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рифмовка смежных стихов: первого со вторым, третьего с четвертым (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аабб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) (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одинаковыми буквами обозначаются рифмующиеся друг с другом окончания стихов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)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ыткался на озере алый свет зари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а бору со звонами плачут глухари.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Плачет где-то иволга, схоронясь в дупло.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Только мне не плачется - на душе светло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Перекрестна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-360" y="1412640"/>
            <a:ext cx="8534520" cy="4606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рифмовка первого стиха с третьим, второго - с четвертым (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абаб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Люблю грозу в начале мая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огда весенний первый гром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ак бы резвяся и играя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Грохочет в небе голубом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Кольцевая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39640" y="1905120"/>
            <a:ext cx="799488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i="1" lang="ru-RU" sz="3000" spc="-1" strike="noStrike">
                <a:solidFill>
                  <a:srgbClr val="ffffcc"/>
                </a:solidFill>
                <a:latin typeface="Arial"/>
              </a:rPr>
              <a:t>опоясанная, охватная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) - первый стих - с четвертым, а второй - с третьим.(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абба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Глядел я, стоя над Невой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ак Исаака-великана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о мгле морозного тумана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ветился купол золотой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Октавой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23640" y="1125360"/>
            <a:ext cx="821052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называется восьмистишная строфа, в которой рифмуется первый стих с третьим и пятым, второй стих - с четвертым и шестым, седьмой стих - с восьмым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Схема октавы: </a:t>
            </a: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абабабвв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В шесть лет он был ребенок очень милый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И даже, по ребячеству, шалил;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В двенадцать приобрел он вид унылый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И был хотя хорош, но как-то хил.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Инесса горделиво говорила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Что метод в нем натуру изменил: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Философ юный, не смотря на годы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Был тих и скромен, будто от природы.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Онегинская строфа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14-стишие 4-х стопного ямба с рифмовкой </a:t>
            </a:r>
            <a:r>
              <a:rPr b="1" lang="ru-RU" sz="3200" spc="-1" strike="noStrike">
                <a:solidFill>
                  <a:srgbClr val="ffffcc"/>
                </a:solidFill>
                <a:latin typeface="Arial"/>
              </a:rPr>
              <a:t>abab ccdd effe gg</a:t>
            </a:r>
            <a:r>
              <a:rPr b="0" lang="ru-RU" sz="3200" spc="-1" strike="noStrike">
                <a:solidFill>
                  <a:srgbClr val="ffffcc"/>
                </a:solidFill>
                <a:latin typeface="Arial"/>
              </a:rPr>
              <a:t>, созданное А.С.Пушкиным ("Евгений Онегин" 1823 -31 г.); у других поэтов - как сознательное подражание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Балладная строф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трофа, в которой четные и нечетные стихи состоят из разного количества стоп. Используется в баллада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аиболее распространены строфы из четырех четных анапестических стоп, и трех нечетны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468360" y="764640"/>
            <a:ext cx="8066160" cy="525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оролева Британии тяжко больна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Дни и ночи ее сочтены.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 позвать исповедников просит она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з родной, из французской страны.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о пока из Парижа попов привезешь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оролеве настанет конец...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 король посылает двенадцаць вельмож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Лорда-маршала звать во дворец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Размеры стиха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10920" y="1905120"/>
            <a:ext cx="7923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Наиболее распространены двусложные и трехсложные размеры, но не стоит думать, что ими все и ограничивается.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уществуют и сверхдлинные размеры (от четырех слогов и выше), хотя далеко не все авторы используют их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Одическая строфа</a:t>
            </a:r>
            <a:br>
              <a:rPr sz="4200"/>
            </a:b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971640" y="1196640"/>
            <a:ext cx="756288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трофа из десяти стихов, рифмуемых по схеме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абабввгддг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, употреблявшаяся в жанре торжественной оды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О вы, которых ожидает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Отечество от недр своих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И видеть таковых желает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Каких зовет от стран чужих,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О, ваши дни благословенны!</a:t>
            </a:r>
            <a:br>
              <a:rPr sz="3000"/>
            </a:b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Соне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-360" y="1196640"/>
            <a:ext cx="8534520" cy="4822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бывает </a:t>
            </a:r>
            <a:r>
              <a:rPr b="0" lang="ru-RU" sz="3000" spc="-1" strike="noStrike" u="sng">
                <a:solidFill>
                  <a:srgbClr val="ffffcc"/>
                </a:solidFill>
                <a:uFillTx/>
                <a:latin typeface="Arial"/>
              </a:rPr>
              <a:t>итальянский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и </a:t>
            </a:r>
            <a:r>
              <a:rPr b="0" lang="ru-RU" sz="3000" spc="-1" strike="noStrike" u="sng">
                <a:solidFill>
                  <a:srgbClr val="ffffcc"/>
                </a:solidFill>
                <a:uFillTx/>
                <a:latin typeface="Arial"/>
              </a:rPr>
              <a:t>английский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Итальянский сонет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- четырнадцатистрочное стихотворение, разделенное на два четверостишия и два заключительных трехстишия. В четверостишиях применяется или перекрестная, или кольцевая рифмовка, причем одинаковая для обоих четверостиший. Порядок чередования рифм в трехстишиях различен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/>
          </p:nvPr>
        </p:nvSpPr>
        <p:spPr>
          <a:xfrm>
            <a:off x="755640" y="0"/>
            <a:ext cx="770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Схема рифмовки в итальянских сонетах может быть, например, такова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абаб или абба</a:t>
            </a:r>
            <a:br>
              <a:rPr sz="3000"/>
            </a:b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абаб абба</a:t>
            </a:r>
            <a:br>
              <a:rPr sz="3000"/>
            </a:b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вбв вгв</a:t>
            </a:r>
            <a:br>
              <a:rPr sz="3000"/>
            </a:b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гбг гвг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 </a:t>
            </a: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Поэт! не дорожи любовию народной,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осторженных похвал пройдет минутный шум;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слышишь суд глупца и смех толпы холодной,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Но ты останься тверд, спокоен и угрюм.</a:t>
            </a:r>
            <a:br>
              <a:rPr sz="2400"/>
            </a:b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1042920" y="333360"/>
            <a:ext cx="7491600" cy="568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ctr">
              <a:spcBef>
                <a:spcPts val="6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Ты царь: живи один. Дорогою свободной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Иди, куда влечет тебя свободный ум,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Усовершенствуя плоды любимых дум,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Не требуя наград за подвиг благородный.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Они в самом тебе. Ты сам свой высший суд;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Всех строже оценить умеешь ты свой труд.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Ты им доволен ли, взыскательный художник?</a:t>
            </a:r>
            <a:br>
              <a:rPr sz="2400"/>
            </a:b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Доволен? Так пускай толпа его бранит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И плюет на алтарь, где огонь твой горит,</a:t>
            </a:r>
            <a:br>
              <a:rPr sz="2400"/>
            </a:br>
            <a:r>
              <a:rPr b="0" lang="ru-RU" sz="2400" spc="-1" strike="noStrike">
                <a:solidFill>
                  <a:srgbClr val="ffffcc"/>
                </a:solidFill>
                <a:latin typeface="Arial"/>
              </a:rPr>
              <a:t>И в детской резвости колеблет твой треножник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2"/>
          <p:cNvSpPr>
            <a:spLocks noGrp="1"/>
          </p:cNvSpPr>
          <p:nvPr>
            <p:ph/>
          </p:nvPr>
        </p:nvSpPr>
        <p:spPr>
          <a:xfrm>
            <a:off x="394920" y="1125360"/>
            <a:ext cx="8139240" cy="489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(</a:t>
            </a:r>
            <a:r>
              <a:rPr b="0" i="1" lang="ru-RU" sz="2600" spc="-1" strike="noStrike">
                <a:solidFill>
                  <a:srgbClr val="ffffcc"/>
                </a:solidFill>
                <a:latin typeface="Arial"/>
              </a:rPr>
              <a:t>лимрики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) - пятистишия, написанные анапестом. Схема рифмовки - </a:t>
            </a: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аабба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, первая и последняя рифмы, как правило, повторяются. Третья и четвертая строки состоят из меньшего количества стоп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Широко известны лимерики стали благодаря </a:t>
            </a:r>
            <a:r>
              <a:rPr b="1" lang="ru-RU" sz="2600" spc="-1" strike="noStrike">
                <a:solidFill>
                  <a:srgbClr val="ffffcc"/>
                </a:solidFill>
                <a:latin typeface="Arial"/>
              </a:rPr>
              <a:t>Эдварду Лиру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(1812-1888), который издал несколько книг стихов, написанных в жанре бессмыслиц. В стихах широко использовались каламбуры и неологизмы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Rectangle 5"/>
          <p:cNvSpPr/>
          <p:nvPr/>
        </p:nvSpPr>
        <p:spPr>
          <a:xfrm>
            <a:off x="1187280" y="333360"/>
            <a:ext cx="460692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100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33cc"/>
                </a:solidFill>
                <a:latin typeface="Arial"/>
              </a:rPr>
              <a:t>Лимерики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/>
          </p:nvPr>
        </p:nvSpPr>
        <p:spPr>
          <a:xfrm>
            <a:off x="250560" y="475920"/>
            <a:ext cx="84978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Например: Кто? Откуд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дин ученик из Калуги ( а )Чем отличался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Имел боевые заслуги: ( а ) Что сделал? (бб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В калошу папаше налил простоквашу                                                        Кто? Откуда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дин ученик из Калуги. ( а )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      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дин ученик из Некрасовки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Носил необыкновенные кроссовки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И бегал он лучше всех в Центре,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Один ученик из Некрасовки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/>
          </p:nvPr>
        </p:nvSpPr>
        <p:spPr>
          <a:xfrm>
            <a:off x="610920" y="549360"/>
            <a:ext cx="7923240" cy="547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В примере даны лимерики в переводе М.Фрейдкина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lnSpc>
                <a:spcPct val="8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епослушную внучку из Йены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Бабка сжечь собралась как полено.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о заметила тонко: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"А не сжечь ли котенка?"-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евозможная внучка из Йены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К удалому флейтисту из Конго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Раз в сапог заползла анаконда.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о настолько отвратно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н играл, что обратно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Через час уползла анаконда</a:t>
            </a: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.</a:t>
            </a:r>
            <a:br>
              <a:rPr sz="2100"/>
            </a:br>
            <a:br>
              <a:rPr sz="2100"/>
            </a:br>
            <a:br>
              <a:rPr sz="2100"/>
            </a:br>
            <a:r>
              <a:rPr b="0" lang="ru-RU" sz="21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/>
          </p:nvPr>
        </p:nvSpPr>
        <p:spPr>
          <a:xfrm>
            <a:off x="-360" y="0"/>
            <a:ext cx="8675640" cy="746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33cc"/>
                </a:solidFill>
                <a:uFillTx/>
                <a:latin typeface="Times New Roman"/>
              </a:rPr>
              <a:t>Схема анализа лирического произвед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1. О стихотворении и его авторе.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Кем и когда написано стихотворение, кому оно посвящено, особенности эпохи - вся та информация, которая относится к стихотворению вообщ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2. Жанровое своеобразие стихотворения (ода, гимн, романс, элегия...)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3. Структура образов и развитие конфликта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а ) Тема и основная мысль произведения.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б) Как развивается в тексте мысль и чувство автора (с чего стихотворение начинается и чем заканчивается,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25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как вы думаете, почему автор выбирает именно такую композицию)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Times New Roman"/>
              </a:rPr>
              <a:t>в) Система художественных образов стихотворения (как эти образы соотносятся с жизнью человека и его чувствами).</a:t>
            </a:r>
            <a:br>
              <a:rPr sz="2600"/>
            </a:br>
            <a:br>
              <a:rPr sz="1700"/>
            </a:b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2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7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17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457200" y="475920"/>
            <a:ext cx="8229600" cy="638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ru-RU" sz="3400" spc="-1" strike="noStrike">
                <a:solidFill>
                  <a:srgbClr val="ffffcc"/>
                </a:solidFill>
                <a:latin typeface="Times New Roman"/>
              </a:rPr>
              <a:t>4. </a:t>
            </a:r>
            <a:r>
              <a:rPr b="0" lang="ru-RU" sz="2800" spc="-1" strike="noStrike">
                <a:solidFill>
                  <a:srgbClr val="ffffcc"/>
                </a:solidFill>
                <a:latin typeface="Times New Roman"/>
              </a:rPr>
              <a:t>Черты лирического геро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5.а) Тропы и фигуры (сравнение, эпитет, метафора, метонимия, олицетворение, символ, гипербола, инверсия).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б) Языковой поуровневый анализ;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* поэтическая фонетика (ассонанс, аллитерация.)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* поэтическая лексика (синонимы, антонимы, архаизмы, неологизмы).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* Использование явлений морфологии и синтаксис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6. Ритм. Стихотворный размер. Рифма.</a:t>
            </a:r>
            <a:br>
              <a:rPr sz="2800"/>
            </a:b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7. Мое восприятие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524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523880" y="1905120"/>
            <a:ext cx="701064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5" descr="Картинка 16 из 26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Двусложные размеры</a:t>
            </a:r>
            <a:br>
              <a:rPr sz="3800"/>
            </a:b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 </a:t>
            </a:r>
            <a:br>
              <a:rPr sz="3800"/>
            </a:b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Хорей</a:t>
            </a: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323640" y="1844640"/>
            <a:ext cx="8210520" cy="468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двусложный размер с ударением в стопе на первом слоге (схема стопы хорея —), а в строчке в целом -  на 1,3,5,7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В небе тают облака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И, лучистая на зное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 В искрах катится река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         Словно зеркало стальное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 — — —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 — — —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 — — —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 — — —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/>
          </p:nvPr>
        </p:nvSpPr>
        <p:spPr>
          <a:xfrm>
            <a:off x="611280" y="1628640"/>
            <a:ext cx="7921440" cy="522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двусложный размер с ударением в стопе на втором слоге (схема стопы ямба —),  на 2,4,6,8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Опять стою я над Невой,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И снова, как в былые годы,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Смотрю и я, как бы живой,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На эти дремлющие вод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— — — —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— — — — </a:t>
            </a:r>
            <a:br>
              <a:rPr sz="2800"/>
            </a:br>
            <a:r>
              <a:rPr b="0" lang="ru-RU" sz="2800" spc="-1" strike="noStrike">
                <a:solidFill>
                  <a:srgbClr val="ffffcc"/>
                </a:solidFill>
                <a:latin typeface="Arial"/>
              </a:rPr>
              <a:t>— — — — </a:t>
            </a:r>
            <a:br>
              <a:rPr sz="2800"/>
            </a:b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Ямб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Трехсложные размер Дактиль</a:t>
            </a:r>
            <a:r>
              <a:rPr b="0" lang="ru-RU" sz="4200" spc="-1" strike="noStrike">
                <a:solidFill>
                  <a:srgbClr val="0033cc"/>
                </a:solidFill>
                <a:latin typeface="Arial"/>
              </a:rPr>
              <a:t> 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394920" y="1557360"/>
            <a:ext cx="813924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33cc"/>
                </a:solidFill>
                <a:latin typeface="Arial"/>
              </a:rPr>
              <a:t> </a:t>
            </a: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</a:t>
            </a: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трехсложный размер с ударением в стопе на первом слоге (схема стопы дактиля —), а в стихе в целом -  1,4,7,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Как хорошо ты, о море ночное,-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Здесь лучезарно, там сизо-темно..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В лунном сиянии, словно живое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Ходит, и дышит, и блещет оно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 — — —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— — — —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/>
          </p:nvPr>
        </p:nvSpPr>
        <p:spPr>
          <a:xfrm>
            <a:off x="-360" y="1699920"/>
            <a:ext cx="8534520" cy="515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 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- трехсложный размер с ударением в стопе на втором слоге (схема стопы амфибрахия —),  на 2,5,8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В песчаных степях аравийской земли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Три гордые пальмы высоко росл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51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————</a:t>
            </a:r>
            <a:br>
              <a:rPr sz="3000"/>
            </a:b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————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Rectangle 4"/>
          <p:cNvSpPr/>
          <p:nvPr/>
        </p:nvSpPr>
        <p:spPr>
          <a:xfrm>
            <a:off x="1835280" y="98100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33cc"/>
                </a:solidFill>
                <a:latin typeface="Arial"/>
              </a:rPr>
              <a:t>Амфибрахий</a:t>
            </a:r>
            <a:endParaRPr b="0" lang="en-US" sz="36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476000" y="0"/>
            <a:ext cx="701028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200"/>
            </a:b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    </a:t>
            </a:r>
            <a:r>
              <a:rPr b="1" lang="ru-RU" sz="4200" spc="-1" strike="noStrike">
                <a:solidFill>
                  <a:srgbClr val="0033cc"/>
                </a:solidFill>
                <a:latin typeface="Arial"/>
              </a:rPr>
              <a:t>Анапест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95280" y="1267920"/>
            <a:ext cx="8748720" cy="558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000000"/>
                </a:solidFill>
                <a:latin typeface="Arial"/>
              </a:rPr>
              <a:t>-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трехсложный размер с ударением в стопе на третьем слоге (схема стопы анапеста —), а в  3,6,9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Прозвучало над ясной рекою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Прозвенело в померкшем лугу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Прокатилось над рощей немою,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Засветилось на том берегу.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0000"/>
              </a:lnSpc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49"/>
              </a:spcBef>
              <a:buClr>
                <a:srgbClr val="ffffcc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— — —  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— — —</a:t>
            </a: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— — —  </a:t>
            </a:r>
            <a:br>
              <a:rPr sz="2600"/>
            </a:br>
            <a:br>
              <a:rPr sz="2600"/>
            </a:br>
            <a:r>
              <a:rPr b="0" lang="ru-RU" sz="26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523880" y="190440"/>
            <a:ext cx="7010640" cy="1527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0033cc"/>
                </a:solidFill>
                <a:latin typeface="Arial"/>
              </a:rPr>
              <a:t>Рифма и её разновидности</a:t>
            </a:r>
            <a:br>
              <a:rPr sz="3800"/>
            </a:br>
            <a:endParaRPr b="0" lang="en-US" sz="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83920"/>
            <a:ext cx="82836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- повтор звуков, связывающих окончания двух и более строк или симметрично расположенных частей стихотворных строк. В русском классическом стихосложении основным признаком рифмы является совпадение ударных гласных. Рифма отмечает звуковым повтором окончания стиха (</a:t>
            </a:r>
            <a:r>
              <a:rPr b="1" lang="ru-RU" sz="3000" spc="-1" strike="noStrike">
                <a:solidFill>
                  <a:srgbClr val="ffffcc"/>
                </a:solidFill>
                <a:latin typeface="Arial"/>
              </a:rPr>
              <a:t>клаузулы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), подчеркивая междустрочную паузу, а тем самым и </a:t>
            </a:r>
            <a:r>
              <a:rPr b="0" lang="ru-RU" sz="3000" spc="-1" strike="noStrike">
                <a:solidFill>
                  <a:srgbClr val="0033cc"/>
                </a:solidFill>
                <a:latin typeface="Arial"/>
              </a:rPr>
              <a:t>ритм</a:t>
            </a:r>
            <a:r>
              <a:rPr b="0" lang="ru-RU" sz="3000" spc="-1" strike="noStrike">
                <a:solidFill>
                  <a:srgbClr val="ffffcc"/>
                </a:solidFill>
                <a:latin typeface="Arial"/>
              </a:rPr>
              <a:t> стиха.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14T11:41:34Z</dcterms:created>
  <dc:creator>пользователь</dc:creator>
  <dc:description/>
  <dc:language>en-US</dc:language>
  <cp:lastModifiedBy>BEST</cp:lastModifiedBy>
  <dcterms:modified xsi:type="dcterms:W3CDTF">2017-11-01T09:44:04Z</dcterms:modified>
  <cp:revision>6</cp:revision>
  <dc:subject/>
  <dc:title>Системы стихосложения </dc:title>
</cp:coreProperties>
</file>