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1A06-7F1C-4688-BE7F-57DD412F0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9B73-65AD-4915-8095-ADD17776A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A60A-5E3D-42B7-B277-45B750EE9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D9FF-E32C-4CA6-A153-529087EBB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C211-1F6C-4A5C-A963-2C211DC14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2C77-CB55-48EF-96C9-0EBEE015F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6FF5-7359-46DB-B593-A96391B33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334F-B59B-499F-A996-567FCBF74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B767-2CB6-4E2B-A861-208BCDCF4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56D8-DD2F-4A65-AB98-966F0811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BD3D-5532-415D-B727-3FE3CC7A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28C6-582C-440E-B196-88BD987C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B9B04-7D23-4634-B8E0-D85ECA7687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Копия 1781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"/>
          <p:cNvSpPr/>
          <p:nvPr/>
        </p:nvSpPr>
        <p:spPr>
          <a:xfrm>
            <a:off x="692280" y="684360"/>
            <a:ext cx="5759280" cy="69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ниципальное общеобразовательное учрежд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Средняя общеобразовательная школа № 27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. о. Саранс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пасибо за Победу! Посвящается 70-летию Победы в Великой Отечественной войн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2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662000"/>
                </a:solidFill>
                <a:latin typeface="Arial"/>
              </a:rPr>
              <a:t>«След войны в истории наших семей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9933"/>
                </a:solidFill>
                <a:latin typeface="Arial"/>
              </a:rPr>
              <a:t>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2000"/>
                </a:solidFill>
                <a:latin typeface="Arial"/>
              </a:rPr>
              <a:t>                                   </a:t>
            </a:r>
            <a:r>
              <a:rPr b="1" i="1" lang="ru-RU" sz="2000" spc="-1" strike="noStrike">
                <a:solidFill>
                  <a:srgbClr val="662000"/>
                </a:solidFill>
                <a:latin typeface="Arial"/>
              </a:rPr>
              <a:t>2014-2015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Копия 1781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>
            <a:off x="1125360" y="2255760"/>
            <a:ext cx="48848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оя прабабушка родилась в 1938 году в семье работников сельского хозяйства, она была седьмым ребенком. Когда началась Великая Отечественная война, ей было 3 го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то нелёгкое время на фронт уходили почти все мужчины и весь тяжёлый крестьянский труд целиком лег на плечи женщин, стариков, подростков и детей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ласти обязали село снабжать город и армию сельскохозяйственной продукцией. Рабочий день для старших во время посевной начинался в четыре часа утра и заканчивался поздно вечером, при этом голодным селянам надо было успеть еще и засадить свой собственный огоро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т и приходилось самым маленьким помогать по дому: ходить за травой для скотины, носить воду, каждый день ходить в лес за дровами, сажать огород и полоть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WordArt 6"/>
          <p:cNvSpPr txBox="1"/>
          <p:nvPr/>
        </p:nvSpPr>
        <p:spPr>
          <a:xfrm>
            <a:off x="981000" y="90000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6" descr="Копия 1781"/>
          <p:cNvPicPr/>
          <p:nvPr/>
        </p:nvPicPr>
        <p:blipFill>
          <a:blip r:embed="rId1"/>
          <a:srcRect l="6614" t="4706" r="7722" b="4583"/>
          <a:stretch/>
        </p:blipFill>
        <p:spPr>
          <a:xfrm>
            <a:off x="0" y="0"/>
            <a:ext cx="6859440" cy="9144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5"/>
          <p:cNvSpPr/>
          <p:nvPr/>
        </p:nvSpPr>
        <p:spPr>
          <a:xfrm>
            <a:off x="1125360" y="1187280"/>
            <a:ext cx="48247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Детства у меня не было, нам некогда было играть. Годы войны для меня - это страшное, голодное и холодное время. Помню, как ждали весну, чтобы из крапивы сварить похлебку, наковырять оставшихся картофелин» - вспоминала прабабушка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т такая безрадостная картина. Трудно, очень трудно жилось деревн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даже после войны жилось очень трудно, буквально выживали в то врем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, несмотря на все трудности, на послевоенную разруху, голод, самым ярким событием было возвращение отца прабабушки, пусть с ранением, без ноги и одного глаза – но жив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Я благодарна всем тем, кто дал нам мирное небо, яркое солнце и подарил нам счастье и жизнь. Спасибо вам за это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илева Анастас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Копия 1781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5"/>
          <p:cNvSpPr/>
          <p:nvPr/>
        </p:nvSpPr>
        <p:spPr>
          <a:xfrm>
            <a:off x="1052640" y="2257920"/>
            <a:ext cx="4902120" cy="50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Мой прадедушка Винокуров Петр Петрович не воевал. А вот его отец и старший брат воевали и погибли на этой страшной войне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Мой прапрадед Винокуров Пётр Фёдорович, 1901 года рождения, был призван в июне 1941 года на фронт и служил в Мордовской дивизии. Участвовал  в боях под Ленинградом, на Шолоховском направлении. Был пулемётчиком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Его сын  Винокуров Василий Петрович, 1922 года рождения, встретил войну  в городе Пскове, где служил в армии, куда был призван  в 1940 году. Тогда наши войска отступали. 21 октября 1941 года Василий погиб в деревне Плеханово Ленинградской области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Когда отец узнал о смерти сына, командование дало ему один день отпуска, чтобы съездить в деревню Плеханово на могилу сына. Но могилку он так и не нашёл. Деревня была пуста.  Позже он узнает, что Василий захоронен в палисаднике у одного из домов и сообщит об этом в письме родным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0 февраля 1943 года Пётр Фёдорович был тяжело ранен. Об этом он написал в своём последнем письме. После этого от него вестей не было. Винокуров Пётр Фёдорович числился без вести пропавшим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Дурнайкина Виктори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6"/>
          <p:cNvSpPr txBox="1"/>
          <p:nvPr/>
        </p:nvSpPr>
        <p:spPr>
          <a:xfrm>
            <a:off x="981000" y="90000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Копия 1781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5"/>
          <p:cNvSpPr/>
          <p:nvPr/>
        </p:nvSpPr>
        <p:spPr>
          <a:xfrm>
            <a:off x="1125360" y="2263320"/>
            <a:ext cx="492156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прапрадедушка Родионов Дмитрий Васильевич воевал в Великую Отечественную войну. А дома оставались жена и дочь, моя прабабушка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одном из боёв мой прапрадед был ранен и попал  в госпиталь в Кировской области, на станции  Йошкорла города Яранска. Воевать он не мог и домой вернуться тоже не мог. Ранение было в ногу. За ним в госпиталь поехала моя прабабушка Киселёва Прасковья Дмитриев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а одна шла лесами, полями на станцию Чамзинская. По дороге ей встречались волки, но прабабушка шла вперёд, думая о том, что там ранен отец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йдя до станции, она не могла уехать, так как все поезда были переполнены. Но один мужчина её спросил: «Дочка, ты куда собралась ехать?» И прабабушка рассказала ему, что она едет за раненым отцо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огда мужчина сжалился и посадил её на поезд. Прабабушка привезла прапрадедушку раненого в Мордовию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6"/>
          <p:cNvSpPr txBox="1"/>
          <p:nvPr/>
        </p:nvSpPr>
        <p:spPr>
          <a:xfrm>
            <a:off x="981000" y="90000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Копия 1781"/>
          <p:cNvPicPr/>
          <p:nvPr/>
        </p:nvPicPr>
        <p:blipFill>
          <a:blip r:embed="rId1"/>
          <a:srcRect l="6614" t="4706" r="7722" b="4583"/>
          <a:stretch/>
        </p:blipFill>
        <p:spPr>
          <a:xfrm>
            <a:off x="0" y="0"/>
            <a:ext cx="6859440" cy="91440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4"/>
          <p:cNvSpPr/>
          <p:nvPr/>
        </p:nvSpPr>
        <p:spPr>
          <a:xfrm>
            <a:off x="1052640" y="684360"/>
            <a:ext cx="482436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устя несколько лет к нему приехали из района и сказали: «Дмитрий Васильевич, Вам положена пенсия. Вы же были ранены на войне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прапрадедушка сказал: «Пусть моя пенсия пойдёт на благотворительную помощь детям сиротам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 написал заявление – отказ от пенсии и сказал: «Я себе заработаю, а им нужна наша помощь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т такими героическими были мои прапрадед и прабабушка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бабушка не воевала. Но всю войну работала. Она собирала в лесу смолу, а из смолы делали для солдат скипидар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 прабабушки было мн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лагодарственных листов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даль за Доблестный труд.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1985400" y="3994200"/>
            <a:ext cx="2155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21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о прабабушки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1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даль  за Доблест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1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ру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1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4002840" y="5430240"/>
            <a:ext cx="1965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о моя прабабуш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естков Макси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http://img1.liveinternet.ru/images/attach/c/0/44/747/44747406_Medal_trud_USSR.jpg"/>
          <p:cNvPicPr/>
          <p:nvPr/>
        </p:nvPicPr>
        <p:blipFill>
          <a:blip r:embed="rId2"/>
          <a:srcRect l="0" t="0" r="50825" b="0"/>
          <a:stretch/>
        </p:blipFill>
        <p:spPr>
          <a:xfrm>
            <a:off x="4365720" y="3132000"/>
            <a:ext cx="900000" cy="1800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Бабушка"/>
          <p:cNvPicPr/>
          <p:nvPr/>
        </p:nvPicPr>
        <p:blipFill>
          <a:blip r:embed="rId3"/>
          <a:stretch/>
        </p:blipFill>
        <p:spPr>
          <a:xfrm>
            <a:off x="1341360" y="4859280"/>
            <a:ext cx="2592360" cy="19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Копия 1781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5"/>
          <p:cNvSpPr/>
          <p:nvPr/>
        </p:nvSpPr>
        <p:spPr>
          <a:xfrm>
            <a:off x="981000" y="2424240"/>
            <a:ext cx="48974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ргин Степан Васильевич – это мой прадедушка. В 1939 году его призвали в армию. А в 1941 году ещё юным мальчишкой он ушёл на войну. Он сражался за Сталинград. Дошёл до Берлина, сражался у стен Рейхстаг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ле войны Степан Васильевич служил в охране маршала Жуко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ияскина Мар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6"/>
          <p:cNvSpPr txBox="1"/>
          <p:nvPr/>
        </p:nvSpPr>
        <p:spPr>
          <a:xfrm>
            <a:off x="981000" y="90000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1052640" y="4424760"/>
            <a:ext cx="468144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 меня есть прабабушка Захарова Любовь Ивановна. Во время  войны ей было 15 лет. Она не воевала на фронте. Но она вместе со взрослыми обрабатывала поля в колхозе, собирала урожай для солдат. Часто прабабушка голодала. Ела только хлеб из лебе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ногое пришлось испытать людям в то лихое время. Свою прабабушку, что жива до сих пор, я считаю героем, который достоин уважения.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укузов Кирил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Копия 1781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4"/>
          <p:cNvSpPr/>
          <p:nvPr/>
        </p:nvSpPr>
        <p:spPr>
          <a:xfrm>
            <a:off x="1268280" y="2340000"/>
            <a:ext cx="46087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днях вся Россия отмечала День Победы. Какой великий праздник! Сколько наших дедов и прадедов защищало родную страну! А сколько солдат погибло в этой войне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й прадед Терёхин Константин Никитович тоже был на этой войне. Мама рассказывала, как появлялась скупая слеза, когда вспоминал дед о своих погибших товарищах. Он рассказывал о боях, о том, как был в плену, о том, как тосковал по своей жене, по детям, как переживал за ни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душки нет, но его медали хранятся у нас в шкатулке, как большая цен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й прадед и все солдаты и генералы той войны были настоящими мужчинами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ава героям Великой Отечественной войны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вешников Эдура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6"/>
          <p:cNvSpPr txBox="1"/>
          <p:nvPr/>
        </p:nvSpPr>
        <p:spPr>
          <a:xfrm>
            <a:off x="981000" y="90000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Копия 1781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4"/>
          <p:cNvSpPr/>
          <p:nvPr/>
        </p:nvSpPr>
        <p:spPr>
          <a:xfrm>
            <a:off x="1052640" y="2199600"/>
            <a:ext cx="49165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Великая Отечественная война оставила свой след не только в истории нашего государства, но и в судьбе каждой отдельно взятой семьи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Меня всегда интересовала история нашей семьи, и я решил подробней узнать о военном прошлом.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Я спросил у своего дедушки, и он рассказал мне про своего дедушку Арюткина Филиппа Дмитриевича. Мне он приходится уже прапрадедушкой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Филипп Дмитриевича родился 24 апреля 1905 года в Мордовской АССР, селе Кочкурово. Ушел на фронт в июне 1941 года, ему было 36 лет. Его остались ждать жена и двое детей: дочь 14 лет и сын 11 лет (мой прадед Леонид). Они работали в колхозе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Вместе с Филиппом Дмитриевичем на фронт ушли его 2 брата: Василий 1903 года рождения, он погиб на войне, и Петр 1907 года рождения, он был ранен и в 1943 году вернулся домой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А теперь подробнее о моем прапрадеде. Он попал в плен в августе 1941 года. Был в лагере Ламсдорф Шталаг 318. Имеется личная карточка с его фотографией. Дата пленения 28 августа 1941 года. Лагерный номер 3927. Воинское звание солдат (рядовой). Умер в лазарете лагеря от туберкулеза 28 сентября 1942года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6"/>
          <p:cNvSpPr txBox="1"/>
          <p:nvPr/>
        </p:nvSpPr>
        <p:spPr>
          <a:xfrm>
            <a:off x="981000" y="90000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Копия 1781"/>
          <p:cNvPicPr/>
          <p:nvPr/>
        </p:nvPicPr>
        <p:blipFill>
          <a:blip r:embed="rId1"/>
          <a:srcRect l="6614" t="4706" r="7722" b="4583"/>
          <a:stretch/>
        </p:blipFill>
        <p:spPr>
          <a:xfrm>
            <a:off x="0" y="0"/>
            <a:ext cx="6859440" cy="9144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Арюткин"/>
          <p:cNvPicPr/>
          <p:nvPr/>
        </p:nvPicPr>
        <p:blipFill>
          <a:blip r:embed="rId2"/>
          <a:stretch/>
        </p:blipFill>
        <p:spPr>
          <a:xfrm>
            <a:off x="1557360" y="1116000"/>
            <a:ext cx="40971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Копия 1781"/>
          <p:cNvPicPr/>
          <p:nvPr/>
        </p:nvPicPr>
        <p:blipFill>
          <a:blip r:embed="rId1"/>
          <a:srcRect l="6614" t="4706" r="7722" b="4583"/>
          <a:stretch/>
        </p:blipFill>
        <p:spPr>
          <a:xfrm>
            <a:off x="-1440" y="0"/>
            <a:ext cx="6859440" cy="91440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4"/>
          <p:cNvSpPr/>
          <p:nvPr/>
        </p:nvSpPr>
        <p:spPr>
          <a:xfrm>
            <a:off x="1268280" y="1116000"/>
            <a:ext cx="453708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талаг № 318 ("Ламздорф") существовал с августа 1941 по март 1945. Через лагерь прошло свыше 200 000 советских военнопленных. Физические и санитарные условия были ужасными, примерно одна треть пленных умерли от голода, жестокого обращения и болезней. Внутри и вне лагеря погибло 120 000 человек. Лагерь был освобожден Советскими войсками, 17 марта 1945 го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тория нашей страны писалась не только великими полководцами, но и простыми людьми, которые приняли на себя всю тяжесть страшной войны и ответственность за жизнь будущих покол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усть никогда не будет войны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до с добротой относиться к ветеранам, их осталось совсем мало. Надо помнить о них, даже если не знаешь имен. Надо беречь нашу землю, любить Родину. Надо чтить историю нашей страны. Надо хранить ее мир и пок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рифонов Дании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Копия 1781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44" name="WordArt 5"/>
          <p:cNvSpPr txBox="1"/>
          <p:nvPr/>
        </p:nvSpPr>
        <p:spPr>
          <a:xfrm>
            <a:off x="1484280" y="971640"/>
            <a:ext cx="417672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Monotype Corsiva"/>
              </a:rPr>
              <a:t>Сегодня в номере: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Monotype Corsiva"/>
              <a:ea typeface="Monotype Corsiva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1051560" y="2195640"/>
            <a:ext cx="49662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лед войны в истории наших  сем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197000" y="2771640"/>
          <a:ext cx="4753080" cy="3633840"/>
        </p:xfrm>
        <a:graphic>
          <a:graphicData uri="http://schemas.openxmlformats.org/drawingml/2006/table">
            <a:tbl>
              <a:tblPr/>
              <a:tblGrid>
                <a:gridCol w="2376360"/>
                <a:gridCol w="2376720"/>
              </a:tblGrid>
              <a:tr h="3651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андина  Дарья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рисов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нила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ровец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дрей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уянкина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лия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лков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талий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лева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стаси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лова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лизав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урнайкина Викто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стков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сим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рин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гей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яскина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исеенко Яна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хов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митрий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шников Эдуар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нгаева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роника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карев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мур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лмаева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фья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монькина Арина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фонов Даниил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укузов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рилл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уракевич Артур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Щемерова Дарья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йников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гор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ковлев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вгений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Копия 1781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Арткин 1"/>
          <p:cNvPicPr/>
          <p:nvPr/>
        </p:nvPicPr>
        <p:blipFill>
          <a:blip r:embed="rId2"/>
          <a:stretch/>
        </p:blipFill>
        <p:spPr>
          <a:xfrm>
            <a:off x="981000" y="684360"/>
            <a:ext cx="4853160" cy="2668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Арюткин 2"/>
          <p:cNvPicPr/>
          <p:nvPr/>
        </p:nvPicPr>
        <p:blipFill>
          <a:blip r:embed="rId3"/>
          <a:stretch/>
        </p:blipFill>
        <p:spPr>
          <a:xfrm>
            <a:off x="1268280" y="3564000"/>
            <a:ext cx="441036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Копия 1781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5"/>
          <p:cNvSpPr/>
          <p:nvPr/>
        </p:nvSpPr>
        <p:spPr>
          <a:xfrm>
            <a:off x="1125360" y="2195640"/>
            <a:ext cx="4969080" cy="48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ремя неумолимо отсчитывает годы... и вот уже 68 лет Великой Победы будет отмечать наш нар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ремя всесильно, но только над памятью нашей оно невластно, и боль утраты постоянно взывает никогда не забывать не вернувшихся с полей сражений, не забывать ветеранов, ушедших от нас уже в мирное время.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каждым годом мы всё дальше уходим от военной поры. Это было очень трудное время. Это была самая величайшая война за всю историю человечества. Огромное количество людей погибло в этой войн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     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 родилась в счастливое мирное время, но я много слышала о войне, ведь горе и беда не обошли стороной и моих родных и близких. Отец моей бабушки погиб в самом начале войны. В самом пекле войны побывали и мои прадеды. Своего прадедушку Ваню я знаю лишь по рассказам своей бабуш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дед Иван пошёл на войну, когда ему было 25 лет. Он прошёл всю войну, у него много наград, среди них орден Красной Звезды и медаль « За отвагу» медаль « За боевые заслуги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WordArt 6"/>
          <p:cNvSpPr txBox="1"/>
          <p:nvPr/>
        </p:nvSpPr>
        <p:spPr>
          <a:xfrm>
            <a:off x="981000" y="90000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Копия 1781"/>
          <p:cNvPicPr/>
          <p:nvPr/>
        </p:nvPicPr>
        <p:blipFill>
          <a:blip r:embed="rId1"/>
          <a:srcRect l="6614" t="4706" r="7722" b="4583"/>
          <a:stretch/>
        </p:blipFill>
        <p:spPr>
          <a:xfrm>
            <a:off x="0" y="0"/>
            <a:ext cx="6859440" cy="91440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5"/>
          <p:cNvSpPr/>
          <p:nvPr/>
        </p:nvSpPr>
        <p:spPr>
          <a:xfrm>
            <a:off x="1052640" y="1187280"/>
            <a:ext cx="4824360" cy="50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дед не любил рассказывать о войне своим детям, пока они были маленькими. Он всегда говорил, что не хочет, чтобы дети знали  - что такое лишения и гол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ысячи людей прошли тяжелую войну, испытали ужасные мучения, но они выстояли и победили.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бедили в самой тяжелой из всех войн, перенесенных до сих пор человечеством. И живы еще те люди, которые в боях защищали Родину. Война в их памяти всплывает самым страшным воспоминанием. Но она же напоминает им о стойкости, мужестве, дружбе и верности. Многие из них погибли, многие уцелел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 не хочу, чтобы повторились ужасы войны. Пусть мирно растут дети, не пугаясь взрывов бомб, чтобы не пришлось матерям плакать о погибших сыновьях. Пусть же эта память учат нас добру и человечности. И пусть никто не забудет, как боролся наш народ за свободу и счасть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ы в долгу перед тобой, солдат! Мы помним о каждом солдате и какой ценой он добыл побед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олова Елизав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Копия 1781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5"/>
          <p:cNvSpPr/>
          <p:nvPr/>
        </p:nvSpPr>
        <p:spPr>
          <a:xfrm>
            <a:off x="1052640" y="1939320"/>
            <a:ext cx="5113080" cy="51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 родился в счастливое, мирное время, но я много слышал и читал о войн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прадед Ананьин Лев Петрович ушёл на войну в 18 лет, это был 1944 год. В рядах Советской Армии он служил водителем автомашины. Он на своем грузовике подвозил оружие и снаряды к местам бое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дед участвовал в освобождение стран Европы от фашистских захватчиков. Он воевал в Прибалтике, Чехословакии, Польше, Венгрии. День Победы он встретил в Праг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ле войны прадед в рядах действующей армии был отправлен на Дальний Восток, где участвовал в боях с японцами за Маньчжурию, Монголию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мой прадед вернулся лишь в 1951 году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я прабабушка хранит его награды и орден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ле военной службы Лев Петрович закончил Педагогический институт и работал учителем физики в школе №12 г. Саранс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вы, прадедушки сейчас уже нет. Очень жаль, что рассказы о его боевом пути доходят не от него, а из воспоминаний родных и близких. Я горжусь своим прадедушкой и хочу, чтобы никогда и нигде в мире не было войн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оровец Андр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3716280" y="539640"/>
            <a:ext cx="3429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колько войною заде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дых и детских голов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!Мы о войне этой зна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ишь по рассказам отц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Копия 1781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19" name="WordArt 5"/>
          <p:cNvSpPr txBox="1"/>
          <p:nvPr/>
        </p:nvSpPr>
        <p:spPr>
          <a:xfrm>
            <a:off x="981000" y="90000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1125360" y="2118960"/>
            <a:ext cx="475164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его прадедушку звали Шубенин Дмитрий Михайлович. Родился и вырос он в селе Починки Нижегородской области. Был на войне с первых её дней. Дед был офицером красной армий в званий майора, занимал должность заместителя командира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асти связи. Он обеспечивал связь во время войны боевых действий. Принимал участие в освобождении города Кенигсберга, сейчас этот город называется Калининград. Прадед был контужен и ранен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днажды, после освобождения города, во время отдыха, генерал приказал адъютанту истопить баню. Только они вышли из бани,  немцы выстрелили из пушки и попали точно в здание. В тот день мой прадед с генералом чудом остались жив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дед был награжден многими орденами и медалями. У него есть орден Красной звезды, орден Отечественной славы 1 и 2 степен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 очень горжусь своим прадедом. Благодаря таким людям как он, мы сейчас живем в мирное врем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арин Серг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Копия 1781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22" name="WordArt 5"/>
          <p:cNvSpPr txBox="1"/>
          <p:nvPr/>
        </p:nvSpPr>
        <p:spPr>
          <a:xfrm>
            <a:off x="981000" y="90000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1125360" y="2157120"/>
            <a:ext cx="4751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днажды майским  вечером мы с моим дедушкой сидели и смотрели фильм о Великой Отечественной войне. После просмотра дедушка стал мне рассказывать о своем отце - моем прадедушке. Я много раз слышал этот рассказ, но такие подробности из его жизни узнал впервы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вот, что мне стало известно… Моего прадедушку звали Манёров Хасян Якубович. Родился он в 1909 году в простой крестьянской семье, в селе Инят  Ромодановского района. Детство у него было трудным, как и у всех ребят того времени. Но деду пришлось ещё сложнее, так как он в двенадцать лет остался сиротой, потеряв обоих родителей. Окончил он всего один класс начальной школы. Хасян был взят под опеку своих дедушки и бабушки. Он должен был работать  наравне со взрослыми, ведь ему нужно было помогать старика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1929 году, когда ему было двадцать лет он создал свою семью , женившись на девушке по имени Асия ( это была моя прабабушка). У них родились дети, дед работал в колхозе, бабушка растила детей и занималась домашним хозяйств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Копия 1781"/>
          <p:cNvPicPr/>
          <p:nvPr/>
        </p:nvPicPr>
        <p:blipFill>
          <a:blip r:embed="rId1"/>
          <a:srcRect l="6614" t="4706" r="7722" b="4583"/>
          <a:stretch/>
        </p:blipFill>
        <p:spPr>
          <a:xfrm>
            <a:off x="0" y="0"/>
            <a:ext cx="6859440" cy="9144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5"/>
          <p:cNvSpPr/>
          <p:nvPr/>
        </p:nvSpPr>
        <p:spPr>
          <a:xfrm>
            <a:off x="981000" y="745920"/>
            <a:ext cx="5040360" cy="64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 наступил страшный 1941 год. В августе этого же года его призвали на фронт в звании рядового. Служил он в 777 Стрелковом полк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 провоевав несколько месяцев, после страшного боя дед Хасян попадает в плен к врагам. Его отправляют в концентрационный лагерь для военнопленных на Украине в Сумской области. В этом лагере содержалось очень много пленных солдат и условия там были очень тяжелыми. Зима 1941 года была очень холодной и многие умирали от холода и голода, а также от издевательств фашистов. Многие пытались бежать из лагеря и лишь  немногим  это удалос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дед смог вырваться из лап фашистов, но вскоре был пойман. За попытку побега его отправляют в Германию в концлагерь Заксенхаузен, который находился на границе Германии и Франции. Это был один из первых лагерей, созданных фашистами. В Заксенхаузене находилось центральное управление всех концлагерей и здесь располагался учебный центр эсэсовцев. В этом лагере находилось много немецких офицеров и для них здесь содержали породистых лошаде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днажды, на построении заключенных спросили о том, кто из них крестьяне и попросили выйти из строя. Мой дед и несколько других заключенных вышли из строя и их направили в хозяйственный блок. Там они жили и ухаживали за лошадьми ( чистили, мыли, кормили). Условия здесь, по сравнению с условиями жизни в других бараках, были более или менее сносными. Офицер, который следил за ними, тоже был неплохи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Копия 1781"/>
          <p:cNvPicPr/>
          <p:nvPr/>
        </p:nvPicPr>
        <p:blipFill>
          <a:blip r:embed="rId1"/>
          <a:srcRect l="6614" t="4706" r="7722" b="4583"/>
          <a:stretch/>
        </p:blipFill>
        <p:spPr>
          <a:xfrm>
            <a:off x="0" y="0"/>
            <a:ext cx="6859440" cy="91440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5"/>
          <p:cNvSpPr/>
          <p:nvPr/>
        </p:nvSpPr>
        <p:spPr>
          <a:xfrm>
            <a:off x="1052640" y="717120"/>
            <a:ext cx="5013360" cy="62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к прошло немного времени и на смену этому офицеру пришел другой, который  был очень жестоким.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, однажды, этот офицер за небольшую провинность избивает моего деда до полусмерти. Полуживого, его бросили умирать в одиночную камеру, не давая еды 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 в этом карцере оказался надзиратель - полицай , который был родом из Мордовии. Он пожалел деда и стал его подкармливать вареной картошкой, принося ее в чайнике с водой ( будто-бы давая воду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ду стало немного лучше, но он не подавал вида. Продержав деда в одиночной камере, его приговаривают к расстрелу. Дед все еще думает о побеге, но предпринять такую попытку никак не мог, ведь вокруг лагеря была колючая проволока под сильным напряжением (током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 вскоре лагерь стали бомбить англо-американские самолеты. Воспользовавшись моментом дед бежит из-за колючей проволоки и попадает на территорию Франции. Это был 1944 год. Затем он вступает в ряды французских партизан группы Сопротивления. Храбро сражаясь в этом отряде,  он получает множество награ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хранился французский партизанский паспорт деда. Но в партизанском отряде дед представился другой фамилией, назвав фамилию матери. Почему он это сделал непонятно. Возможно боялся преследований  НКВД,  ведь к пленным относились не очень хорош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Копия 1781"/>
          <p:cNvPicPr/>
          <p:nvPr/>
        </p:nvPicPr>
        <p:blipFill>
          <a:blip r:embed="rId1"/>
          <a:srcRect l="6614" t="4706" r="7722" b="4583"/>
          <a:stretch/>
        </p:blipFill>
        <p:spPr>
          <a:xfrm>
            <a:off x="-1440" y="0"/>
            <a:ext cx="6859440" cy="91440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6"/>
          <p:cNvSpPr/>
          <p:nvPr/>
        </p:nvSpPr>
        <p:spPr>
          <a:xfrm>
            <a:off x="1052640" y="676080"/>
            <a:ext cx="482436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йна закончилась, когда дед находился на территории Франции и в августе  1945 года после неоднократных проверок НКВД он возвращается дом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ле войны он работает строителем в Москве, строит дома на ул. Пятницкой. Потом возвращается в Мордовию и принимает участие в строительстве Саранского лампового завод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рез несколько лет уходит на пенсию и в 1978 году умира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т так сложилась жизнь моего прадеда. После этого рассказа деда, я понял что он был мужественным и стойким человеком. Не каждый бы смог пройти тот путь , что пришлось пройти моему прадедушке. Я им очень горжусь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карев Тиму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Рисунок 1" descr="D:\документы\Партизанский паспорт деда.jpg"/>
          <p:cNvPicPr/>
          <p:nvPr/>
        </p:nvPicPr>
        <p:blipFill>
          <a:blip r:embed="rId2"/>
          <a:stretch/>
        </p:blipFill>
        <p:spPr>
          <a:xfrm>
            <a:off x="1628640" y="4140360"/>
            <a:ext cx="3888000" cy="28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Копия 1781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5"/>
          <p:cNvSpPr/>
          <p:nvPr/>
        </p:nvSpPr>
        <p:spPr>
          <a:xfrm>
            <a:off x="1197000" y="2293920"/>
            <a:ext cx="482436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отя я еще маленькая , я уже много знаю о войне. Про Великую Отечественную Войну нам рассказывали на урока. На концерте, посвященном Дню Победы, мы слушали рассказы ветеранов о войн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икто из моих прабабушек и прадедушек не принимал участию в военных действиях, но они тоже сыграли немаловажную роль в победе ССС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и работали в тылу. Шили одежду солдатам, изготавливали снаряды и оружие, если бы не работники тыла ни о какой победе речь бы и не ш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тылу работали женщины , юные ребята, старики и те кто не был годен к служб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прадедушка не принял участия в боях, потому что у него не было одной ноги. Но даже так он со всеми на равных работал в тыл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ругой мой прадедушка тоже работал в тылу, но после войны он семь лет занимался восстановлением города Грозны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йна всегда приносит горе. Война оставляет следы во всех семьях. Я хочу, чтобы никогда больше не было войны! Пусть всегда будет мир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олмаева Софь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WordArt 6"/>
          <p:cNvSpPr txBox="1"/>
          <p:nvPr/>
        </p:nvSpPr>
        <p:spPr>
          <a:xfrm>
            <a:off x="981000" y="90000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Копия 1781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4"/>
          <p:cNvSpPr/>
          <p:nvPr/>
        </p:nvSpPr>
        <p:spPr>
          <a:xfrm>
            <a:off x="1197000" y="2582280"/>
            <a:ext cx="482436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меня на войне был прадедушка. Звали его Баландин Николай Яковлевич.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го призвали в армию за две недели до начала войны. Ему было 18 лет. Он служил на границе с Польшей. Он часто рассказывал моему папе, как тяжело было на фронт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него были ранения: в голову и в руку. Он лежал  долго в госпитале. Но потом снова шёл воев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й прадедушка прошёл всю войну, получил много орденов и медал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гда закончилась война, дедушка был в Австр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Я очень горжусь своим прадедом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аландина Дарь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981000" y="90000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Копия 1781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5"/>
          <p:cNvSpPr/>
          <p:nvPr/>
        </p:nvSpPr>
        <p:spPr>
          <a:xfrm>
            <a:off x="1125360" y="2336040"/>
            <a:ext cx="482472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и прадедушки - участники Великой Отечественной войны 1941-1945 годов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Ратников Александр Александрович, 1914 года рождения. Призван на службу 1941 году. Участвовал в военных действиях в Калининградской области. В сентябре 1941 года попал в плен. В плену был 3 года. Затем воевал в Калининграде. В октябре 1944 года был убит в сражениях. Захоронен в посёлке Калинино Калининградской области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Новак Серафим Антонович, 1924 года рождения. Призван в действующую Армию в июле 1942 года. Служил на Дальнем Востоке в военно-морском флоте. Воевал с Японией. Даже в старости имел морскую выправку. Службу окончил в 1947 году. Имел награды. Умер в июне 2008 в Пермском кра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айников Ег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WordArt 6"/>
          <p:cNvSpPr txBox="1"/>
          <p:nvPr/>
        </p:nvSpPr>
        <p:spPr>
          <a:xfrm>
            <a:off x="981000" y="90000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Копия 1781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4"/>
          <p:cNvSpPr/>
          <p:nvPr/>
        </p:nvSpPr>
        <p:spPr>
          <a:xfrm>
            <a:off x="1125360" y="2480400"/>
            <a:ext cx="475164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 мая – День Победы. Это праздник мира в нашей стран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ного лет прошло с того дня, когда закончилась война. Но мы всегда будем помнить тех, кто подарил ми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й прадед, Тимонькин Василий Осипович, был танкистом на Ленинградском фронте. Погиб в 1942 году, так и не узнав, что у него родился сы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ругой прадедушка, Пеунин Василий Семёнович, работал на оружейном заводе в городе Воткинске. Без сна и отдыха они помогали нашей арм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фронте и в тылу было одно желание – быстрее разгромить фашистов. И мы победили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имонькина Ар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WordArt 6"/>
          <p:cNvSpPr txBox="1"/>
          <p:nvPr/>
        </p:nvSpPr>
        <p:spPr>
          <a:xfrm>
            <a:off x="981000" y="90000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5" descr="Копия 1781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4"/>
          <p:cNvSpPr/>
          <p:nvPr/>
        </p:nvSpPr>
        <p:spPr>
          <a:xfrm>
            <a:off x="1125360" y="2190600"/>
            <a:ext cx="48960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я прабабушка Таисия Михайловна во время Великой Отечественной войны жила в городе Киров. На фронте она не была и оружие в руках не держала. Но она помогала фронту как могла. Вместе с другими женщинами на швейной фабрике она шила одежду для наших солда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вот мой прадед Николай Михайлович воевал. В одном из боёв он был ранен в ногу. Его положили в госпиталь в городе Киров. Как раз именно тогда и познакомились мои прабабушка и прадедуш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ле войны прабабушка поехала жить на родину мужа, в Мордовию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 сожалению, прадед рано умер. Я его совсем не виде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вот прабабушка  ещё жива, 19 мая ей исполнится 90 лет. Мы с родителями пойдём к ней на День Рожд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 войне она рассказывать не любит. Говорит, что это было очень тяжёлое врем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 хочу, чтобы никогда не было войны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ковлев Евг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WordArt 6"/>
          <p:cNvSpPr txBox="1"/>
          <p:nvPr/>
        </p:nvSpPr>
        <p:spPr>
          <a:xfrm>
            <a:off x="981000" y="90000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Копия 1781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Scan10005"/>
          <p:cNvPicPr/>
          <p:nvPr/>
        </p:nvPicPr>
        <p:blipFill>
          <a:blip r:embed="rId2"/>
          <a:stretch/>
        </p:blipFill>
        <p:spPr>
          <a:xfrm>
            <a:off x="1700280" y="971640"/>
            <a:ext cx="3529080" cy="27302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Image0001"/>
          <p:cNvPicPr/>
          <p:nvPr/>
        </p:nvPicPr>
        <p:blipFill>
          <a:blip r:embed="rId3"/>
          <a:stretch/>
        </p:blipFill>
        <p:spPr>
          <a:xfrm>
            <a:off x="1628640" y="3924360"/>
            <a:ext cx="370368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Копия 1781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6"/>
          <p:cNvSpPr/>
          <p:nvPr/>
        </p:nvSpPr>
        <p:spPr>
          <a:xfrm>
            <a:off x="3494880" y="825840"/>
            <a:ext cx="212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ез памяти о прошл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т будущего у нар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1125360" y="2086920"/>
            <a:ext cx="4680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75 года прошло с момента начала Великой Отечественной войны. Так много и так мало. Для памяти тех, кто не вернулся с кровавых полей войны, кто грудью защищал независимость нашей Родины, кто не жалея сил работал в тылу, прошло не так уж и много. Память о них жива и ещё долго будет жить в рассказах воспоминаниях бабушек и дедуше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 хочу рассказать о моём прадедушке. Я его никогда не видела. Но о нём мне рассказывал мой дед. И вот, что я узна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тром 22 июня 1941 года началась война. Моего прадедушку, как коммуниста, 10 сентября 1941 года призвали в ряды Советской Армии. Дома остались жена и дети. На грузовой машине, под названием «полуторка», нас повезли в Ленинград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икто, конечно, тогда не догадывался, что едет в город, которому предстоит 900 дней героической борьбы с врагом и голодом. Артиллерийский абстрел по городу велся круглые сутки. На подступах к городу дедушку и других солдат, ехавших с ним, окружили фашисты.  Положение было тяжёлым. Силы были неравны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Копия 1781"/>
          <p:cNvPicPr/>
          <p:nvPr/>
        </p:nvPicPr>
        <p:blipFill>
          <a:blip r:embed="rId1"/>
          <a:srcRect l="6614" t="4706" r="7722" b="4583"/>
          <a:stretch/>
        </p:blipFill>
        <p:spPr>
          <a:xfrm>
            <a:off x="0" y="-181080"/>
            <a:ext cx="6859440" cy="93250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1125360" y="996120"/>
            <a:ext cx="489600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ле продолжительного боя прадед и ещё несколько человек ушли в лес. В том бою прадедушка получил первое ранение в руку. Оно было не страшным, кость была не заде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лго они бродили по лесу. Заблудилис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рез несколько дней холодные, голодные, изнеможенные, они вышли в сел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ло было совершенно пустым. Где же взять еду? Вскоре солдаты набрели на колхозные амбары. В амбарах они нашли зерно, пшено, горох. С голода люди накинулись и стали есть их сырыми. Потом они отыскали бочку мёда. Они ели мёд, запивая водой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о было большой ошибкой. Животы распухли. Солдатам стало плохо. Несколько человек умерло от разрыва желуд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коре прадеду удалось выйти к партизанам. Партизаны помогли солдатам добраться до своей част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943 году прадед получил своё второе ранение. Дальше быть на фронте он уже не мог. Его комиссова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росите у любого ветерана: что страшнее всего на свете? Каждый, не задумываясь, ответит вой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 хочу пожелать всем нам, никогда не узнать, что такое война. Пусть всегда будет мир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гаева Верон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6" descr="Копия 1781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-32400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52" name="WordArt 7"/>
          <p:cNvSpPr txBox="1"/>
          <p:nvPr/>
        </p:nvSpPr>
        <p:spPr>
          <a:xfrm>
            <a:off x="981000" y="90000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  <p:pic>
        <p:nvPicPr>
          <p:cNvPr id="153" name="Picture 8" descr=""/>
          <p:cNvPicPr/>
          <p:nvPr/>
        </p:nvPicPr>
        <p:blipFill>
          <a:blip r:embed="rId2"/>
          <a:stretch/>
        </p:blipFill>
        <p:spPr>
          <a:xfrm>
            <a:off x="4437000" y="1763640"/>
            <a:ext cx="1316160" cy="180036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5"/>
          <p:cNvSpPr/>
          <p:nvPr/>
        </p:nvSpPr>
        <p:spPr>
          <a:xfrm>
            <a:off x="1125360" y="1602000"/>
            <a:ext cx="4896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Я хочу вам рассказать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своем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адедушке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Звали его Муромцев Владимир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ихайлович. К сожалению, он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е дожи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до наших дней, он умер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даже раньше, чем я родилась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оэтому о нем я знаю из рассказов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оег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ап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адедушка родом из Сибири, из села Нижний Баган. Рос он сиротой, родители умерли и воспитывали его дядя и тет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Когда началась Великая Отечественная война, прадедушка был еще несовершенно летним подростком, на фронт таких не брали по возрасту, но он самоотверженно трудился в тылу, в родном селе, стараясь хоть чем то помочь своей стране. К концу войны, в 1944 г. прадедушка изменил свой возраст в документах, прибавил к реальному своему возрасту один год, и пошел воевать на фронт, защищать свою родин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Копия 1781"/>
          <p:cNvPicPr/>
          <p:nvPr/>
        </p:nvPicPr>
        <p:blipFill>
          <a:blip r:embed="rId1"/>
          <a:srcRect l="6614" t="4706" r="7722" b="4583"/>
          <a:stretch/>
        </p:blipFill>
        <p:spPr>
          <a:xfrm>
            <a:off x="0" y="-181080"/>
            <a:ext cx="6859440" cy="93250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4"/>
          <p:cNvSpPr/>
          <p:nvPr/>
        </p:nvSpPr>
        <p:spPr>
          <a:xfrm>
            <a:off x="1197000" y="1187280"/>
            <a:ext cx="468144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ле недолгой начальной подготовки – самоотверженно воевал на передовой. Служил в разведке. Награжден медалью «За боевые заслуги» и орденом Красной звезды. Потом дедушка был тяжело ранен. Папа рассказывал мне, что пуля попала дедушке в правое плечо, а вышла под лопатк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спине дедушки был огромный шрам, сам дедушка говорил папе, что высота раны была больше 20 сантиметров, едва удалось сохранить правую руку.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к что победу дедушка встретил в госпитал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ле выздоровления дедушка вернулся в армию. Уже в мирное время он продолжил военную службу в разных регионах нашей страны и в подразделениях Советской армии за рубежом нашей роди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ле того, как вышел на пенсию, жил в Саранске, умер в 2002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Копия 1781"/>
          <p:cNvPicPr/>
          <p:nvPr/>
        </p:nvPicPr>
        <p:blipFill>
          <a:blip r:embed="rId1"/>
          <a:srcRect l="6614" t="4706" r="7722" b="4583"/>
          <a:stretch/>
        </p:blipFill>
        <p:spPr>
          <a:xfrm>
            <a:off x="0" y="-181080"/>
            <a:ext cx="6859440" cy="93250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5"/>
          <p:cNvSpPr/>
          <p:nvPr/>
        </p:nvSpPr>
        <p:spPr>
          <a:xfrm>
            <a:off x="1413000" y="1187280"/>
            <a:ext cx="4248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й прадедушка Муромцев Владимир Михайлович был настоящим патриотом, воевал за свою страну не жалея своей жизни, и в мирное время свою жизнь тоже посвятил защите своей роди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исеенко Я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2"/>
          <a:stretch/>
        </p:blipFill>
        <p:spPr>
          <a:xfrm>
            <a:off x="2133720" y="3203640"/>
            <a:ext cx="26272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6" descr="Копия 1781"/>
          <p:cNvPicPr/>
          <p:nvPr/>
        </p:nvPicPr>
        <p:blipFill>
          <a:blip r:embed="rId1"/>
          <a:srcRect l="6614" t="4706" r="7722" b="4583"/>
          <a:stretch/>
        </p:blipFill>
        <p:spPr>
          <a:xfrm>
            <a:off x="0" y="-181080"/>
            <a:ext cx="6859440" cy="93250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1268280" y="826920"/>
            <a:ext cx="47037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Georgia"/>
              </a:rPr>
              <a:t>Ва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Georgia"/>
              </a:rPr>
              <a:t>дорогие ветераны, труженики тыла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990000"/>
                </a:solidFill>
                <a:latin typeface="Georgia"/>
              </a:rPr>
              <a:t>дети  вой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Georgia"/>
              </a:rPr>
              <a:t>низкий поклон и огромное человеческое спасибо от нас, сегодняшних дете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Georgia"/>
              </a:rPr>
              <a:t>не знающих войн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1" descr="d918509d2000"/>
          <p:cNvPicPr/>
          <p:nvPr/>
        </p:nvPicPr>
        <p:blipFill>
          <a:blip r:embed="rId2"/>
          <a:stretch/>
        </p:blipFill>
        <p:spPr>
          <a:xfrm rot="17159400">
            <a:off x="2540160" y="5316480"/>
            <a:ext cx="1272960" cy="2232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" descr="d918509d2000"/>
          <p:cNvPicPr/>
          <p:nvPr/>
        </p:nvPicPr>
        <p:blipFill>
          <a:blip r:embed="rId3"/>
          <a:stretch/>
        </p:blipFill>
        <p:spPr>
          <a:xfrm rot="17952600">
            <a:off x="3331800" y="5100120"/>
            <a:ext cx="1273320" cy="2232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3" descr="d918509d2000"/>
          <p:cNvPicPr/>
          <p:nvPr/>
        </p:nvPicPr>
        <p:blipFill>
          <a:blip r:embed="rId4"/>
          <a:stretch/>
        </p:blipFill>
        <p:spPr>
          <a:xfrm rot="17208000">
            <a:off x="3908160" y="5387400"/>
            <a:ext cx="12733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Копия 1781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7"/>
          <p:cNvSpPr/>
          <p:nvPr/>
        </p:nvSpPr>
        <p:spPr>
          <a:xfrm>
            <a:off x="836640" y="1559160"/>
            <a:ext cx="511344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ой прапрадедуш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Барабанов Пётр Степанович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одился в 1907 году в город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аранск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Когда началас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еликая Отечествен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ой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он работал 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завод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у него была «бронь».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Только в 1942 году  е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звали в армию. Дедуш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начала  был рядовым, пот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ему присвоили зв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ефрейтора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начала он воевал с фашистами.  9 мая 1945 года все праздновали победу и возвращались домой, а дедушку отправили воевать с японц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а японской войне дедушка был санитаром, он много раненых вынес с поля боя и спас им жизн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Дедушка не любил вспоминать о войне, очень мало о ней рассказывал. Каждый год он смотрел по телевизору парад Победы и всегда плака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10"/>
          <p:cNvSpPr txBox="1"/>
          <p:nvPr/>
        </p:nvSpPr>
        <p:spPr>
          <a:xfrm>
            <a:off x="981000" y="90000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  <p:pic>
        <p:nvPicPr>
          <p:cNvPr id="53" name="Picture 11" descr="htmlimage"/>
          <p:cNvPicPr/>
          <p:nvPr/>
        </p:nvPicPr>
        <p:blipFill>
          <a:blip r:embed="rId2"/>
          <a:stretch/>
        </p:blipFill>
        <p:spPr>
          <a:xfrm>
            <a:off x="3860640" y="2050920"/>
            <a:ext cx="20005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Копия 1781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5"/>
          <p:cNvSpPr/>
          <p:nvPr/>
        </p:nvSpPr>
        <p:spPr>
          <a:xfrm>
            <a:off x="1197000" y="755640"/>
            <a:ext cx="446544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душка Пётр был награждён медалям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За боевые заслуги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http://www.chaltlib.ru/images/medali/45.jpg"/>
          <p:cNvPicPr/>
          <p:nvPr/>
        </p:nvPicPr>
        <p:blipFill>
          <a:blip r:embed="rId2"/>
          <a:stretch/>
        </p:blipFill>
        <p:spPr>
          <a:xfrm>
            <a:off x="2708280" y="1332000"/>
            <a:ext cx="1584360" cy="13572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7"/>
          <p:cNvSpPr/>
          <p:nvPr/>
        </p:nvSpPr>
        <p:spPr>
          <a:xfrm>
            <a:off x="1195560" y="255492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За Отвагу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http://www.chaltlib.ru/images/medali/43.jpg"/>
          <p:cNvPicPr/>
          <p:nvPr/>
        </p:nvPicPr>
        <p:blipFill>
          <a:blip r:embed="rId3"/>
          <a:stretch/>
        </p:blipFill>
        <p:spPr>
          <a:xfrm>
            <a:off x="1197000" y="3059280"/>
            <a:ext cx="1366920" cy="13284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0"/>
          <p:cNvSpPr/>
          <p:nvPr/>
        </p:nvSpPr>
        <p:spPr>
          <a:xfrm>
            <a:off x="2878920" y="2716200"/>
            <a:ext cx="348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«За победу над Германи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 Великой Отечественной войне»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stalin"/>
          <p:cNvPicPr/>
          <p:nvPr/>
        </p:nvPicPr>
        <p:blipFill>
          <a:blip r:embed="rId4"/>
          <a:stretch/>
        </p:blipFill>
        <p:spPr>
          <a:xfrm>
            <a:off x="4365720" y="3348000"/>
            <a:ext cx="1463760" cy="13572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2"/>
          <p:cNvSpPr/>
          <p:nvPr/>
        </p:nvSpPr>
        <p:spPr>
          <a:xfrm>
            <a:off x="992520" y="4681440"/>
            <a:ext cx="2126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Орденом Красн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Знамен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1" descr="http://www.chaltlib.ru/images/medali/92.jpg"/>
          <p:cNvPicPr/>
          <p:nvPr/>
        </p:nvPicPr>
        <p:blipFill>
          <a:blip r:embed="rId5"/>
          <a:stretch/>
        </p:blipFill>
        <p:spPr>
          <a:xfrm>
            <a:off x="3068640" y="4716360"/>
            <a:ext cx="1463760" cy="14353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3"/>
          <p:cNvSpPr/>
          <p:nvPr/>
        </p:nvSpPr>
        <p:spPr>
          <a:xfrm>
            <a:off x="0" y="6053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4"/>
          <p:cNvSpPr/>
          <p:nvPr/>
        </p:nvSpPr>
        <p:spPr>
          <a:xfrm>
            <a:off x="765000" y="6264360"/>
            <a:ext cx="511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 горжусь своим прапрадедушкой! Он настоящий герой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орисов Дани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Копия 1781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5"/>
          <p:cNvSpPr/>
          <p:nvPr/>
        </p:nvSpPr>
        <p:spPr>
          <a:xfrm>
            <a:off x="1052640" y="2083680"/>
            <a:ext cx="496872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ю прабабушку зовут Черёмушкина Надежда  Тимофеевна. Она родилась 18 марта 1933 года в деревне Танежицы в Белорусс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мцы вторглись и захватили Белоруссию в самом начале войны в 1941 год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то время моей прабабушке было 8 лет. Она помнит немного, но поделилась со мной своими воспоминания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а рассказывала, что в их деревне жили немцы. Днём они ходили по  дворам и забирали у людей домашний скот, чтобы есть его: кур, свиней, коров. А ночью из леса выходили советские партизаны и делали то же само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немцам и партизанам хотелось кушать, а страдали жители деревни, так как они оставались без своих кормильцев. Есть было совсем нечего. Чтобы хоть как-то прокормиться, люди пекли хлеб их трав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днажды моя прабабушка шла мимо школы. Была зима. Уже стемнело.  На крыше школы сидели два немца и просвечивали территорию прожектора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гда они увидели мою прабабушку, они натравили на неё свою собаку. Это была огромная и злая овчар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6"/>
          <p:cNvSpPr txBox="1"/>
          <p:nvPr/>
        </p:nvSpPr>
        <p:spPr>
          <a:xfrm>
            <a:off x="981000" y="82692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6" descr="Копия 1781"/>
          <p:cNvPicPr/>
          <p:nvPr/>
        </p:nvPicPr>
        <p:blipFill>
          <a:blip r:embed="rId1"/>
          <a:srcRect l="6614" t="4706" r="7722" b="4583"/>
          <a:stretch/>
        </p:blipFill>
        <p:spPr>
          <a:xfrm>
            <a:off x="0" y="0"/>
            <a:ext cx="6859440" cy="9144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5"/>
          <p:cNvSpPr/>
          <p:nvPr/>
        </p:nvSpPr>
        <p:spPr>
          <a:xfrm>
            <a:off x="1125360" y="1187280"/>
            <a:ext cx="4824720" cy="54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бака бросилась к прабабушке, догнала её и уронила на снег. Прабабушка упала на спину, а собака встала передними лапами ей на грудь и стала громко лаять ей в лицо. Прабабушка была очень напугана, она плакала и кричала. А немцы … громко смеялись.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тешившись вдоволь, они отозвали свою собаку, и моя прабабушка убежала дом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мцы знали, что в лесу прячутся партизаны, и что в деревне есть родственники некоторых из них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днажды они вошли в дом к одинокой старушке. Немцы узнали, что её сын ушёл к партизанам. Они вывели её из дома на улицу под прицелом ружья, собрали жителей деревни и застрелили старушку на глазах у всех. Они сказали, что такое случится с каждым, кто будет помогать партизанам. Люди были очень напуган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т такое тяжелое время был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рогие взрослые! Мы, сегодняшние дети, обращаемся к вам! Не допустите новой войны! Мы хотим жить под мирным небом! Радоваться жизни, учиться, расти! Пусть никогда не будет войны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уянкина Юл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Копия 1781"/>
          <p:cNvPicPr/>
          <p:nvPr/>
        </p:nvPicPr>
        <p:blipFill>
          <a:blip r:embed="rId1"/>
          <a:srcRect l="5908" t="5121" r="6941" b="4328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IMG_0001"/>
          <p:cNvPicPr/>
          <p:nvPr/>
        </p:nvPicPr>
        <p:blipFill>
          <a:blip r:embed="rId2"/>
          <a:stretch/>
        </p:blipFill>
        <p:spPr>
          <a:xfrm>
            <a:off x="2637000" y="6300720"/>
            <a:ext cx="1984320" cy="25192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7"/>
          <p:cNvSpPr/>
          <p:nvPr/>
        </p:nvSpPr>
        <p:spPr>
          <a:xfrm>
            <a:off x="1052640" y="2336040"/>
            <a:ext cx="489744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ойна – большая трагедия для всего человечества, которая коснулась каждой семьи, в том числе и моей.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ой прадед – ветеран Великой Отечественной войн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адомский Алексей Николаевич родился в январе 1926 года, а в ноябре 1943 года, его призвали в армию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н служил в 3-м стрелковом полку, наводчиком станкового пулемета. Принимал участие в боевых действиях с 9 августа 1945 года по 3 сентября 1945 года в войне с Японией в составе 3 стрелкового полка 40 стрелковой дивиз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9 августа СССР начал военные действия против сосредоточенной в Маньчжурии японской Квантунской армии, которая вместе с местными формированиями насчитывала свыше 1 млн. челове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8"/>
          <p:cNvSpPr txBox="1"/>
          <p:nvPr/>
        </p:nvSpPr>
        <p:spPr>
          <a:xfrm>
            <a:off x="981000" y="900000"/>
            <a:ext cx="496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2000"/>
                </a:solidFill>
                <a:latin typeface="Georgia"/>
              </a:rPr>
              <a:t>След войны в истории моей семьи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662000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6" descr="Копия 1781"/>
          <p:cNvPicPr/>
          <p:nvPr/>
        </p:nvPicPr>
        <p:blipFill>
          <a:blip r:embed="rId1"/>
          <a:srcRect l="6614" t="4706" r="7722" b="4583"/>
          <a:stretch/>
        </p:blipFill>
        <p:spPr>
          <a:xfrm>
            <a:off x="0" y="0"/>
            <a:ext cx="6859440" cy="9144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9"/>
          <p:cNvSpPr/>
          <p:nvPr/>
        </p:nvSpPr>
        <p:spPr>
          <a:xfrm>
            <a:off x="1341360" y="642960"/>
            <a:ext cx="4608720" cy="66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10 августа в войну против Японии вступила Монгольская народная республика. В результате стремительного наступления советских войск и монгольской Народной армии Квантунская армия в короткий срок была разгромлена, освобождены территории Северо-Восточного Китая и Северной Кореи (за освобождение Северной Корее воевал мой прадед), Южного Сахалина и Курильские острова. Вступление Советского Союза в войну и разгром Квантунской армии ускорили безоговорочную капитуляцию Японии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2 сентября 1945 г. правительство Японии подписало Акт о капитуляции. Капитуляция Японии ознаменовала собой окончание Второй мировой вой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о домой, мой прадед вернулся только в апреле 1950 года. Их часть осталась в Северной Кореи, для охраны мирного населения, от военных конфликтов с Южной Коре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Он был награжден медалями «За победу над Японией», «30 лет Советской армии и флота», «За освобождение Кореи», орден «Отечественной войны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II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епени» (данные были взяты из военного билета) Своего прадеда я, к сожалению, никогда не видел, но моя бабушка и прабабушка (его жена), мне много про него рассказыва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Я и моя семья очень гордимся нашим прадедом, и на 9 Мая говорим ему и всем участникам Великой Отечественной войны огромное СПАСИБО за мир, который они нам  подари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Волков Витал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3T12:31:46Z</dcterms:created>
  <dc:creator>User</dc:creator>
  <dc:description/>
  <dc:language>en-US</dc:language>
  <cp:lastModifiedBy>Наталья</cp:lastModifiedBy>
  <dcterms:modified xsi:type="dcterms:W3CDTF">2016-04-30T13:13:05Z</dcterms:modified>
  <cp:revision>13</cp:revision>
  <dc:subject/>
  <dc:title>Слайд 1</dc:title>
</cp:coreProperties>
</file>