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1FA0-92DA-43E3-8045-C8EA6F6E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0AB1-3440-4DA1-A3B0-60FEE032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780F-39F1-427A-BA1D-7AFE46D4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73E9-39C5-4EF7-8445-FBF332BF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4A1E-A18D-43C2-9D9C-2AD636FD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2945-554E-4D59-B508-AC14B9DD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7791-511C-4F9D-9995-D92DF0D6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F60B-81C8-4F90-8430-3721066C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F20-044D-46D1-A6A9-E88512FE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9DC2-6540-412A-83D7-F173EECE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7C6-F34C-4C0B-9C36-EBA4DB94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83D4-FBCA-4350-A46C-ECC0DCA9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7DC2-C3D9-42E3-8A2D-AFB8A7BDE5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692280" y="684360"/>
            <a:ext cx="5759280" cy="69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№ 27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 о. Саран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пасибо за Победу! Посвящается 70-летию Победы в Великой Отечественной войн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2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662000"/>
                </a:solidFill>
                <a:latin typeface="Arial"/>
              </a:rPr>
              <a:t>«След войны в истории наших семе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33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2000"/>
                </a:solidFill>
                <a:latin typeface="Arial"/>
              </a:rPr>
              <a:t>                                   </a:t>
            </a:r>
            <a:r>
              <a:rPr b="1" i="1" lang="ru-RU" sz="2000" spc="-1" strike="noStrike">
                <a:solidFill>
                  <a:srgbClr val="662000"/>
                </a:solidFill>
                <a:latin typeface="Arial"/>
              </a:rPr>
              <a:t>2014-201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1125360" y="2255760"/>
            <a:ext cx="48848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я прабабушка родилась в 1938 году в семье работников сельского хозяйства, она была седьмым ребенком. Когда началась Великая Отечественная война, ей было 3 г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то нелёгкое время на фронт уходили почти все мужчины и весь тяжёлый крестьянский труд целиком лег на плечи женщин, стариков, подростков и детей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асти обязали село снабжать город и армию сельскохозяйственной продукцией. Рабочий день для старших во время посевной начинался в четыре часа утра и заканчивался поздно вечером, при этом голодным селянам надо было успеть еще и засадить свой собственный огоро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т и приходилось самым маленьким помогать по дому: ходить за травой для скотины, носить воду, каждый день ходить в лес за дровами, сажать огород и полоть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1125360" y="1187280"/>
            <a:ext cx="4824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Детства у меня не было, нам некогда было играть. Годы войны для меня - это страшное, голодное и холодное время. Помню, как ждали весну, чтобы из крапивы сварить похлебку, наковырять оставшихся картофелин» - вспоминала прабабушка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 такая безрадостная картина. Трудно, очень трудно жилось дерев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даже после войны жилось очень трудно, буквально выживали в то врем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, несмотря на все трудности, на послевоенную разруху, голод, самым ярким событием было возвращение отца прабабушки, пусть с ранением, без ноги и одного глаза – но жи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благодарна всем тем, кто дал нам мирное небо, яркое солнце и подарил нам счастье и жизнь. Спасибо вам за эт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илева Анастас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1052640" y="2257920"/>
            <a:ext cx="4902120" cy="50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ой прадедушка Винокуров Петр Петрович не воевал. А вот его отец и старший брат воевали и погибли на этой страшной войн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ой прапрадед Винокуров Пётр Фёдорович, 1901 года рождения, был призван в июне 1941 года на фронт и служил в Мордовской дивизии. Участвовал  в боях под Ленинградом, на Шолоховском направлении. Был пулемётчиком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Его сын  Винокуров Василий Петрович, 1922 года рождения, встретил войну  в городе Пскове, где служил в армии, куда был призван  в 1940 году. Тогда наши войска отступали. 21 октября 1941 года Василий погиб в деревне Плеханово Ленинградской област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Когда отец узнал о смерти сына, командование дало ему один день отпуска, чтобы съездить в деревню Плеханово на могилу сына. Но могилку он так и не нашёл. Деревня была пуста.  Позже он узнает, что Василий захоронен в палисаднике у одного из домов и сообщит об этом в письме родным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0 февраля 1943 года Пётр Фёдорович был тяжело ранен. Об этом он написал в своём последнем письме. После этого от него вестей не было. Винокуров Пётр Фёдорович числился без вести пропавшим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Дурнайкина Виктор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1125360" y="2263320"/>
            <a:ext cx="49215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прапрадедушка Родионов Дмитрий Васильевич воевал в Великую Отечественную войну. А дома оставались жена и дочь, моя прабабушка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дном из боёв мой прапрадед был ранен и попал  в госпиталь в Кировской области, на станции  Йошкорла города Яранска. Воевать он не мог и домой вернуться тоже не мог. Ранение было в ногу. За ним в госпиталь поехала моя прабабушка Киселёва Прасковья Дмитриев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одна шла лесами, полями на станцию Чамзинская. По дороге ей встречались волки, но прабабушка шла вперёд, думая о том, что там ранен оте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йдя до станции, она не могла уехать, так как все поезда были переполнены. Но один мужчина её спросил: «Дочка, ты куда собралась ехать?» И прабабушка рассказала ему, что она едет за раненым отц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гда мужчина сжалился и посадил её на поезд. Прабабушка привезла прапрадедушку раненого в Мордов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1052640" y="684360"/>
            <a:ext cx="4824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устя несколько лет к нему приехали из района и сказали: «Дмитрий Васильевич, Вам положена пенсия. Вы же были ранены на войне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прапрадедушка сказал: «Пусть моя пенсия пойдёт на благотворительную помощь детям сирота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написал заявление – отказ от пенсии и сказал: «Я себе заработаю, а им нужна наша помощь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т такими героическими были мои прапрадед и прабабушк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бабушка не воевала. Но всю войну работала. Она собирала в лесу смолу, а из смолы делали для солдат скипида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прабабушки было м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агодарственных лист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даль за Доблестный труд.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985400" y="3994200"/>
            <a:ext cx="2155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прабабушки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даль  за Доблест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4002840" y="5430240"/>
            <a:ext cx="1965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моя прабабуш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стков Макс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http://img1.liveinternet.ru/images/attach/c/0/44/747/44747406_Medal_trud_USSR.jpg"/>
          <p:cNvPicPr/>
          <p:nvPr/>
        </p:nvPicPr>
        <p:blipFill>
          <a:blip r:embed="rId2"/>
          <a:srcRect l="0" t="0" r="50825" b="0"/>
          <a:stretch/>
        </p:blipFill>
        <p:spPr>
          <a:xfrm>
            <a:off x="4365720" y="3132000"/>
            <a:ext cx="900000" cy="1800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Бабушка"/>
          <p:cNvPicPr/>
          <p:nvPr/>
        </p:nvPicPr>
        <p:blipFill>
          <a:blip r:embed="rId3"/>
          <a:stretch/>
        </p:blipFill>
        <p:spPr>
          <a:xfrm>
            <a:off x="1341360" y="4859280"/>
            <a:ext cx="259236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981000" y="2424240"/>
            <a:ext cx="48974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гин Степан Васильевич – это мой прадедушка. В 1939 году его призвали в армию. А в 1941 году ещё юным мальчишкой он ушёл на войну. Он сражался за Сталинград. Дошёл до Берлина, сражался у стен Рейхста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войны Степан Васильевич служил в охране маршала Жук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яскина Ма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052640" y="4424760"/>
            <a:ext cx="4681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меня есть прабабушка Захарова Любовь Ивановна. Во время  войны ей было 15 лет. Она не воевала на фронте. Но она вместе со взрослыми обрабатывала поля в колхозе, собирала урожай для солдат. Часто прабабушка голодала. Ела только хлеб из лебе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огое пришлось испытать людям в то лихое время. Свою прабабушку, что жива до сих пор, я считаю героем, который достоин уважения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кузов Кирил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1268280" y="2340000"/>
            <a:ext cx="4608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днях вся Россия отмечала День Победы. Какой великий праздник! Сколько наших дедов и прадедов защищало родную страну! А сколько солдат погибло в этой войн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й прадед Терёхин Константин Никитович тоже был на этой войне. Мама рассказывала, как появлялась скупая слеза, когда вспоминал дед о своих погибших товарищах. Он рассказывал о боях, о том, как был в плену, о том, как тосковал по своей жене, по детям, как переживал за н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душки нет, но его медали хранятся у нас в шкатулке, как большая цен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й прадед и все солдаты и генералы той войны были настоящими мужчинами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ва героям Великой Отечественной войны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ешников Эдур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1052640" y="2199600"/>
            <a:ext cx="4916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еликая Отечественная война оставила свой след не только в истории нашего государства, но и в судьбе каждой отдельно взятой семьи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еня всегда интересовала история нашей семьи, и я решил подробней узнать о военном прошлом.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Я спросил у своего дедушки, и он рассказал мне про своего дедушку Арюткина Филиппа Дмитриевича. Мне он приходится уже прапрадедушкой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Филипп Дмитриевича родился 24 апреля 1905 года в Мордовской АССР, селе Кочкурово. Ушел на фронт в июне 1941 года, ему было 36 лет. Его остались ждать жена и двое детей: дочь 14 лет и сын 11 лет (мой прадед Леонид). Они работали в колхозе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месте с Филиппом Дмитриевичем на фронт ушли его 2 брата: Василий 1903 года рождения, он погиб на войне, и Петр 1907 года рождения, он был ранен и в 1943 году вернулся домой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А теперь подробнее о моем прапрадеде. Он попал в плен в августе 1941 года. Был в лагере Ламсдорф Шталаг 318. Имеется личная карточка с его фотографией. Дата пленения 28 августа 1941 года. Лагерный номер 3927. Воинское звание солдат (рядовой). Умер в лазарете лагеря от туберкулеза 28 сентября 1942года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Арюткин"/>
          <p:cNvPicPr/>
          <p:nvPr/>
        </p:nvPicPr>
        <p:blipFill>
          <a:blip r:embed="rId2"/>
          <a:stretch/>
        </p:blipFill>
        <p:spPr>
          <a:xfrm>
            <a:off x="1557360" y="1116000"/>
            <a:ext cx="4097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-144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1268280" y="1116000"/>
            <a:ext cx="45370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талаг № 318 ("Ламздорф") существовал с августа 1941 по март 1945. Через лагерь прошло свыше 200 000 советских военнопленных. Физические и санитарные условия были ужасными, примерно одна треть пленных умерли от голода, жестокого обращения и болезней. Внутри и вне лагеря погибло 120 000 человек. Лагерь был освобожден Советскими войсками, 17 марта 1945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 нашей страны писалась не только великими полководцами, но и простыми людьми, которые приняли на себя всю тяжесть страшной войны и ответственность за жизнь будущих покол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сть никогда не будет войны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о с добротой относиться к ветеранам, их осталось совсем мало. Надо помнить о них, даже если не знаешь имен. Надо беречь нашу землю, любить Родину. Надо чтить историю нашей страны. Надо хранить ее мир и по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ифонов Дании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1484280" y="971640"/>
            <a:ext cx="41767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Monotype Corsiva"/>
              </a:rPr>
              <a:t>Сегодня в номере: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Monotype Corsiva"/>
              <a:ea typeface="Monotype Corsiva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051560" y="2195640"/>
            <a:ext cx="4966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лед войны в истории наших  сем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197000" y="2771640"/>
          <a:ext cx="4753080" cy="3633840"/>
        </p:xfrm>
        <a:graphic>
          <a:graphicData uri="http://schemas.openxmlformats.org/drawingml/2006/table">
            <a:tbl>
              <a:tblPr/>
              <a:tblGrid>
                <a:gridCol w="2376360"/>
                <a:gridCol w="2376720"/>
              </a:tblGrid>
              <a:tr h="365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дина  Дарь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ис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ил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овец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дре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янкин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л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к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тали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лев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стас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в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лиза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рнайкина Вик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рин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ге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яскин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исеенко Ян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х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митри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шников Эдуар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гаев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оник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аре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мур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маев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фь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монькина Арин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фонов Даниил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куз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илл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ракевич Артур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емерова Дарь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йник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гор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ковле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гени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Арткин 1"/>
          <p:cNvPicPr/>
          <p:nvPr/>
        </p:nvPicPr>
        <p:blipFill>
          <a:blip r:embed="rId2"/>
          <a:stretch/>
        </p:blipFill>
        <p:spPr>
          <a:xfrm>
            <a:off x="981000" y="684360"/>
            <a:ext cx="4853160" cy="2668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Арюткин 2"/>
          <p:cNvPicPr/>
          <p:nvPr/>
        </p:nvPicPr>
        <p:blipFill>
          <a:blip r:embed="rId3"/>
          <a:stretch/>
        </p:blipFill>
        <p:spPr>
          <a:xfrm>
            <a:off x="1268280" y="3564000"/>
            <a:ext cx="441036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1125360" y="2195640"/>
            <a:ext cx="496908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ремя неумолимо отсчитывает годы... и вот уже 68 лет Великой Победы будет отмечать наш нар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ремя всесильно, но только над памятью нашей оно невластно, и боль утраты постоянно взывает никогда не забывать не вернувшихся с полей сражений, не забывать ветеранов, ушедших от нас уже в мирное время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каждым годом мы всё дальше уходим от военной поры. Это было очень трудное время. Это была самая величайшая война за всю историю человечества. Огромное количество людей погибло в этой вой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    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родилась в счастливое мирное время, но я много слышала о войне, ведь горе и беда не обошли стороной и моих родных и близких. Отец моей бабушки погиб в самом начале войны. В самом пекле войны побывали и мои прадеды. Своего прадедушку Ваню я знаю лишь по рассказам своей бабуш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дед Иван пошёл на войну, когда ему было 25 лет. Он прошёл всю войну, у него много наград, среди них орден Красной Звезды и медаль « За отвагу» медаль « За боевые заслуги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1052640" y="1187280"/>
            <a:ext cx="4824360" cy="50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дед не любил рассказывать о войне своим детям, пока они были маленькими. Он всегда говорил, что не хочет, чтобы дети знали  - что такое лишения и гол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ысячи людей прошли тяжелую войну, испытали ужасные мучения, но они выстояли и победили.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бедили в самой тяжелой из всех войн, перенесенных до сих пор человечеством. И живы еще те люди, которые в боях защищали Родину. Война в их памяти всплывает самым страшным воспоминанием. Но она же напоминает им о стойкости, мужестве, дружбе и верности. Многие из них погибли, многие уцеле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не хочу, чтобы повторились ужасы войны. Пусть мирно растут дети, не пугаясь взрывов бомб, чтобы не пришлось матерям плакать о погибших сыновьях. Пусть же эта память учат нас добру и человечности. И пусть никто не забудет, как боролся наш народ за свободу и счасть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в долгу перед тобой, солдат! Мы помним о каждом солдате и какой ценой он добыл побед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лова Елиза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1052640" y="1939320"/>
            <a:ext cx="5113080" cy="51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родился в счастливое, мирное время, но я много слышал и читал о войн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прадед Ананьин Лев Петрович ушёл на войну в 18 лет, это был 1944 год. В рядах Советской Армии он служил водителем автомашины. Он на своем грузовике подвозил оружие и снаряды к местам бое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дед участвовал в освобождение стран Европы от фашистских захватчиков. Он воевал в Прибалтике, Чехословакии, Польше, Венгрии. День Победы он встретил в Праг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войны прадед в рядах действующей армии был отправлен на Дальний Восток, где участвовал в боях с японцами за Маньчжурию, Монгол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мой прадед вернулся лишь в 1951 году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я прабабушка хранит его награды и орде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военной службы Лев Петрович закончил Педагогический институт и работал учителем физики в школе №12 г. Саранс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вы, прадедушки сейчас уже нет. Очень жаль, что рассказы о его боевом пути доходят не от него, а из воспоминаний родных и близких. Я горжусь своим прадедушкой и хочу, чтобы никогда и нигде в мире не было вой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ровец Андр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716280" y="539640"/>
            <a:ext cx="342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олько войною заде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дых и детских голов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!Мы о войне этой зна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шь по рассказам отц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5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125360" y="2118960"/>
            <a:ext cx="47516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его прадедушку звали Шубенин Дмитрий Михайлович. Родился и вырос он в селе Починки Нижегородской области. Был на войне с первых её дней. Дед был офицером красной армий в званий майора, занимал должность заместителя командир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ти связи. Он обеспечивал связь во время войны боевых действий. Принимал участие в освобождении города Кенигсберга, сейчас этот город называется Калининград. Прадед был контужен и ране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жды, после освобождения города, во время отдыха, генерал приказал адъютанту истопить баню. Только они вышли из бани,  немцы выстрелили из пушки и попали точно в здание. В тот день мой прадед с генералом чудом остались жив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дед был награжден многими орденами и медалями. У него есть орден Красной звезды, орден Отечественной славы 1 и 2 степен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очень горжусь своим прадедом. Благодаря таким людям как он, мы сейчас живем в мирное врем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рин Серг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5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125360" y="2157120"/>
            <a:ext cx="4751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жды майским  вечером мы с моим дедушкой сидели и смотрели фильм о Великой Отечественной войне. После просмотра дедушка стал мне рассказывать о своем отце - моем прадедушке. Я много раз слышал этот рассказ, но такие подробности из его жизни узнал вперв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от, что мне стало известно… Моего прадедушку звали Манёров Хасян Якубович. Родился он в 1909 году в простой крестьянской семье, в селе Инят  Ромодановского района. Детство у него было трудным, как и у всех ребят того времени. Но деду пришлось ещё сложнее, так как он в двенадцать лет остался сиротой, потеряв обоих родителей. Окончил он всего один класс начальной школы. Хасян был взят под опеку своих дедушки и бабушки. Он должен был работать  наравне со взрослыми, ведь ему нужно было помогать старик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929 году, когда ему было двадцать лет он создал свою семью , женившись на девушке по имени Асия ( это была моя прабабушка). У них родились дети, дед работал в колхозе, бабушка растила детей и занималась домашним хозяйст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981000" y="745920"/>
            <a:ext cx="504036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наступил страшный 1941 год. В августе этого же года его призвали на фронт в звании рядового. Служил он в 777 Стрелковом полк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провоевав несколько месяцев, после страшного боя дед Хасян попадает в плен к врагам. Его отправляют в концентрационный лагерь для военнопленных на Украине в Сумской области. В этом лагере содержалось очень много пленных солдат и условия там были очень тяжелыми. Зима 1941 года была очень холодной и многие умирали от холода и голода, а также от издевательств фашистов. Многие пытались бежать из лагеря и лишь  немногим  это удало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дед смог вырваться из лап фашистов, но вскоре был пойман. За попытку побега его отправляют в Германию в концлагерь Заксенхаузен, который находился на границе Германии и Франции. Это был один из первых лагерей, созданных фашистами. В Заксенхаузене находилось центральное управление всех концлагерей и здесь располагался учебный центр эсэсовцев. В этом лагере находилось много немецких офицеров и для них здесь содержали породистых лошад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жды, на построении заключенных спросили о том, кто из них крестьяне и попросили выйти из строя. Мой дед и несколько других заключенных вышли из строя и их направили в хозяйственный блок. Там они жили и ухаживали за лошадьми ( чистили, мыли, кормили). Условия здесь, по сравнению с условиями жизни в других бараках, были более или менее сносными. Офицер, который следил за ними, тоже был неплох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1052640" y="717120"/>
            <a:ext cx="501336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прошло немного времени и на смену этому офицеру пришел другой, который  был очень жестоким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, однажды, этот офицер за небольшую провинность избивает моего деда до полусмерти. Полуживого, его бросили умирать в одиночную камеру, не давая еды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в этом карцере оказался надзиратель - полицай , который был родом из Мордовии. Он пожалел деда и стал его подкармливать вареной картошкой, принося ее в чайнике с водой ( будто-бы давая воду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ду стало немного лучше, но он не подавал вида. Продержав деда в одиночной камере, его приговаривают к расстрелу. Дед все еще думает о побеге, но предпринять такую попытку никак не мог, ведь вокруг лагеря была колючая проволока под сильным напряжением (током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вскоре лагерь стали бомбить англо-американские самолеты. Воспользовавшись моментом дед бежит из-за колючей проволоки и попадает на территорию Франции. Это был 1944 год. Затем он вступает в ряды французских партизан группы Сопротивления. Храбро сражаясь в этом отряде,  он получает множество награ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хранился французский партизанский паспорт деда. Но в партизанском отряде дед представился другой фамилией, назвав фамилию матери. Почему он это сделал непонятно. Возможно боялся преследований  НКВД,  ведь к пленным относились не очень хорош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-144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1052640" y="676080"/>
            <a:ext cx="48243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йна закончилась, когда дед находился на территории Франции и в августе  1945 года после неоднократных проверок НКВД он возвращается дом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войны он работает строителем в Москве, строит дома на ул. Пятницкой. Потом возвращается в Мордовию и принимает участие в строительстве Саранского лампового зав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ез несколько лет уходит на пенсию и в 1978 году умир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т так сложилась жизнь моего прадеда. После этого рассказа деда, я понял что он был мужественным и стойким человеком. Не каждый бы смог пройти тот путь , что пришлось пройти моему прадедушке. Я им очень горжус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карев Тим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1" descr="D:\документы\Партизанский паспорт деда.jpg"/>
          <p:cNvPicPr/>
          <p:nvPr/>
        </p:nvPicPr>
        <p:blipFill>
          <a:blip r:embed="rId2"/>
          <a:stretch/>
        </p:blipFill>
        <p:spPr>
          <a:xfrm>
            <a:off x="1628640" y="4140360"/>
            <a:ext cx="3888000" cy="28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1197000" y="2293920"/>
            <a:ext cx="482436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тя я еще маленькая , я уже много знаю о войне. Про Великую Отечественную Войну нам рассказывали на урока. На концерте, посвященном Дню Победы, мы слушали рассказы ветеранов о вой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кто из моих прабабушек и прадедушек не принимал участию в военных действиях, но они тоже сыграли немаловажную роль в победе ССС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и работали в тылу. Шили одежду солдатам, изготавливали снаряды и оружие, если бы не работники тыла ни о какой победе речь бы и не ш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тылу работали женщины , юные ребята, старики и те кто не был годен к служб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прадедушка не принял участия в боях, потому что у него не было одной ноги. Но даже так он со всеми на равных работал в тыл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угой мой прадедушка тоже работал в тылу, но после войны он семь лет занимался восстановлением города Гроз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йна всегда приносит горе. Война оставляет следы во всех семьях. Я хочу, чтобы никогда больше не было войны! Пусть всегда будет мир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лмаева Софь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1197000" y="2582280"/>
            <a:ext cx="4824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меня на войне был прадедушка. Звали его Баландин Николай Яковлевич.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го призвали в армию за две недели до начала войны. Ему было 18 лет. Он служил на границе с Польшей. Он часто рассказывал моему папе, как тяжело было на фрон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него были ранения: в голову и в руку. Он лежал  долго в госпитале. Но потом снова шёл воев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й прадедушка прошёл всю войну, получил много орденов и меда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гда закончилась война, дедушка был в Авст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очень горжусь своим прадедом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ландина Дар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1125360" y="2336040"/>
            <a:ext cx="48247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и прадедушки - участники Великой Отечественной войны 1941-1945 годо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Ратников Александр Александрович, 1914 года рождения. Призван на службу 1941 году. Участвовал в военных действиях в Калининградской области. В сентябре 1941 года попал в плен. В плену был 3 года. Затем воевал в Калининграде. В октябре 1944 года был убит в сражениях. Захоронен в посёлке Калинино Калининградской области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Новак Серафим Антонович, 1924 года рождения. Призван в действующую Армию в июле 1942 года. Служил на Дальнем Востоке в военно-морском флоте. Воевал с Японией. Даже в старости имел морскую выправку. Службу окончил в 1947 году. Имел награды. Умер в июне 2008 в Пермском кра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йников Ег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1125360" y="2480400"/>
            <a:ext cx="47516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 мая – День Победы. Это праздник мира в нашей стра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ого лет прошло с того дня, когда закончилась война. Но мы всегда будем помнить тех, кто подарил ми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прадед, Тимонькин Василий Осипович, был танкистом на Ленинградском фронте. Погиб в 1942 году, так и не узнав, что у него родился сы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угой прадедушка, Пеунин Василий Семёнович, работал на оружейном заводе в городе Воткинске. Без сна и отдыха они помогали нашей арм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фронте и в тылу было одно желание – быстрее разгромить фашистов. И мы победил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имонькина А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"/>
          <p:cNvSpPr/>
          <p:nvPr/>
        </p:nvSpPr>
        <p:spPr>
          <a:xfrm>
            <a:off x="1125360" y="2190600"/>
            <a:ext cx="48960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я прабабушка Таисия Михайловна во время Великой Отечественной войны жила в городе Киров. На фронте она не была и оружие в руках не держала. Но она помогала фронту как могла. Вместе с другими женщинами на швейной фабрике она шила одежду для наших солда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от мой прадед Николай Михайлович воевал. В одном из боёв он был ранен в ногу. Его положили в госпиталь в городе Киров. Как раз именно тогда и познакомились мои прабабушка и прадедуш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войны прабабушка поехала жить на родину мужа, в Мордов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 сожалению, прадед рано умер. Я его совсем не вид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от прабабушка  ещё жива, 19 мая ей исполнится 90 лет. Мы с родителями пойдём к ней на День Рож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 войне она рассказывать не любит. Говорит, что это было очень тяжёлое врем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хочу, чтобы никогда не было войны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ковлев Евг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Scan10005"/>
          <p:cNvPicPr/>
          <p:nvPr/>
        </p:nvPicPr>
        <p:blipFill>
          <a:blip r:embed="rId2"/>
          <a:stretch/>
        </p:blipFill>
        <p:spPr>
          <a:xfrm>
            <a:off x="1700280" y="971640"/>
            <a:ext cx="3529080" cy="2730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Image0001"/>
          <p:cNvPicPr/>
          <p:nvPr/>
        </p:nvPicPr>
        <p:blipFill>
          <a:blip r:embed="rId3"/>
          <a:stretch/>
        </p:blipFill>
        <p:spPr>
          <a:xfrm>
            <a:off x="1628640" y="3924360"/>
            <a:ext cx="370368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3494880" y="825840"/>
            <a:ext cx="212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з памяти о прош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т будущего у нар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1125360" y="2086920"/>
            <a:ext cx="4680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5 года прошло с момента начала Великой Отечественной войны. Так много и так мало. Для памяти тех, кто не вернулся с кровавых полей войны, кто грудью защищал независимость нашей Родины, кто не жалея сил работал в тылу, прошло не так уж и много. Память о них жива и ещё долго будет жить в рассказах воспоминаниях бабушек и дедуш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хочу рассказать о моём прадедушке. Я его никогда не видела. Но о нём мне рассказывал мой дед. И вот, что я узн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ром 22 июня 1941 года началась война. Моего прадедушку, как коммуниста, 10 сентября 1941 года призвали в ряды Советской Армии. Дома остались жена и дети. На грузовой машине, под названием «полуторка», нас повезли в Ленингра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кто, конечно, тогда не догадывался, что едет в город, которому предстоит 900 дней героической борьбы с врагом и голодом. Артиллерийский абстрел по городу велся круглые сутки. На подступах к городу дедушку и других солдат, ехавших с ним, окружили фашисты.  Положение было тяжёлым. Силы были неравн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-181080"/>
            <a:ext cx="6859440" cy="9325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1125360" y="996120"/>
            <a:ext cx="48960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продолжительного боя прадед и ещё несколько человек ушли в лес. В том бою прадедушка получил первое ранение в руку. Оно было не страшным, кость была не зад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го они бродили по лесу. Заблудили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ез несколько дней холодные, голодные, изнеможенные, они вышли в се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ло было совершенно пустым. Где же взять еду? Вскоре солдаты набрели на колхозные амбары. В амбарах они нашли зерно, пшено, горох. С голода люди накинулись и стали есть их сырыми. Потом они отыскали бочку мёда. Они ели мёд, запивая водой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было большой ошибкой. Животы распухли. Солдатам стало плохо. Несколько человек умерло от разрыва желуд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коре прадеду удалось выйти к партизанам. Партизаны помогли солдатам добраться до своей ча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943 году прадед получил своё второе ранение. Дальше быть на фронте он уже не мог. Его комиссова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росите у любого ветерана: что страшнее всего на свете? Каждый, не задумываясь, ответит вой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хочу пожелать всем нам, никогда не узнать, что такое война. Пусть всегда будет мир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гаева Веро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-32400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7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4437000" y="1763640"/>
            <a:ext cx="1316160" cy="18003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1125360" y="1602000"/>
            <a:ext cx="4896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Я хочу вам рассказа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свое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дедушке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вали его Муромцев Владимир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ихайлович. К сожалению, он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дож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о наших дней, он уме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аже раньше, чем я родилась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этому о нем я знаю из рассказов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оег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ап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дедушка родом из Сибири, из села Нижний Баган. Рос он сиротой, родители умерли и воспитывали его дядя и тет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началась Великая Отечественная война, прадедушка был еще несовершенно летним подростком, на фронт таких не брали по возрасту, но он самоотверженно трудился в тылу, в родном селе, стараясь хоть чем то помочь своей стране. К концу войны, в 1944 г. прадедушка изменил свой возраст в документах, прибавил к реальному своему возрасту один год, и пошел воевать на фронт, защищать свою роди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-181080"/>
            <a:ext cx="6859440" cy="93250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1197000" y="1187280"/>
            <a:ext cx="46814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недолгой начальной подготовки – самоотверженно воевал на передовой. Служил в разведке. Награжден медалью «За боевые заслуги» и орденом Красной звезды. Потом дедушка был тяжело ранен. Папа рассказывал мне, что пуля попала дедушке в правое плечо, а вышла под лопатк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пине дедушки был огромный шрам, сам дедушка говорил папе, что высота раны была больше 20 сантиметров, едва удалось сохранить правую руку.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 что победу дедушка встретил в госпитал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выздоровления дедушка вернулся в армию. Уже в мирное время он продолжил военную службу в разных регионах нашей страны и в подразделениях Советской армии за рубежом нашей род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того, как вышел на пенсию, жил в Саранске, умер в 2002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-181080"/>
            <a:ext cx="6859440" cy="9325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1413000" y="1187280"/>
            <a:ext cx="424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й прадедушка Муромцев Владимир Михайлович был настоящим патриотом, воевал за свою страну не жалея своей жизни, и в мирное время свою жизнь тоже посвятил защите своей род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исеенко Я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2133720" y="3203640"/>
            <a:ext cx="2627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-181080"/>
            <a:ext cx="6859440" cy="9325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1268280" y="826920"/>
            <a:ext cx="4703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Georgia"/>
              </a:rPr>
              <a:t>Ва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Georgia"/>
              </a:rPr>
              <a:t>дорогие ветераны, труженики тыла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990000"/>
                </a:solidFill>
                <a:latin typeface="Georgia"/>
              </a:rPr>
              <a:t>дети  вой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Georgia"/>
              </a:rPr>
              <a:t>низкий поклон и огромное человеческое спасибо от нас, сегодняшних дет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Georgia"/>
              </a:rPr>
              <a:t>не знающих вой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1" descr="d918509d2000"/>
          <p:cNvPicPr/>
          <p:nvPr/>
        </p:nvPicPr>
        <p:blipFill>
          <a:blip r:embed="rId2"/>
          <a:stretch/>
        </p:blipFill>
        <p:spPr>
          <a:xfrm rot="17159400">
            <a:off x="2540160" y="5316480"/>
            <a:ext cx="1272960" cy="2232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d918509d2000"/>
          <p:cNvPicPr/>
          <p:nvPr/>
        </p:nvPicPr>
        <p:blipFill>
          <a:blip r:embed="rId3"/>
          <a:stretch/>
        </p:blipFill>
        <p:spPr>
          <a:xfrm rot="17952600">
            <a:off x="3331800" y="5100120"/>
            <a:ext cx="1273320" cy="223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d918509d2000"/>
          <p:cNvPicPr/>
          <p:nvPr/>
        </p:nvPicPr>
        <p:blipFill>
          <a:blip r:embed="rId4"/>
          <a:stretch/>
        </p:blipFill>
        <p:spPr>
          <a:xfrm rot="17208000">
            <a:off x="3908160" y="5387400"/>
            <a:ext cx="12733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836640" y="1559160"/>
            <a:ext cx="51134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ой прапрадедуш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арабанов Пётр Степанови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одился в 1907 году в город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аранс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началас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еликая Отечествен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ой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он работал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вод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у него была «бронь».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олько в 1942 году  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звали в армию. Дедуш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начала  был рядовым, пот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ему присвоили з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ефрейтора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начала он воевал с фашистами.  9 мая 1945 года все праздновали победу и возвращались домой, а дедушку отправили воевать с японц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японской войне дедушка был санитаром, он много раненых вынес с поля боя и спас им жиз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едушка не любил вспоминать о войне, очень мало о ней рассказывал. Каждый год он смотрел по телевизору парад Победы и всегда плака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0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  <p:pic>
        <p:nvPicPr>
          <p:cNvPr id="53" name="Picture 11" descr="htmlimage"/>
          <p:cNvPicPr/>
          <p:nvPr/>
        </p:nvPicPr>
        <p:blipFill>
          <a:blip r:embed="rId2"/>
          <a:stretch/>
        </p:blipFill>
        <p:spPr>
          <a:xfrm>
            <a:off x="3860640" y="2050920"/>
            <a:ext cx="20005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1197000" y="755640"/>
            <a:ext cx="44654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душка Пётр был награждён медаля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За боевые заслуги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http://www.chaltlib.ru/images/medali/45.jpg"/>
          <p:cNvPicPr/>
          <p:nvPr/>
        </p:nvPicPr>
        <p:blipFill>
          <a:blip r:embed="rId2"/>
          <a:stretch/>
        </p:blipFill>
        <p:spPr>
          <a:xfrm>
            <a:off x="2708280" y="1332000"/>
            <a:ext cx="1584360" cy="13572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1195560" y="255492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За Отваг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http://www.chaltlib.ru/images/medali/43.jpg"/>
          <p:cNvPicPr/>
          <p:nvPr/>
        </p:nvPicPr>
        <p:blipFill>
          <a:blip r:embed="rId3"/>
          <a:stretch/>
        </p:blipFill>
        <p:spPr>
          <a:xfrm>
            <a:off x="1197000" y="3059280"/>
            <a:ext cx="1366920" cy="13284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0"/>
          <p:cNvSpPr/>
          <p:nvPr/>
        </p:nvSpPr>
        <p:spPr>
          <a:xfrm>
            <a:off x="2878920" y="2716200"/>
            <a:ext cx="348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«За победу над Германи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еликой Отечественной войне»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stalin"/>
          <p:cNvPicPr/>
          <p:nvPr/>
        </p:nvPicPr>
        <p:blipFill>
          <a:blip r:embed="rId4"/>
          <a:stretch/>
        </p:blipFill>
        <p:spPr>
          <a:xfrm>
            <a:off x="4365720" y="3348000"/>
            <a:ext cx="1463760" cy="1357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992520" y="4681440"/>
            <a:ext cx="212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рденом Крас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мен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http://www.chaltlib.ru/images/medali/92.jpg"/>
          <p:cNvPicPr/>
          <p:nvPr/>
        </p:nvPicPr>
        <p:blipFill>
          <a:blip r:embed="rId5"/>
          <a:stretch/>
        </p:blipFill>
        <p:spPr>
          <a:xfrm>
            <a:off x="3068640" y="4716360"/>
            <a:ext cx="1463760" cy="14353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3"/>
          <p:cNvSpPr/>
          <p:nvPr/>
        </p:nvSpPr>
        <p:spPr>
          <a:xfrm>
            <a:off x="0" y="6053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765000" y="6264360"/>
            <a:ext cx="511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горжусь своим прапрадедушкой! Он настоящий геро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рисов Дан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1052640" y="2083680"/>
            <a:ext cx="4968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ю прабабушку зовут Черёмушкина Надежда  Тимофеевна. Она родилась 18 марта 1933 года в деревне Танежицы в Белорусс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мцы вторглись и захватили Белоруссию в самом начале войны в 1941 год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то время моей прабабушке было 8 лет. Она помнит немного, но поделилась со мной своими воспоминания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рассказывала, что в их деревне жили немцы. Днём они ходили по  дворам и забирали у людей домашний скот, чтобы есть его: кур, свиней, коров. А ночью из леса выходили советские партизаны и делали то же само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немцам и партизанам хотелось кушать, а страдали жители деревни, так как они оставались без своих кормильцев. Есть было совсем нечего. Чтобы хоть как-то прокормиться, люди пекли хлеб их трав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жды моя прабабушка шла мимо школы. Была зима. Уже стемнело.  На крыше школы сидели два немца и просвечивали территорию прожектор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 они увидели мою прабабушку, они натравили на неё свою собаку. Это была огромная и злая овчар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981000" y="82692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1125360" y="1187280"/>
            <a:ext cx="4824720" cy="54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ака бросилась к прабабушке, догнала её и уронила на снег. Прабабушка упала на спину, а собака встала передними лапами ей на грудь и стала громко лаять ей в лицо. Прабабушка была очень напугана, она плакала и кричала. А немцы … громко смеялись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тешившись вдоволь, они отозвали свою собаку, и моя прабабушка убежала дом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мцы знали, что в лесу прячутся партизаны, и что в деревне есть родственники некоторых из них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жды они вошли в дом к одинокой старушке. Немцы узнали, что её сын ушёл к партизанам. Они вывели её из дома на улицу под прицелом ружья, собрали жителей деревни и застрелили старушку на глазах у всех. Они сказали, что такое случится с каждым, кто будет помогать партизанам. Люди были очень напуга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т такое тяжелое время бы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рогие взрослые! Мы, сегодняшние дети, обращаемся к вам! Не допустите новой войны! Мы хотим жить под мирным небом! Радоваться жизни, учиться, расти! Пусть никогда не будет войны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янкина Ю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IMG_0001"/>
          <p:cNvPicPr/>
          <p:nvPr/>
        </p:nvPicPr>
        <p:blipFill>
          <a:blip r:embed="rId2"/>
          <a:stretch/>
        </p:blipFill>
        <p:spPr>
          <a:xfrm>
            <a:off x="2637000" y="6300720"/>
            <a:ext cx="1984320" cy="25192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7"/>
          <p:cNvSpPr/>
          <p:nvPr/>
        </p:nvSpPr>
        <p:spPr>
          <a:xfrm>
            <a:off x="1052640" y="2336040"/>
            <a:ext cx="48974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йна – большая трагедия для всего человечества, которая коснулась каждой семьи, в том числе и моей.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й прадед – ветеран Великой Отечественной вой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домский Алексей Николаевич родился в январе 1926 года, а в ноябре 1943 года, его призвали в арм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служил в 3-м стрелковом полку, наводчиком станкового пулемета. Принимал участие в боевых действиях с 9 августа 1945 года по 3 сентября 1945 года в войне с Японией в составе 3 стрелкового полка 40 стрелковой дивиз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9 августа СССР начал военные действия против сосредоточенной в Маньчжурии японской Квантунской армии, которая вместе с местными формированиями насчитывала свыше 1 млн. челове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8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9"/>
          <p:cNvSpPr/>
          <p:nvPr/>
        </p:nvSpPr>
        <p:spPr>
          <a:xfrm>
            <a:off x="1341360" y="642960"/>
            <a:ext cx="4608720" cy="66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10 августа в войну против Японии вступила Монгольская народная республика. В результате стремительного наступления советских войск и монгольской Народной армии Квантунская армия в короткий срок была разгромлена, освобождены территории Северо-Восточного Китая и Северной Кореи (за освобождение Северной Корее воевал мой прадед), Южного Сахалина и Курильские острова. Вступление Советского Союза в войну и разгром Квантунской армии ускорили безоговорочную капитуляцию Япони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2 сентября 1945 г. правительство Японии подписало Акт о капитуляции. Капитуляция Японии ознаменовала собой окончание Второй мировой вой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 домой, мой прадед вернулся только в апреле 1950 года. Их часть осталась в Северной Кореи, для охраны мирного населения, от военных конфликтов с Южной Коре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н был награжден медалями «За победу над Японией», «30 лет Советской армии и флота», «За освобождение Кореи», орден «Отечественной войны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I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епени» (данные были взяты из военного билета) Своего прадеда я, к сожалению, никогда не видел, но моя бабушка и прабабушка (его жена), мне много про него рассказыва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и моя семья очень гордимся нашим прадедом, и на 9 Мая говорим ему и всем участникам Великой Отечественной войны огромное СПАСИБО за мир, который они нам  подари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лков Витал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12:31:46Z</dcterms:created>
  <dc:creator>User</dc:creator>
  <dc:description/>
  <dc:language>en-US</dc:language>
  <cp:lastModifiedBy>Наталья</cp:lastModifiedBy>
  <dcterms:modified xsi:type="dcterms:W3CDTF">2016-04-30T13:13:05Z</dcterms:modified>
  <cp:revision>13</cp:revision>
  <dc:subject/>
  <dc:title>Слайд 1</dc:title>
</cp:coreProperties>
</file>