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4C0-6023-410A-A35E-E6FBB2B2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5D7-E195-48DA-8942-B69DCFE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C33-577A-4C2C-8273-3BFA730D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D93-F2C7-4A6D-B7A5-A7244F2C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AD2-C5BF-47A8-8FB8-65576CDF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8FC-FDF7-4DC0-92F7-905DAC7F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98D-4A9E-4B1A-86EC-F9FFA0D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FD2-B41F-4CA4-8A4C-E9BEA624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791-E1EF-4688-827D-E8537EF8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D3E-DBE2-44FF-8DA6-B99ECFD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386-B77D-4CEA-B482-3CD4648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601-E4B0-4799-8A90-5DB8BC2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123A-0BF4-4152-93C4-818EAD9E0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92280" y="684360"/>
            <a:ext cx="5759280" cy="69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асибо за Победу! Посвящается 70-летию Победы в Великой Отечественной вой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2000"/>
                </a:solidFill>
                <a:latin typeface="Arial"/>
              </a:rPr>
              <a:t>«След войны в истории наших сем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662000"/>
                </a:solidFill>
                <a:latin typeface="Arial"/>
              </a:rPr>
              <a:t>2014-20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img1.liveinternet.ru/images/attach/c/0/44/747/44747406_Medal_trud_USSR.jpg"/>
          <p:cNvPicPr/>
          <p:nvPr/>
        </p:nvPicPr>
        <p:blipFill>
          <a:blip r:embed="rId2"/>
          <a:srcRect l="0" t="0" r="50825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Бабушка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Арюткин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3384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рткин 1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Арюткин 2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can10005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age0001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125360" y="208692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5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d918509d2000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d918509d2000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d918509d2000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Picture 11" descr="htmlimage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chaltlib.ru/images/medali/45.jpg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chaltlib.ru/images/medali/43.jpg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talin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http://www.chaltlib.ru/images/medali/92.jpg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_0001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Наталья</cp:lastModifiedBy>
  <dcterms:modified xsi:type="dcterms:W3CDTF">2016-04-30T13:13:05Z</dcterms:modified>
  <cp:revision>13</cp:revision>
  <dc:subject/>
  <dc:title>Слайд 1</dc:title>
</cp:coreProperties>
</file>