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DC7D-F5E5-41C6-A96C-6A6C9A52C7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353F-84D6-4201-A543-EA980FF93DF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366-C5A0-4015-8B14-D774332B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DAF-0BB0-456B-B7C9-56317713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CAD-7A14-4774-9669-3C9CD63C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DAF-91C6-4989-8BF5-75CC7FE5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5584-AAA4-42B2-9140-242C80B4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8393-01A3-4A7B-BC8B-170815D0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297D-C255-40CE-9B1A-B76DCD2D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4E20-ECCA-47B0-A135-C2CC53E4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9BE3-3829-4472-B617-35C60DE7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52FF-A9B6-4A77-ADDA-664D3817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3736-F55D-4518-BF06-3FF9F18E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BC3-B485-4275-A07B-480B39C3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009D-304D-40FB-B1EE-CF90F3B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7FEA-11A1-42C8-B1DB-9E73A52E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7BF1-8AAB-4766-A46D-6E8A59D8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6133-DE16-4788-8B56-28AF034C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744E-3FE5-4AA2-A5BC-8C110AE6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687-1A5F-4FC3-A54A-FE9624C4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0EE-3764-44D1-96D5-9056DB0F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BE2-853E-4E3D-8788-CFAE0FC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B91-F077-4966-8D41-CAFD04BF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827-C39E-4737-B96C-2337116C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44B2-357C-4DA7-BAF6-FDFF278B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9DE-E881-48F5-97F0-74D1B54B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EE7D-2415-4C30-A9A3-E934C71F8A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F212-563F-4D08-AA24-109AE7C2831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71480" y="765000"/>
            <a:ext cx="61038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инистерство образования РМ</a:t>
            </a:r>
            <a:br>
              <a:rPr sz="3200"/>
            </a:br>
            <a:br>
              <a:rPr sz="20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ортфолио</a:t>
            </a:r>
            <a:br>
              <a:rPr sz="32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Мироновой Риты Шамильевны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учителя МБОУ «Нововерхиссенская средняя общеобразовательная школа» Инсарского  муниципального района РМ</a:t>
            </a:r>
            <a:br>
              <a:rPr sz="32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000" y="3357360"/>
            <a:ext cx="8064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ата рождения: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7 февраля  1983 г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фессиональное образование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ель немецкого языка, МГУ им. Н.П.Огарёва, № диплома вса 0363411, 28 июня 2005 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аж педагогической работы: 8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щий трудовой стаж: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1 л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личие квалификационной категории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в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ата последней аттестации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4.11.20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вание: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6" descr="C:\Users\1\Documents\портфолио мироновой\100_2705.JPG"/>
          <p:cNvPicPr/>
          <p:nvPr/>
        </p:nvPicPr>
        <p:blipFill>
          <a:blip r:embed="rId1"/>
          <a:stretch/>
        </p:blipFill>
        <p:spPr>
          <a:xfrm>
            <a:off x="785880" y="214200"/>
            <a:ext cx="19144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21384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Позитивные результаты внеурочной деятельности обучающихся по учебным предметам: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заочные олимпиады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открытые конкурсы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конференции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ыставки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турниры;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соревн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357120" y="3214800"/>
            <a:ext cx="2214720" cy="3071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572160" y="3265560"/>
            <a:ext cx="2286000" cy="337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3"/>
          <a:stretch/>
        </p:blipFill>
        <p:spPr>
          <a:xfrm>
            <a:off x="3429000" y="3286080"/>
            <a:ext cx="2357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Picture 6" descr="C:\Users\1\Desktop\JhhKQJgje_E.jpg"/>
          <p:cNvPicPr/>
          <p:nvPr/>
        </p:nvPicPr>
        <p:blipFill>
          <a:blip r:embed="rId1"/>
          <a:stretch/>
        </p:blipFill>
        <p:spPr>
          <a:xfrm>
            <a:off x="214200" y="857160"/>
            <a:ext cx="1928880" cy="3673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2286000" y="1785960"/>
            <a:ext cx="2071800" cy="2857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3"/>
          <a:stretch/>
        </p:blipFill>
        <p:spPr>
          <a:xfrm>
            <a:off x="4429080" y="2714760"/>
            <a:ext cx="2071800" cy="2908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4"/>
          <a:stretch/>
        </p:blipFill>
        <p:spPr>
          <a:xfrm>
            <a:off x="6643800" y="3517920"/>
            <a:ext cx="22143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50104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Позитивные результаты внеурочной деятельности обучающихся по учебным предметам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240" y="2071440"/>
            <a:ext cx="7272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1120" indent="0">
              <a:spcBef>
                <a:spcPts val="499"/>
              </a:spcBef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81120" indent="0" algn="ctr">
              <a:spcBef>
                <a:spcPts val="499"/>
              </a:spcBef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5000760" y="1285920"/>
            <a:ext cx="3510000" cy="242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1143000" y="1214280"/>
            <a:ext cx="2928960" cy="2000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3"/>
          <a:stretch/>
        </p:blipFill>
        <p:spPr>
          <a:xfrm>
            <a:off x="214200" y="3838680"/>
            <a:ext cx="2170080" cy="3019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/>
          <p:cNvPicPr/>
          <p:nvPr/>
        </p:nvPicPr>
        <p:blipFill>
          <a:blip r:embed="rId4"/>
          <a:stretch/>
        </p:blipFill>
        <p:spPr>
          <a:xfrm>
            <a:off x="2643120" y="3929040"/>
            <a:ext cx="1857600" cy="2714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"/>
          <p:cNvPicPr/>
          <p:nvPr/>
        </p:nvPicPr>
        <p:blipFill>
          <a:blip r:embed="rId5"/>
          <a:stretch/>
        </p:blipFill>
        <p:spPr>
          <a:xfrm>
            <a:off x="4929120" y="4000680"/>
            <a:ext cx="1785960" cy="264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"/>
          <p:cNvPicPr/>
          <p:nvPr/>
        </p:nvPicPr>
        <p:blipFill>
          <a:blip r:embed="rId6"/>
          <a:stretch/>
        </p:blipFill>
        <p:spPr>
          <a:xfrm>
            <a:off x="6929280" y="4071960"/>
            <a:ext cx="1928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 Наличие публикаций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714400" y="2071440"/>
            <a:ext cx="38098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. Наличие авторских программ, методических пособий, методических рекомендаци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14760" y="2000160"/>
            <a:ext cx="306360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. Выступления на научно- практических конференциях, педагогических чтениях, семинарах, секциях, методических объединениях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14240" y="1428840"/>
          <a:ext cx="8143920" cy="5325840"/>
        </p:xfrm>
        <a:graphic>
          <a:graphicData uri="http://schemas.openxmlformats.org/drawingml/2006/table">
            <a:tbl>
              <a:tblPr/>
              <a:tblGrid>
                <a:gridCol w="1854360"/>
                <a:gridCol w="2365200"/>
                <a:gridCol w="1889280"/>
                <a:gridCol w="203508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 проект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оведение как форма развития интереса  к изучению иностранн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давание  иностранного языка в рамках ФГ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учителей иностранного языка Инсар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ация десятикласс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со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Инсарская СОШ №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й урок иностранн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учителей иностранного языка Инсар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1. Проведение открытых уроков,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стер-классов, мероприят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00080" y="1428840"/>
          <a:ext cx="7643880" cy="448632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732040"/>
                <a:gridCol w="191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 2012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я методика на уроках немец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 –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играем и поё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урок немецкого языка в 4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а-концерт «Рождественск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я иностранн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ововерх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грамматических навыков. Спряжение сильных глаголов в настоящем врем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урок немецкого языка в 5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. Общественно-педагогическая активность педагога: участие в экспертных комиссиях, апелляционных комиссиях, предметных комиссиях по проверке ОГЭ и ЕГЭ, в жюри конкурсов, депутатская деятельность и т.д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25600" y="1989000"/>
            <a:ext cx="2388960" cy="3697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3071880" y="1857240"/>
            <a:ext cx="2601720" cy="3483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6143760" y="1785960"/>
            <a:ext cx="27874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3. Участие педагога в профессиональных конкурс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28560" y="2071440"/>
            <a:ext cx="38098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4143240" cy="485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4. Награды и поощрения педагога в межаттестационный период органами государственной власти, МО РМ, управлениями образованием муниципалитета, общественными организациями, педагогическим сообществами, родительской общественностью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29120" y="571680"/>
            <a:ext cx="385776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577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ahoma"/>
              </a:rPr>
              <a:t>Представление педагогического опы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йт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verhiss.narod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5. Повышение квалификации, профессиональная подготов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65005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2571480"/>
            <a:ext cx="392904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Характеристика-представле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357800" y="214200"/>
            <a:ext cx="450036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88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80047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Качество знаний по итогам внутреннего мониторинга учебных достижений обучающихся за межаттестационный период</a:t>
            </a:r>
            <a:br>
              <a:rPr sz="36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Содержимое 2"/>
          <p:cNvSpPr/>
          <p:nvPr/>
        </p:nvSpPr>
        <p:spPr>
          <a:xfrm>
            <a:off x="1335240" y="2170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3143160" y="1785960"/>
            <a:ext cx="3143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88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80047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Качество знаний по итогам внешнего мониторинга учебных достижений обучающихся за межаттестационный период</a:t>
            </a:r>
            <a:br>
              <a:rPr sz="36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214800" y="2071800"/>
            <a:ext cx="335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Применение информационно – коммуникационных технолог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614760" y="201780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801504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Реализация: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программ углубленного изучения предмета;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профильного обуч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643200" y="3500280"/>
            <a:ext cx="250056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Участие в инновационной (экспериментальной) деятельн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857680" y="1714680"/>
            <a:ext cx="3286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866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 Результаты участия обучающихся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о всероссийской предметной олимпиад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681200" y="2017800"/>
            <a:ext cx="281304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5786280" y="2346480"/>
            <a:ext cx="23590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3:48:24Z</dcterms:created>
  <dc:creator>Ученик</dc:creator>
  <dc:description/>
  <dc:language>en-US</dc:language>
  <cp:lastModifiedBy>1</cp:lastModifiedBy>
  <dcterms:modified xsi:type="dcterms:W3CDTF">2017-11-09T13:35:23Z</dcterms:modified>
  <cp:revision>112</cp:revision>
  <dc:subject/>
  <dc:title>Министерство образования РМ  Портфолио Мироновой Риты Шамильевны учителя МБОУ «Нововерхиссенская средняя общеобразовательная школа» Инсарского района РМ</dc:title>
</cp:coreProperties>
</file>