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5D25-7C5B-4481-9316-3761ECB286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5FF2-2F4B-4AD6-8F87-B2D732C4E71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37B-3B58-4662-8642-A074DAEE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202-426C-4283-B29E-76AE1F17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B4E-C87A-4E04-A0CD-557E73AA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CABB-E7D2-49BC-BC1F-4E754F68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4205-3654-4271-9239-98DBDBB7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809B-70FF-4519-893E-93139C86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2DA4-DB34-4636-B1F3-85B98117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6629-82D5-41A4-8AF6-BC62C102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994F-58F8-449C-98A1-494B1747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ED5D-0783-4229-B892-FB3B5F86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BA5C-721E-4060-A4E3-AB6A9EB1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F88-7088-46FC-984A-2EBDE8C0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897C-D702-4C5C-80F1-F9CFAA85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7EAE-BFB8-4019-A449-D7B9D914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9C17-68F3-4D78-815C-4E90F91D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6328-2A06-4C1A-995D-E11BF882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37CA-AC3A-4F0A-BBA6-A8C60A93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468-8840-4F15-9F15-7C23A731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263-5BD7-4587-981B-E4AF3FC0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174-A6A6-4F12-91A9-DE17365A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156-A494-4CAF-989F-16F869DD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370-92EF-4E78-AAF7-DCEEA252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947-8220-4C02-B6DC-4A32FBF4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AC9F-F476-4693-9054-932257FF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C71D-A327-40E1-8F3B-B9BEBD2A84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12BB-4531-4D80-A5A7-AA2AD4C30F5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71480" y="765000"/>
            <a:ext cx="610380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инистерство образования РМ</a:t>
            </a:r>
            <a:br>
              <a:rPr sz="3200"/>
            </a:br>
            <a:br>
              <a:rPr sz="20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ортфолио</a:t>
            </a:r>
            <a:br>
              <a:rPr sz="32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Мироновой Риты Шамильевны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учителя МБОУ «Нововерхиссенская средняя общеобразовательная школа» Инсарского  муниципального района РМ</a:t>
            </a:r>
            <a:br>
              <a:rPr sz="32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000" y="3357360"/>
            <a:ext cx="8064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ата рождения: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7 февраля  1983 г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офессиональное образование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итель немецкого языка, МГУ им. Н.П.Огарёва, № диплома вса 0363411, 28 июня 2005 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аж педагогической работы: 8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ле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щий трудовой стаж: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1 ле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личие квалификационной категории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в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ата последней аттестации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4.11.20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вание: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6" descr="C:\Users\1\Documents\портфолио мироновой\100_2705.JPG"/>
          <p:cNvPicPr/>
          <p:nvPr/>
        </p:nvPicPr>
        <p:blipFill>
          <a:blip r:embed="rId1"/>
          <a:stretch/>
        </p:blipFill>
        <p:spPr>
          <a:xfrm>
            <a:off x="785880" y="214200"/>
            <a:ext cx="19144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21384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 Позитивные результаты внеурочной деятельности обучающихся по учебным предметам: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заочные олимпиады;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открытые конкурсы;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конференции;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выставки;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турниры;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соревнова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357120" y="3214800"/>
            <a:ext cx="2214720" cy="3071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572160" y="3265560"/>
            <a:ext cx="2286000" cy="3378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3"/>
          <a:stretch/>
        </p:blipFill>
        <p:spPr>
          <a:xfrm>
            <a:off x="3429000" y="3286080"/>
            <a:ext cx="2357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Позитивные результаты внеурочной деятельности обучающихс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Picture 6" descr="C:\Users\1\Desktop\JhhKQJgje_E.jpg"/>
          <p:cNvPicPr/>
          <p:nvPr/>
        </p:nvPicPr>
        <p:blipFill>
          <a:blip r:embed="rId1"/>
          <a:stretch/>
        </p:blipFill>
        <p:spPr>
          <a:xfrm>
            <a:off x="214200" y="857160"/>
            <a:ext cx="1928880" cy="3673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2286000" y="1785960"/>
            <a:ext cx="2071800" cy="2857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3"/>
          <a:stretch/>
        </p:blipFill>
        <p:spPr>
          <a:xfrm>
            <a:off x="4429080" y="2714760"/>
            <a:ext cx="2071800" cy="2908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4"/>
          <a:stretch/>
        </p:blipFill>
        <p:spPr>
          <a:xfrm>
            <a:off x="6643800" y="3517920"/>
            <a:ext cx="22143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50104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Позитивные результаты внеурочной деятельности обучающихся по учебным предметам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240" y="2071440"/>
            <a:ext cx="72723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1120" indent="0">
              <a:spcBef>
                <a:spcPts val="499"/>
              </a:spcBef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81120" indent="0" algn="ctr">
              <a:spcBef>
                <a:spcPts val="499"/>
              </a:spcBef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5000760" y="1285920"/>
            <a:ext cx="3510000" cy="2428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2"/>
          <a:stretch/>
        </p:blipFill>
        <p:spPr>
          <a:xfrm>
            <a:off x="1143000" y="1214280"/>
            <a:ext cx="2928960" cy="2000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3"/>
          <a:stretch/>
        </p:blipFill>
        <p:spPr>
          <a:xfrm>
            <a:off x="214200" y="3838680"/>
            <a:ext cx="2170080" cy="3019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"/>
          <p:cNvPicPr/>
          <p:nvPr/>
        </p:nvPicPr>
        <p:blipFill>
          <a:blip r:embed="rId4"/>
          <a:stretch/>
        </p:blipFill>
        <p:spPr>
          <a:xfrm>
            <a:off x="2643120" y="3929040"/>
            <a:ext cx="1857600" cy="2714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"/>
          <p:cNvPicPr/>
          <p:nvPr/>
        </p:nvPicPr>
        <p:blipFill>
          <a:blip r:embed="rId5"/>
          <a:stretch/>
        </p:blipFill>
        <p:spPr>
          <a:xfrm>
            <a:off x="4929120" y="4000680"/>
            <a:ext cx="1785960" cy="2643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"/>
          <p:cNvPicPr/>
          <p:nvPr/>
        </p:nvPicPr>
        <p:blipFill>
          <a:blip r:embed="rId6"/>
          <a:stretch/>
        </p:blipFill>
        <p:spPr>
          <a:xfrm>
            <a:off x="6929280" y="4071960"/>
            <a:ext cx="1928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. Наличие публикаций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714400" y="2071440"/>
            <a:ext cx="380988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9. Наличие авторских программ, методических пособий, методических рекомендаци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714760" y="2000160"/>
            <a:ext cx="306360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. Выступления на научно- практических конференциях, педагогических чтениях, семинарах, секциях, методических объединениях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14240" y="1428840"/>
          <a:ext cx="8143920" cy="5325840"/>
        </p:xfrm>
        <a:graphic>
          <a:graphicData uri="http://schemas.openxmlformats.org/drawingml/2006/table">
            <a:tbl>
              <a:tblPr/>
              <a:tblGrid>
                <a:gridCol w="1854360"/>
                <a:gridCol w="2365200"/>
                <a:gridCol w="1889280"/>
                <a:gridCol w="203508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ововерхиссе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 проект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ововерхиссе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оведение как форма развития интереса  к изучению иностранн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ововерхиссе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одавание  иностранного языка в рамках ФГ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учителей иностранного языка Инсарского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ововерхиссе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ация десятикласс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й со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Инсарская СОШ №1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й урок иностранн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учителей иностранного языка Инсарского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429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1. Проведение открытых уроков, 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стер-классов, мероприят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00080" y="1428840"/>
          <a:ext cx="7643880" cy="4486320"/>
        </p:xfrm>
        <a:graphic>
          <a:graphicData uri="http://schemas.openxmlformats.org/drawingml/2006/table">
            <a:tbl>
              <a:tblPr/>
              <a:tblGrid>
                <a:gridCol w="1000080"/>
                <a:gridCol w="2000520"/>
                <a:gridCol w="2732040"/>
                <a:gridCol w="191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  2012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ая методика на уроках немец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тер –клас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ововерх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играем и поё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урок немецкого языка в 4 кла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ововерх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а-концерт «Рождественск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ля иностранн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ововерх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грамматических навыков. Спряжение сильных глаголов в настоящем врем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урок немецкого языка в 5 кла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. Общественно-педагогическая активность педагога: участие в экспертных комиссиях, апелляционных комиссиях, предметных комиссиях по проверке ОГЭ и ЕГЭ, в жюри конкурсов, депутатская деятельность и т.д</a:t>
            </a: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25600" y="1989000"/>
            <a:ext cx="2388960" cy="3697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3071880" y="1857240"/>
            <a:ext cx="2601720" cy="3483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6143760" y="1785960"/>
            <a:ext cx="27874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3. Участие педагога в профессиональных конкурса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428560" y="2071440"/>
            <a:ext cx="38098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4143240" cy="485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4. Награды и поощрения педагога в межаттестационный период органами государственной власти, МО РМ, управлениями образованием муниципалитета, общественными организациями, педагогическим сообществами, родительской общественностью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29120" y="571680"/>
            <a:ext cx="385776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85776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ahoma"/>
              </a:rPr>
              <a:t>Представление педагогического опы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йт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verhiss.narod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5. Повышение квалификации, профессиональная подготов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65005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2571480"/>
            <a:ext cx="392904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Характеристика-представле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357800" y="214200"/>
            <a:ext cx="450036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880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b80047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Качество знаний по итогам внутреннего мониторинга учебных достижений обучающихся за межаттестационный период</a:t>
            </a:r>
            <a:br>
              <a:rPr sz="36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Содержимое 2"/>
          <p:cNvSpPr/>
          <p:nvPr/>
        </p:nvSpPr>
        <p:spPr>
          <a:xfrm>
            <a:off x="1335240" y="2170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3143160" y="1785960"/>
            <a:ext cx="3143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880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b80047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Качество знаний по итогам внешнего мониторинга учебных достижений обучающихся за межаттестационный период</a:t>
            </a:r>
            <a:br>
              <a:rPr sz="36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214800" y="2071800"/>
            <a:ext cx="335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Применение информационно – коммуникационных технолог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614760" y="2017800"/>
            <a:ext cx="29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801504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Реализация: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программ углубленного изучения предмета;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профильного обуч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643200" y="3500280"/>
            <a:ext cx="250056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Участие в инновационной (экспериментальной) деятельно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857680" y="1714680"/>
            <a:ext cx="32860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80866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 Результаты участия обучающихся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о всероссийской предметной олимпиад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1681200" y="2017800"/>
            <a:ext cx="281304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5786280" y="2346480"/>
            <a:ext cx="235908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3:48:24Z</dcterms:created>
  <dc:creator>Ученик</dc:creator>
  <dc:description/>
  <dc:language>en-US</dc:language>
  <cp:lastModifiedBy>1</cp:lastModifiedBy>
  <dcterms:modified xsi:type="dcterms:W3CDTF">2017-11-09T13:35:23Z</dcterms:modified>
  <cp:revision>112</cp:revision>
  <dc:subject/>
  <dc:title>Министерство образования РМ  Портфолио Мироновой Риты Шамильевны учителя МБОУ «Нововерхиссенская средняя общеобразовательная школа» Инсарского района РМ</dc:title>
</cp:coreProperties>
</file>