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D78D-88F7-4751-BF82-EA6C44C88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113B-C712-48DB-9ABD-20398C5A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E32A-B48E-4C5D-BB41-C4B0FD3EA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0480-8290-490C-9ED8-3A91DCE68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F5A2-C67B-41CB-B60D-05B173F6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A0F1-253B-4E25-9884-56CEB1EF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FE0E-EAF9-4A03-923D-28814987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F6F0-725E-4694-88C7-52B79A6F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389E-BAED-43F0-9FAA-C5B8072A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D8DC-9CA4-4C6E-9DB6-04A083D0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4852-D7C5-4A3A-A7C7-4D8042A2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5681-0143-49BB-8159-41686707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5AC7-C43F-41EA-A7FF-315644CA1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ЧАСТИ РАСТ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95480" y="1447920"/>
            <a:ext cx="3251160" cy="48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ФЛОК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85800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ЛАН ПОСАДКИ ФЛОК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6480" y="1562040"/>
            <a:ext cx="3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Рисунок 3" descr="Фото0181.jpg"/>
          <p:cNvPicPr/>
          <p:nvPr/>
        </p:nvPicPr>
        <p:blipFill>
          <a:blip r:embed="rId1"/>
          <a:stretch/>
        </p:blipFill>
        <p:spPr>
          <a:xfrm>
            <a:off x="762120" y="1295280"/>
            <a:ext cx="2057400" cy="2205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33360" y="1386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276720" y="1219320"/>
            <a:ext cx="2171520" cy="2273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471640" y="130968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3840" y="374796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Рисунок 8" descr="Фото0187.jpg"/>
          <p:cNvPicPr/>
          <p:nvPr/>
        </p:nvPicPr>
        <p:blipFill>
          <a:blip r:embed="rId3"/>
          <a:stretch/>
        </p:blipFill>
        <p:spPr>
          <a:xfrm>
            <a:off x="685800" y="3581280"/>
            <a:ext cx="2138400" cy="2743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957040" y="359568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Рисунок 6" descr="Фото0196.jpg"/>
          <p:cNvPicPr/>
          <p:nvPr/>
        </p:nvPicPr>
        <p:blipFill>
          <a:blip r:embed="rId4"/>
          <a:stretch/>
        </p:blipFill>
        <p:spPr>
          <a:xfrm>
            <a:off x="3276720" y="3733920"/>
            <a:ext cx="2176200" cy="2600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622840" y="3672000"/>
            <a:ext cx="37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Рисунок 6" descr="na-sait-29072010.jpg"/>
          <p:cNvPicPr/>
          <p:nvPr/>
        </p:nvPicPr>
        <p:blipFill>
          <a:blip r:embed="rId5"/>
          <a:stretch/>
        </p:blipFill>
        <p:spPr>
          <a:xfrm>
            <a:off x="6019920" y="3809880"/>
            <a:ext cx="2247840" cy="2514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62120" y="2819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скопать землю (почву) лопато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2819520"/>
            <a:ext cx="20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ыровнять землю граблями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5105520"/>
            <a:ext cx="2133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аккуратно, не придавливая,  посадить отросток и присыпать землёй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54864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олить цветок из лейки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55627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ымыть руки, смазать кремом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6019920" y="1219320"/>
            <a:ext cx="222876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9-13T08:51:3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