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24F4-4A2E-4A48-9AF9-0A1EF528F5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355B-88C3-450B-B234-AF34008A9C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85B9-AB79-446F-9EC2-DAAA0CEB0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C7EE-5D75-46A7-BFF4-D45F269DE4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энергетического обмена можно разделить на три этапа: на первом этапе происходит пищеварение, то есть сложные органические молекулы расщепляются до мономеров, на втором происходит бескислородное окисление этих мономеров — гликолиз, и на последнем этапе происходит окисление с участием кислорода 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дготовительный этап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од действием ферментов пищеварительного тракта или ферментов лизосом белковые молекулы расщепляются до аминокислот, жиры — до глицерина и карбоновых кислот, углеводы — до глюкозы, нуклеиновые кислоты — до нуклеотидов. Вся энергия при этом рассеивается в вид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Гликолиз, или бескислородное окисление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кисление глюкозы в клетках без участия кислорода происходит путем дегидрирования, акцептором Н служит кофермент НАД+. Реакции протекают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глюкоза с помощью 10 ферментативных реакций превращается в 2 молекулы ПВК — пировиноградной кислоты и образуется восстановленная форма переносчика водорода НАД·Н2 никотинамидаденин-динуклеотида. При этом образуется 200 кДж энергии, 120 рассеивается в форме тепла, 80 кДж запасается в форме 2 моль АТФ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2АДФ + 2Н3РО4 + 2НАД+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С3Н4О3 + 2АТФ + 2Н2О + 2НАД·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льнейшая судьба ПВК зависит от присутствия О2 в клетке, если О2 нет,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наэробное 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чем у дрожжей и растений происходит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спиртовое брож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CFA2-FC4F-47EE-A4B9-501493A462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энергетического обмена можно разделить на три этапа: на первом этапе происходит пищеварение, то есть сложные органические молекулы расщепляются до мономеров, на втором происходит бескислородное окисление этих мономеров — гликолиз, и на последнем этапе происходит окисление с участием кислорода 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дготовительный этап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од действием ферментов пищеварительного тракта или ферментов лизосом белковые молекулы расщепляются до аминокислот, жиры — до глицерина и карбоновых кислот, углеводы — до глюкозы, нуклеиновые кислоты — до нуклеотидов. Вся энергия при этом рассеивается в вид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Гликолиз, или бескислородное окисление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кисление глюкозы в клетках без участия кислорода происходит путем дегидрирования, акцептором Н служит кофермент НАД+. Реакции протекают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глюкоза с помощью 10 ферментативных реакций превращается в 2 молекулы ПВК — пировиноградной кислоты и образуется восстановленная форма переносчика водорода НАД·Н2 никотинамидаденин-динуклеотида. При этом образуется 200 кДж энергии, 120 рассеивается в форме тепла, 80 кДж запасается в форме 2 моль АТФ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2АДФ + 2Н3РО4 + 2НАД+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С3Н4О3 + 2АТФ + 2Н2О + 2НАД·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льнейшая судьба ПВК зависит от присутствия О2 в клетке, если О2 нет,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наэробное 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чем у дрожжей и растений происходит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спиртовое брож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1436-4D63-4754-B701-4343DCC8BA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энергетического обмена можно разделить на три этапа: на первом этапе происходит пищеварение, то есть сложные органические молекулы расщепляются до мономеров, на втором происходит бескислородное окисление этих мономеров — гликолиз, и на последнем этапе происходит окисление с участием кислорода 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дготовительный этап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од действием ферментов пищеварительного тракта или ферментов лизосом белковые молекулы расщепляются до аминокислот, жиры — до глицерина и карбоновых кислот, углеводы — до глюкозы, нуклеиновые кислоты — до нуклеотидов. Вся энергия при этом рассеивается в вид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Гликолиз, или бескислородное окисление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кисление глюкозы в клетках без участия кислорода происходит путем дегидрирования, акцептором Н служит кофермент НАД+. Реакции протекают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глюкоза с помощью 10 ферментативных реакций превращается в 2 молекулы ПВК — пировиноградной кислоты и образуется восстановленная форма переносчика водорода НАД·Н2 никотинамидаденин-динуклеотида. При этом образуется 200 кДж энергии, 120 рассеивается в форме тепла, 80 кДж запасается в форме 2 моль АТФ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2АДФ + 2Н3РО4 + 2НАД+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С3Н4О3 + 2АТФ + 2Н2О + 2НАД·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льнейшая судьба ПВК зависит от присутствия О2 в клетке, если О2 нет,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наэробное 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чем у дрожжей и растений происходит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спиртовое брож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F5C9-0B72-4B3F-98F9-3736D12C35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*Тест 1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а подготовительном этапе энергетического обмена происходи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идролиз белков до аминокисло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идролиз жиров до глицерина и карбоновых кисло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идролиз углеводов до моносахарид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идролиз нуклеиновых кислот до нуклеотид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2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беспечивают гликолиз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ерменты пищеварительного тракта и лизосо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ерменты цитоплазм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ерменты цикла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ерменты дыхательной цеп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3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результате бескислородного окисления в клетках у животных при недостатке О2 образует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ВК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олочная кислот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тиловый спир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цетил-Ко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4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результате бескислородного окисления в клетках у растений при недостатке О2 образует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ВК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олочная кислот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тиловый спир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цетил-Ко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5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ри гликолизе моль глюкозы образуется всего энерги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00 кДж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400 кДж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600 кДж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800 кДж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6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Три моль глюкозы подверглось гликолизу в животных клетках при недостатке кислорода. При этом углекислого газа выделилось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 мол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6 мол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2 мол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глекислый газ в животных клетках при гликолизе не выделяетс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**Тест 7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 биологическому окислению относят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кисление вещества А в реакции: А + 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АО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егидрирование вещества А в реакции: АН2 + В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А + ВН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теря электронов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+ в реакции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+ +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е-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обретение электронов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+ в реакции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+ +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е-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*Тест 8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Реакции подготовительного этапа происходя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пищеварительном тракт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цитоплазм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лизосома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9.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нергия, которая выделяется в реакциях подготовительного этап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сеива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аса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ольшая часть рассеивается в форме тепла, меньшая — запас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еньшая часть рассеивается в форме тепла, большая — запас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10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Энергия, которая выделяется в реакциях гликолиз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сеива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аса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20 кДж рассеивается в форме тепла, 80 кДж — запас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80 кДж рассеивается в форме тепла, 120 кДж — запас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A8E-C1A7-40D2-8CE9-3364FDCD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640-D46C-41FB-B5BE-5DBF10BC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944-B4D5-4920-A40C-D8DE50FE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277-38E1-4673-B4DF-0E0CCB96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79BA-AC8E-41B3-A740-1C0A75F2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4873-0458-4D4F-AB22-FCCA5A9F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C24C-B190-43D3-BAC9-D956E608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011A-DC12-4657-AA6C-6013800C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0709-5143-4C9E-8C53-B4606609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DBCB-FA68-4C33-A461-BD11C5E6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93B0-130F-42BB-9305-AA89C9F5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2FB-FBF2-44A9-8662-09C60D92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6819-A7BB-4ACF-ABF6-BA1758C0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7E4D-9AE9-4037-A46A-F66BFE95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AA41-3469-42D3-9029-E8910535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C5AD-A1C8-41A0-BC45-01B186F2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755C-A16D-40F4-989F-C1D742C3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0EC-3C51-4E0F-B853-F260F38B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685-F5D3-48E8-B6FA-E8B4D868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5D9-868B-4514-A02F-9BA688A3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F0D-963D-41DB-ADFA-12627018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D6A-B58C-41B2-B65E-963F26F1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20A-8043-4D55-BCE8-D37060E4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5D2-2FF9-4CCF-9584-E2A880DF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8474-DDA1-4CD0-A4D0-B7EF06B569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77FB-EBBD-4A69-AA72-6B87837610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Тема: Энергетический обмен.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983960" y="620640"/>
            <a:ext cx="52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Обеспечение клеток энерг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Общая схема ПРОЦЕССА   ДЫХАНИЯ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в митохондриях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874800"/>
          <a:ext cx="8856720" cy="5982840"/>
        </p:xfrm>
        <a:graphic>
          <a:graphicData uri="http://schemas.openxmlformats.org/drawingml/2006/table">
            <a:tbl>
              <a:tblPr/>
              <a:tblGrid>
                <a:gridCol w="1944720"/>
                <a:gridCol w="1397160"/>
                <a:gridCol w="2187360"/>
                <a:gridCol w="2219400"/>
                <a:gridCol w="1108080"/>
              </a:tblGrid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сть реак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проис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со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чные проду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коли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плазма кле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люкоза (С6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НАД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АДФ, Ф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ируват (С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Н + Н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циклу лимонной 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тохондрия - матрик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ируват (С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-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</a:t>
                      </a:r>
                      <a:r>
                        <a:rPr b="1" lang="ru-RU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+ Ацетил-КоА (С</a:t>
                      </a:r>
                      <a:r>
                        <a:rPr b="1" lang="ru-RU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Н +Н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 лимонной 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цикл  трикарбоновых кислот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К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бса – 1953 г Нобелевская прем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</a:t>
                      </a:r>
                      <a:r>
                        <a:rPr b="1" lang="ru-RU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+ Ацетил-КоА (С</a:t>
                      </a:r>
                      <a:r>
                        <a:rPr b="1" lang="ru-RU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ДФ, Ф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Д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ДН + Н</a:t>
                      </a:r>
                      <a:r>
                        <a:rPr b="1" lang="en-US" sz="14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АДН</a:t>
                      </a:r>
                      <a:r>
                        <a:rPr b="1" lang="en-US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пь переноса элек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транспортнаяцеп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нутренней поверхности внутренней мембране митохон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ДН + Н</a:t>
                      </a:r>
                      <a:r>
                        <a:rPr b="1" lang="en-US" sz="14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АДН</a:t>
                      </a:r>
                      <a:r>
                        <a:rPr b="1" lang="en-US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ит на наружную поверх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Н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резервуар(на 1 молекулу глюкозы) = </a:t>
                      </a:r>
                      <a:r>
                        <a:rPr b="1" lang="en-US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2 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Гликолиз и кислородное окис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50920" y="765000"/>
            <a:ext cx="87138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Гликол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 2АДФ + 2Н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РО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 2НАД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 С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 2АТФ + 2Н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О + 2НАД·Н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этом образуется 200 кДж энергии, 120 рассеивается в форме тепла, 80 кДж запасается в форме 2 моль АТ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50920" y="4941720"/>
            <a:ext cx="864216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+ 6О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6СО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+ 6Н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О + 38АТФ + Q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·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должается, но не работает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АТФ-синтетаз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разования АТФ не происходит, вся энергия выделяется в форме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50920" y="2637000"/>
            <a:ext cx="871380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ыгляди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+ 6Н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6СО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+ 4АТФ + 12Н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250920" y="4035600"/>
            <a:ext cx="84978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рменты дыхательной цепи и АТФ-синтетаза на крис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24Н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+ 6О</a:t>
            </a:r>
            <a:r>
              <a:rPr b="0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+ 12е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12Н</a:t>
            </a:r>
            <a:r>
              <a:rPr b="0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 + 34АТФ +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611280" y="981000"/>
            <a:ext cx="8208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Обмен веществ (метаболизм) = ассимиляции + диссими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ческие вещества пищи являются основным источником не только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мате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и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энерг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жизнедеятельности клеток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логическое </a:t>
            </a:r>
            <a:r>
              <a:rPr b="0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окисление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летках происходит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с участием О</a:t>
            </a:r>
            <a:r>
              <a:rPr b="0" i="1" lang="ru-RU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 + О</a:t>
            </a:r>
            <a:r>
              <a:rPr b="0" lang="ru-RU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АО</a:t>
            </a:r>
            <a:r>
              <a:rPr b="0" lang="ru-RU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 его участия – </a:t>
            </a:r>
            <a:r>
              <a:rPr b="0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ГЛИКОЛИЗ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за счет дегидрирова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переноса электро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одного вещества к друго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Н</a:t>
            </a:r>
            <a:r>
              <a:rPr b="0" lang="ru-RU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+ В </a:t>
            </a:r>
            <a:r>
              <a:rPr b="0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А + ВН</a:t>
            </a:r>
            <a:r>
              <a:rPr b="0" lang="ru-RU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де вещество А окисляется за счет вещества 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e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Fe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де двухвалентное железо окисляется до трехвалент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Биологическое окисление и г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611280" y="1628640"/>
            <a:ext cx="820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энергетического обмена можно раздел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 три эта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этап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процесс пищеварения: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ложные органические молекулы расщепляются до моном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этап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ГЛИКОЛИ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ескислородное окисление мономеров, субстратное фосфори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3 этап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КИСЛЕНИЕ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с участием кислорода в митохондр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Биологическое окисление и г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140360" y="907920"/>
            <a:ext cx="4679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Подготовительны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 действием ферментов пищеварительного тракта или ферментов лиз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жные органические молекулы расщеп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бел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о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жи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до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углево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до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нуклеиновые кисл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я энергия при этом рассеивается в виде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Биологическое окисление и г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381024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95640" y="981000"/>
            <a:ext cx="489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кции протекают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 цитоплазм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глюко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 помощью 10 ферментативных реакций превращается в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2 молекулы ПВК — пировиноградной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687840" cy="3891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250920" y="5157720"/>
            <a:ext cx="87138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этом образуется 200 кДж энергии, 120 рассеивается в форме тепла, 80 кДж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запасается в форме 2 моль АТ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+ 2АДФ + 2Н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РО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+ 2НАД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 С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АТФ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+ 2Н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 + 2НАД·Н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11280" y="11592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Гликолиз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, или бескислородное окис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26920" y="5157720"/>
            <a:ext cx="720108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исходит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молочнокислое брожени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ПВ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2С3Н4О3 + 2НАД·Н2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2С3Н6О3 + 2НАД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3687840" cy="3891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611280" y="11592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Гликолиз, или бескислородное окис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924360" y="1557360"/>
            <a:ext cx="4895640" cy="31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О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т, происходит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анаэробное брожение (дыхание) ПВ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2СН3СОН + 2НАД·Н2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2С2Н5ОН + 2НАД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дрожжей и растений происходи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спиртовое бро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2С3Н4О3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2СО2 + 2СН3СОН (уксусный альдег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851280" y="2060640"/>
            <a:ext cx="49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кислородное окис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дых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оисходит в митохондр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58920" y="2541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кисление ПВК в митохондр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39640" y="4292640"/>
            <a:ext cx="7956720" cy="187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28576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258920" y="2541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кисление ПВК в митохондр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179280" y="712800"/>
            <a:ext cx="8785440" cy="614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ЗУЛЬТА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1 молекулу глюкозы приходится 36 АТФ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, должна быть затрачена энергия  на выведение АТФ из митохондрий, а также происходит утечка  ионов водорода  из Н+- резервуара.  Поэтому в цитоплазму поступает все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1 АТФ (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ПД составляет 84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фер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нтезируются из витаминов, являются переносчиками ионов Н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ФА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флавинадениндинуклеотид (переносчи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икотинамидадениндинуклеот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животных, впадающих в спячку – большая часть энергии расходуется не на синтез АТФ, а на теп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15:54:26Z</dcterms:created>
  <dc:creator>Pimenov AV</dc:creator>
  <dc:description/>
  <dc:language>en-US</dc:language>
  <cp:lastModifiedBy>Ольга</cp:lastModifiedBy>
  <dcterms:modified xsi:type="dcterms:W3CDTF">2017-11-16T15:02:02Z</dcterms:modified>
  <cp:revision>21</cp:revision>
  <dc:subject/>
  <dc:title>Тема: Энергетический обмен. Анаэробный гликолиз</dc:title>
</cp:coreProperties>
</file>