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609F-657A-4B41-A6E7-B9747D40E2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D386-0000-4ABE-A8DC-4EDA13FDDE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F34A-3F28-4857-BE27-57AC57B178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I. С3Н4О3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СО2 + СН3СОН (уксусный альдегид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II. СН3СОН + НАД·Н2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С2Н5ОН + НАД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 животных и некоторых бактерий при недостатке О2 происходит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молочнокислое брожение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 образованием молочной кислоты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3Н4О3 + НАД·Н2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С3Н6О3 + НАД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ретий этап энергетического обмена —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кислородное окисле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или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ых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происходит в митохондриях. Пировиноградная кислота проникает в митохондрии, происходит ее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егидриров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отщепление водорода) и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екарбоксилиров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отщепление углекислого газа) с образованием двухуглеродной ацетильной группы, которая вступает в цикл реакций, получивших название реакций цикла Кребса (рис. 299). Здесь происходит дальнейшее окисление, связанное с дегидрированием и декарбоксилированием. В результате на каждую разрушенную моль ПВК из митохондрии удаляется 3 моль СО2, образуется 5 пар атомов водорода, связанных с переносчиками (4 НАДН2, ФАДН2), а также моль АТФ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уммарная реакция гликолиза и разрушения ПВК в митохондриях до водорода и углекислого газа выглядит следующим образом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6Н12О6 + 6Н2О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6СО2 + 4АТФ + 12Н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АТФ образуются при гликолизе, две — в цикле Кребса; 2 пары атомов (2НАД·Н2)образовались при гликолизе, 10 пар — в цикле Кребс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ис.299. Цикл Кребс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следним этапом является окисление пар атомов водорода с участием О2 до Н2О с одновременным фосфорилированием АДФ до АТФ. Этот процесс происходит на внутренней мембране митохондрий. Водород передается по трем большим ферментным комплексам дыхательной цепи (флавопротеин, кофермент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цитохромы), расположенным во внутренней мембране митохондрий. У водорода отбираются электроны, а протоны закачиваются в межмембранное пространство митохондрий, в «протонный резервуар». Внутренняя мембрана непроницаема для ионов водорода. Электроны передаются по ферментам дыхательной цепи на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цитохромоксидазу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Когда разность потенциалов на внешней и внутренней стороне внутренней мембраны достигает 200 мВ, протоны (12Н2) проходят через канал фермента АТФ-синтетазы и с помощью цитохромоксидазы происходит восстановление кислорода до воды (12Н2О) с выделением энергии, часть которой (55%) запасается в форме 34АТФ (рис. 300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ис. 300. Дыхательная цепь и АТФ-синтетаз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уммарная реакция энергетического обмена выглядит так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6Н12О6 + 6О2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6СО2 + 6Н2О + 38АТФ + Q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сли внутренняя мембрана повреждена, то окисление НАДН2 продолжается, но не работает АТФ-синтетаза и образования АТФ не происходит, вся энергия выделяется в форме тепл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EB31-8352-470C-8C03-404311E43C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оцесс энергетического обмена можно разделить на три этапа: на первом этапе происходит пищеварение, то есть сложные органические молекулы расщепляются до мономеров, на втором происходит бескислородное окисление этих мономеров — гликолиз, и на последнем этапе происходит окисление с участием кислорода в митохондриях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Подготовительный этап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Под действием ферментов пищеварительного тракта или ферментов лизосом белковые молекулы расщепляются до аминокислот, жиры — до глицерина и карбоновых кислот, углеводы — до глюкозы, нуклеиновые кислоты — до нуклеотидов. Вся энергия при этом рассеивается в виде тепл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Гликолиз, или бескислородное окисление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Окисление глюкозы в клетках без участия кислорода происходит путем дегидрирования, акцептором Н служит кофермент НАД+. Реакции протекают в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цитоплазм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глюкоза с помощью 10 ферментативных реакций превращается в 2 молекулы ПВК — пировиноградной кислоты и образуется восстановленная форма переносчика водорода НАД·Н2 никотинамидаденин-динуклеотида. При этом образуется 200 кДж энергии, 120 рассеивается в форме тепла, 80 кДж запасается в форме 2 моль АТФ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6Н12О6 + 2АДФ + 2Н3РО4 + 2НАД+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 С3Н4О3 + 2АТФ + 2Н2О + 2НАД·Н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альнейшая судьба ПВК зависит от присутствия О2 в клетке, если О2 нет, происходит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анаэробное дых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причем у дрожжей и растений происходит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 спиртовое броже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при котором сначала происходит образование уксусного альдегида, а затем этилового спирта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I. С3Н4О3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СО2 + СН3СОН (уксусный альдегид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II. СН3СОН + НАД·Н2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С2Н5ОН + НАД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 животных и некоторых бактерий при недостатке О2 происходит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молочнокислое брожение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 образованием молочной кислоты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3Н4О3 + НАД·Н2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С3Н6О3 + НАД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ретий этап энергетического обмена —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кислородное окисле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или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ых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происходит в митохондриях. Пировиноградная кислота проникает в митохондрии, происходит ее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егидриров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отщепление водорода) и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екарбоксилиров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отщепление углекислого газа) с образованием двухуглеродной ацетильной группы, которая вступает в цикл реакций, получивших название реакций цикла Кребса (рис. 299). Здесь происходит дальнейшее окисление, связанное с дегидрированием и декарбоксилированием. В результате на каждую разрушенную моль ПВК из митохондрии удаляется 3 моль СО2, образуется 5 пар атомов водорода, связанных с переносчиками (4 НАДН2, ФАДН2), а также моль АТФ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уммарная реакция гликолиза и разрушения ПВК в митохондриях до водорода и углекислого газа выглядит следующим образом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6Н12О6 + 6Н2О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6СО2 + 4АТФ + 12Н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АТФ образуются при гликолизе, две — в цикле Кребса; 2 пары атомов (2НАД·Н2)образовались при гликолизе, 10 пар — в цикле Кребс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ис.299. Цикл Кребс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следним этапом является окисление пар атомов водорода с участием О2 до Н2О с одновременным фосфорилированием АДФ до АТФ. Этот процесс происходит на внутренней мембране митохондрий. Водород передается по трем большим ферментным комплексам дыхательной цепи (флавопротеин, кофермент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цитохромы), расположенным во внутренней мембране митохондрий. У водорода отбираются электроны, а протоны закачиваются в межмембранное пространство митохондрий, в «протонный резервуар». Внутренняя мембрана непроницаема для ионов водорода. Электроны передаются по ферментам дыхательной цепи на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цитохромоксидазу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Когда разность потенциалов на внешней и внутренней стороне внутренней мембраны достигает 200 мВ, протоны (12Н2) проходят через канал фермента АТФ-синтетазы и с помощью цитохромоксидазы происходит восстановление кислорода до воды (12Н2О) с выделением энергии, часть которой (55%) запасается в форме 34АТФ (рис. 300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ис. 300. Дыхательная цепь и АТФ-синтетаз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уммарная реакция энергетического обмена выглядит так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6Н12О6 + 6О2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6СО2 + 6Н2О + 38АТФ + Q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сли внутренняя мембрана повреждена, то окисление НАДН2 продолжается, но не работает АТФ-синтетаза и образования АТФ не происходит, вся энергия выделяется в форме тепл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040D-026B-4C1F-A795-FEC6428282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оцесс энергетического обмена можно разделить на три этапа: на первом этапе происходит пищеварение, то есть сложные органические молекулы расщепляются до мономеров, на втором происходит бескислородное окисление этих мономеров — гликолиз, и на последнем этапе происходит окисление с участием кислорода в митохондриях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Подготовительный этап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Под действием ферментов пищеварительного тракта или ферментов лизосом белковые молекулы расщепляются до аминокислот, жиры — до глицерина и карбоновых кислот, углеводы — до глюкозы, нуклеиновые кислоты — до нуклеотидов. Вся энергия при этом рассеивается в виде тепл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Гликолиз, или бескислородное окисление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Окисление глюкозы в клетках без участия кислорода происходит путем дегидрирования, акцептором Н служит кофермент НАД+. Реакции протекают в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цитоплазм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глюкоза с помощью 10 ферментативных реакций превращается в 2 молекулы ПВК — пировиноградной кислоты и образуется восстановленная форма переносчика водорода НАД·Н2 никотинамидаденин-динуклеотида. При этом образуется 200 кДж энергии, 120 рассеивается в форме тепла, 80 кДж запасается в форме 2 моль АТФ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6Н12О6 + 2АДФ + 2Н3РО4 + 2НАД+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 С3Н4О3 + 2АТФ + 2Н2О + 2НАД·Н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альнейшая судьба ПВК зависит от присутствия О2 в клетке, если О2 нет, происходит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анаэробное дых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причем у дрожжей и растений происходит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 спиртовое броже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при котором сначала происходит образование уксусного альдегида, а затем этилового спирта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I. С3Н4О3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СО2 + СН3СОН (уксусный альдегид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II. СН3СОН + НАД·Н2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С2Н5ОН + НАД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 животных и некоторых бактерий при недостатке О2 происходит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молочнокислое брожение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 образованием молочной кислоты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3Н4О3 + НАД·Н2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С3Н6О3 + НАД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ретий этап энергетического обмена —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кислородное окисле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или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ых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происходит в митохондриях. Пировиноградная кислота проникает в митохондрии, происходит ее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егидриров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отщепление водорода) и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екарбоксилиров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отщепление углекислого газа) с образованием двухуглеродной ацетильной группы, которая вступает в цикл реакций, получивших название реакций цикла Кребса (рис. 299). Здесь происходит дальнейшее окисление, связанное с дегидрированием и декарбоксилированием. В результате на каждую разрушенную моль ПВК из митохондрии удаляется 3 моль СО2, образуется 5 пар атомов водорода, связанных с переносчиками (4 НАДН2, ФАДН2), а также моль АТФ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уммарная реакция гликолиза и разрушения ПВК в митохондриях до водорода и углекислого газа выглядит следующим образом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6Н12О6 + 6Н2О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6СО2 + 4АТФ + 12Н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АТФ образуются при гликолизе, две — в цикле Кребса; 2 пары атомов (2НАД·Н2)образовались при гликолизе, 10 пар — в цикле Кребс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ис.299. Цикл Кребс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следним этапом является окисление пар атомов водорода с участием О2 до Н2О с одновременным фосфорилированием АДФ до АТФ. Этот процесс происходит на внутренней мембране митохондрий. Водород передается по трем большим ферментным комплексам дыхательной цепи (флавопротеин, кофермент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цитохромы), расположенным во внутренней мембране митохондрий. У водорода отбираются электроны, а протоны закачиваются в межмембранное пространство митохондрий, в «протонный резервуар». Внутренняя мембрана непроницаема для ионов водорода. Электроны передаются по ферментам дыхательной цепи на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цитохромоксидазу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Когда разность потенциалов на внешней и внутренней стороне внутренней мембраны достигает 200 мВ, протоны (12Н2) проходят через канал фермента АТФ-синтетазы и с помощью цитохромоксидазы происходит восстановление кислорода до воды (12Н2О) с выделением энергии, часть которой (55%) запасается в форме 34АТФ (рис. 300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ис. 300. Дыхательная цепь и АТФ-синтетаз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уммарная реакция энергетического обмена выглядит так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6Н12О6 + 6О2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6СО2 + 6Н2О + 38АТФ + Q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сли внутренняя мембрана повреждена, то окисление НАДН2 продолжается, но не работает АТФ-синтетаза и образования АТФ не происходит, вся энергия выделяется в форме тепл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102B-69ED-4AC9-81BE-0F0BD41EA1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оцесс энергетического обмена можно разделить на три этапа: на первом этапе происходит пищеварение, то есть сложные органические молекулы расщепляются до мономеров, на втором происходит бескислородное окисление этих мономеров — гликолиз, и на последнем этапе происходит окисление с участием кислорода в митохондриях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Подготовительный этап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Под действием ферментов пищеварительного тракта или ферментов лизосом белковые молекулы расщепляются до аминокислот, жиры — до глицерина и карбоновых кислот, углеводы — до глюкозы, нуклеиновые кислоты — до нуклеотидов. Вся энергия при этом рассеивается в виде тепл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Гликолиз, или бескислородное окисление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Окисление глюкозы в клетках без участия кислорода происходит путем дегидрирования, акцептором Н служит кофермент НАД+. Реакции протекают в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цитоплазм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глюкоза с помощью 10 ферментативных реакций превращается в 2 молекулы ПВК — пировиноградной кислоты и образуется восстановленная форма переносчика водорода НАД·Н2 никотинамидаденин-динуклеотида. При этом образуется 200 кДж энергии, 120 рассеивается в форме тепла, 80 кДж запасается в форме 2 моль АТФ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6Н12О6 + 2АДФ + 2Н3РО4 + 2НАД+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 С3Н4О3 + 2АТФ + 2Н2О + 2НАД·Н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альнейшая судьба ПВК зависит от присутствия О2 в клетке, если О2 нет, происходит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анаэробное дых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причем у дрожжей и растений происходит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 спиртовое броже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при котором сначала происходит образование уксусного альдегида, а затем этилового спирта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I. С3Н4О3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СО2 + СН3СОН (уксусный альдегид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II. СН3СОН + НАД·Н2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С2Н5ОН + НАД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 животных и некоторых бактерий при недостатке О2 происходит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молочнокислое брожение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 образованием молочной кислоты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3Н4О3 + НАД·Н2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С3Н6О3 + НАД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ретий этап энергетического обмена —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кислородное окисле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или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ых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происходит в митохондриях. Пировиноградная кислота проникает в митохондрии, происходит ее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егидриров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отщепление водорода) и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екарбоксилирова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отщепление углекислого газа) с образованием двухуглеродной ацетильной группы, которая вступает в цикл реакций, получивших название реакций цикла Кребса (рис. 299). Здесь происходит дальнейшее окисление, связанное с дегидрированием и декарбоксилированием. В результате на каждую разрушенную моль ПВК из митохондрии удаляется 3 моль СО2, образуется 5 пар атомов водорода, связанных с переносчиками (4 НАДН2, ФАДН2), а также моль АТФ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уммарная реакция гликолиза и разрушения ПВК в митохондриях до водорода и углекислого газа выглядит следующим образом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6Н12О6 + 6Н2О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6СО2 + 4АТФ + 12Н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АТФ образуются при гликолизе, две — в цикле Кребса; 2 пары атомов (2НАД·Н2)образовались при гликолизе, 10 пар — в цикле Кребс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ис.299. Цикл Кребс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следним этапом является окисление пар атомов водорода с участием О2 до Н2О с одновременным фосфорилированием АДФ до АТФ. Этот процесс происходит на внутренней мембране митохондрий. Водород передается по трем большим ферментным комплексам дыхательной цепи (флавопротеин, кофермент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цитохромы), расположенным во внутренней мембране митохондрий. У водорода отбираются электроны, а протоны закачиваются в межмембранное пространство митохондрий, в «протонный резервуар». Внутренняя мембрана непроницаема для ионов водорода. Электроны передаются по ферментам дыхательной цепи на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цитохромоксидазу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Когда разность потенциалов на внешней и внутренней стороне внутренней мембраны достигает 200 мВ, протоны (12Н2) проходят через канал фермента АТФ-синтетазы и с помощью цитохромоксидазы происходит восстановление кислорода до воды (12Н2О) с выделением энергии, часть которой (55%) запасается в форме 34АТФ (рис. 300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ис. 300. Дыхательная цепь и АТФ-синтетаз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уммарная реакция энергетического обмена выглядит так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6Н12О6 + 6О2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6СО2 + 6Н2О + 38АТФ + Q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сли внутренняя мембрана повреждена, то окисление НАДН2 продолжается, но не работает АТФ-синтетаза и образования АТФ не происходит, вся энергия выделяется в форме тепл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AFAF-C171-4D6F-925F-5D9A199205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**Тест 1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На подготовительном этапе энергетического обмена происходит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идролиз белков до аминокислот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идролиз жиров до глицерина и карбоновых кислот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идролиз углеводов до моносахаридо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идролиз нуклеиновых кислот до нуклеотидо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ест 2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Обеспечивают гликолиз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Ферменты пищеварительного тракта и лизосом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Ферменты цитоплазмы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Ферменты цикла Кребс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Ферменты дыхательной цеп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ест 3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В результате бескислородного окисления в клетках у животных при недостатке О2 образуется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ВК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Молочная кислот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Этиловый спирт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Ацетил-Ко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ест 4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В результате бескислородного окисления в клетках у растений при недостатке О2 образуется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ВК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Молочная кислот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Этиловый спирт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Ацетил-Ко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ест 5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При гликолизе моль глюкозы образуется всего энергии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00 кДж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400 кДж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600 кДж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800 кДж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ест 6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Три моль глюкозы подверглось гликолизу в животных клетках при недостатке кислорода. При этом углекислого газа выделилось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3 моль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6 моль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12 моль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глекислый газ в животных клетках при гликолизе не выделяетс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***Тест 7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К биологическому окислению относятся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кисление вещества А в реакции: А + О2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АО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егидрирование вещества А в реакции: АН2 + В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А + ВН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теря электронов (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+ в реакции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+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3+ +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е-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иобретение электронов (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3+ в реакции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+ </a:t>
            </a:r>
            <a:r>
              <a:rPr b="0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3+ +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е-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**Тест 8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Реакции подготовительного этапа происходят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пищеварительном тракте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митохондриях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цитоплазме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лизосомах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ест 9.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Энергия, которая выделяется в реакциях подготовительного этапа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ассеивается в форме тепл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Запасается в форме АТФ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Большая часть рассеивается в форме тепла, меньшая — запасется в форме АТФ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Меньшая часть рассеивается в форме тепла, большая — запасется в форме АТФ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ест 10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Энергия, которая выделяется в реакциях гликолиза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ассеивается в форме тепл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Запасается в форме АТФ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120 кДж рассеивается в форме тепла, 80 кДж — запасется в форме АТФ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80 кДж рассеивается в форме тепла, 120 кДж — запасется в форме АТФ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B789-4BE5-4E15-8685-4C058A1D3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963E-0FD3-4BD5-97F4-47D2D76F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5019-59F5-4ACB-B53D-A0562024E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123D-201B-4417-A18E-0EDF8FAF3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3B40-169F-4BB6-BD4C-242D18DCA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999A6-5F7C-4E5F-8278-8A1EA36B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BF83-E477-488E-81E6-E230519D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611B-D971-4B50-9DB7-56464D22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3087-17B1-470B-8FF0-147584FC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6A57-76D2-4305-9F18-2B063202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9378C-71CD-4057-B41E-B300C5A9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3437-B301-4F38-84A8-2753CCF3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4FB5-EA29-4915-8061-F7AAE7B0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CC89-0534-49C1-97AE-23D14818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ADE7-04F3-4BE5-9064-95417D78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07E8-49A7-4622-BAC6-37EE0084A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BA933-9FAC-462A-A787-AD690E276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BA2D-67D8-4C3C-8F5B-C7740A46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9941-1540-44CF-ADB9-E155191D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C315-3F78-4F07-B459-7C4352CC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D365-1F08-4791-9EC6-23B0F5C2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B1DA-7146-4134-9F77-BD367231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8C42-21F2-4DFA-8238-7AC28D6B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CD08-8E5F-4826-8312-25F73E16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64D7-886E-4E1B-966E-1C8EA8423A4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338A-7808-4840-9801-2F80AECBA17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Тема: Энергетический обмен. 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1983960" y="620640"/>
            <a:ext cx="527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Обеспечение клеток энерг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Общая схема ПРОЦЕССА   ДЫХАНИЯ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в митохондриях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79280" y="874800"/>
          <a:ext cx="8856720" cy="5982840"/>
        </p:xfrm>
        <a:graphic>
          <a:graphicData uri="http://schemas.openxmlformats.org/drawingml/2006/table">
            <a:tbl>
              <a:tblPr/>
              <a:tblGrid>
                <a:gridCol w="1944720"/>
                <a:gridCol w="1397160"/>
                <a:gridCol w="2187360"/>
                <a:gridCol w="2219400"/>
                <a:gridCol w="1108080"/>
              </a:tblGrid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овательность реак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де проис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ходные соеди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ечные проду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АТ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иколи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топлазма кле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люкоза (С6)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(НАД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(АДФ, Ф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ируват (С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ДН + Н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АТ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 АТ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циклу лимонной кисл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тохондрия - матрик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ируват (С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-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Д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О</a:t>
                      </a:r>
                      <a:r>
                        <a:rPr b="1" lang="ru-RU" sz="1400" spc="-1" strike="noStrike" baseline="-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+ Ацетил-КоА (С</a:t>
                      </a:r>
                      <a:r>
                        <a:rPr b="1" lang="ru-RU" sz="1400" spc="-1" strike="noStrike" baseline="-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ДН +Н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0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кл лимонной кисл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цикл  трикарбоновых кислот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К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бса – 1953 г Нобелевская преми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О</a:t>
                      </a:r>
                      <a:r>
                        <a:rPr b="1" lang="ru-RU" sz="1400" spc="-1" strike="noStrike" baseline="-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+ Ацетил-КоА (С</a:t>
                      </a:r>
                      <a:r>
                        <a:rPr b="1" lang="ru-RU" sz="1400" spc="-1" strike="noStrike" baseline="-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ДФ, Ф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АД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ФА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АТ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ДН + Н</a:t>
                      </a:r>
                      <a:r>
                        <a:rPr b="1" lang="en-US" sz="1400" spc="-1" strike="noStrike" baseline="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АДН</a:t>
                      </a:r>
                      <a:r>
                        <a:rPr b="1" lang="en-US" sz="1400" spc="-1" strike="noStrike" baseline="-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 АТ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пь переноса электр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ктротранспортнаяцеп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нутренней поверхности внутренней мембране митохонд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ДН + Н</a:t>
                      </a:r>
                      <a:r>
                        <a:rPr b="1" lang="en-US" sz="1400" spc="-1" strike="noStrike" baseline="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АДН</a:t>
                      </a:r>
                      <a:r>
                        <a:rPr b="1" lang="en-US" sz="1400" spc="-1" strike="noStrike" baseline="-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носит на наружную поверх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Н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резервуар(на 1 молекулу глюкозы) = </a:t>
                      </a:r>
                      <a:r>
                        <a:rPr b="1" lang="en-US" sz="14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АТ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0" lang="en-US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2 АТ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"/>
          <p:cNvSpPr/>
          <p:nvPr/>
        </p:nvSpPr>
        <p:spPr>
          <a:xfrm>
            <a:off x="1332000" y="18900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Гликолиз и кислородное окис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50920" y="765000"/>
            <a:ext cx="8713800" cy="18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Гликоли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С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Н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+ 2АДФ + 2Н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РО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+ 2НАД</a:t>
            </a:r>
            <a:r>
              <a:rPr b="0" lang="en-US" sz="20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 С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Н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+ 2АТФ + 2Н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О + 2НАД·Н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этом образуется 200 кДж энергии, 120 рассеивается в форме тепла, 80 кДж запасается в форме 2 моль АТ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250920" y="4941720"/>
            <a:ext cx="864216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Суммарная реакция энергетического обмена выглядит т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С</a:t>
            </a:r>
            <a:r>
              <a:rPr b="0" i="1" lang="ru-RU" sz="2400" spc="-1" strike="noStrike" baseline="-25000">
                <a:solidFill>
                  <a:srgbClr val="ff3300"/>
                </a:solidFill>
                <a:latin typeface="Arial"/>
              </a:rPr>
              <a:t>6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Н</a:t>
            </a:r>
            <a:r>
              <a:rPr b="0" i="1" lang="ru-RU" sz="2400" spc="-1" strike="noStrike" baseline="-25000">
                <a:solidFill>
                  <a:srgbClr val="ff3300"/>
                </a:solidFill>
                <a:latin typeface="Arial"/>
              </a:rPr>
              <a:t>12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0" i="1" lang="ru-RU" sz="2400" spc="-1" strike="noStrike" baseline="-25000">
                <a:solidFill>
                  <a:srgbClr val="ff3300"/>
                </a:solidFill>
                <a:latin typeface="Arial"/>
              </a:rPr>
              <a:t>6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 + 6О</a:t>
            </a:r>
            <a:r>
              <a:rPr b="0" i="1" lang="ru-RU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 6СО</a:t>
            </a:r>
            <a:r>
              <a:rPr b="0" i="1" lang="ru-RU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 + 6Н</a:t>
            </a:r>
            <a:r>
              <a:rPr b="0" i="1" lang="ru-RU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О + 38АТФ + Q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внутренняя мембрана повреждена, то окисление НАД·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одолжается, но не работает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АТФ-синтетаз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образования АТФ не происходит, вся энергия выделяется в форме теп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250920" y="2637000"/>
            <a:ext cx="871380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Суммарная реакция гликолиза и разрушения ПВК в митохондриях до водорода и углекислого га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ыглядит следующ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С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Н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+ 6Н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О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6СО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+ 4АТФ + 12Н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250920" y="4035600"/>
            <a:ext cx="849780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ерменты дыхательной цепи и АТФ-синтетаза на криста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24Н</a:t>
            </a:r>
            <a:r>
              <a:rPr b="0" lang="ru-RU" sz="24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+ 6О</a:t>
            </a:r>
            <a:r>
              <a:rPr b="0" lang="ru-RU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+ 12е</a:t>
            </a:r>
            <a:r>
              <a:rPr b="0" lang="ru-RU" sz="2400" spc="-1" strike="noStrike" baseline="30000">
                <a:solidFill>
                  <a:srgbClr val="ff33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12Н</a:t>
            </a:r>
            <a:r>
              <a:rPr b="0" lang="ru-RU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О + 34АТФ +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5"/>
          <p:cNvSpPr/>
          <p:nvPr/>
        </p:nvSpPr>
        <p:spPr>
          <a:xfrm>
            <a:off x="611280" y="981000"/>
            <a:ext cx="820872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Обмен веществ (метаболизм) = ассимиляции + диссимиля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ческие вещества пищи являются основным источником не только 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матер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о и 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энерг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ля жизнедеятельности клеток организ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ологическое </a:t>
            </a:r>
            <a:r>
              <a:rPr b="0" i="1" lang="ru-RU" sz="2000" spc="-1" strike="noStrike" u="sng">
                <a:solidFill>
                  <a:srgbClr val="0000cc"/>
                </a:solidFill>
                <a:uFillTx/>
                <a:latin typeface="Arial"/>
              </a:rPr>
              <a:t>окисление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летках происходит 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с участием О</a:t>
            </a:r>
            <a:r>
              <a:rPr b="0" i="1" lang="ru-RU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А + О</a:t>
            </a:r>
            <a:r>
              <a:rPr b="0" lang="ru-RU" sz="20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АО</a:t>
            </a:r>
            <a:r>
              <a:rPr b="0" lang="ru-RU" sz="20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без его участия – </a:t>
            </a:r>
            <a:r>
              <a:rPr b="0" i="1" lang="ru-RU" sz="2000" spc="-1" strike="noStrike" u="sng">
                <a:solidFill>
                  <a:srgbClr val="0000cc"/>
                </a:solidFill>
                <a:uFillTx/>
                <a:latin typeface="Arial"/>
              </a:rPr>
              <a:t>ГЛИКОЛИЗ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за счет дегидрирования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переноса электрон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т одного вещества к другом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АН</a:t>
            </a:r>
            <a:r>
              <a:rPr b="0" lang="ru-RU" sz="20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+ В </a:t>
            </a:r>
            <a:r>
              <a:rPr b="0" lang="ru-RU" sz="20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А + ВН</a:t>
            </a:r>
            <a:r>
              <a:rPr b="0" lang="ru-RU" sz="20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де вещество А окисляется за счет вещества 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e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Fe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US" sz="2000" spc="-1" strike="noStrike" baseline="30000">
                <a:solidFill>
                  <a:srgbClr val="ff33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де двухвалентное железо окисляется до трехвалент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332000" y="18900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Биологическое окисление и г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611280" y="1628640"/>
            <a:ext cx="8208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сс энергетического обмена можно разделит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а три этап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 этап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сходит процесс пищеварения: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сложные органические молекулы расщепляются до мономе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2 этап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-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сходит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ГЛИКОЛИЗ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бескислородное окисление мономеров, субстратное фосфорил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3 этап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сходит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ОКИСЛЕНИЕ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с участием кислорода в митохондр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332000" y="18900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Биологическое окисление и г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4140360" y="907920"/>
            <a:ext cx="4679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Подготовительный эта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 действием ферментов пищеварительного тракта или ферментов лизос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ложные органические молекулы расщеп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бел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до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жи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— до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углевод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— до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нуклеиновые кислот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—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я энергия при этом рассеивается в виде теп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332000" y="18900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Биологическое окисление и г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3810240" cy="4286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995640" y="981000"/>
            <a:ext cx="4896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акции протекают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в цитоплазм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глюкоз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 помощью 10 ферментативных реакций превращается в </a:t>
            </a: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2 молекулы ПВК — пировиноградной кисл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3687840" cy="38912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6"/>
          <p:cNvSpPr/>
          <p:nvPr/>
        </p:nvSpPr>
        <p:spPr>
          <a:xfrm>
            <a:off x="250920" y="5157720"/>
            <a:ext cx="87138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этом образуется 200 кДж энергии, 120 рассеивается в форме тепла, 80 кДж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запасается в форме 2 моль АТ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С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Н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+ 2АДФ + 2Н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РО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+ 2НАД</a:t>
            </a:r>
            <a:r>
              <a:rPr b="1" lang="en-US" sz="20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2 С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Н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+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2АТФ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+ 2Н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О + 2НАД·Н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611280" y="115920"/>
            <a:ext cx="82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Гликолиз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, или бескислородное окис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826920" y="5157720"/>
            <a:ext cx="7201080" cy="15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животных и некоторых бактерий при недостатке О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роисходит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молочнокислое брожение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ПВ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 образованием молочной кисло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2С3Н4О3 + 2НАД·Н2 </a:t>
            </a:r>
            <a:r>
              <a:rPr b="0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 2С3Н6О3 + 2НАД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108000" y="907920"/>
            <a:ext cx="3687840" cy="38912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611280" y="115920"/>
            <a:ext cx="82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Гликолиз, или бескислородное окис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3924360" y="1557360"/>
            <a:ext cx="4895640" cy="31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О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ет, происходит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анаэробное брожение (дыхание) ПВ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2СН3СОН + 2НАД·Н2 </a:t>
            </a:r>
            <a:r>
              <a:rPr b="0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 2С2Н5ОН + 2НАД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дрожжей и растений происходит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спиртовое брож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при котором сначала происходит образование уксусного альдегида, а затем этилового спир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2С3Н4О3 </a:t>
            </a:r>
            <a:r>
              <a:rPr b="0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 2СО2 + 2СН3СОН (уксусный альдеги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3851280" y="2060640"/>
            <a:ext cx="493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ий этап энергетического обмена —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кислородное окисл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или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дых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роисходит в митохондр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1258920" y="25416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Окисление ПВК в митохондр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539640" y="4292640"/>
            <a:ext cx="7956720" cy="1878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826920" y="907920"/>
            <a:ext cx="2857680" cy="29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1258920" y="25416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Окисление ПВК в митохондр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"/>
          <p:cNvPicPr/>
          <p:nvPr/>
        </p:nvPicPr>
        <p:blipFill>
          <a:blip r:embed="rId1"/>
          <a:stretch/>
        </p:blipFill>
        <p:spPr>
          <a:xfrm>
            <a:off x="179280" y="712800"/>
            <a:ext cx="8785440" cy="614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РЕЗУЛЬТАТ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1 молекулу глюкозы приходится 36 АТФ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, должна быть затрачена энергия  на выведение АТФ из митохондрий, а также происходит утечка  ионов водорода  из Н+- резервуара.  Поэтому в цитоплазму поступает всег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1 АТФ (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ПД составляет 84%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оферм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интезируются из витаминов, являются переносчиками ионов Н+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ФА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флавинадениндинуклеотид (переносчик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А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икотинамидадениндинуклеот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животных, впадающих в спячку – большая часть энергии расходуется не на синтез АТФ, а на теп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3T15:54:26Z</dcterms:created>
  <dc:creator>Pimenov AV</dc:creator>
  <dc:description/>
  <dc:language>en-US</dc:language>
  <cp:lastModifiedBy>Ольга</cp:lastModifiedBy>
  <dcterms:modified xsi:type="dcterms:W3CDTF">2017-11-16T15:02:02Z</dcterms:modified>
  <cp:revision>21</cp:revision>
  <dc:subject/>
  <dc:title>Тема: Энергетический обмен. Анаэробный гликолиз</dc:title>
</cp:coreProperties>
</file>