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792F-D65B-4732-9D3D-E9DC8BCE0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56FB-0AEE-439F-9686-C1800C994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CAC6-FAD5-4B86-85BD-2996FA72A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136-E254-4E31-A7C2-ED2D5252C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3238-BA0A-4396-BE53-E9F2C26DE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24C3-CE15-48D9-85DA-59A72F736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20D5-04FD-437B-B814-919ADC0F8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Тест 1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 подготовительном этапе энергетического обмена происходи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белков до аминокисло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жиров до глицерина и карбоновых кисло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углеводов до моносахари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нуклеиновых кислот до нуклеоти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2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беспечивают гликолиз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пищеварительного тракта и лизосо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цитоплазм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цикла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дыхательной цеп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3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результате бескислородного окисления в клетках у животных при недостатке О2 образуе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ВК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лочная кисло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ловый спир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цетил-Ко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4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результате бескислородного окисления в клетках у растений при недостатке О2 образуе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ВК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лочная кисло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ловый спир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цетил-Ко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5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ри гликолизе моль глюкозы образуется всего энерги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6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Три моль глюкозы подверглось гликолизу в животных клетках при недостатке кислорода. При этом углекислого газа выделилось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2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глекислый газ в животных клетках при гликолизе не выделяе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*Тест 7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 биологическому окислению относя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исление вещества А в реакции: А + 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АО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егидрирование вещества А в реакции: АН2 + В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А + ВН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теря электронов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в реак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+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обретение электронов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в реак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+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Тест 8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Реакции подготовительного этапа происходя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ищеварительном тракт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итоплазм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лизосома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9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нергия, которая выделяется в реакциях подготовительного этап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еива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аса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ольшая часть рассеивается в форме тепла, меньшая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ньшая часть рассеивается в форме тепла, большая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10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Энергия, которая выделяется в реакциях гликолиз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еива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аса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20 кДж рассеивается в форме тепла, 80 кДж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0 кДж рассеивается в форме тепла, 120 кДж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47F-A0F4-4E84-BE51-469E9E9B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214-7436-434D-B2FE-7C1E0335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DC7-948C-44D1-8138-18027E76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658-522D-401D-A349-FCCD8319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3C56-EFEA-418D-8C19-2B8B7D60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B03C-107A-4C32-8041-BC46EB72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7128-FEA4-420D-ACA8-0885558C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93E7-CBB3-448A-9E2F-4CD4E66C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E301-1B72-4A31-B38E-6C6C3D87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5A4A-2C8F-4A79-AFA7-DAC3396E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B413-3671-41EA-A5B5-BC7ED3C5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479-61E4-4014-A29F-F9856746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230B-FCF8-47A4-A370-31C76B3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15D2-F71C-47C8-8A45-F3AD5077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7D71-1726-433C-87A5-928446FB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07D5-36DD-46EB-BE8E-C9E15455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98ED-CFA0-425C-8146-A8A47689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1B7-0CCB-4B58-96D2-94F6D068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19D-0016-44A6-89CC-EFCD5E6F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B66-2941-4477-B521-FD49984D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20A-A2FF-4518-875E-8A077709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3F7-8F1E-446F-A635-69A7983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834-2AE7-4F2F-BC2A-F0822D56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F5B-1391-481D-BEE8-F133D873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A81D-80A1-454A-8A1D-C5B2C8B41B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B6CC-81BE-4755-A440-6EB29AE8CB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Тема: Энергетический обмен.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983960" y="62064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Обеспечение клеток энерг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Общая схема ПРОЦЕССА   ДЫХАНИЯ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 митохондриях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874800"/>
          <a:ext cx="8856720" cy="5982840"/>
        </p:xfrm>
        <a:graphic>
          <a:graphicData uri="http://schemas.openxmlformats.org/drawingml/2006/table">
            <a:tbl>
              <a:tblPr/>
              <a:tblGrid>
                <a:gridCol w="1944720"/>
                <a:gridCol w="1397160"/>
                <a:gridCol w="2187360"/>
                <a:gridCol w="2219400"/>
                <a:gridCol w="110808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ре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проис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ые 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кол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а кл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люкоза (С6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НАД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АДФ, Ф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руват (С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Н + Н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циклу лимон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охондрия - матри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руват (С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-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+ Ацетил-КоА (С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Н +Н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 лимон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икл  трикарбоновых кислот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бса – 1953 г Нобелевская прем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+ Ацетил-КоА (С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ДФ, Ф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Д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ДН + Н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ДН</a:t>
                      </a:r>
                      <a:r>
                        <a:rPr b="1" lang="en-US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пь переноса 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транспортнаяцеп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нутренней поверхности внутренней мембране митохо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ДН + Н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ДН</a:t>
                      </a:r>
                      <a:r>
                        <a:rPr b="1" lang="en-US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ит на наружную поверх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Н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резервуар(на 1 молекулу глюкозы) = </a:t>
                      </a:r>
                      <a:r>
                        <a:rPr b="1" lang="en-US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2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Гликолиз и кислородное окис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0920" y="765000"/>
            <a:ext cx="87138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Гликол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2АДФ + 2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О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2НАД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 С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2АТФ + 2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 + 2НАД·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образуется 200 кДж энергии, 120 рассеивается в форме тепла, 80 кДж запасается в форме 2 моль 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50920" y="4941720"/>
            <a:ext cx="86421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+ 6О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6СО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+ 6Н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О + 38АТФ + Q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·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должается, но не работае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АТФ-синтетаз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зования АТФ не происходит, вся энергия выделяется в форме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50920" y="2637000"/>
            <a:ext cx="87138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+ 6Н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6СО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+ 4АТФ + 12Н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50920" y="4035600"/>
            <a:ext cx="84978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рменты дыхательной цепи и АТФ-синтетаза на крис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4Н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6О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12е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12Н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 + 34АТФ +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611280" y="981000"/>
            <a:ext cx="8208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бмен веществ (метаболизм) = ассимиляции + диссими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вещества пищи являются основным источником не только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мате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и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энерг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жизнедеятельности клеток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ческое </a:t>
            </a:r>
            <a:r>
              <a:rPr b="0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окисление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летках происходит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 участием О</a:t>
            </a:r>
            <a:r>
              <a:rPr b="0" i="1" lang="ru-RU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 + О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АО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 его участия – </a:t>
            </a:r>
            <a:r>
              <a:rPr b="0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ГЛИКОЛИЗ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за счет дегидрир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переноса электро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одного вещества к друго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Н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+ В 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А + ВН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вещество А окисляется за счет вещества 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Fe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двухвалентное железо окисляется до трехвален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иологическое окисление и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11280" y="1628640"/>
            <a:ext cx="82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 три эта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эта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процесс пищеварения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ложные органические молекулы расщепляются до моном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эта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ГЛИКОЛИ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ескислородное окисление мономеров, субстратное фосфори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 эта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КИСЛЕНИЕ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с участием кислорода в митохондр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иологическое окисление и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140360" y="907920"/>
            <a:ext cx="467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Подготовитель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действием ферментов пищеварительного тракта или ферментов лиз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ные органические молекулы расщеп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бел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жи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до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углево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до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нуклеиновые кисл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я энергия при этом рассеивается в виде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иологическое окисление и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81024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95640" y="981000"/>
            <a:ext cx="489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ции протекают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 цитоплаз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глюко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помощью 10 ферментативных реакций превращается в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2 молекулы ПВК — пировиноград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687840" cy="3891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250920" y="5157720"/>
            <a:ext cx="87138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образуется 200 кДж энергии, 120 рассеивается в форме тепла, 80 кДж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запасается в форме 2 моль АТ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2АДФ + 2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О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2НАД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 С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АТФ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2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 + 2НАД·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11280" y="11592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Гликолиз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, или бескислородное ок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157720"/>
            <a:ext cx="720108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исходит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молочнокислое броже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В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2С3Н4О3 + 2НАД·Н2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2С3Н6О3 + 2НАД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3687840" cy="3891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11280" y="11592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Гликолиз, или бескислородное ок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924360" y="1557360"/>
            <a:ext cx="4895640" cy="31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т, происходит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анаэробное брожение (дыхание) ПВ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2СН3СОН + 2НАД·Н2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2С2Н5ОН + 2НАД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дрожжей и растений происходи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2С3Н4О3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2СО2 + 2СН3СОН (уксусный альдег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851280" y="2060640"/>
            <a:ext cx="49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ислородное оки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дых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исходит в митохондр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58920" y="254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кисление ПВК в митохондр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7956720" cy="187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28576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258920" y="254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кисление ПВК в митохондр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179280" y="712800"/>
            <a:ext cx="8785440" cy="614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ЗУЛЬТА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1 молекулу глюкозы приходится 36 АТФ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должна быть затрачена энергия  на выведение АТФ из митохондрий, а также происходит утечка  ионов водорода  из Н+- резервуара.  Поэтому в цитоплазму поступает вс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 АТФ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ПД составляет 84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фер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нтезируются из витаминов, являются переносчиками ионов Н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лавинадениндинуклеотид (переносчи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икотинамидадениндинуклеот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животных, впадающих в спячку – большая часть энергии расходуется не на синтез АТФ, а на теп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5:54:26Z</dcterms:created>
  <dc:creator>Pimenov AV</dc:creator>
  <dc:description/>
  <dc:language>en-US</dc:language>
  <cp:lastModifiedBy>Ольга</cp:lastModifiedBy>
  <dcterms:modified xsi:type="dcterms:W3CDTF">2017-11-16T15:02:02Z</dcterms:modified>
  <cp:revision>21</cp:revision>
  <dc:subject/>
  <dc:title>Тема: Энергетический обмен. Анаэробный гликолиз</dc:title>
</cp:coreProperties>
</file>