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6CF1-7D19-4BFC-B40C-AE5BFD9CD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F855-EAD2-4195-B1EE-2CF304055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7B00-48E7-4915-BF85-546E4411D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43A9-237A-4ECF-B535-949DC60A0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00EA-A771-4070-B838-D4790C02F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ED55-75E9-4197-AF95-5464E6B2A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8EDF-4DA1-42D4-840E-16703F127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CDD9-BDBD-4263-B749-CA49971AD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3763-2A29-4B17-80FB-D32723B5E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5878-20A6-4FFB-B0F1-A4716A0F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1C67-7B96-4ADD-9A40-823A6CD18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4B5D-4230-4001-B5C2-2B24B52ED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99ccff"/>
            </a:gs>
            <a:gs pos="100000">
              <a:srgbClr val="0099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76B89-FC2E-4E24-9860-E4D4D2C88F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0" y="685800"/>
            <a:ext cx="45720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Monotype Corsiva"/>
              </a:rPr>
              <a:t>Дом детств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Monotype Corsiva"/>
              </a:rPr>
              <a:t>А. М. Горьк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imgBfd"/>
          <p:cNvPicPr/>
          <p:nvPr/>
        </p:nvPicPr>
        <p:blipFill>
          <a:blip r:embed="rId1"/>
          <a:stretch/>
        </p:blipFill>
        <p:spPr>
          <a:xfrm>
            <a:off x="914400" y="1447920"/>
            <a:ext cx="3581280" cy="5024160"/>
          </a:xfrm>
          <a:prstGeom prst="rect">
            <a:avLst/>
          </a:prstGeom>
          <a:ln w="0">
            <a:noFill/>
          </a:ln>
        </p:spPr>
      </p:pic>
      <p:sp>
        <p:nvSpPr>
          <p:cNvPr id="43" name="Text Box 10"/>
          <p:cNvSpPr/>
          <p:nvPr/>
        </p:nvSpPr>
        <p:spPr>
          <a:xfrm>
            <a:off x="4800600" y="3657600"/>
            <a:ext cx="41911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omic Sans MS"/>
              </a:rPr>
              <a:t>  </a:t>
            </a:r>
            <a:r>
              <a:rPr b="1" lang="ru-RU" sz="1800" spc="-1" strike="noStrike">
                <a:solidFill>
                  <a:srgbClr val="000099"/>
                </a:solidFill>
                <a:latin typeface="Comic Sans MS"/>
              </a:rPr>
              <a:t>Не зная прошлого, невозможно понять истинный смысл настоящего и цели будущего.</a:t>
            </a: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omic Sans MS"/>
              </a:rPr>
              <a:t>М. Горьк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950"/>
                            </p:stCondLst>
                            <p:childTnLst>
                              <p:par>
                                <p:cTn id="1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kh5_2"/>
          <p:cNvPicPr/>
          <p:nvPr/>
        </p:nvPicPr>
        <p:blipFill>
          <a:blip r:embed="rId1"/>
          <a:srcRect l="2018" t="2382" r="2018" b="2188"/>
          <a:stretch/>
        </p:blipFill>
        <p:spPr>
          <a:xfrm>
            <a:off x="1295280" y="228600"/>
            <a:ext cx="6553440" cy="55180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0" y="5667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99"/>
                </a:solidFill>
                <a:latin typeface="Comic Sans MS"/>
              </a:rPr>
              <a:t>Обстановка: стол, накрытый самотканой скатертью, на столе большое деревянное блюдо для еды, деревянные ложки и солоница, тарелка для резки мяса, огарок свечи в железном подсвечнике, в правом углу — иконостас, в левом - «горка» с посуд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7467480" y="228600"/>
            <a:ext cx="1676520" cy="368280"/>
          </a:xfrm>
          <a:prstGeom prst="rect">
            <a:avLst/>
          </a:prstGeom>
          <a:solidFill>
            <a:srgbClr val="5ed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Comic Sans MS"/>
              </a:rPr>
              <a:t>Кух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Изображение 006"/>
          <p:cNvPicPr/>
          <p:nvPr/>
        </p:nvPicPr>
        <p:blipFill>
          <a:blip r:embed="rId1"/>
          <a:srcRect l="8045" t="3298" r="6603" b="5369"/>
          <a:stretch/>
        </p:blipFill>
        <p:spPr>
          <a:xfrm>
            <a:off x="1523880" y="228600"/>
            <a:ext cx="5943600" cy="45324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6"/>
          <p:cNvSpPr/>
          <p:nvPr/>
        </p:nvSpPr>
        <p:spPr>
          <a:xfrm>
            <a:off x="152280" y="4687920"/>
            <a:ext cx="8839440" cy="21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Comic Sans MS"/>
              </a:rPr>
              <a:t>  </a:t>
            </a:r>
            <a:r>
              <a:rPr b="1" lang="ru-RU" sz="1600" spc="-1" strike="noStrike">
                <a:solidFill>
                  <a:srgbClr val="0033cc"/>
                </a:solidFill>
                <a:latin typeface="Comic Sans MS"/>
              </a:rPr>
              <a:t>В кухне не только готовили пищу, но и ели всей семьей. Во время семейных трапез постоянно вспыхивали ссоры, стремительно переходившие в яростные драки. С бешенством люди бросались друг на друга, опрокидывая посуду и все, что встречалось на пу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Comic Sans MS"/>
              </a:rPr>
              <a:t>  </a:t>
            </a:r>
            <a:r>
              <a:rPr b="1" lang="ru-RU" sz="1600" spc="-1" strike="noStrike">
                <a:solidFill>
                  <a:srgbClr val="0033cc"/>
                </a:solidFill>
                <a:latin typeface="Comic Sans MS"/>
              </a:rPr>
              <a:t>В темные зимние вечера здесь работали. «...Дядья и работники приходили в кухню из мастерской усталые, с руками, окрашенными сандалом, обожженными купоросом, с повязанными тесемкой волосами, все похожие на темные иконы в углу кухни...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7086600" y="228600"/>
            <a:ext cx="1676520" cy="368280"/>
          </a:xfrm>
          <a:prstGeom prst="rect">
            <a:avLst/>
          </a:prstGeom>
          <a:solidFill>
            <a:srgbClr val="5ed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Comic Sans MS"/>
              </a:rPr>
              <a:t>Кух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Комната деда"/>
          <p:cNvPicPr/>
          <p:nvPr/>
        </p:nvPicPr>
        <p:blipFill>
          <a:blip r:embed="rId1"/>
          <a:srcRect l="1821" t="2731" r="1821" b="3150"/>
          <a:stretch/>
        </p:blipFill>
        <p:spPr>
          <a:xfrm>
            <a:off x="380880" y="152280"/>
            <a:ext cx="8382240" cy="54565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7467480" y="152280"/>
            <a:ext cx="1676520" cy="642600"/>
          </a:xfrm>
          <a:prstGeom prst="rect">
            <a:avLst/>
          </a:prstGeom>
          <a:solidFill>
            <a:srgbClr val="5ed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Comic Sans MS"/>
              </a:rPr>
              <a:t>Комната д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152280" y="5667480"/>
            <a:ext cx="8839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99"/>
                </a:solidFill>
                <a:latin typeface="Comic Sans MS"/>
              </a:rPr>
              <a:t>Самой «нарядной» в доме была комната деда. Из ее окон открывался красивый вид на улицу, круто спускавшуюся к Волге, «ощетинившейся сотнями острых мачт», и на золотые главы Успенской церкви, стоявшей неподалеку. Здесь выставлена напоказ лучшая в доме мебе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Изображение 007"/>
          <p:cNvPicPr/>
          <p:nvPr/>
        </p:nvPicPr>
        <p:blipFill>
          <a:blip r:embed="rId1"/>
          <a:srcRect l="8425" t="2700" r="6989" b="6858"/>
          <a:stretch/>
        </p:blipFill>
        <p:spPr>
          <a:xfrm>
            <a:off x="228600" y="228600"/>
            <a:ext cx="8686800" cy="64785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7467480" y="152280"/>
            <a:ext cx="1676520" cy="642600"/>
          </a:xfrm>
          <a:prstGeom prst="rect">
            <a:avLst/>
          </a:prstGeom>
          <a:solidFill>
            <a:srgbClr val="5ed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Comic Sans MS"/>
              </a:rPr>
              <a:t>Комната д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152280" y="5486400"/>
            <a:ext cx="88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Comic Sans MS"/>
              </a:rPr>
              <a:t>Жизнь в доме определялась правилами, выработанными дедом. Будучи здесь единовластным хозяином, дед держал комнату под запором, пуская только самых «почитаемых» гостей и заказчик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Comic Sans MS"/>
              </a:rPr>
              <a:t>В комнате деда Алеша бывал редко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6" descr="imgB4"/>
          <p:cNvPicPr/>
          <p:nvPr/>
        </p:nvPicPr>
        <p:blipFill>
          <a:blip r:embed="rId1"/>
          <a:stretch/>
        </p:blipFill>
        <p:spPr>
          <a:xfrm>
            <a:off x="533520" y="152280"/>
            <a:ext cx="8076960" cy="53848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7"/>
          <p:cNvSpPr/>
          <p:nvPr/>
        </p:nvSpPr>
        <p:spPr>
          <a:xfrm>
            <a:off x="0" y="5456160"/>
            <a:ext cx="9144000" cy="14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700" spc="-1" strike="noStrike">
                <a:solidFill>
                  <a:srgbClr val="000099"/>
                </a:solidFill>
                <a:latin typeface="Comic Sans MS"/>
              </a:rPr>
              <a:t>Небольшую комнату по праву старшинства занимал Михаил с семьей. Обстановка комнаты: комод, овальное зеркало, полумягкий диван с резной спинкой. Около окна небольшой стол, на нём медный самовар с чайной посудой, штоф из-под вина, большие рюмки. На стене, над комодом висят семейные фотографии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7467480" y="152280"/>
            <a:ext cx="1676520" cy="642600"/>
          </a:xfrm>
          <a:prstGeom prst="rect">
            <a:avLst/>
          </a:prstGeom>
          <a:solidFill>
            <a:srgbClr val="5ed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Comic Sans MS"/>
              </a:rPr>
              <a:t>Комната Миха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8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imgB3"/>
          <p:cNvPicPr/>
          <p:nvPr/>
        </p:nvPicPr>
        <p:blipFill>
          <a:blip r:embed="rId1"/>
          <a:stretch/>
        </p:blipFill>
        <p:spPr>
          <a:xfrm>
            <a:off x="609480" y="228600"/>
            <a:ext cx="7848720" cy="523224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7467480" y="228600"/>
            <a:ext cx="1676520" cy="642600"/>
          </a:xfrm>
          <a:prstGeom prst="rect">
            <a:avLst/>
          </a:prstGeom>
          <a:solidFill>
            <a:srgbClr val="5ed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Comic Sans MS"/>
              </a:rPr>
              <a:t>Комната бабуш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228600" y="5392800"/>
            <a:ext cx="8915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99"/>
                </a:solidFill>
                <a:latin typeface="Comic Sans MS"/>
              </a:rPr>
              <a:t>Самая маленькая и уютная  комната в доме - спальня бабушки, с большими часами, пяльцами, коклюшками для плетения кружев. У окна комод, на нём — копилка, сундучки-укладки, предметы для рукоделия. Большую часть комнаты занимала широкая кровать с пуховой периной, покрытая стёганым одеялом, сверху — гора подушек в белых наволочк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9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спальня бабушки"/>
          <p:cNvPicPr/>
          <p:nvPr/>
        </p:nvPicPr>
        <p:blipFill>
          <a:blip r:embed="rId1"/>
          <a:stretch/>
        </p:blipFill>
        <p:spPr>
          <a:xfrm>
            <a:off x="4114800" y="304920"/>
            <a:ext cx="4856040" cy="63244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7467480" y="6019920"/>
            <a:ext cx="1676520" cy="642600"/>
          </a:xfrm>
          <a:prstGeom prst="rect">
            <a:avLst/>
          </a:prstGeom>
          <a:solidFill>
            <a:srgbClr val="5ed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Comic Sans MS"/>
              </a:rPr>
              <a:t>Комната бабуш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0" y="160200"/>
            <a:ext cx="4038480" cy="68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Comic Sans MS"/>
              </a:rPr>
              <a:t>Комната бабушки была знакома Алексею в малейших деталях. Здесь не раз спасался мальчик от многих жестоких обид и истязаний, физических и моральных. Здесь он часами, как зачарованный, слушал чудесные сказки и рассказы о жизни, похожей на сказку.</a:t>
            </a:r>
            <a:r>
              <a:rPr b="1" lang="ru-RU" sz="1800" spc="-1" strike="noStrike">
                <a:solidFill>
                  <a:srgbClr val="0033cc"/>
                </a:solidFill>
                <a:latin typeface="Comic Sans MS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Comic Sans MS"/>
              </a:rPr>
              <a:t>  </a:t>
            </a:r>
            <a:r>
              <a:rPr b="1" lang="ru-RU" sz="1800" spc="-1" strike="noStrike">
                <a:solidFill>
                  <a:srgbClr val="000099"/>
                </a:solidFill>
                <a:latin typeface="Comic Sans MS"/>
              </a:rPr>
              <a:t>«До нее как будто спал я, спрятанный в темноте, но явилась она, разбудила, вывела на свет, связала все вокруг меня в непрерывную нить, сплела в разноцветное кружево и сразу стала на всю жизнь другом, самым близким сердцу моему, самым понятным и дорогим человеком, — это ее бескорыстная любовь к миру обогатила меня, насытив крепкой силой для трудной жизн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0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Monotype Corsiva"/>
              </a:rPr>
              <a:t>История создания музе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Ф.П.Хитровский..."/>
          <p:cNvPicPr/>
          <p:nvPr/>
        </p:nvPicPr>
        <p:blipFill>
          <a:blip r:embed="rId1"/>
          <a:stretch/>
        </p:blipFill>
        <p:spPr>
          <a:xfrm>
            <a:off x="1676520" y="1219320"/>
            <a:ext cx="5867280" cy="35431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152280" y="4800600"/>
            <a:ext cx="8763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99"/>
                </a:solidFill>
                <a:latin typeface="Comic Sans MS"/>
              </a:rPr>
              <a:t>Музей детства А. М. Горького «Домик Каширина» был открыт </a:t>
            </a: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1 января 1938 го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omic Sans MS"/>
              </a:rPr>
              <a:t>  </a:t>
            </a:r>
            <a:r>
              <a:rPr b="1" lang="ru-RU" sz="1800" spc="-1" strike="noStrike">
                <a:solidFill>
                  <a:srgbClr val="000099"/>
                </a:solidFill>
                <a:latin typeface="Comic Sans MS"/>
              </a:rPr>
              <a:t>Инициатором и автором создания музея был </a:t>
            </a:r>
            <a:r>
              <a:rPr b="1" lang="ru-RU" sz="1800" spc="-1" strike="noStrike">
                <a:solidFill>
                  <a:srgbClr val="cc0099"/>
                </a:solidFill>
                <a:latin typeface="Comic Sans MS"/>
              </a:rPr>
              <a:t>Федор Павлович Хитровский</a:t>
            </a:r>
            <a:r>
              <a:rPr b="1" lang="ru-RU" sz="1800" spc="-1" strike="noStrike">
                <a:solidFill>
                  <a:srgbClr val="000099"/>
                </a:solidFill>
                <a:latin typeface="Comic Sans MS"/>
              </a:rPr>
              <a:t>, великолепный знаток быта старого Нижнего Новгорода, краевед, журналист, работавший в былые годы вместе с А. М. Горьким в газете «Нижегородский листок». Он и стал первым директором музе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0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mp_61_4"/>
          <p:cNvPicPr/>
          <p:nvPr/>
        </p:nvPicPr>
        <p:blipFill>
          <a:blip r:embed="rId1"/>
          <a:stretch/>
        </p:blipFill>
        <p:spPr>
          <a:xfrm>
            <a:off x="228600" y="1828800"/>
            <a:ext cx="3124080" cy="23432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8"/>
          <p:cNvSpPr/>
          <p:nvPr/>
        </p:nvSpPr>
        <p:spPr>
          <a:xfrm>
            <a:off x="3505320" y="914400"/>
            <a:ext cx="5257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663300"/>
                </a:solidFill>
                <a:latin typeface="Comic Sans MS"/>
              </a:rPr>
              <a:t>Около домика расположена скульптура, изображающая А. М. Горького в детском возрасте. Она была создана в 1955-1957 гг. нижегородским скульптором А. В. Кикиным. В композиции из белого мрамора - мечтательный мальчик Алёша Пешков с книгой в руках, через которую он познаёт мир доброты и справедливости. Его взгляд устремлен вперед, в будущее.</a:t>
            </a:r>
            <a:r>
              <a:rPr b="1" lang="ru-RU" sz="1800" spc="-1" strike="noStrike">
                <a:solidFill>
                  <a:srgbClr val="6633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0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Monotype Corsiva"/>
              </a:rPr>
              <a:t>Государственный музей </a:t>
            </a:r>
            <a:br>
              <a:rPr sz="4800"/>
            </a:br>
            <a:r>
              <a:rPr b="1" lang="ru-RU" sz="4800" spc="-1" strike="noStrike">
                <a:solidFill>
                  <a:srgbClr val="ff0066"/>
                </a:solidFill>
                <a:latin typeface="Monotype Corsiva"/>
              </a:rPr>
              <a:t>А. М. Горьког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1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Литературный муз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Музей детства А. М. Горького «Домик Каширина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Музей-квартира А. М. Горьк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Литературный музей А.М.Горького"/>
          <p:cNvPicPr/>
          <p:nvPr/>
        </p:nvPicPr>
        <p:blipFill>
          <a:blip r:embed="rId1"/>
          <a:stretch/>
        </p:blipFill>
        <p:spPr>
          <a:xfrm>
            <a:off x="3886200" y="1676520"/>
            <a:ext cx="3352680" cy="2162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рап"/>
          <p:cNvPicPr/>
          <p:nvPr/>
        </p:nvPicPr>
        <p:blipFill>
          <a:blip r:embed="rId2"/>
          <a:stretch/>
        </p:blipFill>
        <p:spPr>
          <a:xfrm>
            <a:off x="5410080" y="3886200"/>
            <a:ext cx="3505320" cy="26161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4960"/>
                            </p:stCondLst>
                            <p:childTnLst>
                              <p:par>
                                <p:cTn id="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960"/>
                            </p:stCondLst>
                            <p:childTnLst>
                              <p:par>
                                <p:cTn id="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7600"/>
                            </p:stCondLst>
                            <p:childTnLst>
                              <p:par>
                                <p:cTn id="6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8600"/>
                            </p:stCondLst>
                            <p:childTnLst>
                              <p:par>
                                <p:cTn id="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304920" y="4648320"/>
            <a:ext cx="8534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800000"/>
                </a:solidFill>
                <a:latin typeface="Comic Sans MS"/>
              </a:rPr>
              <a:t>«Здесь смеялись мало, и не всегда было ясно, над чем смеются. Часто кричали друг на друга, грозили чем-то один другому, тайно шептались в углах. Дети были тихи, незаметны; они были прибиты к земле, как пыль дождём. Я чувствовал себя чужим в доме, и вся эта жизнь возбуждала меня десятками уколов, настраивая подозрительно, заставляя присматриваться ко всему с напряжённым вниманием». (Максим Горький,  «Детство»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Музей детства А.М.Горького &quot;Домик Каширина&quot;"/>
          <p:cNvPicPr/>
          <p:nvPr/>
        </p:nvPicPr>
        <p:blipFill>
          <a:blip r:embed="rId1"/>
          <a:stretch/>
        </p:blipFill>
        <p:spPr>
          <a:xfrm>
            <a:off x="1143000" y="228600"/>
            <a:ext cx="6629400" cy="43736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P1140252"/>
          <p:cNvPicPr/>
          <p:nvPr/>
        </p:nvPicPr>
        <p:blipFill>
          <a:blip r:embed="rId1"/>
          <a:srcRect l="0" t="6098" r="18000" b="0"/>
          <a:stretch/>
        </p:blipFill>
        <p:spPr>
          <a:xfrm>
            <a:off x="457200" y="228600"/>
            <a:ext cx="8305920" cy="64990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457200" y="4419720"/>
            <a:ext cx="8305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Comic Sans MS"/>
              </a:rPr>
              <a:t>«Дошли до конца съезда. На самом верху его, прислоняясь к правому откосу и начиная собою улицу, стоял приземистый одноэтажный дом, окрашенный грязно-розовой краской, с нахлобученной низкой крышей и выпученными окнами. С улицы он показался мне большим, но внутри его, в маленьких полутемных комнатах, было тесно; везде, как на пароходе перед пристанью, суетились сердитые люди, стаей вороватых воробьев метались ребятишки, и всюду стоял едкий, незнакомый запах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6172200" y="228600"/>
            <a:ext cx="2971800" cy="642600"/>
          </a:xfrm>
          <a:prstGeom prst="rect">
            <a:avLst/>
          </a:prstGeom>
          <a:solidFill>
            <a:srgbClr val="5ed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Comic Sans MS"/>
              </a:rPr>
              <a:t>Вид дома со стороны ул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Изображение 005"/>
          <p:cNvPicPr/>
          <p:nvPr/>
        </p:nvPicPr>
        <p:blipFill>
          <a:blip r:embed="rId1"/>
          <a:srcRect l="6175" t="2087" r="5512" b="4163"/>
          <a:stretch/>
        </p:blipFill>
        <p:spPr>
          <a:xfrm>
            <a:off x="152280" y="158760"/>
            <a:ext cx="8763120" cy="65199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6172200" y="152280"/>
            <a:ext cx="2971800" cy="642600"/>
          </a:xfrm>
          <a:prstGeom prst="rect">
            <a:avLst/>
          </a:prstGeom>
          <a:solidFill>
            <a:srgbClr val="5ed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Comic Sans MS"/>
              </a:rPr>
              <a:t>Вид дома со стороны дв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228600" y="609588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mic Sans MS"/>
              </a:rPr>
              <a:t>Видны окна полуподвала, где вначале поселился Алеша с матер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5"/>
          <p:cNvSpPr/>
          <p:nvPr/>
        </p:nvSpPr>
        <p:spPr>
          <a:xfrm>
            <a:off x="457200" y="5181480"/>
            <a:ext cx="8458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99"/>
                </a:solidFill>
                <a:latin typeface="Comic Sans MS"/>
              </a:rPr>
              <a:t>Вдоль забора расставлены старые котлы, к забору прислонён дубовый надмогильный крест, напоминающий о печальных событиях в семье Кашириных - таким крестом был задавлен насмерть приемный сын Кашириных работящий, добрый, веселый Ваня Цыган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thumbnailfgf"/>
          <p:cNvPicPr/>
          <p:nvPr/>
        </p:nvPicPr>
        <p:blipFill>
          <a:blip r:embed="rId1"/>
          <a:stretch/>
        </p:blipFill>
        <p:spPr>
          <a:xfrm>
            <a:off x="304920" y="228600"/>
            <a:ext cx="8610480" cy="48880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7" descr="Красильня"/>
          <p:cNvPicPr/>
          <p:nvPr/>
        </p:nvPicPr>
        <p:blipFill>
          <a:blip r:embed="rId1"/>
          <a:stretch/>
        </p:blipFill>
        <p:spPr>
          <a:xfrm>
            <a:off x="152280" y="762120"/>
            <a:ext cx="6248520" cy="50893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6400800" y="152280"/>
            <a:ext cx="2743200" cy="65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ru-RU" sz="1600" spc="-1" strike="noStrike">
                <a:solidFill>
                  <a:srgbClr val="000099"/>
                </a:solidFill>
                <a:latin typeface="Comic Sans MS"/>
              </a:rPr>
              <a:t>При первом знакомстве двор показался Алеше неприятным, встретил его «едкими, незнакомыми запахами», был весь завешан огромными мокрыми тряпками; заставлен чанами с густой разноцветной водою. В углу, в низенькой пристройке жарко горели дрова в печи, что-то кипело, булькало. И кто-то невидимый в клубах пара громко говорил странные слова: сандал — фуксин — купорос. Это был работник Каширина мастер Григорий. Однако вскоре красильня властно привлекла внимание Алеши.</a:t>
            </a:r>
            <a:r>
              <a:rPr b="1" lang="ru-RU" sz="19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0" y="6095880"/>
            <a:ext cx="1676520" cy="368280"/>
          </a:xfrm>
          <a:prstGeom prst="rect">
            <a:avLst/>
          </a:prstGeom>
          <a:solidFill>
            <a:srgbClr val="5ed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Comic Sans MS"/>
              </a:rPr>
              <a:t>Красиль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Пдклеть в которой после возвращения поселились с матерью"/>
          <p:cNvPicPr/>
          <p:nvPr/>
        </p:nvPicPr>
        <p:blipFill>
          <a:blip r:embed="rId1"/>
          <a:stretch/>
        </p:blipFill>
        <p:spPr>
          <a:xfrm>
            <a:off x="304920" y="228600"/>
            <a:ext cx="4846680" cy="64008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5257800" y="1066680"/>
            <a:ext cx="3657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99"/>
                </a:solidFill>
                <a:latin typeface="Comic Sans MS"/>
              </a:rPr>
              <a:t>В нижней части дома, в подклети – «черной» рабочей избе - по возвращении с сыном Алешей из Астрахани  поселилась Варвара Васильевна Каширина-Пешкова вдали от постоянных ссор и косых взглядов брат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0" y="6324480"/>
            <a:ext cx="1676520" cy="368280"/>
          </a:xfrm>
          <a:prstGeom prst="rect">
            <a:avLst/>
          </a:prstGeom>
          <a:solidFill>
            <a:srgbClr val="5ed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Comic Sans MS"/>
              </a:rPr>
              <a:t>Подкле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imgB2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56894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7"/>
          <p:cNvSpPr/>
          <p:nvPr/>
        </p:nvSpPr>
        <p:spPr>
          <a:xfrm>
            <a:off x="7467480" y="228600"/>
            <a:ext cx="1676520" cy="368280"/>
          </a:xfrm>
          <a:prstGeom prst="rect">
            <a:avLst/>
          </a:prstGeom>
          <a:solidFill>
            <a:srgbClr val="5ed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Comic Sans MS"/>
              </a:rPr>
              <a:t>Кух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380880" y="594216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99"/>
                </a:solidFill>
                <a:latin typeface="Comic Sans MS"/>
              </a:rPr>
              <a:t>Полутемная комната, с низким прокопченным потолком, огромной выбеленной русской печью, где на полатях спали дети. У печи стоит «влаз» и деревянная лохань с висящим над ней рукомойник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адежда</dc:creator>
  <dc:description/>
  <dc:language>en-US</dc:language>
  <cp:lastModifiedBy>Надежда</cp:lastModifiedBy>
  <dcterms:modified xsi:type="dcterms:W3CDTF">2017-11-22T07:11:32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