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DCF1-A1F5-401B-BE65-333328A21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A3BF-E89F-42CF-B5FC-BFC8590DB83A}" type="slidenum"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1A2-9CBF-46C1-910C-4CED6F39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966-C0DB-4D8B-A7C9-C201845E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A350D-3CCB-4416-AE1A-04C3AA15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7028-6135-4372-BC25-138A029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01EC4-82FC-4414-98FE-7F8C74DF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FBB3D-BBE2-4E92-8004-CC148D44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9AA4-0A05-4924-91E7-67196BC2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73A2B-1461-4FAD-93F5-69FDEC5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1906E-9D21-4887-BE2B-9C5B1092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81AF-5B38-4873-9D90-600DC4B9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5D2B-21E8-4A26-857B-19D279FE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A333F-D717-471D-9C90-5C67969F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C52-C951-4FD8-9AAA-C6193BD5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02995-BF82-4C86-8CA8-69E711C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07147-F635-4CFC-A468-3E4BF8E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05C81-0644-49BC-9C97-F68D900D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1A5A4-51D6-4ED5-98AD-653C8D4C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030F1-08FD-433B-B9F5-DA6E8ABD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270BC-1543-44AE-A13F-EE46F41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85DFE-361E-42CE-B7A8-F4EB421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133C2-4829-4E3C-9FAC-BFD8BEE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B969C-C940-4DBC-9B02-6C8CB6F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510D6-9B84-4156-8704-0EE8931C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C6B-B40B-4454-BCCA-F343B5D0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AF1A4-2F0B-4387-B03A-4999D9E2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5B8BC-92E8-477E-8B8F-673145FA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214CA-E581-4597-BB6A-3D73F07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CBFC0-D90E-4069-A05B-DBA661B1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D793A-23AD-4BFF-9E1E-1939A18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1A8A7-A330-47CE-9F19-C8F4444F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8459A-122A-46A6-AD34-EDD2239D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1F5D-DC0E-49B3-9566-1D8320E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83596-E9F1-41BB-B5CB-20C304F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52204-588A-47A2-9213-5896842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9A0E6-AF77-45C8-A11C-03C287D6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9E39C-0BEF-46FE-A7B3-3B486F80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E028E-99F8-4E40-A75E-B5370268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A6F-E3B7-4A8E-9AF2-52C76F3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316-B15E-4C07-A739-8656259E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A24B-984D-4E70-9B61-45CE07D5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0668-6059-40FA-B690-0F6FC98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DD37-2F7C-4536-9DC1-7DF10E8D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08D1-9C28-42FE-BB85-E36B580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E88-15E4-40F1-8348-969D3BA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26F3-4510-4B03-BA22-5AB7BC9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9B57-2D23-4002-983B-50E1D8E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373-0608-4EA9-915E-F29B0C68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1997-635E-459F-B9CC-D049989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FDB-7B9E-4FA9-B2FE-E83ECD6D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EBE5-5592-4D07-905C-53F3E98D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C26B-6448-4638-8401-5F709DC6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23DA-07E4-4901-AD58-C6211AB6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A488-F395-4301-B07E-5FCC500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058F-C72A-4FCB-9BC1-6A4F636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638-C073-4A8C-AC22-D28E212D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E4FA-12E8-4E19-B0CE-AA1494C8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A090-3040-43D7-87C9-2197A93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A428-42C2-449E-825D-84D57725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2B9C-2A3E-41E9-9BBF-AB3C8F4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BEBE-3BA5-4B35-B579-5429EE4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BA38-B4A7-41A5-A046-6A30C5C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D6D5-28B3-4964-BCB5-DC9EF947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41AB-3B24-4D0A-B49F-82673DE1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BFCF-B227-4088-835D-7A2EE529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71C1-310C-49F3-8189-69771C95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3A9-2234-4606-A90B-27AB8F30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A814-4623-4787-B980-83EDC1FF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78F0-BBB5-4CBA-9E4F-182B679E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23C6-E28E-463C-A54A-982D3E0F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0ECE-2C85-4752-B5DC-D0323C6C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9752-1B01-461F-B443-B7C9B522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ED64-BB57-4723-82C9-CE9ED75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9A4E-C358-4572-B977-2749AA8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E6CCD-573C-4F02-B624-2788818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2E39-9227-4E90-A6E2-B51328BE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A149-5F1A-40FC-8286-0D8AD51D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78C-35DC-43A6-BF66-0356E0A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88D6-8227-4FE4-95BA-E2DE8812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0D6C-3350-4FB8-A4B6-D77B307A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370E-613B-447D-993E-1EA3367B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AB54-0E00-4295-A9A8-7821D6B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368D9-D92C-42E3-9EA2-5B44EE5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55E1-2675-4D22-98B5-5987D2C2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612C-405E-492C-BC58-72EA210A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4EED-87C2-4F27-89AD-27FBAAA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EC55-7AED-4131-ABA1-D521A26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C080-3349-4DF0-9721-F607269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880-E3AC-45AB-BFB1-F3012A3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517E9-3CBD-44A9-B749-2ADCCFAE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8B40-CF31-4398-8ED6-C816A946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D18A-AFFB-4CEE-AAC1-952D14FD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71F3-5591-4727-8ED5-0FE8C709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EFB3-3F81-4EF5-8B3A-E313B75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35AC-0529-4B5C-A8E4-F2C1719C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788F1-9033-4938-B7AE-15091C6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AA578-71C2-48A4-AEB3-CC2DFB69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D521-7905-4FE3-A521-730A4EBC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4CE2-9E1C-463C-9185-05FDF30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2EA-08D1-4383-B12D-76A9231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F835-5144-4034-A081-1F5628B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34B1-D753-4925-82DE-F99806A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8749-9AB5-4435-8DC4-07AF0489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947D-7991-441E-8F94-B4F1B48D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1DB32-8240-4431-9356-D4FB124D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1F655-1C08-495D-BC2D-02C2DD3D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3508-15DF-4335-92F9-B119127A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0D454-17E9-446F-9406-491CD128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51DA6-F542-40CA-9A30-F018D448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9E1B-0815-4C20-9339-51972D85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23C-C9E0-41BF-8C22-117A3C3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6921F-6554-4FAA-816D-4177A63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F184-28FE-45F0-B575-CDF891E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0E95-4213-48A2-BB70-D69CF6AA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8F13-7F99-4A08-86E7-CEB8332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BC26-D29B-43EA-9071-B12245C7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A3B5-3A83-4FD4-A79B-427B3C59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2DF1F-0AAA-487D-8405-4B59FD7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C0A2-BFD5-4256-A560-976287F3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4A28B-CB62-46F9-902C-4EBA48DB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8B0D9-EBCE-4047-8010-15AE2C7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E0C-DAA6-4696-954B-9E215BEA8BF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5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D55-0335-44EC-9C38-69A85874101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FA2B-E7A4-4652-889E-70CC5BC1E74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78B4-2980-48CE-9B77-9D6DED63B0D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A044-467B-4EDD-8019-9B7D5A6B4A2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B88-5694-46E7-9EA3-1EF473FFEF8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513-5399-4A49-952A-F8AB76A0F4B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3F7-F388-4737-82DA-DE3E716CCAA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8C24-ECE8-4B39-B467-FD070061FE2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0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29E1-A1FE-43F6-B2D8-5C0889F8BBC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1857240" y="1500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Картинка улыбки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2" name="Picture 26" descr="http://t0.gstatic.com/images?q=tbn:ANd9GcT-Sc4yLL8sgxUnMdITTcHqScpo3cR7uqZilUCgn8LBn4WDqols"/>
          <p:cNvPicPr/>
          <p:nvPr/>
        </p:nvPicPr>
        <p:blipFill>
          <a:blip r:embed="rId1"/>
          <a:stretch/>
        </p:blipFill>
        <p:spPr>
          <a:xfrm>
            <a:off x="928800" y="0"/>
            <a:ext cx="6357960" cy="6429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572240" y="1571760"/>
            <a:ext cx="100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А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С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Т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Р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О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И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285840" y="428760"/>
            <a:ext cx="828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2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друг-одноклассник попросил у тебя тетрадь на выходные и испачкал её. Учитель в понедельник решил проверить  тетрадь. Предположите возможное развитие событий. Как себя поведёшь  ты? Твой друг? Учитель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8" name="Picture 4" descr="http://t0.gstatic.com/images?q=tbn:ANd9GcTMqrMWOctKi6FVBaVnuo9Jv2Iquwmp1pE5zNr10yj_5iv36ZDzVg"/>
          <p:cNvPicPr/>
          <p:nvPr/>
        </p:nvPicPr>
        <p:blipFill>
          <a:blip r:embed="rId1"/>
          <a:stretch/>
        </p:blipFill>
        <p:spPr>
          <a:xfrm>
            <a:off x="6072120" y="490536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428760" y="285840"/>
            <a:ext cx="82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3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и родители запрещают тебе дружить  с мальчиком (девочкой),  потому что их семья не очень обеспеченная. Что скажешь ты в защиту своего друга или согласишься с мнением родителей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0" name="Picture 4" descr="http://t2.gstatic.com/images?q=tbn:ANd9GcRIpFsreZwkSP8L8UJDMavv1xs3O_AJhhNuVpe_iljPMGqaZOap"/>
          <p:cNvPicPr/>
          <p:nvPr/>
        </p:nvPicPr>
        <p:blipFill>
          <a:blip r:embed="rId1"/>
          <a:stretch/>
        </p:blipFill>
        <p:spPr>
          <a:xfrm>
            <a:off x="507204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"/>
          <p:cNvSpPr/>
          <p:nvPr/>
        </p:nvSpPr>
        <p:spPr>
          <a:xfrm>
            <a:off x="428760" y="857160"/>
            <a:ext cx="807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 4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одноклассник взял у тебя поиграть игру (почитать книгу) и не отдаёт уже месяц. Стоит ли напомнить  ему о долге или лучше промолчать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2" name="Picture 4" descr="http://t2.gstatic.com/images?q=tbn:ANd9GcSRjPQXTxSuOz11SsILEH7FHvU7YrnD3p41FVGlEBabFO5oz5QuzA"/>
          <p:cNvPicPr/>
          <p:nvPr/>
        </p:nvPicPr>
        <p:blipFill>
          <a:blip r:embed="rId1"/>
          <a:stretch/>
        </p:blipFill>
        <p:spPr>
          <a:xfrm>
            <a:off x="5143680" y="4143240"/>
            <a:ext cx="2238120" cy="204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4"/>
          <p:cNvSpPr/>
          <p:nvPr/>
        </p:nvSpPr>
        <p:spPr>
          <a:xfrm>
            <a:off x="1071720" y="2643120"/>
            <a:ext cx="7143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Прямоугольник 4"/>
          <p:cNvSpPr/>
          <p:nvPr/>
        </p:nvSpPr>
        <p:spPr>
          <a:xfrm>
            <a:off x="900000" y="249228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Игра «Какой ты?»</a:t>
            </a:r>
            <a:endParaRPr b="0" i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4762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Младший братишка сломал твою игрушку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 Ты его прощаешь, он сделал это ненарочн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ударишь ег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7" name="Picture 2" descr="http://t1.gstatic.com/images?q=tbn:ANd9GcQIf_-y_9KyMo-9c9UBkA11K9AOPl_gaZedXFJheRS8ZZwc5J2MWA"/>
          <p:cNvPicPr/>
          <p:nvPr/>
        </p:nvPicPr>
        <p:blipFill>
          <a:blip r:embed="rId1"/>
          <a:stretch/>
        </p:blipFill>
        <p:spPr>
          <a:xfrm>
            <a:off x="5786280" y="4286160"/>
            <a:ext cx="2457720" cy="1866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Ты поссорился со своей сестрой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00200" y="2643120"/>
            <a:ext cx="84438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попытаешься объясниться с ней…</a:t>
            </a: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обижаешься и мстишь ей за это…</a:t>
            </a: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0" name="Picture 2" descr="http://t2.gstatic.com/images?q=tbn:ANd9GcRvK1o5_NWgAREQLgFsn2fB23cdAHiPAO4f62kw-8ZlL0nJR8_7"/>
          <p:cNvPicPr/>
          <p:nvPr/>
        </p:nvPicPr>
        <p:blipFill>
          <a:blip r:embed="rId1"/>
          <a:stretch/>
        </p:blipFill>
        <p:spPr>
          <a:xfrm>
            <a:off x="4786200" y="4786200"/>
            <a:ext cx="258156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42840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Как вы поступите в такой ситуации: Ты не согласен с кем-нибудь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все-таки слушаешь ег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не даешь ему говорит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2" name="Picture 2" descr="http://t1.gstatic.com/images?q=tbn:ANd9GcTRJBpdY-bo-esC5FcXHWhm52_5pPmXmrPB0-TJzN2hs_bNbDGg"/>
          <p:cNvPicPr/>
          <p:nvPr/>
        </p:nvPicPr>
        <p:blipFill>
          <a:blip r:embed="rId1"/>
          <a:stretch/>
        </p:blipFill>
        <p:spPr>
          <a:xfrm>
            <a:off x="4572000" y="4429080"/>
            <a:ext cx="35002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10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57120" y="7855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в школ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 классе учитель уже спросил тебя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ебе хочется ответить еще, ты будешь подскакивать на месте, говоря: «Спросите меня…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предоставишь другим возможность ответить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Constanti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AutoShape 2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5" name="Picture 12" descr="http://t1.gstatic.com/images?q=tbn:ANd9GcQwyVLreMMGN9R5VSa6Q0a04zP7lV8BtNm7Gg1ebbxsv4YgBOZe8g"/>
          <p:cNvPicPr/>
          <p:nvPr/>
        </p:nvPicPr>
        <p:blipFill>
          <a:blip r:embed="rId1"/>
          <a:stretch/>
        </p:blipFill>
        <p:spPr>
          <a:xfrm>
            <a:off x="4714920" y="4786200"/>
            <a:ext cx="2143080" cy="1652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7858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Тебе не хочется идти на прогулку со своими родными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устраиваешь истерику, чтобы не идти гулят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идешь с ними гулять, чтобы они были довольны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7" name="Picture 2" descr="http://t0.gstatic.com/images?q=tbn:ANd9GcRbEPkaNsSaqaDPTrJH_8RMQ083286yALV8c-2A9uwWte3ZXsj3"/>
          <p:cNvPicPr/>
          <p:nvPr/>
        </p:nvPicPr>
        <p:blipFill>
          <a:blip r:embed="rId1"/>
          <a:stretch/>
        </p:blipFill>
        <p:spPr>
          <a:xfrm>
            <a:off x="3714840" y="5429160"/>
            <a:ext cx="3981240" cy="114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10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-360" y="28548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Толерантность –                   это способность человека терпимо относиться к тем, кто думает и поступает не так, как т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24" descr="http://t0.gstatic.com/images?q=tbn:ANd9GcQ6dA9EcvFLTVHYUrpe4m7jNjckzZXcOLkhEWz2UcLO_BdW4gsbVA"/>
          <p:cNvPicPr/>
          <p:nvPr/>
        </p:nvPicPr>
        <p:blipFill>
          <a:blip r:embed="rId1"/>
          <a:stretch/>
        </p:blipFill>
        <p:spPr>
          <a:xfrm>
            <a:off x="5072040" y="928800"/>
            <a:ext cx="3714840" cy="47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387026"/>
                </a:solidFill>
                <a:latin typeface="Arial Black"/>
                <a:ea typeface="Times New Roman"/>
              </a:rPr>
              <a:t>Л</a:t>
            </a:r>
            <a:r>
              <a:rPr b="1" lang="ru-RU" sz="54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c9b74"/>
                </a:solidFill>
                <a:latin typeface="Arial Black"/>
                <a:ea typeface="Times New Roman"/>
              </a:rPr>
              <a:t>Р</a:t>
            </a:r>
            <a:r>
              <a:rPr b="1" lang="ru-RU" sz="5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ff0066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cc0099"/>
                </a:solidFill>
                <a:latin typeface="Arial Black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Ь</a:t>
            </a:r>
            <a:endParaRPr b="0" i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Rectangle 4" descr=""/>
          <p:cNvPicPr/>
          <p:nvPr/>
        </p:nvPicPr>
        <p:blipFill>
          <a:blip r:embed="rId1"/>
          <a:stretch/>
        </p:blipFill>
        <p:spPr>
          <a:xfrm>
            <a:off x="4492800" y="268200"/>
            <a:ext cx="4200480" cy="5900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toler2"/>
          <p:cNvPicPr/>
          <p:nvPr/>
        </p:nvPicPr>
        <p:blipFill>
          <a:blip r:embed="rId2"/>
          <a:stretch/>
        </p:blipFill>
        <p:spPr>
          <a:xfrm>
            <a:off x="468360" y="0"/>
            <a:ext cx="82468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5720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 Black"/>
              </a:rPr>
              <a:t>Толерантность – это уважение к  другому!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22" descr="http://t2.gstatic.com/images?q=tbn:ANd9GcTSYM507VTk8r6xNLEM1oWS0oNSTSqtd9Jwyju23ofpj5q8U5SaoQ"/>
          <p:cNvPicPr/>
          <p:nvPr/>
        </p:nvPicPr>
        <p:blipFill>
          <a:blip r:embed="rId1"/>
          <a:stretch/>
        </p:blipFill>
        <p:spPr>
          <a:xfrm>
            <a:off x="1857240" y="2428920"/>
            <a:ext cx="4929480" cy="4000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4" descr=""/>
          <p:cNvPicPr/>
          <p:nvPr/>
        </p:nvPicPr>
        <p:blipFill>
          <a:blip r:embed="rId1"/>
          <a:stretch/>
        </p:blipFill>
        <p:spPr>
          <a:xfrm>
            <a:off x="3986280" y="353880"/>
            <a:ext cx="4707000" cy="6150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toler3"/>
          <p:cNvPicPr/>
          <p:nvPr/>
        </p:nvPicPr>
        <p:blipFill>
          <a:blip r:embed="rId2"/>
          <a:stretch/>
        </p:blipFill>
        <p:spPr>
          <a:xfrm>
            <a:off x="1143000" y="214200"/>
            <a:ext cx="6858000" cy="642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clip_image001"/>
          <p:cNvPicPr/>
          <p:nvPr/>
        </p:nvPicPr>
        <p:blipFill>
          <a:blip r:embed="rId1"/>
          <a:stretch/>
        </p:blipFill>
        <p:spPr>
          <a:xfrm>
            <a:off x="1863720" y="333360"/>
            <a:ext cx="5280120" cy="5904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 ЦЕНИТЕ ИХ 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355640" y="285480"/>
            <a:ext cx="4537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ы все разны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и в этом ваша самая большая ценность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ы все разны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кто то любит читать, кто-то заниматься спортом, кто-то играет с собачкой, а кто-то разводит цветы, но нам хорошо вмест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Ты нам нужен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9" name="Picture 5" descr="toler4"/>
          <p:cNvPicPr/>
          <p:nvPr/>
        </p:nvPicPr>
        <p:blipFill>
          <a:blip r:embed="rId1"/>
          <a:stretch/>
        </p:blipFill>
        <p:spPr>
          <a:xfrm>
            <a:off x="395280" y="549360"/>
            <a:ext cx="4122720" cy="585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WordArt 5"/>
          <p:cNvSpPr txBox="1"/>
          <p:nvPr/>
        </p:nvSpPr>
        <p:spPr>
          <a:xfrm>
            <a:off x="2050920" y="333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1785960" y="2571840"/>
            <a:ext cx="6000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Ребята, вы поняли, что такое толерантность?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WordArt 5"/>
          <p:cNvSpPr txBox="1"/>
          <p:nvPr/>
        </p:nvSpPr>
        <p:spPr>
          <a:xfrm>
            <a:off x="2050920" y="549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0" name="Прямоугольник 5"/>
          <p:cNvSpPr/>
          <p:nvPr/>
        </p:nvSpPr>
        <p:spPr>
          <a:xfrm>
            <a:off x="1785960" y="11970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Уваже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Доброт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Сопережив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Дружб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Поним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Поддержк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Терпимость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5"/>
          <p:cNvSpPr txBox="1"/>
          <p:nvPr/>
        </p:nvSpPr>
        <p:spPr>
          <a:xfrm>
            <a:off x="2195640" y="907920"/>
            <a:ext cx="4752720" cy="401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1619280" y="1628640"/>
            <a:ext cx="6265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бята, я надеюсь,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то вы будете терпимее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носиться друг к другу.</a:t>
            </a:r>
            <a:r>
              <a:rPr b="0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WordArt 7"/>
          <p:cNvSpPr txBox="1"/>
          <p:nvPr/>
        </p:nvSpPr>
        <p:spPr>
          <a:xfrm>
            <a:off x="1403280" y="4643280"/>
            <a:ext cx="66247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толерантны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7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WordArt 5"/>
          <p:cNvSpPr txBox="1"/>
          <p:nvPr/>
        </p:nvSpPr>
        <p:spPr>
          <a:xfrm>
            <a:off x="428760" y="928800"/>
            <a:ext cx="8501040" cy="35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88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1643040" y="1285920"/>
            <a:ext cx="66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Arial Black"/>
              </a:rPr>
              <a:t>ТОЛЕРАНТНОСТЬ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 – УВАЖЕНИЕ, ПРИНЯТИЕ ЛЮДЕЙ, КАКИМИ БЫ ОТЛИЧНЫМИ ОТ НАС ОНИ НЕ БЫЛИ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Люди разные, это нужно понимать и принимать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Человек имеет право быть ДРУГИМ!!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Заголовок 1"/>
          <p:cNvSpPr/>
          <p:nvPr/>
        </p:nvSpPr>
        <p:spPr>
          <a:xfrm>
            <a:off x="468360" y="14842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Verdana"/>
              </a:rPr>
              <a:t>ТОЛЕРАНТНОСТЬ –</a:t>
            </a:r>
            <a:r>
              <a:rPr b="1" lang="ru-RU" sz="45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4500"/>
            </a:br>
            <a:r>
              <a:rPr b="1" i="1" lang="ru-RU" sz="4500" spc="-1" strike="noStrike">
                <a:solidFill>
                  <a:srgbClr val="0000cc"/>
                </a:solidFill>
                <a:latin typeface="Arial"/>
              </a:rPr>
              <a:t>это уважение, принятие и понимание многообразия мира.</a:t>
            </a:r>
            <a:endParaRPr b="0" i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5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2"/>
          <p:cNvSpPr/>
          <p:nvPr/>
        </p:nvSpPr>
        <p:spPr>
          <a:xfrm>
            <a:off x="900000" y="3068640"/>
            <a:ext cx="73440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eorgia"/>
              </a:rPr>
              <a:t>»</a:t>
            </a:r>
            <a:endParaRPr b="0" i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Прямоугольник 8"/>
          <p:cNvSpPr/>
          <p:nvPr/>
        </p:nvSpPr>
        <p:spPr>
          <a:xfrm>
            <a:off x="0" y="5000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Arial Black"/>
              </a:rPr>
              <a:t>       </a:t>
            </a:r>
            <a:r>
              <a:rPr b="0" i="1" lang="ru-RU" sz="4000" spc="-1" strike="noStrike">
                <a:solidFill>
                  <a:srgbClr val="0000cc"/>
                </a:solidFill>
                <a:latin typeface="Arial Black"/>
              </a:rPr>
              <a:t>История толерантности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8" name="Прямоугольник 9"/>
          <p:cNvSpPr/>
          <p:nvPr/>
        </p:nvSpPr>
        <p:spPr>
          <a:xfrm>
            <a:off x="571680" y="135720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На рубеже 18-19 веков во Франции жил некто </a:t>
            </a: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Талейран Перигор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, князь. Он отличался тем, что при разных правительствах оставался министром иностранных дел. Его особый талант был в том, что он умел учитывать настроения окружающих, уважать их, решать проблему, ища различные оптимальные(т.е. удобные для всех) выходы из сложившейся ситуации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пазлы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80" name="Picture 4" descr="C:\Documents and Settings\user.ASUS\Мои документы\Мои рисунки\Организатор клипов (Microsoft)\j0299203.wmf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5500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C:\Documents and Settings\user.ASUS\Мои документы\Мои рисунки\Организатор клипов (Microsoft)\j0299723.wmf"/>
          <p:cNvPicPr/>
          <p:nvPr/>
        </p:nvPicPr>
        <p:blipFill>
          <a:blip r:embed="rId1"/>
          <a:stretch/>
        </p:blipFill>
        <p:spPr>
          <a:xfrm>
            <a:off x="50004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5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2097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"/>
          <p:cNvSpPr/>
          <p:nvPr/>
        </p:nvSpPr>
        <p:spPr>
          <a:xfrm>
            <a:off x="1000080" y="6429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 Black"/>
              </a:rPr>
              <a:t>Динамическая минутка  «Приветствие»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4" name="Picture 20" descr="http://t3.gstatic.com/images?q=tbn:ANd9GcSXPc_WQcPQP1pGPk-m1e2Gow0InN9VXpUUZVPKvoSdXVkqAiJgWg"/>
          <p:cNvPicPr/>
          <p:nvPr/>
        </p:nvPicPr>
        <p:blipFill>
          <a:blip r:embed="rId2"/>
          <a:stretch/>
        </p:blipFill>
        <p:spPr>
          <a:xfrm>
            <a:off x="714240" y="1571760"/>
            <a:ext cx="7715520" cy="492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2"/>
          <p:cNvSpPr/>
          <p:nvPr/>
        </p:nvSpPr>
        <p:spPr>
          <a:xfrm>
            <a:off x="571680" y="357120"/>
            <a:ext cx="7429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 1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класс приходит новенький ученик. В первые два дня он успевает получить  три  «2». Кто-то говорит, что он «неумеха»,не будем с ним дружить!» Твои  действия.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6" name="Picture 6" descr="http://t3.gstatic.com/images?q=tbn:ANd9GcTs6NwLUo3iy9dq_gAhUWsJOqeTXSAUA6otpe8_j0IGMfyYhVisxQ"/>
          <p:cNvPicPr/>
          <p:nvPr/>
        </p:nvPicPr>
        <p:blipFill>
          <a:blip r:embed="rId1"/>
          <a:stretch/>
        </p:blipFill>
        <p:spPr>
          <a:xfrm>
            <a:off x="4786200" y="4714920"/>
            <a:ext cx="2867040" cy="1590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Admin</cp:lastModifiedBy>
  <dcterms:modified xsi:type="dcterms:W3CDTF">2012-04-12T13:17:56Z</dcterms:modified>
  <cp:revision>113</cp:revision>
  <dc:subject/>
  <dc:title>Беседа о толерантности  для учащихся 1-2 класса.</dc:title>
</cp:coreProperties>
</file>