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9CB4-F272-4D8D-BFD7-9C1EE5B509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E56B-577D-4EB7-9AAE-B2B94C48684C}" type="slidenum"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4D2-3B1C-4C04-B210-7C4A484F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A55-BDE6-496E-AFDE-2A67C9DA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E033E-1557-40D5-8BA6-47EF7B27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F6C50-0B3A-4753-85AD-0C20FD8C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BB6D1-6A95-434C-B447-4041B2D7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8117B-59AF-4038-BCCC-A3629FAF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318E2-FCCF-429F-8B15-A384EEC4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13EA5-4C3F-491B-A36B-1868C609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D5AA4-C7CE-4F0E-9E0A-AAA6EFCE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451BF-765F-418D-826B-D694D68A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83ED7-94E9-42D0-A951-8A205771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235E1-888F-4BEC-B069-E76229C7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E66-2A2D-4CCF-B190-04F24695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B217F-7F26-4249-856D-548EF357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DFE8A-7ADB-4060-9BE9-B71DAED2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8AFF5-AFF8-4B21-B82F-9EAEE84A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C1942-110E-420A-8EB9-0F465BA3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B9109-1CBE-4A89-90BB-6F854DA8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096EF-0AE9-486F-8320-10B12251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F375C-4482-430E-9DBA-4CB0B0E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23A7E-6143-4530-997B-01F32D57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E48B6-967D-40E5-957C-93D83486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8C02E-9AC3-48F1-BE1D-F2725E9F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428-F963-451A-9217-31D29D1E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20BB0-8ADB-4262-8630-23AB1945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278A7-C350-4BFB-AF91-F6023416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9D966-5AD3-4534-A73C-3E6DC0C0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37190-BB7D-4679-90EF-BEAE975A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BE2E6-F57B-40EA-91F2-80ABC6EE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238D7-C8AF-47E9-A2A9-4B5B8A48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79A63-F6BE-4D86-BB80-895428CC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3B425-5228-40FD-B5ED-46E0E1D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C9F93-0AD9-41E1-902E-B5DDBFC9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E3657-311B-49A6-A880-19FC4ABD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25256-F79A-4E76-9D32-21CFE353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BEFBF-F50A-4AF3-A7F3-2083B11B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6EEAE-A877-44E0-9CF2-C322FCAD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D48-C6FF-4EE8-8872-96992B51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9237-5314-4FE7-BEC8-47B93E50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A435-A2BA-4D7C-B483-9F109C90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2DD9-56EC-43C3-95AC-1880FACC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4791-A026-428A-B3A1-518D5137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8FE7-ACB4-435A-9531-6206D6F0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27A-86AB-4A8C-86DC-FE71F07A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4029-5E4C-48E0-BB96-9F200102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1566-18F2-4B94-8007-43386EBB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2FC6-9195-4054-B6B1-FA739AA4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6FD7-B566-4E6F-82AC-862CA729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4FFA-EBF3-4327-8A89-8FDCD0B6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2A36-8753-44B0-A296-B2F4E799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821C-7123-4D44-839C-11CCF78E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90FC-95BA-4CAB-B086-713B6FA2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62C41-E0C2-4036-BFA3-021B68E8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BDD8-8384-41EB-ADD1-5938B618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A0F-9FC9-44B3-B8DB-458ECA9A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4589B-AAD9-455B-A55B-5CBB7848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A4770-AF9D-4729-8F6D-546C0E8F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BF4E-F8EC-43F1-AEFD-092A8913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7BD6-72A4-49D0-8E9D-ACB684BF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0BF6-CFBD-47EA-B815-E60E85CD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C72A-9438-430A-BDDA-C47B4028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D5DF3-EE0A-44E7-A8E4-B6C5BC85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0043-AE19-48FB-A6A3-D0AAF4F0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0966-BF6B-4A47-83DB-EE8B0B16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C1A12-3042-4AE4-9165-D1186114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EC9-BDBA-438F-A6EC-B7F8BC5A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D6935-1640-4E08-9E8C-E19E27C9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63B18-D229-4EE3-AC35-B99CF1F6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BD419-87A0-4983-ACAF-7BEDC249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CC66B-5541-4C29-BB77-B49E56BA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7EF14-814A-4D2A-B3F7-CA4B458E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5EFFE-2755-4981-90C4-78534F34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18D2B-1215-45C1-BF07-C32FE8F4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F1E12-47C5-498F-8186-002D24C3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90538-3579-49CB-941A-95986C7A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0AD42-1E51-4785-83A8-03FEF3B7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9B2A-2826-4633-A484-74BF4C85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382FF-FDFC-43D0-8C32-906EB7D8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534C3-74FE-4E36-BDC4-0D249FF2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4F671-09D7-4E77-95BE-C5AA9783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7B79B-B1C4-4BAD-9632-6252699C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32EBD-4115-4E3E-BE5D-6FF401EE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9DDAF-E2EA-45B4-869C-D7F6FEE2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46828-9330-47D1-B3CC-910060DA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E04FB-FAFE-43C4-8A23-4DC420D0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5193-9C94-4C23-B2EF-43141BA1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79C2A-E7E3-47A9-B33D-9376A1BB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D92-34E6-4AC9-A279-E0C62FE3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0865E-44C9-4F8D-9031-37F00673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E8003-1748-4825-9797-CF71F8B4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0D4EC-C9AF-4448-A9F8-4A3DCEF3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849DB-C441-45C1-9032-07F795BE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49ACC-2759-45D1-A736-B5F10903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291A0-A18F-44CC-8784-0ED5A49A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DFF43-56BC-42A0-B476-BD005EC3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BD120-C3B9-40C9-BE4B-C442F57B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73B71-7A80-49B1-BF76-4EB8BBAA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A50A-2FD3-4FBE-A1D9-E5AB6B66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BC6-AC17-4BBC-81A3-869D328C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63350-8853-4925-9651-9BE0C2CF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932FF-BC91-4E0F-A0E3-7EBA121F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6B7DA-68D7-4658-BAD1-06FB3649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FF112-C56D-4761-990A-E25C3FCB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39958-4EDD-4471-973C-4E9224C1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9D157-56A1-493F-B18F-A24BB2EE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00ED7-A704-473F-980F-8D564528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C8AEE-4BD6-4519-95F4-9AFA1526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0B2FD-5A2D-4C03-9C94-274640B0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AC2CD-E216-4034-A0FE-CDEC7532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D65-2DF3-44AA-9570-C10CF60B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FA6B9-E422-4CBA-AB63-19971126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9DA1A-DFC8-4541-8CEE-85599405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B262A-0E0D-4778-B78A-B06BCF77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5915C-2658-40F9-B6A9-9045B987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6A134-2419-44DA-982C-3B07D465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7B3AD-95FE-4DDA-85C3-63BFAA77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1CA02-844B-414F-9646-E668973B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A8082-3F9A-4C4F-B5FA-BD8CB1F1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E439B-791D-4B15-9224-E33C82A4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31D4E-A908-4760-BD6D-1C2E941C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BEA3-0BB5-447A-AC8D-5EE4940FB73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5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5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58E9-D554-4ABF-AE98-A8AF9BD9AB5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0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70C8-BA43-4AE7-AE99-BF024F9CBB2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9DD2-8567-42F2-885B-5B80D5C2590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0C10-554C-411B-9365-63C6ACB1B41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1E71-4870-4A9B-B95E-ED0D7D2FC98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C295-5475-474A-9685-953475824B6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7AB8-D690-44A0-A08D-B73F6211C03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82C-6258-4426-A7E0-65E6A7E5045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40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8C3C-464C-463E-9749-DC58F902C33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3"/>
          <p:cNvSpPr/>
          <p:nvPr/>
        </p:nvSpPr>
        <p:spPr>
          <a:xfrm>
            <a:off x="1857240" y="15001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Картинка улыбки</a:t>
            </a: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10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2" name="Picture 26" descr="http://t0.gstatic.com/images?q=tbn:ANd9GcT-Sc4yLL8sgxUnMdITTcHqScpo3cR7uqZilUCgn8LBn4WDqols"/>
          <p:cNvPicPr/>
          <p:nvPr/>
        </p:nvPicPr>
        <p:blipFill>
          <a:blip r:embed="rId1"/>
          <a:stretch/>
        </p:blipFill>
        <p:spPr>
          <a:xfrm>
            <a:off x="928800" y="0"/>
            <a:ext cx="6357960" cy="64292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10"/>
          <p:cNvSpPr/>
          <p:nvPr/>
        </p:nvSpPr>
        <p:spPr>
          <a:xfrm>
            <a:off x="7572240" y="1571760"/>
            <a:ext cx="1000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Н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А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С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Т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Р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О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Н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И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285840" y="428760"/>
            <a:ext cx="8286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итуация 2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вой друг-одноклассник попросил у тебя тетрадь на выходные и испачкал её. Учитель в понедельник решил проверить  тетрадь. Предположите возможное развитие событий. Как себя поведёшь  ты? Твой друг? Учитель?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8" name="Picture 4" descr="http://t0.gstatic.com/images?q=tbn:ANd9GcTMqrMWOctKi6FVBaVnuo9Jv2Iquwmp1pE5zNr10yj_5iv36ZDzVg"/>
          <p:cNvPicPr/>
          <p:nvPr/>
        </p:nvPicPr>
        <p:blipFill>
          <a:blip r:embed="rId1"/>
          <a:stretch/>
        </p:blipFill>
        <p:spPr>
          <a:xfrm>
            <a:off x="6072120" y="4905360"/>
            <a:ext cx="2343240" cy="1952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428760" y="285840"/>
            <a:ext cx="8215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итуация 3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вои родители запрещают тебе дружить  с мальчиком (девочкой),  потому что их семья не очень обеспеченная. Что скажешь ты в защиту своего друга или согласишься с мнением родителей?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0" name="Picture 4" descr="http://t2.gstatic.com/images?q=tbn:ANd9GcRIpFsreZwkSP8L8UJDMavv1xs3O_AJhhNuVpe_iljPMGqaZOap"/>
          <p:cNvPicPr/>
          <p:nvPr/>
        </p:nvPicPr>
        <p:blipFill>
          <a:blip r:embed="rId1"/>
          <a:stretch/>
        </p:blipFill>
        <p:spPr>
          <a:xfrm>
            <a:off x="507204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1"/>
          <p:cNvSpPr/>
          <p:nvPr/>
        </p:nvSpPr>
        <p:spPr>
          <a:xfrm>
            <a:off x="428760" y="857160"/>
            <a:ext cx="8072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итуация  4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вой одноклассник взял у тебя поиграть игру (почитать книгу) и не отдаёт уже месяц. Стоит ли напомнить  ему о долге или лучше промолчать?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2" name="Picture 4" descr="http://t2.gstatic.com/images?q=tbn:ANd9GcSRjPQXTxSuOz11SsILEH7FHvU7YrnD3p41FVGlEBabFO5oz5QuzA"/>
          <p:cNvPicPr/>
          <p:nvPr/>
        </p:nvPicPr>
        <p:blipFill>
          <a:blip r:embed="rId1"/>
          <a:stretch/>
        </p:blipFill>
        <p:spPr>
          <a:xfrm>
            <a:off x="5143680" y="4143240"/>
            <a:ext cx="2238120" cy="2048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4"/>
          <p:cNvSpPr/>
          <p:nvPr/>
        </p:nvSpPr>
        <p:spPr>
          <a:xfrm>
            <a:off x="1071720" y="2643120"/>
            <a:ext cx="7143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Прямоугольник 4"/>
          <p:cNvSpPr/>
          <p:nvPr/>
        </p:nvSpPr>
        <p:spPr>
          <a:xfrm>
            <a:off x="900000" y="2492280"/>
            <a:ext cx="714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Игра «Какой ты?»</a:t>
            </a:r>
            <a:endParaRPr b="0" i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47628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Какой ты дом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а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Младший братишка сломал твою игрушку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 Ты его прощаешь, он сделал это ненарочно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ударишь его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7" name="Picture 2" descr="http://t1.gstatic.com/images?q=tbn:ANd9GcQIf_-y_9KyMo-9c9UBkA11K9AOPl_gaZedXFJheRS8ZZwc5J2MWA"/>
          <p:cNvPicPr/>
          <p:nvPr/>
        </p:nvPicPr>
        <p:blipFill>
          <a:blip r:embed="rId1"/>
          <a:stretch/>
        </p:blipFill>
        <p:spPr>
          <a:xfrm>
            <a:off x="5786280" y="4286160"/>
            <a:ext cx="2457720" cy="1866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10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10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10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10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Какой ты дом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а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Ты поссорился со своей сестрой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700200" y="2643120"/>
            <a:ext cx="844380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Ты попытаешься объясниться с ней…</a:t>
            </a:r>
            <a:endParaRPr b="0" i="1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обижаешься и мстишь ей за это…</a:t>
            </a:r>
            <a:endParaRPr b="0" i="1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0" name="Picture 2" descr="http://t2.gstatic.com/images?q=tbn:ANd9GcRvK1o5_NWgAREQLgFsn2fB23cdAHiPAO4f62kw-8ZlL0nJR8_7"/>
          <p:cNvPicPr/>
          <p:nvPr/>
        </p:nvPicPr>
        <p:blipFill>
          <a:blip r:embed="rId1"/>
          <a:stretch/>
        </p:blipFill>
        <p:spPr>
          <a:xfrm>
            <a:off x="4786200" y="4786200"/>
            <a:ext cx="2581560" cy="1371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10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10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457200" y="42840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Как вы поступите в такой ситуации: Ты не согласен с кем-нибудь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Ты все-таки слушаешь его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не даешь ему говорить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2" name="Picture 2" descr="http://t1.gstatic.com/images?q=tbn:ANd9GcTRJBpdY-bo-esC5FcXHWhm52_5pPmXmrPB0-TJzN2hs_bNbDGg"/>
          <p:cNvPicPr/>
          <p:nvPr/>
        </p:nvPicPr>
        <p:blipFill>
          <a:blip r:embed="rId1"/>
          <a:stretch/>
        </p:blipFill>
        <p:spPr>
          <a:xfrm>
            <a:off x="4572000" y="4429080"/>
            <a:ext cx="3500280" cy="2143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10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57120" y="7855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Какой ты в школе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В классе учитель уже спросил тебя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Тебе хочется ответить еще, ты будешь подскакивать на месте, говоря: «Спросите меня…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предоставишь другим возможность ответить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cc"/>
                </a:solidFill>
                <a:latin typeface="Constantia"/>
              </a:rPr>
              <a:t>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AutoShape 2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5" name="Picture 12" descr="http://t1.gstatic.com/images?q=tbn:ANd9GcQwyVLreMMGN9R5VSa6Q0a04zP7lV8BtNm7Gg1ebbxsv4YgBOZe8g"/>
          <p:cNvPicPr/>
          <p:nvPr/>
        </p:nvPicPr>
        <p:blipFill>
          <a:blip r:embed="rId1"/>
          <a:stretch/>
        </p:blipFill>
        <p:spPr>
          <a:xfrm>
            <a:off x="4714920" y="4786200"/>
            <a:ext cx="2143080" cy="1652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10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1000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57200" y="7858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Какой ты дом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а?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Тебе не хочется идти на прогулку со своими родными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Ты устраиваешь истерику, чтобы не идти гулять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идешь с ними гулять, чтобы они были довольны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7" name="Picture 2" descr="http://t0.gstatic.com/images?q=tbn:ANd9GcRbEPkaNsSaqaDPTrJH_8RMQ083286yALV8c-2A9uwWte3ZXsj3"/>
          <p:cNvPicPr/>
          <p:nvPr/>
        </p:nvPicPr>
        <p:blipFill>
          <a:blip r:embed="rId1"/>
          <a:stretch/>
        </p:blipFill>
        <p:spPr>
          <a:xfrm>
            <a:off x="3714840" y="5429160"/>
            <a:ext cx="3981240" cy="1143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1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1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1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1000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-360" y="285480"/>
            <a:ext cx="5000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 Black"/>
              </a:rPr>
              <a:t>Толерантность –                   это способность человека терпимо относиться к тем, кто думает и поступает не так, как ты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9" name="Picture 24" descr="http://t0.gstatic.com/images?q=tbn:ANd9GcQ6dA9EcvFLTVHYUrpe4m7jNjckzZXcOLkhEWz2UcLO_BdW4gsbVA"/>
          <p:cNvPicPr/>
          <p:nvPr/>
        </p:nvPicPr>
        <p:blipFill>
          <a:blip r:embed="rId1"/>
          <a:stretch/>
        </p:blipFill>
        <p:spPr>
          <a:xfrm>
            <a:off x="5072040" y="928800"/>
            <a:ext cx="3714840" cy="4705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1"/>
          <p:cNvSpPr/>
          <p:nvPr/>
        </p:nvSpPr>
        <p:spPr>
          <a:xfrm>
            <a:off x="1000080" y="20718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387026"/>
                </a:solidFill>
                <a:latin typeface="Arial Black"/>
                <a:ea typeface="Times New Roman"/>
              </a:rPr>
              <a:t>Л</a:t>
            </a:r>
            <a:r>
              <a:rPr b="1" lang="ru-RU" sz="5400" spc="-1" strike="noStrike">
                <a:solidFill>
                  <a:srgbClr val="990099"/>
                </a:solidFill>
                <a:latin typeface="Arial Black"/>
                <a:ea typeface="Times New Roman"/>
              </a:rPr>
              <a:t>Е</a:t>
            </a:r>
            <a:r>
              <a:rPr b="1" lang="ru-RU" sz="5400" spc="-1" strike="noStrike">
                <a:solidFill>
                  <a:srgbClr val="0c9b74"/>
                </a:solidFill>
                <a:latin typeface="Arial Black"/>
                <a:ea typeface="Times New Roman"/>
              </a:rPr>
              <a:t>Р</a:t>
            </a:r>
            <a:r>
              <a:rPr b="1" lang="ru-RU" sz="5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А</a:t>
            </a:r>
            <a:r>
              <a:rPr b="1" lang="ru-RU" sz="5400" spc="-1" strike="noStrike">
                <a:solidFill>
                  <a:srgbClr val="663300"/>
                </a:solidFill>
                <a:latin typeface="Arial Black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ff0066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cc0099"/>
                </a:solidFill>
                <a:latin typeface="Arial Black"/>
                <a:ea typeface="Times New Roman"/>
              </a:rPr>
              <a:t>С</a:t>
            </a:r>
            <a:r>
              <a:rPr b="1" lang="ru-RU" sz="5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a50021"/>
                </a:solidFill>
                <a:latin typeface="Arial Black"/>
                <a:ea typeface="Times New Roman"/>
              </a:rPr>
              <a:t>Ь</a:t>
            </a:r>
            <a:endParaRPr b="0" i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Rectangle 4" descr=""/>
          <p:cNvPicPr/>
          <p:nvPr/>
        </p:nvPicPr>
        <p:blipFill>
          <a:blip r:embed="rId1"/>
          <a:stretch/>
        </p:blipFill>
        <p:spPr>
          <a:xfrm>
            <a:off x="4492800" y="268200"/>
            <a:ext cx="4200480" cy="59007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toler2"/>
          <p:cNvPicPr/>
          <p:nvPr/>
        </p:nvPicPr>
        <p:blipFill>
          <a:blip r:embed="rId2"/>
          <a:stretch/>
        </p:blipFill>
        <p:spPr>
          <a:xfrm>
            <a:off x="468360" y="0"/>
            <a:ext cx="824688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57200" y="7855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Arial Black"/>
              </a:rPr>
              <a:t>Толерантность – это уважение к  другому!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3" name="Picture 22" descr="http://t2.gstatic.com/images?q=tbn:ANd9GcTSYM507VTk8r6xNLEM1oWS0oNSTSqtd9Jwyju23ofpj5q8U5SaoQ"/>
          <p:cNvPicPr/>
          <p:nvPr/>
        </p:nvPicPr>
        <p:blipFill>
          <a:blip r:embed="rId1"/>
          <a:stretch/>
        </p:blipFill>
        <p:spPr>
          <a:xfrm>
            <a:off x="1857240" y="2428920"/>
            <a:ext cx="4929480" cy="4000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Rectangle 4" descr=""/>
          <p:cNvPicPr/>
          <p:nvPr/>
        </p:nvPicPr>
        <p:blipFill>
          <a:blip r:embed="rId1"/>
          <a:stretch/>
        </p:blipFill>
        <p:spPr>
          <a:xfrm>
            <a:off x="3986280" y="353880"/>
            <a:ext cx="4707000" cy="61502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toler3"/>
          <p:cNvPicPr/>
          <p:nvPr/>
        </p:nvPicPr>
        <p:blipFill>
          <a:blip r:embed="rId2"/>
          <a:stretch/>
        </p:blipFill>
        <p:spPr>
          <a:xfrm>
            <a:off x="1143000" y="214200"/>
            <a:ext cx="6858000" cy="6429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clip_image001"/>
          <p:cNvPicPr/>
          <p:nvPr/>
        </p:nvPicPr>
        <p:blipFill>
          <a:blip r:embed="rId1"/>
          <a:stretch/>
        </p:blipFill>
        <p:spPr>
          <a:xfrm>
            <a:off x="1863720" y="333360"/>
            <a:ext cx="5280120" cy="59040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А ЦЕНИТЕ ИХ 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4355640" y="285480"/>
            <a:ext cx="4537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Вы все разны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cc"/>
                </a:solidFill>
                <a:latin typeface="Arial Black"/>
              </a:rPr>
              <a:t>и в этом ваша самая большая ценность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Вы все разны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кто то любит читать, кто-то заниматься спортом, кто-то играет с собачкой, а кто-то разводит цветы, но нам хорошо вместе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      </a:t>
            </a:r>
            <a:r>
              <a:rPr b="1" lang="ru-RU" sz="2800" spc="-1" strike="noStrike">
                <a:solidFill>
                  <a:srgbClr val="0000cc"/>
                </a:solidFill>
                <a:latin typeface="Arial Black"/>
              </a:rPr>
              <a:t>Ты нам нужен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9" name="Picture 5" descr="toler4"/>
          <p:cNvPicPr/>
          <p:nvPr/>
        </p:nvPicPr>
        <p:blipFill>
          <a:blip r:embed="rId1"/>
          <a:stretch/>
        </p:blipFill>
        <p:spPr>
          <a:xfrm>
            <a:off x="395280" y="549360"/>
            <a:ext cx="4122720" cy="5854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10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10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2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WordArt 5"/>
          <p:cNvSpPr txBox="1"/>
          <p:nvPr/>
        </p:nvSpPr>
        <p:spPr>
          <a:xfrm>
            <a:off x="2050920" y="333360"/>
            <a:ext cx="4753080" cy="401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1785960" y="2571840"/>
            <a:ext cx="6000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 Black"/>
              </a:rPr>
              <a:t>Ребята, вы поняли, что такое толерантность?</a:t>
            </a: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8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WordArt 5"/>
          <p:cNvSpPr txBox="1"/>
          <p:nvPr/>
        </p:nvSpPr>
        <p:spPr>
          <a:xfrm>
            <a:off x="2050920" y="549360"/>
            <a:ext cx="4753080" cy="401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0" name="Прямоугольник 5"/>
          <p:cNvSpPr/>
          <p:nvPr/>
        </p:nvSpPr>
        <p:spPr>
          <a:xfrm>
            <a:off x="1785960" y="1197000"/>
            <a:ext cx="6000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Уваже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Доброт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Сопережива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Дружб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Понима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Поддержк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Терпимость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3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WordArt 5"/>
          <p:cNvSpPr txBox="1"/>
          <p:nvPr/>
        </p:nvSpPr>
        <p:spPr>
          <a:xfrm>
            <a:off x="2195640" y="907920"/>
            <a:ext cx="4752720" cy="4011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1619280" y="1628640"/>
            <a:ext cx="62658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Ребята, я надеюсь,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что вы будете терпимее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тноситься друг к другу.</a:t>
            </a:r>
            <a:r>
              <a:rPr b="0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6" name="WordArt 7"/>
          <p:cNvSpPr txBox="1"/>
          <p:nvPr/>
        </p:nvSpPr>
        <p:spPr>
          <a:xfrm>
            <a:off x="1403280" y="4643280"/>
            <a:ext cx="66247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 толерантны!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7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WordArt 5"/>
          <p:cNvSpPr txBox="1"/>
          <p:nvPr/>
        </p:nvSpPr>
        <p:spPr>
          <a:xfrm>
            <a:off x="428760" y="928800"/>
            <a:ext cx="8501040" cy="357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88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1643040" y="1285920"/>
            <a:ext cx="664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Arial Black"/>
              </a:rPr>
              <a:t>ТОЛЕРАНТНОСТЬ</a:t>
            </a:r>
            <a:r>
              <a:rPr b="0" i="1" lang="ru-RU" sz="2400" spc="-1" strike="noStrike">
                <a:solidFill>
                  <a:srgbClr val="0000cc"/>
                </a:solidFill>
                <a:latin typeface="Arial Black"/>
              </a:rPr>
              <a:t> – УВАЖЕНИЕ, ПРИНЯТИЕ ЛЮДЕЙ, КАКИМИ БЫ ОТЛИЧНЫМИ ОТ НАС ОНИ НЕ БЫЛИ. 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 Black"/>
              </a:rPr>
              <a:t>Люди разные, это нужно понимать и принимать. 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 Black"/>
              </a:rPr>
              <a:t>Человек имеет право быть ДРУГИМ!!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2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Заголовок 1"/>
          <p:cNvSpPr/>
          <p:nvPr/>
        </p:nvSpPr>
        <p:spPr>
          <a:xfrm>
            <a:off x="468360" y="1484280"/>
            <a:ext cx="8229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cc0000"/>
                </a:solidFill>
                <a:latin typeface="Verdana"/>
              </a:rPr>
              <a:t>ТОЛЕРАНТНОСТЬ –</a:t>
            </a:r>
            <a:r>
              <a:rPr b="1" lang="ru-RU" sz="4500" spc="-1" strike="noStrike">
                <a:solidFill>
                  <a:srgbClr val="0000cc"/>
                </a:solidFill>
                <a:latin typeface="Arial Black"/>
              </a:rPr>
              <a:t> </a:t>
            </a:r>
            <a:br>
              <a:rPr sz="4500"/>
            </a:br>
            <a:r>
              <a:rPr b="1" i="1" lang="ru-RU" sz="4500" spc="-1" strike="noStrike">
                <a:solidFill>
                  <a:srgbClr val="0000cc"/>
                </a:solidFill>
                <a:latin typeface="Arial"/>
              </a:rPr>
              <a:t>это уважение, принятие и понимание многообразия мира.</a:t>
            </a:r>
            <a:endParaRPr b="0" i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5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2"/>
          <p:cNvSpPr/>
          <p:nvPr/>
        </p:nvSpPr>
        <p:spPr>
          <a:xfrm>
            <a:off x="900000" y="3068640"/>
            <a:ext cx="73440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eorgia"/>
              </a:rPr>
              <a:t>»</a:t>
            </a:r>
            <a:endParaRPr b="0" i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7" name="Прямоугольник 8"/>
          <p:cNvSpPr/>
          <p:nvPr/>
        </p:nvSpPr>
        <p:spPr>
          <a:xfrm>
            <a:off x="0" y="50004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Arial Black"/>
              </a:rPr>
              <a:t>       </a:t>
            </a:r>
            <a:r>
              <a:rPr b="0" i="1" lang="ru-RU" sz="4000" spc="-1" strike="noStrike">
                <a:solidFill>
                  <a:srgbClr val="0000cc"/>
                </a:solidFill>
                <a:latin typeface="Arial Black"/>
              </a:rPr>
              <a:t>История толерантности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8" name="Прямоугольник 9"/>
          <p:cNvSpPr/>
          <p:nvPr/>
        </p:nvSpPr>
        <p:spPr>
          <a:xfrm>
            <a:off x="571680" y="1357200"/>
            <a:ext cx="807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 Black"/>
              </a:rPr>
              <a:t>На рубеже 18-19 веков во Франции жил некто </a:t>
            </a:r>
            <a:r>
              <a:rPr b="1" i="1" lang="ru-RU" sz="2400" spc="-1" strike="noStrike">
                <a:solidFill>
                  <a:srgbClr val="0000cc"/>
                </a:solidFill>
                <a:latin typeface="Arial Black"/>
              </a:rPr>
              <a:t>Талейран Перигор</a:t>
            </a:r>
            <a:r>
              <a:rPr b="0" i="1" lang="ru-RU" sz="2400" spc="-1" strike="noStrike">
                <a:solidFill>
                  <a:srgbClr val="0000cc"/>
                </a:solidFill>
                <a:latin typeface="Arial Black"/>
              </a:rPr>
              <a:t>, князь. Он отличался тем, что при разных правительствах оставался министром иностранных дел. Его особый талант был в том, что он умел учитывать настроения окружающих, уважать их, решать проблему, ища различные оптимальные(т.е. удобные для всех) выходы из сложившейся ситуации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такое пазлы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80" name="Picture 4" descr="C:\Documents and Settings\user.ASUS\Мои документы\Мои рисунки\Организатор клипов (Microsoft)\j0299203.wmf"/>
          <p:cNvPicPr/>
          <p:nvPr/>
        </p:nvPicPr>
        <p:blipFill>
          <a:blip r:embed="rId1"/>
          <a:stretch/>
        </p:blipFill>
        <p:spPr>
          <a:xfrm>
            <a:off x="357120" y="1071720"/>
            <a:ext cx="8429760" cy="5500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C:\Documents and Settings\user.ASUS\Мои документы\Мои рисунки\Организатор клипов (Microsoft)\j0299723.wmf"/>
          <p:cNvPicPr/>
          <p:nvPr/>
        </p:nvPicPr>
        <p:blipFill>
          <a:blip r:embed="rId1"/>
          <a:stretch/>
        </p:blipFill>
        <p:spPr>
          <a:xfrm>
            <a:off x="500040" y="357120"/>
            <a:ext cx="7786800" cy="6000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Rectangle 5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375760" cy="20970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3"/>
          <p:cNvSpPr/>
          <p:nvPr/>
        </p:nvSpPr>
        <p:spPr>
          <a:xfrm>
            <a:off x="1000080" y="64296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 Black"/>
              </a:rPr>
              <a:t>Динамическая минутка  «Приветствие»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4" name="Picture 20" descr="http://t3.gstatic.com/images?q=tbn:ANd9GcSXPc_WQcPQP1pGPk-m1e2Gow0InN9VXpUUZVPKvoSdXVkqAiJgWg"/>
          <p:cNvPicPr/>
          <p:nvPr/>
        </p:nvPicPr>
        <p:blipFill>
          <a:blip r:embed="rId2"/>
          <a:stretch/>
        </p:blipFill>
        <p:spPr>
          <a:xfrm>
            <a:off x="714240" y="1571760"/>
            <a:ext cx="7715520" cy="4929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2"/>
          <p:cNvSpPr/>
          <p:nvPr/>
        </p:nvSpPr>
        <p:spPr>
          <a:xfrm>
            <a:off x="571680" y="357120"/>
            <a:ext cx="7429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итуация  1 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класс приходит новенький ученик. В первые два дня он успевает получить  три  «2». Кто-то говорит, что он «неумеха»,не будем с ним дружить!» Твои  действия.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6" name="Picture 6" descr="http://t3.gstatic.com/images?q=tbn:ANd9GcTs6NwLUo3iy9dq_gAhUWsJOqeTXSAUA6otpe8_j0IGMfyYhVisxQ"/>
          <p:cNvPicPr/>
          <p:nvPr/>
        </p:nvPicPr>
        <p:blipFill>
          <a:blip r:embed="rId1"/>
          <a:stretch/>
        </p:blipFill>
        <p:spPr>
          <a:xfrm>
            <a:off x="4786200" y="4714920"/>
            <a:ext cx="2867040" cy="1590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Lyda</dc:creator>
  <dc:description/>
  <dc:language>en-US</dc:language>
  <cp:lastModifiedBy>Admin</cp:lastModifiedBy>
  <dcterms:modified xsi:type="dcterms:W3CDTF">2012-04-12T13:17:56Z</dcterms:modified>
  <cp:revision>113</cp:revision>
  <dc:subject/>
  <dc:title>Беседа о толерантности  для учащихся 1-2 класса.</dc:title>
</cp:coreProperties>
</file>