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B14-41D3-4C89-A203-5E92D4B1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BCA-0105-4C23-A0AC-3519F42F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CDAA3-DC2E-49ED-9E96-EF5C85F8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84203-46A8-4880-B473-16660ADA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678AD-2B77-4691-94AC-95B7FA68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2C78F-1D4F-4A87-BA14-FE3091E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49591-7B38-4A12-A2EB-6F8D8C1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EC03C-0C85-4D0D-93BE-D13F61E9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FBB30-8A83-42D4-96EF-BE7FD5D8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14C1F-F427-4602-96A9-D82F444D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0538A-4730-4D67-B8C9-C59AC137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28E-6D71-4F3B-869E-B2777DB9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EE1-D921-4940-8CE9-4A5CEE59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298F-DCD2-4891-A6D4-54C755DE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2510-43DA-4E79-B50C-567F1515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01F8-E5E8-4B8A-853B-F09A50EB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92AE-5877-4A33-A444-7F0F3237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FA10-39E3-4A65-A72E-55BD5294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542E-FCA3-49D7-BE9D-A3EC9516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88F-F5E9-4E96-8501-51F07192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016-66E1-4136-973F-C6F2AAAC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C947-F8C9-4D40-9BE5-90212702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72FA-1B69-4BD7-9CFB-E2DB3C7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8EDE-0CF3-48E7-957A-5D7F0DCA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3CD7-84AF-45FC-9B60-F234061E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5E77-576F-4347-B962-EDB6C3DB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5FA5-394D-44E7-8B06-89983840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0773-8993-4B3E-AFE0-4DEDD8B9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792E-D00D-413E-8670-C25D84B2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90DA-1E81-45F3-B8D0-0417FB64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D752-9D2C-4C3E-97DA-90930E57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270-D3C5-49A3-93A1-EE48FFD2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2A49-2C37-4F32-BA57-AEEDDFD5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4CC0A-6970-400F-ADC4-BCB47E4A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1BFF-3DF5-42F8-B364-E562308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6FD4-5177-47FE-AC00-70A7FE8A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F2125-1163-45C0-9BBF-2D2F66E0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117B-589F-4A1B-92A5-E0885D35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1C28-CE6B-4C5F-B420-DCD4E397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370F-BE6D-4AB5-A5D9-0597E2B2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FC51C-3D68-4844-A3CF-0A233706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19E5C-2B2D-447F-8DC2-687DCB0D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B55-45A9-459C-9CA4-C44F504D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E6F6-D8EB-480C-92A8-7E30B407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94C7E-F505-4821-9FAA-49FB6C85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B64A4-5B3D-47B8-875B-C13EB508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16865-F295-4484-A71B-222E413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B1F4-0DF8-4865-AE88-39B4D842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D32F4-7199-4DFC-B04D-8F77648B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7B40E-3495-4669-B5FB-51B20F3B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BCE52-5832-4B51-B59A-A2C225B4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2071B-5BD8-48DC-8EAC-8C4C2176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9D51-988E-4EC4-9DAE-AFD1D5A7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032-AA93-4A5E-9EED-8D8C883D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8458-0BEA-4E2E-B6CB-DD1751E7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BB127-000A-46B1-87CD-427898D8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E40A-1133-4B2E-BB19-45A6D2A6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24F05-CA32-436D-952B-DEC19636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44E49-CD8C-4FED-BC1F-772639DC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DA442-DD0B-4CA5-AEE2-ED33ECD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57930-92AE-4B1A-8199-8A836E46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48386-D48A-4C1B-A24A-06FC47CE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6537C-5FBD-4429-ABDB-CCB2C54C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A98F7-DB51-4AC2-A2A8-ED40ADD7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7C1-AD69-49BF-89E6-EF384DA5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28B1A-3701-4BED-896F-458AF031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50C29-E0D9-4D52-9CB7-0B137EA1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DE5D2-07A3-4602-B9A5-6509C0BD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9A84-1CA9-4D9F-A0C0-BD6FEB87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22AF9-01FB-4705-A13D-373E2B5E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6829-A908-42BF-906E-23E39653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3EF11-4090-43FE-9848-027E684D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878A1-D2FA-41A3-A8C1-82F8785C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C94E4-373F-4FB7-874F-239E473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55AF1-0DE0-43F9-86FB-8F987990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BF0-8FD6-403E-8615-8125B34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C6D3E-C68E-40CE-A6A6-B0BDAE67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90E4C-DD20-4F9A-A0EF-565548BD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EC4E-0ECE-427E-8A0C-78843A3B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10D88-5F8D-480E-BD6C-9EE017AD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0AA35-7DE2-4CBD-BCF7-525334B4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2E9BD-EE7C-42A3-B4FA-DEDE3C25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D338D-5846-40AE-B1F9-C1B62D27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5472A-5C1F-4A66-8675-9EB0604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A23AF-92C0-4B64-9D96-6147F31B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031D6-CAF1-470E-9E3D-8EA481B4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184-E3A1-4759-A35E-9CFFB165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7723F-5F4C-4BB5-BD72-BE3143F6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8A060-2171-4CF1-829E-46FC32ED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093C6-087A-4725-8BD2-0854E395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DE6F-E05C-4094-9FF3-3B194DA9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CB9D3-433E-4697-9AE1-16554A42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F74C0-F48F-4B86-91D1-5F9A0933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71471-52F9-4E49-A715-99A2F975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53B2A-83AB-47C0-AEF7-7FD82FBC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D4391-9C27-427B-BAB8-B8E3191C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CDCB0-191A-4E50-8334-8EDE4DB6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AA9-61EF-4375-AE0B-06FEF741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6D333-1F6F-4A31-B9CE-C9A09262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94E1-2EF3-4533-B23F-293F5E3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3469E-652F-4E92-AD2B-6CEC0BD9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161CA-6811-4BB4-AAFA-E6A83CF0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48F70-B8E1-47EB-BB6A-3C8C54A4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91188-E614-47CF-AF25-4291A3B0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8CA06-BBD2-4459-B749-48D72C9A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0E5F2-2699-4C58-9C62-7F35A49E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D725B-6DF3-4D13-867B-E9B2492C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A0729-57F4-4AB9-B481-8AE7B4A2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1B31-F3BF-4124-9583-D52A36D822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B469-633C-435F-89AE-9197CAD976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E831-81BC-4E9F-A7D6-66A3FD91B7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2EE9-A9CB-47D8-99D7-3EAFF86301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5DC0-58AC-4DBF-845D-15BD9865CA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9D6B-F6BC-4667-8199-F5B4991496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DB10-6451-4271-B857-6DEF968340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CEAB-2333-468B-BB7A-C7B86CD0EA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EDFE-F2F1-4B86-8F0B-AE8F2CCB1D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9"/>
          <p:cNvSpPr/>
          <p:nvPr/>
        </p:nvSpPr>
        <p:spPr>
          <a:xfrm>
            <a:off x="2843280" y="333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beec9"/>
                </a:solidFill>
                <a:latin typeface="Tahoma"/>
              </a:rPr>
              <a:t>МБОУ СОШ № 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1023840" y="1139760"/>
            <a:ext cx="736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971640" y="189000"/>
            <a:ext cx="7437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ahoma"/>
              </a:rPr>
              <a:t>VI </a:t>
            </a:r>
            <a:r>
              <a:rPr b="1" lang="ru-RU" sz="2400" spc="-1" strike="noStrike">
                <a:solidFill>
                  <a:srgbClr val="a5644e"/>
                </a:solidFill>
                <a:latin typeface="Tahoma"/>
              </a:rPr>
              <a:t>городская конферен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ahoma"/>
              </a:rPr>
              <a:t>«Шаг в будуще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ahoma"/>
              </a:rPr>
              <a:t>Этикетные формулы реч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ahoma"/>
              </a:rPr>
              <a:t>в русском язы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5508720" y="2997360"/>
            <a:ext cx="358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Вторыгина Ева Артем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ученица 5а клас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МБОУ СОШ № 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Научный руковод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Пятовская Мария Вячеслав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учитель русского язык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и литерату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4105440" y="602136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г. Архангельс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4"/>
          <p:cNvSpPr/>
          <p:nvPr/>
        </p:nvSpPr>
        <p:spPr>
          <a:xfrm>
            <a:off x="1403280" y="981000"/>
            <a:ext cx="3311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) Пожалуйст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) Будьте доб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) Будьте любезн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) Если тебе не трудно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) Если вас не затруднит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5651640" y="836640"/>
            <a:ext cx="22860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 глагол в форме повелительного наклон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4932360" y="907920"/>
            <a:ext cx="431640" cy="1440000"/>
          </a:xfrm>
          <a:custGeom>
            <a:avLst/>
            <a:gdLst>
              <a:gd name="textAreaLeft" fmla="*/ 0 w 431640"/>
              <a:gd name="textAreaRight" fmla="*/ 155880 w 43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468360" y="4581360"/>
            <a:ext cx="540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) Я хочу вас (тебя) попросить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) Мне хочется вас (тебя) попросить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) Я прошу вас (тебя)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) Мне нужно попросить вас (тебя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) Я просил(а) бы вас (тебя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6732720" y="4508640"/>
            <a:ext cx="2171520" cy="172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 глагол в форме инфинитива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дать, принести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6012000" y="4508640"/>
            <a:ext cx="649080" cy="1582560"/>
          </a:xfrm>
          <a:custGeom>
            <a:avLst/>
            <a:gdLst>
              <a:gd name="textAreaLeft" fmla="*/ 0 w 649080"/>
              <a:gd name="textAreaRight" fmla="*/ 234360 w 64908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1692360" y="189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Формулы просьбы – приглаш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Picture 12" descr="pojaluysta_7"/>
          <p:cNvPicPr/>
          <p:nvPr/>
        </p:nvPicPr>
        <p:blipFill>
          <a:blip r:embed="rId1"/>
          <a:stretch/>
        </p:blipFill>
        <p:spPr>
          <a:xfrm>
            <a:off x="179280" y="2924280"/>
            <a:ext cx="3600720" cy="120312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3"/>
          <p:cNvSpPr/>
          <p:nvPr/>
        </p:nvSpPr>
        <p:spPr>
          <a:xfrm>
            <a:off x="3780000" y="2708280"/>
            <a:ext cx="5256000" cy="1584360"/>
          </a:xfrm>
          <a:prstGeom prst="leftArrowCallout">
            <a:avLst>
              <a:gd name="adj1" fmla="val 14233"/>
              <a:gd name="adj2" fmla="val 12023"/>
              <a:gd name="adj3" fmla="val 44248"/>
              <a:gd name="adj4" fmla="val 8109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ЖАЛУ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окажи милость»)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сокращение слова «государь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179280" y="546840"/>
            <a:ext cx="33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Формулы вежливого отказ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755640" y="2852640"/>
          <a:ext cx="7812000" cy="3840120"/>
        </p:xfrm>
        <a:graphic>
          <a:graphicData uri="http://schemas.openxmlformats.org/drawingml/2006/table">
            <a:tbl>
              <a:tblPr/>
              <a:tblGrid>
                <a:gridCol w="4248000"/>
                <a:gridCol w="3564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Этикетные формулы выражения вежливого отказа отк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бое, невежливое выражение отказа, не соответствующему речевому этикет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. К сожалению, я не смогу этого сдел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. Я бы с радостью сделал это, но у меня сегодня важная встреч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. Сейчас мне некогда, как-нибудь в другой раз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. Мне жаль, но я очень заня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. Решительно отказываюс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. Почему я должен это дел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. Да не стану я этого делат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. Еще чего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7" name="Picture 2" descr="http://mgm.com.ua/sites/default/files/styles/675x675/public/wallpampers.ru_.jpg"/>
          <p:cNvPicPr/>
          <p:nvPr/>
        </p:nvPicPr>
        <p:blipFill>
          <a:blip r:embed="rId1"/>
          <a:stretch/>
        </p:blipFill>
        <p:spPr>
          <a:xfrm>
            <a:off x="4284720" y="0"/>
            <a:ext cx="417492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1608480" y="836640"/>
            <a:ext cx="72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Этикетные формулы в речи учащихся 5 класс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Box 2"/>
          <p:cNvSpPr/>
          <p:nvPr/>
        </p:nvSpPr>
        <p:spPr>
          <a:xfrm>
            <a:off x="997560" y="1989000"/>
            <a:ext cx="49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При обращении к взрослы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«Здравствуйте», «До свида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При обращении к ровесник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«Привет», «Пок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Грубое «Досвидос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0" name="Picture 7" descr="236039279"/>
          <p:cNvPicPr/>
          <p:nvPr/>
        </p:nvPicPr>
        <p:blipFill>
          <a:blip r:embed="rId1"/>
          <a:stretch/>
        </p:blipFill>
        <p:spPr>
          <a:xfrm>
            <a:off x="6875640" y="1844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765666018"/>
          <p:cNvPicPr/>
          <p:nvPr/>
        </p:nvPicPr>
        <p:blipFill>
          <a:blip r:embed="rId2"/>
          <a:stretch/>
        </p:blipFill>
        <p:spPr>
          <a:xfrm>
            <a:off x="7020000" y="4292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1"/>
          <p:cNvSpPr/>
          <p:nvPr/>
        </p:nvSpPr>
        <p:spPr>
          <a:xfrm>
            <a:off x="468360" y="549360"/>
            <a:ext cx="77835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Этикетные формулы речи в русском языке многочисленны и разнообразны, а их употребление зависит от конкретной речев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Не зная истории происхождения этикетных выражений, можно неверно истолковать их смыс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В русском языке большинство исконно русских слов и выражений этикетного обихода, но есть и те, которые пришли из других язы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Даже сегодня появляются новые формулы, но общеупотребительными остаются одни и те же выражения на протяжении уже долгого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1"/>
          <p:cNvSpPr/>
          <p:nvPr/>
        </p:nvSpPr>
        <p:spPr>
          <a:xfrm>
            <a:off x="539640" y="549360"/>
            <a:ext cx="820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Библиограф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урочкина И.Н. Современный этикет и воспитание культуры поведения у дошкольников: Учеб. Пособие для студ. Высш. Учеб. Заведений. – М.: «Владос», 2001, 22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 Львова С.И. «Позвольте пригласить Вас…», или речевой этикет. – М.: «Дрофа», 2006, 208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Новый словарь методических терминов и понятий (теория и практика обучения языкам)/ Авторы Э. Г. Азимов, А. Н. Щукин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ttp://www.gramota.ru/slovari/d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Этикет/ Авторы-составители Н.И. Ушаков, Е.В. Романова. – М.: «Лукоморье», 1988, 352 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"/>
          <p:cNvSpPr/>
          <p:nvPr/>
        </p:nvSpPr>
        <p:spPr>
          <a:xfrm>
            <a:off x="592200" y="1932120"/>
            <a:ext cx="28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663480" y="186048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879480" y="308448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8" descr="http://england.turizm-online.ru/images/trad07.jpg"/>
          <p:cNvPicPr/>
          <p:nvPr/>
        </p:nvPicPr>
        <p:blipFill>
          <a:blip r:embed="rId1"/>
          <a:stretch/>
        </p:blipFill>
        <p:spPr>
          <a:xfrm>
            <a:off x="1042920" y="1557360"/>
            <a:ext cx="7058160" cy="48960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1116000" y="549360"/>
            <a:ext cx="68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Изучение этикетных формул речи в русском языке</a:t>
            </a:r>
            <a:r>
              <a:rPr b="0" lang="ru-RU" sz="18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250920" y="260280"/>
            <a:ext cx="8713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Изучить понятия этикет, речевой этикет, этикетные формулы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Рассмотреть классификацию формул речевого этикета и выявить наиболее популярные из них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Познакомиться с историей русского речевого этикета.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С помощью анкетирования определить популярные формулы приветствия и прощ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0" y="333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ff"/>
                </a:solidFill>
                <a:uFillTx/>
                <a:latin typeface="Tahoma"/>
              </a:rPr>
              <a:t>Речевой этикет</a:t>
            </a: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 – это сложившаяся в языке и речи система устойчивых выражений, применяемых в ситуациях установления и поддержания контакта.</a:t>
            </a:r>
            <a:r>
              <a:rPr b="0" lang="ru-RU" sz="2800" spc="-1" strike="noStrike">
                <a:solidFill>
                  <a:srgbClr val="99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2484360" y="2349360"/>
            <a:ext cx="4248360" cy="1152720"/>
          </a:xfrm>
          <a:prstGeom prst="downArrowCallout">
            <a:avLst>
              <a:gd name="adj1" fmla="val 93921"/>
              <a:gd name="adj2" fmla="val 92138"/>
              <a:gd name="adj3" fmla="val 19532"/>
              <a:gd name="adj4" fmla="val 66667"/>
            </a:avLst>
          </a:prstGeom>
          <a:solidFill>
            <a:srgbClr val="080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42f"/>
                </a:solidFill>
                <a:latin typeface="Tahoma"/>
              </a:rPr>
              <a:t>ЭТИК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" name="AutoShape 8"/>
          <p:cNvGrpSpPr/>
          <p:nvPr/>
        </p:nvGrpSpPr>
        <p:grpSpPr>
          <a:xfrm>
            <a:off x="2451240" y="3524400"/>
            <a:ext cx="4449600" cy="1633320"/>
            <a:chOff x="2451240" y="3524400"/>
            <a:chExt cx="4449600" cy="1633320"/>
          </a:xfrm>
        </p:grpSpPr>
        <p:pic>
          <p:nvPicPr>
            <p:cNvPr id="413" name="AutoShape 8" descr=""/>
            <p:cNvPicPr/>
            <p:nvPr/>
          </p:nvPicPr>
          <p:blipFill>
            <a:blip r:embed="rId1"/>
            <a:stretch/>
          </p:blipFill>
          <p:spPr>
            <a:xfrm>
              <a:off x="2451240" y="3524400"/>
              <a:ext cx="444960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556000" y="3573360"/>
              <a:ext cx="4248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ИЗ ФРАНЦУЗСКОГО ЯЗЫК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«ЯРЛЫК, ЭТИКЕТКА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Rectangle 9"/>
          <p:cNvGrpSpPr/>
          <p:nvPr/>
        </p:nvGrpSpPr>
        <p:grpSpPr>
          <a:xfrm>
            <a:off x="2523960" y="4968720"/>
            <a:ext cx="4376880" cy="1176480"/>
            <a:chOff x="2523960" y="4968720"/>
            <a:chExt cx="4376880" cy="1176480"/>
          </a:xfrm>
        </p:grpSpPr>
        <p:pic>
          <p:nvPicPr>
            <p:cNvPr id="416" name="Rectangle 9" descr=""/>
            <p:cNvPicPr/>
            <p:nvPr/>
          </p:nvPicPr>
          <p:blipFill>
            <a:blip r:embed="rId2"/>
            <a:stretch/>
          </p:blipFill>
          <p:spPr>
            <a:xfrm>
              <a:off x="2523960" y="4968720"/>
              <a:ext cx="43768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627280" y="5084640"/>
              <a:ext cx="4175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ИЗ ГРЕЧЕСКОГО ЯЗЫК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anklin Gothic Book"/>
                </a:rPr>
                <a:t>ETHOS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«ОБЫЧАЙ, ХАРАКТЕР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8" descr="p19_4"/>
          <p:cNvPicPr/>
          <p:nvPr/>
        </p:nvPicPr>
        <p:blipFill>
          <a:blip r:embed="rId1"/>
          <a:stretch/>
        </p:blipFill>
        <p:spPr>
          <a:xfrm>
            <a:off x="5364000" y="4076640"/>
            <a:ext cx="3635640" cy="25210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8"/>
          <p:cNvSpPr/>
          <p:nvPr/>
        </p:nvSpPr>
        <p:spPr>
          <a:xfrm>
            <a:off x="5219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324000" y="260280"/>
            <a:ext cx="4464000" cy="720720"/>
          </a:xfrm>
          <a:custGeom>
            <a:avLst/>
            <a:gdLst>
              <a:gd name="textAreaLeft" fmla="*/ 1116000 w 4464000"/>
              <a:gd name="textAreaRight" fmla="*/ 3348000 w 4464000"/>
              <a:gd name="textAreaTop" fmla="*/ 180000 h 720720"/>
              <a:gd name="textAreaBottom" fmla="*/ 699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БЛАГОДАР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250200" y="1916280"/>
            <a:ext cx="4392360" cy="792000"/>
          </a:xfrm>
          <a:custGeom>
            <a:avLst/>
            <a:gdLst>
              <a:gd name="textAreaLeft" fmla="*/ 1150200 w 4392360"/>
              <a:gd name="textAreaRight" fmla="*/ 3242160 w 4392360"/>
              <a:gd name="textAreaTop" fmla="*/ 17964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0800" y="16699"/>
                </a:moveTo>
                <a:arcTo wR="21600" hR="0" stAng="0" swAng="0"/>
                <a:lnTo>
                  <a:pt x="10800" y="21600"/>
                </a:lnTo>
                <a:arcTo wR="21600" hR="0" stAng="0" swAng="0"/>
                <a:lnTo>
                  <a:pt x="10800" y="16699"/>
                </a:lnTo>
                <a:arcTo wR="21600" hR="0" stAng="0" swAng="0"/>
                <a:lnTo>
                  <a:pt x="18900" y="8350"/>
                </a:lnTo>
                <a:lnTo>
                  <a:pt x="21600" y="0"/>
                </a:lnTo>
                <a:lnTo>
                  <a:pt x="10800" y="0"/>
                </a:lnTo>
                <a:arcTo wR="21600" hR="0" stAng="0" swAng="0"/>
                <a:lnTo>
                  <a:pt x="10800" y="4901"/>
                </a:lnTo>
                <a:arcTo wR="21600" hR="0" stAng="0" swAng="0"/>
                <a:lnTo>
                  <a:pt x="10800" y="0"/>
                </a:lnTo>
                <a:arcTo wR="21600" hR="0" stAng="0" swAng="0"/>
                <a:lnTo>
                  <a:pt x="2700" y="8350"/>
                </a:lnTo>
                <a:close/>
              </a:path>
              <a:path fill="none" w="21600" h="21600">
                <a:moveTo>
                  <a:pt x="10800" y="4901"/>
                </a:moveTo>
                <a:arcTo wR="21600" hR="0" stAng="0" swAng="0"/>
                <a:lnTo>
                  <a:pt x="8357" y="0"/>
                </a:lnTo>
              </a:path>
              <a:path fill="none" w="21600" h="21600">
                <a:moveTo>
                  <a:pt x="10800" y="4901"/>
                </a:moveTo>
                <a:arcTo wR="21600" hR="0" stAng="0" swAng="0"/>
                <a:lnTo>
                  <a:pt x="13243" y="0"/>
                </a:lnTo>
              </a:path>
              <a:path fill="none" w="21600" h="21600">
                <a:moveTo>
                  <a:pt x="5657" y="16699"/>
                </a:moveTo>
                <a:lnTo>
                  <a:pt x="5657" y="4901"/>
                </a:lnTo>
              </a:path>
              <a:path fill="none" w="21600" h="21600">
                <a:moveTo>
                  <a:pt x="15943" y="16699"/>
                </a:moveTo>
                <a:lnTo>
                  <a:pt x="15943" y="4901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ЗВИН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AutoShape 14"/>
          <p:cNvSpPr/>
          <p:nvPr/>
        </p:nvSpPr>
        <p:spPr>
          <a:xfrm>
            <a:off x="179280" y="981000"/>
            <a:ext cx="4464000" cy="792360"/>
          </a:xfrm>
          <a:custGeom>
            <a:avLst/>
            <a:gdLst>
              <a:gd name="textAreaLeft" fmla="*/ 1116000 w 4464000"/>
              <a:gd name="textAreaRight" fmla="*/ 3348000 w 4464000"/>
              <a:gd name="textAreaTop" fmla="*/ 198000 h 792360"/>
              <a:gd name="textAreaBottom" fmla="*/ 7689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ВЕТСТВ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AutoShape 15"/>
          <p:cNvSpPr/>
          <p:nvPr/>
        </p:nvSpPr>
        <p:spPr>
          <a:xfrm>
            <a:off x="250920" y="2708280"/>
            <a:ext cx="4392360" cy="792000"/>
          </a:xfrm>
          <a:custGeom>
            <a:avLst/>
            <a:gdLst>
              <a:gd name="textAreaLeft" fmla="*/ 1098000 w 4392360"/>
              <a:gd name="textAreaRight" fmla="*/ 3294360 w 4392360"/>
              <a:gd name="textAreaTop" fmla="*/ 198000 h 792000"/>
              <a:gd name="textAreaBottom" fmla="*/ 76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ОЩ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16"/>
          <p:cNvSpPr/>
          <p:nvPr/>
        </p:nvSpPr>
        <p:spPr>
          <a:xfrm>
            <a:off x="179280" y="4653000"/>
            <a:ext cx="4753080" cy="936720"/>
          </a:xfrm>
          <a:custGeom>
            <a:avLst/>
            <a:gdLst>
              <a:gd name="textAreaLeft" fmla="*/ 1188360 w 4753080"/>
              <a:gd name="textAreaRight" fmla="*/ 3565080 w 4753080"/>
              <a:gd name="textAreaTop" fmla="*/ 234000 h 936720"/>
              <a:gd name="textAreaBottom" fmla="*/ 9090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ЕЖЛИВОГО ОТК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7"/>
          <p:cNvSpPr/>
          <p:nvPr/>
        </p:nvSpPr>
        <p:spPr>
          <a:xfrm>
            <a:off x="250920" y="5734080"/>
            <a:ext cx="4249800" cy="762120"/>
          </a:xfrm>
          <a:custGeom>
            <a:avLst/>
            <a:gdLst>
              <a:gd name="textAreaLeft" fmla="*/ 1062360 w 4249800"/>
              <a:gd name="textAreaRight" fmla="*/ 3187440 w 42498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ПРОСЬ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 ПРИГЛАШ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Лента лицом вниз 15"/>
          <p:cNvSpPr/>
          <p:nvPr/>
        </p:nvSpPr>
        <p:spPr>
          <a:xfrm>
            <a:off x="250920" y="3573360"/>
            <a:ext cx="4608360" cy="1008000"/>
          </a:xfrm>
          <a:custGeom>
            <a:avLst/>
            <a:gdLst>
              <a:gd name="textAreaLeft" fmla="*/ 1152000 w 4608360"/>
              <a:gd name="textAreaRight" fmla="*/ 3456360 w 4608360"/>
              <a:gd name="textAreaTop" fmla="*/ 16776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ПОЖЕЛ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Лента лицом вниз 10"/>
          <p:cNvSpPr/>
          <p:nvPr/>
        </p:nvSpPr>
        <p:spPr>
          <a:xfrm>
            <a:off x="4500720" y="1844640"/>
            <a:ext cx="5040000" cy="936720"/>
          </a:xfrm>
          <a:custGeom>
            <a:avLst/>
            <a:gdLst>
              <a:gd name="textAreaLeft" fmla="*/ 1260000 w 5040000"/>
              <a:gd name="textAreaRight" fmla="*/ 3780000 w 5040000"/>
              <a:gd name="textAreaTop" fmla="*/ 15588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СОЧУВСТВИЯ И СОБОЛЕЗН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Лента лицом вниз 12"/>
          <p:cNvSpPr/>
          <p:nvPr/>
        </p:nvSpPr>
        <p:spPr>
          <a:xfrm>
            <a:off x="4643280" y="2997360"/>
            <a:ext cx="4176720" cy="792000"/>
          </a:xfrm>
          <a:custGeom>
            <a:avLst/>
            <a:gdLst>
              <a:gd name="textAreaLeft" fmla="*/ 1044000 w 4176720"/>
              <a:gd name="textAreaRight" fmla="*/ 3132720 w 4176720"/>
              <a:gd name="textAreaTop" fmla="*/ 13176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КОМПЛИМЕН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Прямоугольник 1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Прямоугольник 14" descr=""/>
          <p:cNvPicPr/>
          <p:nvPr/>
        </p:nvPicPr>
        <p:blipFill>
          <a:blip r:embed="rId2"/>
          <a:stretch/>
        </p:blipFill>
        <p:spPr>
          <a:xfrm>
            <a:off x="4968720" y="-109440"/>
            <a:ext cx="398016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1042920" y="-720"/>
            <a:ext cx="7416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…</a:t>
            </a: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Здравствуйте! 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Что особого тем мы друг другу сказали?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Отчего же на капельку радостней сделалась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жизнь?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В. Солоухин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324000" y="15573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ДРАВСТВУ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3203640" y="1413000"/>
            <a:ext cx="237636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ДРАВСТВУ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(форма повелительного наклонения глагола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дравствовать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6516720" y="1413000"/>
            <a:ext cx="244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БУДЬ ЗДОРОВ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ПОЖЕЛАНИЕ ЗДОРОВЬ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468360" y="32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ЛОВАТЬ (ЛОБЗАТЬ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95280" y="522936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ЖЕЛАТЬ БЫТЬ ЦЕЛЫМ, НЕВРЕДИМЫМ, ЗДОРОВЫМ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18"/>
          <p:cNvSpPr/>
          <p:nvPr/>
        </p:nvSpPr>
        <p:spPr>
          <a:xfrm>
            <a:off x="1258920" y="4076640"/>
            <a:ext cx="772920" cy="976320"/>
          </a:xfrm>
          <a:prstGeom prst="downArrow">
            <a:avLst>
              <a:gd name="adj1" fmla="val 50000"/>
              <a:gd name="adj2" fmla="val 3157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6012000" y="285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ER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идти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012000" y="3860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ONS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ну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6012000" y="4724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телефонное» слово АЛ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5867280" y="5877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Буквальн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ИДЕМ, ПОШЛ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utoShape 23"/>
          <p:cNvSpPr/>
          <p:nvPr/>
        </p:nvSpPr>
        <p:spPr>
          <a:xfrm>
            <a:off x="2195640" y="1484280"/>
            <a:ext cx="1224000" cy="71928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utoShape 24"/>
          <p:cNvSpPr/>
          <p:nvPr/>
        </p:nvSpPr>
        <p:spPr>
          <a:xfrm>
            <a:off x="5364000" y="1413000"/>
            <a:ext cx="1297080" cy="7920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utoShape 25"/>
          <p:cNvSpPr/>
          <p:nvPr/>
        </p:nvSpPr>
        <p:spPr>
          <a:xfrm>
            <a:off x="6948360" y="3284640"/>
            <a:ext cx="70164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AutoShape 26"/>
          <p:cNvSpPr/>
          <p:nvPr/>
        </p:nvSpPr>
        <p:spPr>
          <a:xfrm>
            <a:off x="6948360" y="4221000"/>
            <a:ext cx="77328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AutoShape 27"/>
          <p:cNvSpPr/>
          <p:nvPr/>
        </p:nvSpPr>
        <p:spPr>
          <a:xfrm>
            <a:off x="6948360" y="5300640"/>
            <a:ext cx="84636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7" name="Picture 2" descr="http://metod.eniak.ru/sites/default/files/u3/pravila-etiketa-dlya-samyx-malenkix-1.jpg"/>
          <p:cNvPicPr/>
          <p:nvPr/>
        </p:nvPicPr>
        <p:blipFill>
          <a:blip r:embed="rId1"/>
          <a:stretch/>
        </p:blipFill>
        <p:spPr>
          <a:xfrm>
            <a:off x="2627280" y="3198960"/>
            <a:ext cx="3457440" cy="339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6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/>
          <p:cNvSpPr/>
          <p:nvPr/>
        </p:nvSpPr>
        <p:spPr>
          <a:xfrm>
            <a:off x="684360" y="476280"/>
            <a:ext cx="7920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ламенный привет!                                     Доброго здоровья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озвольте поприветствовать Вас!            Здравствуй(те)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Кого я вижу! Мое почтение!             Привет честнОй компании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Наше Вам с кисточкой!                       Сколько лет, сколько зим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С прибытием!                                             Добро пожаловать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Салют! Здорово, браток!                           Легок на помине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ривет от старых штиблет!                        Моё почтение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Хлеб да соль!                                                Рад вас видеть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Доброе утро!                                                   Здравия желаю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Хелло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174"/>
          <p:cNvSpPr/>
          <p:nvPr/>
        </p:nvSpPr>
        <p:spPr>
          <a:xfrm>
            <a:off x="539640" y="5300640"/>
            <a:ext cx="2664000" cy="1079640"/>
          </a:xfrm>
          <a:custGeom>
            <a:avLst/>
            <a:gdLst>
              <a:gd name="textAreaLeft" fmla="*/ 0 w 2664000"/>
              <a:gd name="textAreaRight" fmla="*/ 2664360 w 2664000"/>
              <a:gd name="textAreaTop" fmla="*/ 139680 h 1079640"/>
              <a:gd name="textAreaBottom" fmla="*/ 939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ahoma"/>
              </a:rPr>
              <a:t>Междометие ПО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AutoShape 172"/>
          <p:cNvSpPr/>
          <p:nvPr/>
        </p:nvSpPr>
        <p:spPr>
          <a:xfrm>
            <a:off x="539640" y="4149720"/>
            <a:ext cx="2519640" cy="1224000"/>
          </a:xfrm>
          <a:prstGeom prst="downArrowCallout">
            <a:avLst>
              <a:gd name="adj1" fmla="val 51468"/>
              <a:gd name="adj2" fmla="val 51463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AutoShape 171"/>
          <p:cNvSpPr/>
          <p:nvPr/>
        </p:nvSpPr>
        <p:spPr>
          <a:xfrm>
            <a:off x="468360" y="3068640"/>
            <a:ext cx="2663640" cy="1081080"/>
          </a:xfrm>
          <a:prstGeom prst="downArrowCallout">
            <a:avLst>
              <a:gd name="adj1" fmla="val 61602"/>
              <a:gd name="adj2" fmla="val 61597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AutoShape 170"/>
          <p:cNvSpPr/>
          <p:nvPr/>
        </p:nvSpPr>
        <p:spPr>
          <a:xfrm>
            <a:off x="468360" y="1989000"/>
            <a:ext cx="2663640" cy="1079640"/>
          </a:xfrm>
          <a:prstGeom prst="downArrowCallout">
            <a:avLst>
              <a:gd name="adj1" fmla="val 61684"/>
              <a:gd name="adj2" fmla="val 61679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AutoShape 169"/>
          <p:cNvSpPr/>
          <p:nvPr/>
        </p:nvSpPr>
        <p:spPr>
          <a:xfrm>
            <a:off x="395280" y="836640"/>
            <a:ext cx="2664000" cy="1152360"/>
          </a:xfrm>
          <a:prstGeom prst="downArrowCallout">
            <a:avLst>
              <a:gd name="adj1" fmla="val 57800"/>
              <a:gd name="adj2" fmla="val 57794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519120" y="27612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547640" y="333360"/>
            <a:ext cx="55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2340000" y="115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ahoma"/>
              </a:rPr>
              <a:t>Формулы прощ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162"/>
          <p:cNvSpPr/>
          <p:nvPr/>
        </p:nvSpPr>
        <p:spPr>
          <a:xfrm>
            <a:off x="771480" y="1114560"/>
            <a:ext cx="23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163"/>
          <p:cNvSpPr/>
          <p:nvPr/>
        </p:nvSpPr>
        <p:spPr>
          <a:xfrm>
            <a:off x="468360" y="981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КАкое МЕС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164"/>
          <p:cNvSpPr/>
          <p:nvPr/>
        </p:nvSpPr>
        <p:spPr>
          <a:xfrm>
            <a:off x="395280" y="3068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+КА+МЕСТ = ПОКАМЕ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65"/>
          <p:cNvSpPr/>
          <p:nvPr/>
        </p:nvSpPr>
        <p:spPr>
          <a:xfrm>
            <a:off x="468360" y="1989000"/>
            <a:ext cx="2663640" cy="673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КА МЕСТ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сращение частей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166"/>
          <p:cNvSpPr/>
          <p:nvPr/>
        </p:nvSpPr>
        <p:spPr>
          <a:xfrm>
            <a:off x="3995640" y="213372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167"/>
          <p:cNvSpPr/>
          <p:nvPr/>
        </p:nvSpPr>
        <p:spPr>
          <a:xfrm>
            <a:off x="611280" y="4292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речие ПОК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AutoShape 177"/>
          <p:cNvSpPr/>
          <p:nvPr/>
        </p:nvSpPr>
        <p:spPr>
          <a:xfrm>
            <a:off x="3564000" y="692280"/>
            <a:ext cx="1873080" cy="1873080"/>
          </a:xfrm>
          <a:custGeom>
            <a:avLst/>
            <a:gdLst>
              <a:gd name="textAreaLeft" fmla="*/ 220680 w 1873080"/>
              <a:gd name="textAreaRight" fmla="*/ 1652400 w 1873080"/>
              <a:gd name="textAreaTop" fmla="*/ 220680 h 1873080"/>
              <a:gd name="textAreaBottom" fmla="*/ 1652400 h 187308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литель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клон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лагол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AutoShape 178"/>
          <p:cNvSpPr/>
          <p:nvPr/>
        </p:nvSpPr>
        <p:spPr>
          <a:xfrm>
            <a:off x="6804000" y="333360"/>
            <a:ext cx="2087640" cy="2736720"/>
          </a:xfrm>
          <a:custGeom>
            <a:avLst/>
            <a:gdLst>
              <a:gd name="textAreaLeft" fmla="*/ 245880 w 2087640"/>
              <a:gd name="textAreaRight" fmla="*/ 1841760 w 2087640"/>
              <a:gd name="textAreaTop" fmla="*/ 245880 h 2736720"/>
              <a:gd name="textAreaBottom" fmla="*/ 2490840 h 2736720"/>
            </a:gdLst>
            <a:ahLst/>
            <a:rect l="textAreaLeft" t="textAreaTop" r="textAreaRight" b="textAreaBottom"/>
            <a:pathLst>
              <a:path w="21600" h="28315">
                <a:moveTo>
                  <a:pt x="3600" y="0"/>
                </a:moveTo>
                <a:arcTo wR="3600" hR="3600" stAng="0" swAng="5400000"/>
                <a:lnTo>
                  <a:pt x="0" y="24715"/>
                </a:lnTo>
                <a:arcTo wR="3600" hR="3600" stAng="16200000" swAng="5400000"/>
                <a:lnTo>
                  <a:pt x="18000" y="28315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ервоначально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нач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ост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(если что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 так)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Фразеологиз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ощай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 помина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ихом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AutoShape 179"/>
          <p:cNvSpPr/>
          <p:nvPr/>
        </p:nvSpPr>
        <p:spPr>
          <a:xfrm>
            <a:off x="5435640" y="692280"/>
            <a:ext cx="1359000" cy="1871640"/>
          </a:xfrm>
          <a:custGeom>
            <a:avLst/>
            <a:gdLst>
              <a:gd name="textAreaLeft" fmla="*/ 339840 w 1359000"/>
              <a:gd name="textAreaRight" fmla="*/ 1019520 w 135900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ahoma"/>
              </a:rPr>
              <a:t>ПРОЩА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180"/>
          <p:cNvSpPr/>
          <p:nvPr/>
        </p:nvSpPr>
        <p:spPr>
          <a:xfrm>
            <a:off x="4932360" y="400536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АДЬЮ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«с Богом, до свида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181"/>
          <p:cNvSpPr/>
          <p:nvPr/>
        </p:nvSpPr>
        <p:spPr>
          <a:xfrm>
            <a:off x="5219640" y="573408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от фр.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(предлог) +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IEU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(Бог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AutoShape 182"/>
          <p:cNvSpPr/>
          <p:nvPr/>
        </p:nvSpPr>
        <p:spPr>
          <a:xfrm>
            <a:off x="6588000" y="5013360"/>
            <a:ext cx="13669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9" name="Picture 2" descr="http://3.bp.blogspot.com/_FHsa0DCSlu4/S_06abLijfI/AAAAAAAAG_k/tBYZMdVx4wM/s1600/0f32bd9346b0.png"/>
          <p:cNvPicPr/>
          <p:nvPr/>
        </p:nvPicPr>
        <p:blipFill>
          <a:blip r:embed="rId1"/>
          <a:stretch/>
        </p:blipFill>
        <p:spPr>
          <a:xfrm>
            <a:off x="2556000" y="2133720"/>
            <a:ext cx="3528720" cy="357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468360" y="135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«Благодарность- чувство признательности к кому-нибудь за оказанное добро, внимание»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539640" y="907920"/>
            <a:ext cx="2448000" cy="1152720"/>
          </a:xfrm>
          <a:prstGeom prst="wedgeRoundRectCallout">
            <a:avLst>
              <a:gd name="adj1" fmla="val -34398"/>
              <a:gd name="adj2" fmla="val 1278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 старинного пожелания «СПАСИ БОГ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WordArt 12"/>
          <p:cNvSpPr txBox="1"/>
          <p:nvPr/>
        </p:nvSpPr>
        <p:spPr>
          <a:xfrm>
            <a:off x="324000" y="3068640"/>
            <a:ext cx="25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788000" y="2997360"/>
            <a:ext cx="2643120" cy="792000"/>
          </a:xfrm>
          <a:prstGeom prst="wedgeRectCallout">
            <a:avLst>
              <a:gd name="adj1" fmla="val 7115"/>
              <a:gd name="adj2" fmla="val -2073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ЛАГО + ДАРИТЬ («ДАРИТЬ ДОБРО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WordArt 14"/>
          <p:cNvSpPr txBox="1"/>
          <p:nvPr/>
        </p:nvSpPr>
        <p:spPr>
          <a:xfrm>
            <a:off x="4788000" y="105264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5" name="Picture 2" descr="http://www.zanimatika.narod.ru/Vejlivost.jpg"/>
          <p:cNvPicPr/>
          <p:nvPr/>
        </p:nvPicPr>
        <p:blipFill>
          <a:blip r:embed="rId1"/>
          <a:stretch/>
        </p:blipFill>
        <p:spPr>
          <a:xfrm>
            <a:off x="2050920" y="3716280"/>
            <a:ext cx="306720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7:54:06Z</dcterms:created>
  <dc:creator>User</dc:creator>
  <dc:description/>
  <dc:language>en-US</dc:language>
  <cp:lastModifiedBy>Семья</cp:lastModifiedBy>
  <dcterms:modified xsi:type="dcterms:W3CDTF">2017-11-26T21:30:43Z</dcterms:modified>
  <cp:revision>56</cp:revision>
  <dc:subject/>
  <dc:title>Слайд 1</dc:title>
</cp:coreProperties>
</file>