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546-4A55-4877-9757-6336BC14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594-2B50-4938-B016-38C8A84E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1C2DA-0E93-4636-9C02-F8964950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03A0A-24DC-407E-B465-59CAD0BF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8889B-2FB1-4AAC-82BB-939056A5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C7DAE-4BD1-417E-B110-CC95CF8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E8F2B-9768-4C78-B6D0-912237B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14F9-BCCD-48DD-A955-767210CB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8B921-73B0-45CE-BAD4-A463536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5AF6B-11FA-422B-B7A0-DE33C87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62A9-3606-4166-8EA9-B7D716AE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6CC-2023-40CD-BCF8-4E571FFF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E21-771B-4488-9B27-E47D22FF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2889-2B94-4D9C-B9AD-8C084F89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CB28-42F4-4A4B-B5B2-84B67C6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1B3E-785E-4717-A0E8-D0CEEA4E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8971-1835-4A89-9889-7F545466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63AA-2DAF-4A9B-9495-B7F3290F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2BA3-089E-4685-9D9A-13C94DD4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315-E7B0-44F9-A7AD-A462745D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005-9178-47F2-899A-AF4F65A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51B-D773-4153-A234-C4683F9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9318-6BB8-49E8-8674-6542BF14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406E-51D6-4C0C-A86D-528C87B4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935A-598F-4D8B-B77A-88585A38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413E-EAF9-4C87-81F4-81F51AFE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158E-9D51-41A7-A9F5-30A82BC1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A550-8D88-4E7B-B12D-7EDDB701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3422-087B-4B55-B073-52911AA5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447F-6051-45A4-9F3A-27AE4748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61CC-F095-43A0-BA94-228EB148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D14-D5F5-4DDC-86F4-10A7F8F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35EB-704D-46DD-908D-11CDE73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C1B5-B093-4F3D-846C-7260CD3B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019A-34F9-4040-AF20-B5EBD52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3182-F54A-4555-9AAF-39655B94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6C9F-BB1D-41F1-B735-E67116A0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5CD1-5AC0-4C56-9ABC-A1E0D915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3109-F258-450D-A2C5-C66B37AB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E631-0AA3-4AC9-AA01-B382E847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1151-2ECF-4A76-ADB4-8A9068B4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CDBD-695A-4B53-8247-4D593A4F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406-FDE0-4B02-B621-CEE810CF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DD5C-DE77-4DCE-9D6F-41D2B55B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449C-F11A-4192-9D1E-F6039E4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7500-F2C6-4C86-9D2E-F22493F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D444-EBDE-4C12-90C5-4BA9F964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A443-024A-4DD4-A4C0-AEDC3B8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D7E4-A1D3-4E2A-8A88-95EA6204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1EF4-7041-4E3A-A401-CBD3F730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2CF3-9510-4F25-ABAF-03DAD607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C97A-74D1-4237-93CA-30376CEB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38F3-9992-4E0D-B808-F94042DC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325-5655-41FA-8DC0-50038725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F198-51BF-4FE3-8705-D823C75E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6D55B-3575-4CBD-B25F-A53B2A4D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8252-AE93-483C-B3C2-04D4B5CD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8ACA-485A-4E69-BE6B-E7487A62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A70F7-DB68-4631-9E80-0E072A2D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65E58-91D1-409E-A8E5-0E1FF58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4054D-50A1-47ED-ADD7-FE48EB1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7AC6B-BBFF-4D20-A1C9-8457C6E4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DFBA-3D0D-4AD8-BAE6-948418D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EEEA-9549-4472-8FE4-40CF3661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2D9-5ACF-40C1-A115-015AEE2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47BA-81EB-4643-89D2-FA315268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27DD-62AA-40E4-A271-AB054C6C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A6B0-3F73-4C88-BBA1-F625DF09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D6ABE-8810-450D-95B2-C51D682B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0CCAA-88F0-43D5-A4C2-5F6452CA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AB37-5AA4-4DEE-88EA-A7E369DB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59774-37E1-420B-A590-02BD5C4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FAE3-F9B2-482C-8992-B80A4EB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A3FD-41C2-4A9A-A4EC-7866E88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3AA92-755D-4849-9590-6E7CD55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D8C-4D72-4463-8B55-DF8AF69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C027E-60FA-4780-8D39-65A26473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ECC1F-82AB-4E22-BEDB-825A706F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43FD-E399-43EE-88E3-1AAD84A4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919C-DED0-4347-9F83-A517CEFB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545D4-62F6-47C3-A0E7-41B15F32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8E8A-B469-4E69-9D12-04F5DD3A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C71A-0740-4553-9F09-F6E6750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7BDF-3784-408E-BC0B-034A35EF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3808E-5398-4F93-BC8A-C291F762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6FDA1-E7B5-44E5-B206-3F3F1EB0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E76-4C77-46CD-B5FD-86BADD3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BC80-232C-4A9B-AEA5-C01DA38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53A47-134F-455B-BB95-A463F56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9A60-3C2E-4A94-A5A9-621F2ECF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E904D-4455-4935-B933-91A53EDB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AEF4-D10C-4DF0-AD12-F426E33E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DC342-A7E0-4E8D-A2AF-E31FAF03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D9F06-647C-4BD8-A532-C0451868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F09A9-1759-4ECB-AB13-382D97FC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6C6F-CA7D-4220-891A-BA96CE5F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52FDE-8810-4009-8FE0-C8D6ADE6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587-9BD6-47B2-B57A-13358AA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5E9F-F2F5-4394-BB96-2EE7E518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FA85E-A990-4D73-A312-A2DF266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51C5-E924-4A17-9692-A07ED443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1B131-4F8C-48A1-94E5-FED5D525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60FE-FA2A-47C9-8AA7-B3A0261B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F744-5C71-439F-8483-74A2F4D6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72ED0-54B0-4D19-88AA-DF98B764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FC2F5-5DC3-4A84-8CE4-18ECFD5B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06931-428A-4484-B961-2499B3C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B29CC-BEF9-47F0-934B-56C967A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4E3-62DB-45FB-8542-AEBBB09373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1104-CA03-4120-A002-E6B5CBCAF5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D869-82B8-472D-9AFB-725728AE02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545-D4EB-4948-A9BF-3A8EA2CAA4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C6DA-0503-4CF9-80F2-8CB6563B16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BB1B-6DA8-45B7-B145-FA054EC8ED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E000-FEA4-46FE-9D2A-E278112ECA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DD4F-316B-46AA-8229-4062FCDF8D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DCC-92D2-46BB-B3D8-BB1C6D9AEA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9"/>
          <p:cNvSpPr/>
          <p:nvPr/>
        </p:nvSpPr>
        <p:spPr>
          <a:xfrm>
            <a:off x="2843280" y="33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eec9"/>
                </a:solidFill>
                <a:latin typeface="Tahoma"/>
              </a:rPr>
              <a:t>МБОУ СОШ № 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023840" y="1139760"/>
            <a:ext cx="736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971640" y="189000"/>
            <a:ext cx="7437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ahoma"/>
              </a:rPr>
              <a:t>VI </a:t>
            </a:r>
            <a:r>
              <a:rPr b="1" lang="ru-RU" sz="2400" spc="-1" strike="noStrike">
                <a:solidFill>
                  <a:srgbClr val="a5644e"/>
                </a:solidFill>
                <a:latin typeface="Tahoma"/>
              </a:rPr>
              <a:t>городская конферен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ahoma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ahoma"/>
              </a:rPr>
              <a:t>Этикетные формулы реч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ahoma"/>
              </a:rPr>
              <a:t>в русском язы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08720" y="2997360"/>
            <a:ext cx="358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Вторыгина Ева Артем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ученица 5а клас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МБОУ СОШ № 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Научный руковод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Пятовская Мария Вячеслав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учитель русского язык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и литерату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4105440" y="602136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г. Архангель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ahoma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1403280" y="981000"/>
            <a:ext cx="3311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) Пожалуйст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) Будьте доб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) Будьте любезн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) Если тебе не трудн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) Если вас не затруднит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5651640" y="836640"/>
            <a:ext cx="22860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глагол в форме повелительного наклон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4932360" y="907920"/>
            <a:ext cx="431640" cy="1440000"/>
          </a:xfrm>
          <a:custGeom>
            <a:avLst/>
            <a:gdLst>
              <a:gd name="textAreaLeft" fmla="*/ 0 w 431640"/>
              <a:gd name="textAreaRight" fmla="*/ 15588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468360" y="4581360"/>
            <a:ext cx="540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) Я хочу вас (тебя) попрос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) Мне хочется вас (тебя) попросить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) Я прошу вас (тебя)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) Мне нужно попросить вас (тебя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) Я просил(а) бы вас (тебя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6732720" y="4508640"/>
            <a:ext cx="2171520" cy="172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глагол в форме инфинитива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дать, принести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6012000" y="4508640"/>
            <a:ext cx="649080" cy="1582560"/>
          </a:xfrm>
          <a:custGeom>
            <a:avLst/>
            <a:gdLst>
              <a:gd name="textAreaLeft" fmla="*/ 0 w 649080"/>
              <a:gd name="textAreaRight" fmla="*/ 234360 w 64908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1692360" y="18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Формулы просьбы – приглаш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Picture 12" descr="pojaluysta_7"/>
          <p:cNvPicPr/>
          <p:nvPr/>
        </p:nvPicPr>
        <p:blipFill>
          <a:blip r:embed="rId1"/>
          <a:stretch/>
        </p:blipFill>
        <p:spPr>
          <a:xfrm>
            <a:off x="179280" y="2924280"/>
            <a:ext cx="3600720" cy="120312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3"/>
          <p:cNvSpPr/>
          <p:nvPr/>
        </p:nvSpPr>
        <p:spPr>
          <a:xfrm>
            <a:off x="3780000" y="2708280"/>
            <a:ext cx="5256000" cy="1584360"/>
          </a:xfrm>
          <a:prstGeom prst="leftArrowCallout">
            <a:avLst>
              <a:gd name="adj1" fmla="val 14233"/>
              <a:gd name="adj2" fmla="val 12023"/>
              <a:gd name="adj3" fmla="val 44248"/>
              <a:gd name="adj4" fmla="val 8109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ЖАЛУ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окажи милость»)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сокращение слова «государь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179280" y="54684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Формулы вежливого отказ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755640" y="2852640"/>
          <a:ext cx="7812000" cy="3840120"/>
        </p:xfrm>
        <a:graphic>
          <a:graphicData uri="http://schemas.openxmlformats.org/drawingml/2006/table">
            <a:tbl>
              <a:tblPr/>
              <a:tblGrid>
                <a:gridCol w="4248000"/>
                <a:gridCol w="3564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Этикетные формулы выражения вежливого отказа отк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бое, невежливое выражение отказа, не соответствующему речевому этикет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К сожалению, я не смогу этого сдел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Я бы с радостью сделал это, но у меня сегодня важная встреч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Сейчас мне некогда, как-нибудь в другой ра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. Мне жаль, но я очень заня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. Решительно отказываюс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Почему я должен это дел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Да не стану я этого дела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Еще чего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Picture 2" descr="http://mgm.com.ua/sites/default/files/styles/675x675/public/wallpampers.ru_.jpg"/>
          <p:cNvPicPr/>
          <p:nvPr/>
        </p:nvPicPr>
        <p:blipFill>
          <a:blip r:embed="rId1"/>
          <a:stretch/>
        </p:blipFill>
        <p:spPr>
          <a:xfrm>
            <a:off x="4284720" y="0"/>
            <a:ext cx="417492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1608480" y="836640"/>
            <a:ext cx="72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Этикетные формулы в речи учащихся 5 класс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997560" y="198900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и обращении к взрослы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«Здравствуйте», «До свид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При обращении к ровесник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«Привет», «По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Грубое «Досвидос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7" descr="236039279"/>
          <p:cNvPicPr/>
          <p:nvPr/>
        </p:nvPicPr>
        <p:blipFill>
          <a:blip r:embed="rId1"/>
          <a:stretch/>
        </p:blipFill>
        <p:spPr>
          <a:xfrm>
            <a:off x="6875640" y="1844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765666018"/>
          <p:cNvPicPr/>
          <p:nvPr/>
        </p:nvPicPr>
        <p:blipFill>
          <a:blip r:embed="rId2"/>
          <a:stretch/>
        </p:blipFill>
        <p:spPr>
          <a:xfrm>
            <a:off x="7020000" y="4292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468360" y="549360"/>
            <a:ext cx="77835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Этикетные формулы речи в русском языке многочисленны и разнообразны, а их употребление зависит от конкретной речев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Не зная истории происхождения этикетных выражений, можно неверно истолковать их смыс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В русском языке большинство исконно русских слов и выражений этикетного обихода, но есть и те, которые пришли из других яз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ahoma"/>
              </a:rPr>
              <a:t>Даже сегодня появляются новые формулы, но общеупотребительными остаются одни и те же выражения на протяжении уже долгого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1"/>
          <p:cNvSpPr/>
          <p:nvPr/>
        </p:nvSpPr>
        <p:spPr>
          <a:xfrm>
            <a:off x="539640" y="549360"/>
            <a:ext cx="820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Библиограф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урочкина И.Н. Современный этикет и воспитание культуры поведения у дошкольников: Учеб. Пособие для студ. Высш. Учеб. Заведений. – М.: «Владос», 2001, 22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Львова С.И. «Позвольте пригласить Вас…», или речевой этикет. – М.: «Дрофа», 2006, 208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Новый словарь методических терминов и понятий (теория и практика обучения языкам)/ Авторы Э. Г. Азимов, А. Н. Щукин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ttp://www.gramota.ru/slovari/d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Этикет/ Авторы-составители Н.И. Ушаков, Е.В. Романова. – М.: «Лукоморье», 1988, 352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"/>
          <p:cNvSpPr/>
          <p:nvPr/>
        </p:nvSpPr>
        <p:spPr>
          <a:xfrm>
            <a:off x="592200" y="19321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663480" y="186048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879480" y="3084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8" descr="http://england.turizm-online.ru/images/trad07.jpg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48960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1116000" y="549360"/>
            <a:ext cx="68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Изучение этикетных формул речи в русском языке</a:t>
            </a: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250920" y="260280"/>
            <a:ext cx="8713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Изучить понятия этикет, речевой этикет, этикетные формулы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Рассмотреть классификацию формул речевого этикета и выявить наиболее популярные из ни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Познакомиться с историей русского речевого этикета.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  <a:ea typeface="Arial"/>
              </a:rPr>
              <a:t>С помощью анкетирования определить популярные формулы приветствия и прощ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0" y="333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ff"/>
                </a:solidFill>
                <a:uFillTx/>
                <a:latin typeface="Tahoma"/>
              </a:rPr>
              <a:t>Речевой этикет</a:t>
            </a:r>
            <a:r>
              <a:rPr b="1" lang="ru-RU" sz="2800" spc="-1" strike="noStrike">
                <a:solidFill>
                  <a:srgbClr val="9900ff"/>
                </a:solidFill>
                <a:latin typeface="Tahoma"/>
              </a:rPr>
              <a:t> – это сложившаяся в языке и речи система устойчивых выражений, применяемых в ситуациях установления и поддержания контакта.</a:t>
            </a:r>
            <a:r>
              <a:rPr b="0" lang="ru-RU" sz="2800" spc="-1" strike="noStrike">
                <a:solidFill>
                  <a:srgbClr val="99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2484360" y="2349360"/>
            <a:ext cx="4248360" cy="1152720"/>
          </a:xfrm>
          <a:prstGeom prst="downArrowCallout">
            <a:avLst>
              <a:gd name="adj1" fmla="val 93921"/>
              <a:gd name="adj2" fmla="val 92138"/>
              <a:gd name="adj3" fmla="val 19532"/>
              <a:gd name="adj4" fmla="val 66667"/>
            </a:avLst>
          </a:prstGeom>
          <a:solidFill>
            <a:srgbClr val="0806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42f"/>
                </a:solidFill>
                <a:latin typeface="Tahoma"/>
              </a:rPr>
              <a:t>ЭТИК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" name="AutoShape 8"/>
          <p:cNvGrpSpPr/>
          <p:nvPr/>
        </p:nvGrpSpPr>
        <p:grpSpPr>
          <a:xfrm>
            <a:off x="2451240" y="3524400"/>
            <a:ext cx="4449600" cy="1633320"/>
            <a:chOff x="2451240" y="3524400"/>
            <a:chExt cx="4449600" cy="1633320"/>
          </a:xfrm>
        </p:grpSpPr>
        <p:pic>
          <p:nvPicPr>
            <p:cNvPr id="413" name="AutoShape 8" descr=""/>
            <p:cNvPicPr/>
            <p:nvPr/>
          </p:nvPicPr>
          <p:blipFill>
            <a:blip r:embed="rId1"/>
            <a:stretch/>
          </p:blipFill>
          <p:spPr>
            <a:xfrm>
              <a:off x="2451240" y="3524400"/>
              <a:ext cx="44496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556000" y="3573360"/>
              <a:ext cx="4248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ИЗ ФРАНЦУЗСКОГО ЯЗЫ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«ЯРЛЫК, ЭТИКЕТКА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Rectangle 9"/>
          <p:cNvGrpSpPr/>
          <p:nvPr/>
        </p:nvGrpSpPr>
        <p:grpSpPr>
          <a:xfrm>
            <a:off x="2523960" y="4968720"/>
            <a:ext cx="4376880" cy="1176480"/>
            <a:chOff x="2523960" y="4968720"/>
            <a:chExt cx="4376880" cy="1176480"/>
          </a:xfrm>
        </p:grpSpPr>
        <p:pic>
          <p:nvPicPr>
            <p:cNvPr id="416" name="Rectangle 9" descr=""/>
            <p:cNvPicPr/>
            <p:nvPr/>
          </p:nvPicPr>
          <p:blipFill>
            <a:blip r:embed="rId2"/>
            <a:stretch/>
          </p:blipFill>
          <p:spPr>
            <a:xfrm>
              <a:off x="2523960" y="4968720"/>
              <a:ext cx="43768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627280" y="5084640"/>
              <a:ext cx="4175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ИЗ ГРЕЧЕСКОГО ЯЗЫ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ETHOS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Franklin Gothic Book"/>
                </a:rPr>
                <a:t>«ОБЫЧАЙ, ХАРАКТЕР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8" descr="p19_4"/>
          <p:cNvPicPr/>
          <p:nvPr/>
        </p:nvPicPr>
        <p:blipFill>
          <a:blip r:embed="rId1"/>
          <a:stretch/>
        </p:blipFill>
        <p:spPr>
          <a:xfrm>
            <a:off x="5364000" y="4076640"/>
            <a:ext cx="3635640" cy="25210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8"/>
          <p:cNvSpPr/>
          <p:nvPr/>
        </p:nvSpPr>
        <p:spPr>
          <a:xfrm>
            <a:off x="5219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324000" y="260280"/>
            <a:ext cx="4464000" cy="72072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180000 h 720720"/>
              <a:gd name="textAreaBottom" fmla="*/ 699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ЛАГОДАР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250200" y="1916280"/>
            <a:ext cx="4392360" cy="792000"/>
          </a:xfrm>
          <a:custGeom>
            <a:avLst/>
            <a:gdLst>
              <a:gd name="textAreaLeft" fmla="*/ 1150200 w 4392360"/>
              <a:gd name="textAreaRight" fmla="*/ 3242160 w 4392360"/>
              <a:gd name="textAreaTop" fmla="*/ 17964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16699"/>
                </a:moveTo>
                <a:arcTo wR="21600" hR="0" stAng="0" swAng="0"/>
                <a:lnTo>
                  <a:pt x="10800" y="21600"/>
                </a:lnTo>
                <a:arcTo wR="21600" hR="0" stAng="0" swAng="0"/>
                <a:lnTo>
                  <a:pt x="10800" y="16699"/>
                </a:lnTo>
                <a:arcTo wR="21600" hR="0" stAng="0" swAng="0"/>
                <a:lnTo>
                  <a:pt x="18900" y="8350"/>
                </a:lnTo>
                <a:lnTo>
                  <a:pt x="21600" y="0"/>
                </a:lnTo>
                <a:lnTo>
                  <a:pt x="10800" y="0"/>
                </a:lnTo>
                <a:arcTo wR="21600" hR="0" stAng="0" swAng="0"/>
                <a:lnTo>
                  <a:pt x="10800" y="4901"/>
                </a:lnTo>
                <a:arcTo wR="21600" hR="0" stAng="0" swAng="0"/>
                <a:lnTo>
                  <a:pt x="10800" y="0"/>
                </a:lnTo>
                <a:arcTo wR="21600" hR="0" stAng="0" swAng="0"/>
                <a:lnTo>
                  <a:pt x="2700" y="8350"/>
                </a:lnTo>
                <a:close/>
              </a:path>
              <a:path fill="none" w="21600" h="21600">
                <a:moveTo>
                  <a:pt x="10800" y="4901"/>
                </a:moveTo>
                <a:arcTo wR="21600" hR="0" stAng="0" swAng="0"/>
                <a:lnTo>
                  <a:pt x="8357" y="0"/>
                </a:lnTo>
              </a:path>
              <a:path fill="none" w="21600" h="21600">
                <a:moveTo>
                  <a:pt x="10800" y="4901"/>
                </a:moveTo>
                <a:arcTo wR="21600" hR="0" stAng="0" swAng="0"/>
                <a:lnTo>
                  <a:pt x="13243" y="0"/>
                </a:lnTo>
              </a:path>
              <a:path fill="none" w="21600" h="21600">
                <a:moveTo>
                  <a:pt x="5657" y="16699"/>
                </a:moveTo>
                <a:lnTo>
                  <a:pt x="5657" y="4901"/>
                </a:lnTo>
              </a:path>
              <a:path fill="none" w="21600" h="21600">
                <a:moveTo>
                  <a:pt x="15943" y="16699"/>
                </a:moveTo>
                <a:lnTo>
                  <a:pt x="15943" y="4901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ЗВИН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AutoShape 14"/>
          <p:cNvSpPr/>
          <p:nvPr/>
        </p:nvSpPr>
        <p:spPr>
          <a:xfrm>
            <a:off x="179280" y="981000"/>
            <a:ext cx="4464000" cy="792360"/>
          </a:xfrm>
          <a:custGeom>
            <a:avLst/>
            <a:gdLst>
              <a:gd name="textAreaLeft" fmla="*/ 1116000 w 4464000"/>
              <a:gd name="textAreaRight" fmla="*/ 3348000 w 4464000"/>
              <a:gd name="textAreaTop" fmla="*/ 198000 h 792360"/>
              <a:gd name="textAreaBottom" fmla="*/ 768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ВЕТСТВ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AutoShape 15"/>
          <p:cNvSpPr/>
          <p:nvPr/>
        </p:nvSpPr>
        <p:spPr>
          <a:xfrm>
            <a:off x="250920" y="2708280"/>
            <a:ext cx="4392360" cy="792000"/>
          </a:xfrm>
          <a:custGeom>
            <a:avLst/>
            <a:gdLst>
              <a:gd name="textAreaLeft" fmla="*/ 1098000 w 4392360"/>
              <a:gd name="textAreaRight" fmla="*/ 3294360 w 4392360"/>
              <a:gd name="textAreaTop" fmla="*/ 198000 h 792000"/>
              <a:gd name="textAreaBottom" fmla="*/ 76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Щ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16"/>
          <p:cNvSpPr/>
          <p:nvPr/>
        </p:nvSpPr>
        <p:spPr>
          <a:xfrm>
            <a:off x="179280" y="4653000"/>
            <a:ext cx="4753080" cy="936720"/>
          </a:xfrm>
          <a:custGeom>
            <a:avLst/>
            <a:gdLst>
              <a:gd name="textAreaLeft" fmla="*/ 1188360 w 4753080"/>
              <a:gd name="textAreaRight" fmla="*/ 3565080 w 4753080"/>
              <a:gd name="textAreaTop" fmla="*/ 23400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ЕЖЛИВОГО ОТК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7"/>
          <p:cNvSpPr/>
          <p:nvPr/>
        </p:nvSpPr>
        <p:spPr>
          <a:xfrm>
            <a:off x="250920" y="5734080"/>
            <a:ext cx="4249800" cy="762120"/>
          </a:xfrm>
          <a:custGeom>
            <a:avLst/>
            <a:gdLst>
              <a:gd name="textAreaLeft" fmla="*/ 1062360 w 4249800"/>
              <a:gd name="textAreaRight" fmla="*/ 3187440 w 42498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ПРОСЬ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 ПРИГЛАШ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Лента лицом вниз 15"/>
          <p:cNvSpPr/>
          <p:nvPr/>
        </p:nvSpPr>
        <p:spPr>
          <a:xfrm>
            <a:off x="250920" y="3573360"/>
            <a:ext cx="4608360" cy="100800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16776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ПОЖЕЛ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Лента лицом вниз 10"/>
          <p:cNvSpPr/>
          <p:nvPr/>
        </p:nvSpPr>
        <p:spPr>
          <a:xfrm>
            <a:off x="4500720" y="1844640"/>
            <a:ext cx="5040000" cy="936720"/>
          </a:xfrm>
          <a:custGeom>
            <a:avLst/>
            <a:gdLst>
              <a:gd name="textAreaLeft" fmla="*/ 1260000 w 5040000"/>
              <a:gd name="textAreaRight" fmla="*/ 3780000 w 5040000"/>
              <a:gd name="textAreaTop" fmla="*/ 15588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СОЧУВСТВИЯ И СОБОЛЕЗН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Лента лицом вниз 12"/>
          <p:cNvSpPr/>
          <p:nvPr/>
        </p:nvSpPr>
        <p:spPr>
          <a:xfrm>
            <a:off x="4643280" y="2997360"/>
            <a:ext cx="4176720" cy="79200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13176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ОРМУЛЫ КОМПЛИМЕН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Прямоугольник 1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Прямоугольник 14" descr=""/>
          <p:cNvPicPr/>
          <p:nvPr/>
        </p:nvPicPr>
        <p:blipFill>
          <a:blip r:embed="rId2"/>
          <a:stretch/>
        </p:blipFill>
        <p:spPr>
          <a:xfrm>
            <a:off x="4968720" y="-109440"/>
            <a:ext cx="398016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1042920" y="-720"/>
            <a:ext cx="7416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Здравствуйте! 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Что особого тем мы друг другу сказали?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Отчего же на капельку радостней сделалась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жизнь?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В. Солоухин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324000" y="1557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3203640" y="1413000"/>
            <a:ext cx="237636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форма повелительного наклонения глагола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дравствовать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6516720" y="141300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БУДЬ ЗДОРОВ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ПОЖЕЛАНИЕ ЗДОРОВЬ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468360" y="32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ЛОВАТЬ (ЛОБЗАТЬ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95280" y="5229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ЖЕЛАТЬ БЫТЬ ЦЕЛЫМ, НЕВРЕДИМЫМ, ЗДОРОВЫМ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1258920" y="4076640"/>
            <a:ext cx="772920" cy="976320"/>
          </a:xfrm>
          <a:prstGeom prst="downArrow">
            <a:avLst>
              <a:gd name="adj1" fmla="val 50000"/>
              <a:gd name="adj2" fmla="val 3157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6012000" y="285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E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идти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012000" y="3860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ON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ну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6012000" y="4724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телефонное» слово АЛ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867280" y="5877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Буквальн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ahoma"/>
              </a:rPr>
              <a:t>«ИДЕМ, ПОШЛ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utoShape 23"/>
          <p:cNvSpPr/>
          <p:nvPr/>
        </p:nvSpPr>
        <p:spPr>
          <a:xfrm>
            <a:off x="2195640" y="1484280"/>
            <a:ext cx="1224000" cy="71928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utoShape 24"/>
          <p:cNvSpPr/>
          <p:nvPr/>
        </p:nvSpPr>
        <p:spPr>
          <a:xfrm>
            <a:off x="5364000" y="1413000"/>
            <a:ext cx="1297080" cy="7920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utoShape 25"/>
          <p:cNvSpPr/>
          <p:nvPr/>
        </p:nvSpPr>
        <p:spPr>
          <a:xfrm>
            <a:off x="6948360" y="3284640"/>
            <a:ext cx="701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AutoShape 26"/>
          <p:cNvSpPr/>
          <p:nvPr/>
        </p:nvSpPr>
        <p:spPr>
          <a:xfrm>
            <a:off x="6948360" y="4221000"/>
            <a:ext cx="77328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AutoShape 27"/>
          <p:cNvSpPr/>
          <p:nvPr/>
        </p:nvSpPr>
        <p:spPr>
          <a:xfrm>
            <a:off x="6948360" y="5300640"/>
            <a:ext cx="8463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2" descr="http://metod.eniak.ru/sites/default/files/u3/pravila-etiketa-dlya-samyx-malenkix-1.jpg"/>
          <p:cNvPicPr/>
          <p:nvPr/>
        </p:nvPicPr>
        <p:blipFill>
          <a:blip r:embed="rId1"/>
          <a:stretch/>
        </p:blipFill>
        <p:spPr>
          <a:xfrm>
            <a:off x="2627280" y="3198960"/>
            <a:ext cx="3457440" cy="339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684360" y="476280"/>
            <a:ext cx="7920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ламенный привет!                                     Доброго здоровья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озвольте поприветствовать Вас!            Здравствуй(те)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Кого я вижу! Мое почтение!             Привет честнОй компании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Наше Вам с кисточкой!                       Сколько лет, сколько зим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 прибытием!                                             Добро пожаловать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алют! Здорово, браток!                           Легок на помин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ривет от старых штиблет!                        Моё почтени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леб да соль!                                                Рад вас видеть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Доброе утро!                                                   Здравия желаю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елло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174"/>
          <p:cNvSpPr/>
          <p:nvPr/>
        </p:nvSpPr>
        <p:spPr>
          <a:xfrm>
            <a:off x="539640" y="5300640"/>
            <a:ext cx="2664000" cy="1079640"/>
          </a:xfrm>
          <a:custGeom>
            <a:avLst/>
            <a:gdLst>
              <a:gd name="textAreaLeft" fmla="*/ 0 w 2664000"/>
              <a:gd name="textAreaRight" fmla="*/ 2664360 w 266400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ahoma"/>
              </a:rPr>
              <a:t>Междометие ПО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AutoShape 172"/>
          <p:cNvSpPr/>
          <p:nvPr/>
        </p:nvSpPr>
        <p:spPr>
          <a:xfrm>
            <a:off x="539640" y="4149720"/>
            <a:ext cx="2519640" cy="1224000"/>
          </a:xfrm>
          <a:prstGeom prst="downArrowCallout">
            <a:avLst>
              <a:gd name="adj1" fmla="val 51468"/>
              <a:gd name="adj2" fmla="val 51463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AutoShape 171"/>
          <p:cNvSpPr/>
          <p:nvPr/>
        </p:nvSpPr>
        <p:spPr>
          <a:xfrm>
            <a:off x="468360" y="3068640"/>
            <a:ext cx="2663640" cy="1081080"/>
          </a:xfrm>
          <a:prstGeom prst="downArrowCallout">
            <a:avLst>
              <a:gd name="adj1" fmla="val 61602"/>
              <a:gd name="adj2" fmla="val 61597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AutoShape 170"/>
          <p:cNvSpPr/>
          <p:nvPr/>
        </p:nvSpPr>
        <p:spPr>
          <a:xfrm>
            <a:off x="468360" y="1989000"/>
            <a:ext cx="2663640" cy="1079640"/>
          </a:xfrm>
          <a:prstGeom prst="downArrowCallout">
            <a:avLst>
              <a:gd name="adj1" fmla="val 61684"/>
              <a:gd name="adj2" fmla="val 61679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AutoShape 169"/>
          <p:cNvSpPr/>
          <p:nvPr/>
        </p:nvSpPr>
        <p:spPr>
          <a:xfrm>
            <a:off x="395280" y="836640"/>
            <a:ext cx="2664000" cy="1152360"/>
          </a:xfrm>
          <a:prstGeom prst="downArrowCallout">
            <a:avLst>
              <a:gd name="adj1" fmla="val 57800"/>
              <a:gd name="adj2" fmla="val 57794"/>
              <a:gd name="adj3" fmla="val 16667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519120" y="27612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547640" y="33336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340000" y="115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ahoma"/>
              </a:rPr>
              <a:t>Формулы прощ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162"/>
          <p:cNvSpPr/>
          <p:nvPr/>
        </p:nvSpPr>
        <p:spPr>
          <a:xfrm>
            <a:off x="771480" y="1114560"/>
            <a:ext cx="23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163"/>
          <p:cNvSpPr/>
          <p:nvPr/>
        </p:nvSpPr>
        <p:spPr>
          <a:xfrm>
            <a:off x="468360" y="981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КАкое МЕС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164"/>
          <p:cNvSpPr/>
          <p:nvPr/>
        </p:nvSpPr>
        <p:spPr>
          <a:xfrm>
            <a:off x="395280" y="3068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+КА+МЕСТ = ПОКАМЕ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65"/>
          <p:cNvSpPr/>
          <p:nvPr/>
        </p:nvSpPr>
        <p:spPr>
          <a:xfrm>
            <a:off x="468360" y="1989000"/>
            <a:ext cx="2663640" cy="67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КА МЕСТ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сращение частей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166"/>
          <p:cNvSpPr/>
          <p:nvPr/>
        </p:nvSpPr>
        <p:spPr>
          <a:xfrm>
            <a:off x="3995640" y="213372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167"/>
          <p:cNvSpPr/>
          <p:nvPr/>
        </p:nvSpPr>
        <p:spPr>
          <a:xfrm>
            <a:off x="611280" y="4292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ечие ПО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AutoShape 177"/>
          <p:cNvSpPr/>
          <p:nvPr/>
        </p:nvSpPr>
        <p:spPr>
          <a:xfrm>
            <a:off x="3564000" y="692280"/>
            <a:ext cx="1873080" cy="1873080"/>
          </a:xfrm>
          <a:custGeom>
            <a:avLst/>
            <a:gdLst>
              <a:gd name="textAreaLeft" fmla="*/ 220680 w 1873080"/>
              <a:gd name="textAreaRight" fmla="*/ 1652400 w 1873080"/>
              <a:gd name="textAreaTop" fmla="*/ 220680 h 1873080"/>
              <a:gd name="textAreaBottom" fmla="*/ 1652400 h 187308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литель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клон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лагол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AutoShape 178"/>
          <p:cNvSpPr/>
          <p:nvPr/>
        </p:nvSpPr>
        <p:spPr>
          <a:xfrm>
            <a:off x="6804000" y="333360"/>
            <a:ext cx="2087640" cy="2736720"/>
          </a:xfrm>
          <a:custGeom>
            <a:avLst/>
            <a:gdLst>
              <a:gd name="textAreaLeft" fmla="*/ 245880 w 2087640"/>
              <a:gd name="textAreaRight" fmla="*/ 1841760 w 2087640"/>
              <a:gd name="textAreaTop" fmla="*/ 245880 h 2736720"/>
              <a:gd name="textAreaBottom" fmla="*/ 2490840 h 2736720"/>
            </a:gdLst>
            <a:ahLst/>
            <a:rect l="textAreaLeft" t="textAreaTop" r="textAreaRight" b="textAreaBottom"/>
            <a:pathLst>
              <a:path w="21600" h="28315">
                <a:moveTo>
                  <a:pt x="3600" y="0"/>
                </a:moveTo>
                <a:arcTo wR="3600" hR="3600" stAng="0" swAng="5400000"/>
                <a:lnTo>
                  <a:pt x="0" y="24715"/>
                </a:lnTo>
                <a:arcTo wR="3600" hR="3600" stAng="16200000" swAng="5400000"/>
                <a:lnTo>
                  <a:pt x="18000" y="28315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ервоначально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на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ст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если чт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так)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Фразеологиз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щай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помина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ихом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AutoShape 179"/>
          <p:cNvSpPr/>
          <p:nvPr/>
        </p:nvSpPr>
        <p:spPr>
          <a:xfrm>
            <a:off x="5435640" y="692280"/>
            <a:ext cx="1359000" cy="1871640"/>
          </a:xfrm>
          <a:custGeom>
            <a:avLst/>
            <a:gdLst>
              <a:gd name="textAreaLeft" fmla="*/ 339840 w 1359000"/>
              <a:gd name="textAreaRight" fmla="*/ 1019520 w 135900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ПРОЩА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180"/>
          <p:cNvSpPr/>
          <p:nvPr/>
        </p:nvSpPr>
        <p:spPr>
          <a:xfrm>
            <a:off x="4932360" y="400536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АДЬЮ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«с Богом, до свид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81"/>
          <p:cNvSpPr/>
          <p:nvPr/>
        </p:nvSpPr>
        <p:spPr>
          <a:xfrm>
            <a:off x="5219640" y="573408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от фр.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(предлог) +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IEU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(Бо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AutoShape 182"/>
          <p:cNvSpPr/>
          <p:nvPr/>
        </p:nvSpPr>
        <p:spPr>
          <a:xfrm>
            <a:off x="6588000" y="5013360"/>
            <a:ext cx="13669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2" descr="http://3.bp.blogspot.com/_FHsa0DCSlu4/S_06abLijfI/AAAAAAAAG_k/tBYZMdVx4wM/s1600/0f32bd9346b0.png"/>
          <p:cNvPicPr/>
          <p:nvPr/>
        </p:nvPicPr>
        <p:blipFill>
          <a:blip r:embed="rId1"/>
          <a:stretch/>
        </p:blipFill>
        <p:spPr>
          <a:xfrm>
            <a:off x="2556000" y="2133720"/>
            <a:ext cx="3528720" cy="357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468360" y="135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«Благодарность- чувство признательности к кому-нибудь за оказанное добро, внимание»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539640" y="907920"/>
            <a:ext cx="2448000" cy="1152720"/>
          </a:xfrm>
          <a:prstGeom prst="wedgeRoundRectCallout">
            <a:avLst>
              <a:gd name="adj1" fmla="val -34398"/>
              <a:gd name="adj2" fmla="val 1278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 старинного пожелания «СПАСИ БОГ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WordArt 12"/>
          <p:cNvSpPr txBox="1"/>
          <p:nvPr/>
        </p:nvSpPr>
        <p:spPr>
          <a:xfrm>
            <a:off x="324000" y="3068640"/>
            <a:ext cx="25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788000" y="2997360"/>
            <a:ext cx="2643120" cy="792000"/>
          </a:xfrm>
          <a:prstGeom prst="wedgeRectCallout">
            <a:avLst>
              <a:gd name="adj1" fmla="val 7115"/>
              <a:gd name="adj2" fmla="val -2073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ЛАГО + ДАРИТЬ («ДАРИТЬ ДОБРО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WordArt 14"/>
          <p:cNvSpPr txBox="1"/>
          <p:nvPr/>
        </p:nvSpPr>
        <p:spPr>
          <a:xfrm>
            <a:off x="4788000" y="105264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5" name="Picture 2" descr="http://www.zanimatika.narod.ru/Vejlivost.jpg"/>
          <p:cNvPicPr/>
          <p:nvPr/>
        </p:nvPicPr>
        <p:blipFill>
          <a:blip r:embed="rId1"/>
          <a:stretch/>
        </p:blipFill>
        <p:spPr>
          <a:xfrm>
            <a:off x="2050920" y="3716280"/>
            <a:ext cx="306720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54:06Z</dcterms:created>
  <dc:creator>User</dc:creator>
  <dc:description/>
  <dc:language>en-US</dc:language>
  <cp:lastModifiedBy>Семья</cp:lastModifiedBy>
  <dcterms:modified xsi:type="dcterms:W3CDTF">2017-11-26T21:30:43Z</dcterms:modified>
  <cp:revision>56</cp:revision>
  <dc:subject/>
  <dc:title>Слайд 1</dc:title>
</cp:coreProperties>
</file>