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jpeg" ContentType="image/jpeg"/>
  <Override PartName="/ppt/media/image10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D961-8375-407F-AC3F-09FBE9255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C679-2693-4AAC-9C06-A1E1640C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B0437-EA69-4788-9E18-A2285CB6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03327C-5506-4A13-9433-69299710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94260-FC85-4161-B745-AD2D33F1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10A81-2B36-478A-A677-D7EAAB70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FF2B4-F8E0-48F9-AB9C-F1110959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76FA7-5C39-416D-8E69-70492E1F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48FBA-E253-4ECE-AFF1-5EC3026F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29225-23AB-4F29-A29E-2324B774A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38891-02F2-43E5-B309-8E5D597D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7213-C5C5-43E0-BBA2-966D7F0B3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D96D-4714-46F2-9437-9A3242110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0B52-CD0E-4D71-806E-BD93743DC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3292-4135-45C3-87F3-0EB49482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112F-9D26-4EA7-BBF3-19C60E2B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8682-7B55-4AB7-9475-D9365AB5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1509-7EFA-472E-8F6F-A08C38FA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0C56-857F-44D8-A0A7-026FC0A7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EEA2-6702-40CE-B653-7886F0F6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2173-84B0-4592-92B4-E6C777EF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F0CB-2DBA-4E74-A41A-2E6F0B73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5B4D-B3AD-44AD-8D69-DC67C376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9883-DD10-4A2A-A035-1C9950F3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74B5-DC43-4785-B7E0-9BC506AAC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E8A6-2D56-469B-89FA-A4FDCD167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FA68B-0274-4594-B350-59BFBC151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85361-F40B-43C9-A010-84A10A28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03F23-7CDE-4285-9EBC-F446DF6A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020F9-4B7E-4017-A621-2B64CE73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39B9A-DDD9-4619-8D25-15C5960A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8044-A328-4C2B-B723-5A7834F9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5DF6E-E482-4FAA-A19A-440DF8C1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55A44-E07A-4618-AD33-A97ABFE1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EE04C-0104-4575-A2FE-96280D46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47A04-CBA3-41F9-B2B2-F2A7D1C4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4926B-20C2-4E15-BFB3-369BEB25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B2CD8-A09A-4277-B0DF-7D92CB84E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79B27-E73C-4E60-B18A-DDC9BDCB9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1B710-2485-47DB-944A-25E4E4044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F6BFC-276D-4C91-8A32-06BC43AD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DD7A1-B3A5-49FC-A365-9305D6D6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F52A-E064-4144-9445-22B0C8DC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50F7C-4E47-417B-9A74-9B1E9886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ADBE0-DB96-4108-9B97-C882A60C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35A29-6DC9-4A74-8C02-7BEBACD4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43F5C-A01B-419D-B3DF-E10B6BF8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C4873-B0F4-494B-BE9F-A43F9F32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EECB8-5FA6-40BB-B6B3-B3C8C628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B64D3-CC90-4645-B546-197E9DE9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D36CD-2D1E-477C-95D2-3E9D706F2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AA7E5-EEF8-43D3-ACD2-C1234C5D9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B00AF-307E-4668-940E-741686391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178A-25CE-45A7-B937-DEE5B3D7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40DD0-DA4F-42E6-9421-414A8118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ADEAA-F04C-4455-B05F-5C923511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19C6E-2A29-456E-B74A-C43B8D08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721F6-453C-49F4-8964-0704C9C6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C44EA-F266-41E9-8BF0-528827A3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B6CC8-93FF-43B0-BE73-8C5C8779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33E0E-8C1A-4679-9B35-D5CBA453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0FFB5-3344-4471-A413-77F61DDA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CA20E-09D8-4428-A6B0-AC48B6D3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158A3-7A93-47FF-83B2-4C0D56ACF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0FD6-9CF9-49D3-B2FC-A3EA4AD6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DAA3C-4CF9-4691-9AF5-C8C31797A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373C4-4FE0-4EE0-8CD4-8FCEBA742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AA2F5-6861-49BF-8174-8B068845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E54C7-3441-4A3A-8912-24D8655F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739A0-03D6-4A83-9280-C51B3534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14245-3F1B-4251-9B09-A08F52AD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C7A6E-36C5-4654-9C85-3926E7F5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71173-419A-46CB-9F09-2809C02F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93752-3C64-437F-99D5-8B69C8CE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7BB33-6562-4FBD-8CAA-153DE673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74C5-360B-4851-A106-30F6A42F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A3127-1FB7-43A9-9BE0-76CAF2D3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CBC33-3B70-4841-8838-CC6488477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49EB7-5A42-4224-A740-51404F80D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D1499-60F9-4449-A057-53CB450B9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343CE-7F77-4687-BBE5-1DF5D3C7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64321-94CB-4A6D-9DDE-2CD6F311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69843-2D6B-4D02-90EE-46FA9710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51844-21A0-4BD5-A092-56924515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A17A2-C900-46C9-92E9-3DF3C9B9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47E17-7541-471B-9ED8-971A73A3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5E02-FC5D-4E1D-8473-4D545AB3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07A9A-251F-408E-AF0B-439C7CF6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4A6AC-187D-4567-A2D7-0CB2A3A2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C5C33-5B8F-4816-8ECF-6CD6C05C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A1ECD-A16F-491E-B18C-72E6AD767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68C85-256E-4DCF-BA95-B8A13D6E9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AEA00-EEBA-4ECF-B9AC-C3BDA0146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E0C70-41AC-402E-B1AF-F3CB38F1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133BE-7734-47CF-B901-3BA26C52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AA70C-0C95-4DDA-81A6-0F7EFD1A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6B92F-DA32-4925-839E-8293C62F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FE3E-A26D-424C-857E-32EDAED0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70EAA-EA7B-4CAC-9F72-06B61973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B9DF5-C9FA-42BA-AEB1-E1EB1C39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5BECA-173F-403D-B1CF-52EB5638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CB492-B40F-4ACD-8819-212D844E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46D6D-C4C0-4313-9C8F-632994A4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744B7-5BBD-49BB-8524-DADF7FF7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39716-8BCA-403F-AF4A-700D45787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2B262-AB36-4166-A335-3FB148EB3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F9889-D113-4A80-91AC-2958B238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F57CB-47C3-4FAB-AC0F-5DF81D20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BDE5-DD55-4B83-9462-0C57F722997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79EB-DB7A-4C0C-A0D0-1E7049B1B94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A72C-CC42-42AA-B4DC-C9D3A10D176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EF15-3D3F-42D2-B880-DA837D38AD6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B72B-C3C3-4083-84B8-86C47634698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75DA-0ACF-4D69-A86A-CCB327310B9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512C-2D13-44A1-A1AF-0C46FF817E7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80A7-A2C2-42B4-9FB6-30833EA67E0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EA7D-9D19-4E4F-9CB2-5E85B7D3292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9"/>
          <p:cNvSpPr/>
          <p:nvPr/>
        </p:nvSpPr>
        <p:spPr>
          <a:xfrm>
            <a:off x="2843280" y="33336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beec9"/>
                </a:solidFill>
                <a:latin typeface="Tahoma"/>
              </a:rPr>
              <a:t>МБОУ СОШ № 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1023840" y="1139760"/>
            <a:ext cx="736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Text Box 11"/>
          <p:cNvSpPr/>
          <p:nvPr/>
        </p:nvSpPr>
        <p:spPr>
          <a:xfrm>
            <a:off x="971640" y="189000"/>
            <a:ext cx="74372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644e"/>
                </a:solidFill>
                <a:latin typeface="Tahoma"/>
              </a:rPr>
              <a:t>VI </a:t>
            </a:r>
            <a:r>
              <a:rPr b="1" lang="ru-RU" sz="2400" spc="-1" strike="noStrike">
                <a:solidFill>
                  <a:srgbClr val="a5644e"/>
                </a:solidFill>
                <a:latin typeface="Tahoma"/>
              </a:rPr>
              <a:t>городская конференц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644e"/>
                </a:solidFill>
                <a:latin typeface="Tahoma"/>
              </a:rPr>
              <a:t>«Шаг в будущее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ahoma"/>
              </a:rPr>
              <a:t>Этикетные формулы реч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ahoma"/>
              </a:rPr>
              <a:t>в русском язык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TextBox 6"/>
          <p:cNvSpPr/>
          <p:nvPr/>
        </p:nvSpPr>
        <p:spPr>
          <a:xfrm>
            <a:off x="5508720" y="2997360"/>
            <a:ext cx="3585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ahoma"/>
              </a:rPr>
              <a:t>Работу выполнил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ahoma"/>
              </a:rPr>
              <a:t>Вторыгина Ева Артемов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ahoma"/>
              </a:rPr>
              <a:t>ученица 5а класс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ahoma"/>
              </a:rPr>
              <a:t>МБОУ СОШ № 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ahoma"/>
              </a:rPr>
              <a:t>Научный руководите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ahoma"/>
              </a:rPr>
              <a:t>Пятовская Мария Вячеславов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ahoma"/>
              </a:rPr>
              <a:t>учитель русского язык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ahoma"/>
              </a:rPr>
              <a:t>и литератур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TextBox 9"/>
          <p:cNvSpPr/>
          <p:nvPr/>
        </p:nvSpPr>
        <p:spPr>
          <a:xfrm>
            <a:off x="4105440" y="602136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ahoma"/>
              </a:rPr>
              <a:t>г. Архангельс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ahoma"/>
              </a:rPr>
              <a:t>2013 г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4"/>
          <p:cNvSpPr/>
          <p:nvPr/>
        </p:nvSpPr>
        <p:spPr>
          <a:xfrm>
            <a:off x="1403280" y="981000"/>
            <a:ext cx="331164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) Пожалуйста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) Будьте добры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3) Будьте любезны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4) Если тебе не трудно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5) Если вас не затруднит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Oval 5"/>
          <p:cNvSpPr/>
          <p:nvPr/>
        </p:nvSpPr>
        <p:spPr>
          <a:xfrm>
            <a:off x="5651640" y="836640"/>
            <a:ext cx="22860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+ глагол в форме повелительного наклонен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AutoShape 6"/>
          <p:cNvSpPr/>
          <p:nvPr/>
        </p:nvSpPr>
        <p:spPr>
          <a:xfrm>
            <a:off x="4932360" y="907920"/>
            <a:ext cx="431640" cy="1440000"/>
          </a:xfrm>
          <a:custGeom>
            <a:avLst/>
            <a:gdLst>
              <a:gd name="textAreaLeft" fmla="*/ 0 w 431640"/>
              <a:gd name="textAreaRight" fmla="*/ 155880 w 43164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468360" y="4581360"/>
            <a:ext cx="540072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) Я хочу вас (тебя) попросить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) Мне хочется вас (тебя) попросить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3) Я прошу вас (тебя) 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4) Мне нужно попросить вас (тебя)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5) Я просил(а) бы вас (тебя)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Oval 8"/>
          <p:cNvSpPr/>
          <p:nvPr/>
        </p:nvSpPr>
        <p:spPr>
          <a:xfrm>
            <a:off x="6732720" y="4508640"/>
            <a:ext cx="2171520" cy="1726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+ глагол в форме инфинитива 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ередать, принести…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AutoShape 9"/>
          <p:cNvSpPr/>
          <p:nvPr/>
        </p:nvSpPr>
        <p:spPr>
          <a:xfrm>
            <a:off x="6012000" y="4508640"/>
            <a:ext cx="649080" cy="1582560"/>
          </a:xfrm>
          <a:custGeom>
            <a:avLst/>
            <a:gdLst>
              <a:gd name="textAreaLeft" fmla="*/ 0 w 649080"/>
              <a:gd name="textAreaRight" fmla="*/ 234360 w 649080"/>
              <a:gd name="textAreaTop" fmla="*/ 41040 h 1582560"/>
              <a:gd name="textAreaBottom" fmla="*/ 1541520 h 15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Text Box 11"/>
          <p:cNvSpPr/>
          <p:nvPr/>
        </p:nvSpPr>
        <p:spPr>
          <a:xfrm>
            <a:off x="1692360" y="18900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Формулы просьбы – приглаше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Picture 12" descr="pojaluysta_7"/>
          <p:cNvPicPr/>
          <p:nvPr/>
        </p:nvPicPr>
        <p:blipFill>
          <a:blip r:embed="rId1"/>
          <a:stretch/>
        </p:blipFill>
        <p:spPr>
          <a:xfrm>
            <a:off x="179280" y="2924280"/>
            <a:ext cx="3600720" cy="1203120"/>
          </a:xfrm>
          <a:prstGeom prst="rect">
            <a:avLst/>
          </a:prstGeom>
          <a:ln w="0">
            <a:noFill/>
          </a:ln>
        </p:spPr>
      </p:pic>
      <p:sp>
        <p:nvSpPr>
          <p:cNvPr id="484" name="AutoShape 13"/>
          <p:cNvSpPr/>
          <p:nvPr/>
        </p:nvSpPr>
        <p:spPr>
          <a:xfrm>
            <a:off x="3780000" y="2708280"/>
            <a:ext cx="5256000" cy="1584360"/>
          </a:xfrm>
          <a:prstGeom prst="leftArrowCallout">
            <a:avLst>
              <a:gd name="adj1" fmla="val 14233"/>
              <a:gd name="adj2" fmla="val 12023"/>
              <a:gd name="adj3" fmla="val 44248"/>
              <a:gd name="adj4" fmla="val 8109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ЖАЛУЙ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(«окажи милость») 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Т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(сокращение слова «государь»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4"/>
          <p:cNvSpPr/>
          <p:nvPr/>
        </p:nvSpPr>
        <p:spPr>
          <a:xfrm>
            <a:off x="179280" y="546840"/>
            <a:ext cx="331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96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Формулы вежливого отказ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6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755640" y="2852640"/>
          <a:ext cx="7812000" cy="3840120"/>
        </p:xfrm>
        <a:graphic>
          <a:graphicData uri="http://schemas.openxmlformats.org/drawingml/2006/table">
            <a:tbl>
              <a:tblPr/>
              <a:tblGrid>
                <a:gridCol w="4248000"/>
                <a:gridCol w="35640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Этикетные формулы выражения вежливого отказа отка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Грубое, невежливое выражение отказа, не соответствующему речевому этикет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. К сожалению, я не смогу этого сдела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. Я бы с радостью сделал это, но у меня сегодня важная встреч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. Сейчас мне некогда, как-нибудь в другой раз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. Мне жаль, но я очень заня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5. Решительно отказываюсь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. Почему я должен это делать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. Да не стану я этого делать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. Еще чего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7" name="Picture 2" descr="http://mgm.com.ua/sites/default/files/styles/675x675/public/wallpampers.ru_.jpg"/>
          <p:cNvPicPr/>
          <p:nvPr/>
        </p:nvPicPr>
        <p:blipFill>
          <a:blip r:embed="rId1"/>
          <a:stretch/>
        </p:blipFill>
        <p:spPr>
          <a:xfrm>
            <a:off x="4284720" y="0"/>
            <a:ext cx="4174920" cy="253044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Box 1"/>
          <p:cNvSpPr/>
          <p:nvPr/>
        </p:nvSpPr>
        <p:spPr>
          <a:xfrm>
            <a:off x="1608480" y="836640"/>
            <a:ext cx="72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Этикетные формулы в речи учащихся 5 класс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TextBox 2"/>
          <p:cNvSpPr/>
          <p:nvPr/>
        </p:nvSpPr>
        <p:spPr>
          <a:xfrm>
            <a:off x="997560" y="1989000"/>
            <a:ext cx="49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При обращении к взрослым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«Здравствуйте», «До свидания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При обращении к ровесникам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«Привет», «Пока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Грубое «Досвидос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0" name="Picture 7" descr="236039279"/>
          <p:cNvPicPr/>
          <p:nvPr/>
        </p:nvPicPr>
        <p:blipFill>
          <a:blip r:embed="rId1"/>
          <a:stretch/>
        </p:blipFill>
        <p:spPr>
          <a:xfrm>
            <a:off x="6875640" y="18446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1" descr="765666018"/>
          <p:cNvPicPr/>
          <p:nvPr/>
        </p:nvPicPr>
        <p:blipFill>
          <a:blip r:embed="rId2"/>
          <a:stretch/>
        </p:blipFill>
        <p:spPr>
          <a:xfrm>
            <a:off x="7020000" y="42926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Box 1"/>
          <p:cNvSpPr/>
          <p:nvPr/>
        </p:nvSpPr>
        <p:spPr>
          <a:xfrm>
            <a:off x="468360" y="549360"/>
            <a:ext cx="778356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Tahoma"/>
              </a:rPr>
              <a:t>Вывод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ahoma"/>
              </a:rPr>
              <a:t>Этикетные формулы речи в русском языке многочисленны и разнообразны, а их употребление зависит от конкретной речевой ситуац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ahoma"/>
              </a:rPr>
              <a:t>Не зная истории происхождения этикетных выражений, можно неверно истолковать их смыс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ahoma"/>
              </a:rPr>
              <a:t>В русском языке большинство исконно русских слов и выражений этикетного обихода, но есть и те, которые пришли из других язык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ahoma"/>
              </a:rPr>
              <a:t>Даже сегодня появляются новые формулы, но общеупотребительными остаются одни и те же выражения на протяжении уже долгого времен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Box 1"/>
          <p:cNvSpPr/>
          <p:nvPr/>
        </p:nvSpPr>
        <p:spPr>
          <a:xfrm>
            <a:off x="539640" y="549360"/>
            <a:ext cx="8207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Библиограф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Курочкина И.Н. Современный этикет и воспитание культуры поведения у дошкольников: Учеб. Пособие для студ. Высш. Учеб. Заведений. – М.: «Владос», 2001, 224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 Львова С.И. «Позвольте пригласить Вас…», или речевой этикет. – М.: «Дрофа», 2006, 208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 Новый словарь методических терминов и понятий (теория и практика обучения языкам)/ Авторы Э. Г. Азимов, А. Н. Щукин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http://www.gramota.ru/slovari/d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. Этикет/ Авторы-составители Н.И. Ушаков, Е.В. Романова. – М.: «Лукоморье», 1988, 352 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5"/>
          <p:cNvSpPr/>
          <p:nvPr/>
        </p:nvSpPr>
        <p:spPr>
          <a:xfrm>
            <a:off x="592200" y="1932120"/>
            <a:ext cx="282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663480" y="1860480"/>
            <a:ext cx="182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Text Box 8"/>
          <p:cNvSpPr/>
          <p:nvPr/>
        </p:nvSpPr>
        <p:spPr>
          <a:xfrm>
            <a:off x="879480" y="3084480"/>
            <a:ext cx="722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7" name="Picture 8" descr="http://england.turizm-online.ru/images/trad07.jpg"/>
          <p:cNvPicPr/>
          <p:nvPr/>
        </p:nvPicPr>
        <p:blipFill>
          <a:blip r:embed="rId1"/>
          <a:stretch/>
        </p:blipFill>
        <p:spPr>
          <a:xfrm>
            <a:off x="1042920" y="1557360"/>
            <a:ext cx="7058160" cy="4896000"/>
          </a:xfrm>
          <a:prstGeom prst="rect">
            <a:avLst/>
          </a:prstGeom>
          <a:ln w="0">
            <a:noFill/>
          </a:ln>
        </p:spPr>
      </p:pic>
      <p:sp>
        <p:nvSpPr>
          <p:cNvPr id="408" name="TextBox 6"/>
          <p:cNvSpPr/>
          <p:nvPr/>
        </p:nvSpPr>
        <p:spPr>
          <a:xfrm>
            <a:off x="1116000" y="549360"/>
            <a:ext cx="685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Цель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Изучение этикетных формул речи в русском языке</a:t>
            </a:r>
            <a:r>
              <a:rPr b="0" lang="ru-RU" sz="1800" spc="-1" strike="noStrike">
                <a:solidFill>
                  <a:srgbClr val="c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4"/>
          <p:cNvSpPr/>
          <p:nvPr/>
        </p:nvSpPr>
        <p:spPr>
          <a:xfrm>
            <a:off x="250920" y="260280"/>
            <a:ext cx="871380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cc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buClr>
                <a:srgbClr val="cc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buClr>
                <a:srgbClr val="cc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ahoma"/>
                <a:ea typeface="Arial"/>
              </a:rPr>
              <a:t>Изучить понятия этикет, речевой этикет, этикетные формулы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ahoma"/>
                <a:ea typeface="Arial"/>
              </a:rPr>
              <a:t>Рассмотреть классификацию формул речевого этикета и выявить наиболее популярные из них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ahoma"/>
                <a:ea typeface="Arial"/>
              </a:rPr>
              <a:t>Познакомиться с историей русского речевого этикета.  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ahoma"/>
                <a:ea typeface="Arial"/>
              </a:rPr>
              <a:t>С помощью анкетирования определить популярные формулы приветствия и прощания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4"/>
          <p:cNvSpPr/>
          <p:nvPr/>
        </p:nvSpPr>
        <p:spPr>
          <a:xfrm>
            <a:off x="0" y="33336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ff"/>
                </a:solidFill>
                <a:uFillTx/>
                <a:latin typeface="Tahoma"/>
              </a:rPr>
              <a:t>Речевой этикет</a:t>
            </a:r>
            <a:r>
              <a:rPr b="1" lang="ru-RU" sz="2800" spc="-1" strike="noStrike">
                <a:solidFill>
                  <a:srgbClr val="9900ff"/>
                </a:solidFill>
                <a:latin typeface="Tahoma"/>
              </a:rPr>
              <a:t> – это сложившаяся в языке и речи система устойчивых выражений, применяемых в ситуациях установления и поддержания контакта.</a:t>
            </a:r>
            <a:r>
              <a:rPr b="0" lang="ru-RU" sz="2800" spc="-1" strike="noStrike">
                <a:solidFill>
                  <a:srgbClr val="9900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AutoShape 7"/>
          <p:cNvSpPr/>
          <p:nvPr/>
        </p:nvSpPr>
        <p:spPr>
          <a:xfrm>
            <a:off x="2484360" y="2349360"/>
            <a:ext cx="4248360" cy="1152720"/>
          </a:xfrm>
          <a:prstGeom prst="downArrowCallout">
            <a:avLst>
              <a:gd name="adj1" fmla="val 93921"/>
              <a:gd name="adj2" fmla="val 92138"/>
              <a:gd name="adj3" fmla="val 19532"/>
              <a:gd name="adj4" fmla="val 66667"/>
            </a:avLst>
          </a:prstGeom>
          <a:solidFill>
            <a:srgbClr val="0806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42f"/>
                </a:solidFill>
                <a:latin typeface="Tahoma"/>
              </a:rPr>
              <a:t>ЭТИК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2" name="AutoShape 8"/>
          <p:cNvGrpSpPr/>
          <p:nvPr/>
        </p:nvGrpSpPr>
        <p:grpSpPr>
          <a:xfrm>
            <a:off x="2451240" y="3524400"/>
            <a:ext cx="4449600" cy="1633320"/>
            <a:chOff x="2451240" y="3524400"/>
            <a:chExt cx="4449600" cy="1633320"/>
          </a:xfrm>
        </p:grpSpPr>
        <p:pic>
          <p:nvPicPr>
            <p:cNvPr id="413" name="AutoShape 8" descr=""/>
            <p:cNvPicPr/>
            <p:nvPr/>
          </p:nvPicPr>
          <p:blipFill>
            <a:blip r:embed="rId1"/>
            <a:stretch/>
          </p:blipFill>
          <p:spPr>
            <a:xfrm>
              <a:off x="2451240" y="3524400"/>
              <a:ext cx="444960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2556000" y="3573360"/>
              <a:ext cx="4248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Franklin Gothic Book"/>
                </a:rPr>
                <a:t>ИЗ ФРАНЦУЗСКОГО ЯЗЫКА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Franklin Gothic Book"/>
                </a:rPr>
                <a:t>«ЯРЛЫК, ЭТИКЕТКА»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5" name="Rectangle 9"/>
          <p:cNvGrpSpPr/>
          <p:nvPr/>
        </p:nvGrpSpPr>
        <p:grpSpPr>
          <a:xfrm>
            <a:off x="2523960" y="4968720"/>
            <a:ext cx="4376880" cy="1176480"/>
            <a:chOff x="2523960" y="4968720"/>
            <a:chExt cx="4376880" cy="1176480"/>
          </a:xfrm>
        </p:grpSpPr>
        <p:pic>
          <p:nvPicPr>
            <p:cNvPr id="416" name="Rectangle 9" descr=""/>
            <p:cNvPicPr/>
            <p:nvPr/>
          </p:nvPicPr>
          <p:blipFill>
            <a:blip r:embed="rId2"/>
            <a:stretch/>
          </p:blipFill>
          <p:spPr>
            <a:xfrm>
              <a:off x="2523960" y="4968720"/>
              <a:ext cx="437688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2627280" y="5084640"/>
              <a:ext cx="4175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Franklin Gothic Book"/>
                </a:rPr>
                <a:t>ИЗ ГРЕЧЕСКОГО ЯЗЫКА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Franklin Gothic Book"/>
                </a:rPr>
                <a:t>ETHOS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Franklin Gothic Book"/>
                </a:rPr>
                <a:t>«ОБЫЧАЙ, ХАРАКТЕР»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18" descr="p19_4"/>
          <p:cNvPicPr/>
          <p:nvPr/>
        </p:nvPicPr>
        <p:blipFill>
          <a:blip r:embed="rId1"/>
          <a:stretch/>
        </p:blipFill>
        <p:spPr>
          <a:xfrm>
            <a:off x="5364000" y="4076640"/>
            <a:ext cx="3635640" cy="252108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8"/>
          <p:cNvSpPr/>
          <p:nvPr/>
        </p:nvSpPr>
        <p:spPr>
          <a:xfrm>
            <a:off x="5219640" y="76500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AutoShape 9"/>
          <p:cNvSpPr/>
          <p:nvPr/>
        </p:nvSpPr>
        <p:spPr>
          <a:xfrm>
            <a:off x="324000" y="260280"/>
            <a:ext cx="4464000" cy="720720"/>
          </a:xfrm>
          <a:custGeom>
            <a:avLst/>
            <a:gdLst>
              <a:gd name="textAreaLeft" fmla="*/ 1116000 w 4464000"/>
              <a:gd name="textAreaRight" fmla="*/ 3348000 w 4464000"/>
              <a:gd name="textAreaTop" fmla="*/ 180000 h 720720"/>
              <a:gd name="textAreaBottom" fmla="*/ 6994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ffff"/>
          </a:solidFill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ФОРМУЛ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БЛАГОДАРН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AutoShape 13"/>
          <p:cNvSpPr/>
          <p:nvPr/>
        </p:nvSpPr>
        <p:spPr>
          <a:xfrm flipH="1">
            <a:off x="250200" y="1916280"/>
            <a:ext cx="4392360" cy="792000"/>
          </a:xfrm>
          <a:custGeom>
            <a:avLst/>
            <a:gdLst>
              <a:gd name="textAreaLeft" fmla="*/ 1150200 w 4392360"/>
              <a:gd name="textAreaRight" fmla="*/ 3242160 w 4392360"/>
              <a:gd name="textAreaTop" fmla="*/ 17964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10800" y="16699"/>
                </a:moveTo>
                <a:arcTo wR="21600" hR="0" stAng="0" swAng="0"/>
                <a:lnTo>
                  <a:pt x="10800" y="21600"/>
                </a:lnTo>
                <a:arcTo wR="21600" hR="0" stAng="0" swAng="0"/>
                <a:lnTo>
                  <a:pt x="10800" y="16699"/>
                </a:lnTo>
                <a:arcTo wR="21600" hR="0" stAng="0" swAng="0"/>
                <a:lnTo>
                  <a:pt x="18900" y="8350"/>
                </a:lnTo>
                <a:lnTo>
                  <a:pt x="21600" y="0"/>
                </a:lnTo>
                <a:lnTo>
                  <a:pt x="10800" y="0"/>
                </a:lnTo>
                <a:arcTo wR="21600" hR="0" stAng="0" swAng="0"/>
                <a:lnTo>
                  <a:pt x="10800" y="4901"/>
                </a:lnTo>
                <a:arcTo wR="21600" hR="0" stAng="0" swAng="0"/>
                <a:lnTo>
                  <a:pt x="10800" y="0"/>
                </a:lnTo>
                <a:arcTo wR="21600" hR="0" stAng="0" swAng="0"/>
                <a:lnTo>
                  <a:pt x="2700" y="8350"/>
                </a:lnTo>
                <a:close/>
              </a:path>
              <a:path fill="none" w="21600" h="21600">
                <a:moveTo>
                  <a:pt x="10800" y="4901"/>
                </a:moveTo>
                <a:arcTo wR="21600" hR="0" stAng="0" swAng="0"/>
                <a:lnTo>
                  <a:pt x="8357" y="0"/>
                </a:lnTo>
              </a:path>
              <a:path fill="none" w="21600" h="21600">
                <a:moveTo>
                  <a:pt x="10800" y="4901"/>
                </a:moveTo>
                <a:arcTo wR="21600" hR="0" stAng="0" swAng="0"/>
                <a:lnTo>
                  <a:pt x="13243" y="0"/>
                </a:lnTo>
              </a:path>
              <a:path fill="none" w="21600" h="21600">
                <a:moveTo>
                  <a:pt x="5657" y="16699"/>
                </a:moveTo>
                <a:lnTo>
                  <a:pt x="5657" y="4901"/>
                </a:lnTo>
              </a:path>
              <a:path fill="none" w="21600" h="21600">
                <a:moveTo>
                  <a:pt x="15943" y="16699"/>
                </a:moveTo>
                <a:lnTo>
                  <a:pt x="15943" y="4901"/>
                </a:lnTo>
              </a:path>
            </a:pathLst>
          </a:custGeom>
          <a:solidFill>
            <a:srgbClr val="ffffff"/>
          </a:solidFill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ФОРМУЛ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ИЗВИНЕ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AutoShape 14"/>
          <p:cNvSpPr/>
          <p:nvPr/>
        </p:nvSpPr>
        <p:spPr>
          <a:xfrm>
            <a:off x="179280" y="981000"/>
            <a:ext cx="4464000" cy="792360"/>
          </a:xfrm>
          <a:custGeom>
            <a:avLst/>
            <a:gdLst>
              <a:gd name="textAreaLeft" fmla="*/ 1116000 w 4464000"/>
              <a:gd name="textAreaRight" fmla="*/ 3348000 w 4464000"/>
              <a:gd name="textAreaTop" fmla="*/ 198000 h 792360"/>
              <a:gd name="textAreaBottom" fmla="*/ 7689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ffff"/>
          </a:solidFill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ФОРМУЛ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ПРИВЕТСТВ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AutoShape 15"/>
          <p:cNvSpPr/>
          <p:nvPr/>
        </p:nvSpPr>
        <p:spPr>
          <a:xfrm>
            <a:off x="250920" y="2708280"/>
            <a:ext cx="4392360" cy="792000"/>
          </a:xfrm>
          <a:custGeom>
            <a:avLst/>
            <a:gdLst>
              <a:gd name="textAreaLeft" fmla="*/ 1098000 w 4392360"/>
              <a:gd name="textAreaRight" fmla="*/ 3294360 w 4392360"/>
              <a:gd name="textAreaTop" fmla="*/ 198000 h 792000"/>
              <a:gd name="textAreaBottom" fmla="*/ 76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ffff"/>
          </a:solidFill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ФОРМУЛ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ПРОЩ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AutoShape 16"/>
          <p:cNvSpPr/>
          <p:nvPr/>
        </p:nvSpPr>
        <p:spPr>
          <a:xfrm>
            <a:off x="179280" y="4653000"/>
            <a:ext cx="4753080" cy="936720"/>
          </a:xfrm>
          <a:custGeom>
            <a:avLst/>
            <a:gdLst>
              <a:gd name="textAreaLeft" fmla="*/ 1188360 w 4753080"/>
              <a:gd name="textAreaRight" fmla="*/ 3565080 w 4753080"/>
              <a:gd name="textAreaTop" fmla="*/ 234000 h 936720"/>
              <a:gd name="textAreaBottom" fmla="*/ 9090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ffff"/>
          </a:solidFill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ФОРМУЛ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ВЕЖЛИВОГО ОТКАЗ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AutoShape 17"/>
          <p:cNvSpPr/>
          <p:nvPr/>
        </p:nvSpPr>
        <p:spPr>
          <a:xfrm>
            <a:off x="250920" y="5734080"/>
            <a:ext cx="4249800" cy="762120"/>
          </a:xfrm>
          <a:custGeom>
            <a:avLst/>
            <a:gdLst>
              <a:gd name="textAreaLeft" fmla="*/ 1062360 w 4249800"/>
              <a:gd name="textAreaRight" fmla="*/ 3187440 w 4249800"/>
              <a:gd name="textAreaTop" fmla="*/ 190440 h 762120"/>
              <a:gd name="textAreaBottom" fmla="*/ 739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ffff"/>
          </a:solidFill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ФОРМУЛЫ ПРОСЬБ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И ПРИГЛАШЕ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Лента лицом вниз 15"/>
          <p:cNvSpPr/>
          <p:nvPr/>
        </p:nvSpPr>
        <p:spPr>
          <a:xfrm>
            <a:off x="250920" y="3573360"/>
            <a:ext cx="4608360" cy="1008000"/>
          </a:xfrm>
          <a:custGeom>
            <a:avLst/>
            <a:gdLst>
              <a:gd name="textAreaLeft" fmla="*/ 1152000 w 4608360"/>
              <a:gd name="textAreaRight" fmla="*/ 3456360 w 4608360"/>
              <a:gd name="textAreaTop" fmla="*/ 16776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ffffff"/>
          </a:solidFill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ФОРМУЛЫ ПОЖЕЛ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Лента лицом вниз 10"/>
          <p:cNvSpPr/>
          <p:nvPr/>
        </p:nvSpPr>
        <p:spPr>
          <a:xfrm>
            <a:off x="4500720" y="1844640"/>
            <a:ext cx="5040000" cy="936720"/>
          </a:xfrm>
          <a:custGeom>
            <a:avLst/>
            <a:gdLst>
              <a:gd name="textAreaLeft" fmla="*/ 1260000 w 5040000"/>
              <a:gd name="textAreaRight" fmla="*/ 3780000 w 5040000"/>
              <a:gd name="textAreaTop" fmla="*/ 15588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ffffff"/>
          </a:solidFill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ФОРМУЛЫ СОЧУВСТВИЯ И СОБОЛЕЗНОВ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Лента лицом вниз 12"/>
          <p:cNvSpPr/>
          <p:nvPr/>
        </p:nvSpPr>
        <p:spPr>
          <a:xfrm>
            <a:off x="4643280" y="2997360"/>
            <a:ext cx="4176720" cy="792000"/>
          </a:xfrm>
          <a:custGeom>
            <a:avLst/>
            <a:gdLst>
              <a:gd name="textAreaLeft" fmla="*/ 1044000 w 4176720"/>
              <a:gd name="textAreaRight" fmla="*/ 3132720 w 4176720"/>
              <a:gd name="textAreaTop" fmla="*/ 13176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ffffff"/>
          </a:solidFill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ФОРМУЛЫ КОМПЛИМЕН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Прямоугольник 13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0" name="Прямоугольник 14" descr=""/>
          <p:cNvPicPr/>
          <p:nvPr/>
        </p:nvPicPr>
        <p:blipFill>
          <a:blip r:embed="rId2"/>
          <a:stretch/>
        </p:blipFill>
        <p:spPr>
          <a:xfrm>
            <a:off x="4968720" y="-109440"/>
            <a:ext cx="3980160" cy="1438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4"/>
          <p:cNvSpPr/>
          <p:nvPr/>
        </p:nvSpPr>
        <p:spPr>
          <a:xfrm>
            <a:off x="1042920" y="-720"/>
            <a:ext cx="7416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ahoma"/>
              </a:rPr>
              <a:t>…</a:t>
            </a:r>
            <a:r>
              <a:rPr b="1" i="1" lang="ru-RU" sz="2000" spc="-1" strike="noStrike">
                <a:solidFill>
                  <a:srgbClr val="000066"/>
                </a:solidFill>
                <a:latin typeface="Tahoma"/>
              </a:rPr>
              <a:t>Здравствуйте! —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ahoma"/>
              </a:rPr>
              <a:t>Что особого тем мы друг другу сказали?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ahoma"/>
              </a:rPr>
              <a:t>Отчего же на капельку радостней сделалась</a:t>
            </a: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ahoma"/>
              </a:rPr>
              <a:t>жизнь?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(В. Солоухин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9"/>
          <p:cNvSpPr/>
          <p:nvPr/>
        </p:nvSpPr>
        <p:spPr>
          <a:xfrm>
            <a:off x="324000" y="1557360"/>
            <a:ext cx="19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ЗДРАВСТВУ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Text Box 10"/>
          <p:cNvSpPr/>
          <p:nvPr/>
        </p:nvSpPr>
        <p:spPr>
          <a:xfrm>
            <a:off x="3203640" y="1413000"/>
            <a:ext cx="2376360" cy="15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ЗДРАВСТВУ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(форма повелительного наклонения глагола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здравствовать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Text Box 11"/>
          <p:cNvSpPr/>
          <p:nvPr/>
        </p:nvSpPr>
        <p:spPr>
          <a:xfrm>
            <a:off x="6516720" y="1413000"/>
            <a:ext cx="2449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Tahoma"/>
              </a:rPr>
              <a:t>«БУДЬ ЗДОРОВ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Tahoma"/>
              </a:rPr>
              <a:t>«ПОЖЕЛАНИЕ ЗДОРОВЬЯ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Text Box 16"/>
          <p:cNvSpPr/>
          <p:nvPr/>
        </p:nvSpPr>
        <p:spPr>
          <a:xfrm>
            <a:off x="468360" y="32130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ЦЕЛОВАТЬ (ЛОБЗАТЬ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Text Box 17"/>
          <p:cNvSpPr/>
          <p:nvPr/>
        </p:nvSpPr>
        <p:spPr>
          <a:xfrm>
            <a:off x="395280" y="522936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Tahoma"/>
              </a:rPr>
              <a:t>«ЖЕЛАТЬ БЫТЬ ЦЕЛЫМ, НЕВРЕДИМЫМ, ЗДОРОВЫМ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AutoShape 18"/>
          <p:cNvSpPr/>
          <p:nvPr/>
        </p:nvSpPr>
        <p:spPr>
          <a:xfrm>
            <a:off x="1258920" y="4076640"/>
            <a:ext cx="772920" cy="976320"/>
          </a:xfrm>
          <a:prstGeom prst="downArrow">
            <a:avLst>
              <a:gd name="adj1" fmla="val 50000"/>
              <a:gd name="adj2" fmla="val 31579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Text Box 19"/>
          <p:cNvSpPr/>
          <p:nvPr/>
        </p:nvSpPr>
        <p:spPr>
          <a:xfrm>
            <a:off x="6012000" y="2852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Фр.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LLER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(«идти»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Text Box 20"/>
          <p:cNvSpPr/>
          <p:nvPr/>
        </p:nvSpPr>
        <p:spPr>
          <a:xfrm>
            <a:off x="6012000" y="386064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Фр.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LLONS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(«ну»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Text Box 21"/>
          <p:cNvSpPr/>
          <p:nvPr/>
        </p:nvSpPr>
        <p:spPr>
          <a:xfrm>
            <a:off x="6012000" y="472428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«телефонное» слово АЛЛ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Text Box 22"/>
          <p:cNvSpPr/>
          <p:nvPr/>
        </p:nvSpPr>
        <p:spPr>
          <a:xfrm>
            <a:off x="5867280" y="5877000"/>
            <a:ext cx="3025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Tahoma"/>
              </a:rPr>
              <a:t>Буквально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Tahoma"/>
              </a:rPr>
              <a:t>«ИДЕМ, ПОШЛИ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AutoShape 23"/>
          <p:cNvSpPr/>
          <p:nvPr/>
        </p:nvSpPr>
        <p:spPr>
          <a:xfrm>
            <a:off x="2195640" y="1484280"/>
            <a:ext cx="1224000" cy="71928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AutoShape 24"/>
          <p:cNvSpPr/>
          <p:nvPr/>
        </p:nvSpPr>
        <p:spPr>
          <a:xfrm>
            <a:off x="5364000" y="1413000"/>
            <a:ext cx="1297080" cy="79200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AutoShape 25"/>
          <p:cNvSpPr/>
          <p:nvPr/>
        </p:nvSpPr>
        <p:spPr>
          <a:xfrm>
            <a:off x="6948360" y="3284640"/>
            <a:ext cx="701640" cy="57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AutoShape 26"/>
          <p:cNvSpPr/>
          <p:nvPr/>
        </p:nvSpPr>
        <p:spPr>
          <a:xfrm>
            <a:off x="6948360" y="4221000"/>
            <a:ext cx="77328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AutoShape 27"/>
          <p:cNvSpPr/>
          <p:nvPr/>
        </p:nvSpPr>
        <p:spPr>
          <a:xfrm>
            <a:off x="6948360" y="5300640"/>
            <a:ext cx="846360" cy="57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7" name="Picture 2" descr="http://metod.eniak.ru/sites/default/files/u3/pravila-etiketa-dlya-samyx-malenkix-1.jpg"/>
          <p:cNvPicPr/>
          <p:nvPr/>
        </p:nvPicPr>
        <p:blipFill>
          <a:blip r:embed="rId1"/>
          <a:stretch/>
        </p:blipFill>
        <p:spPr>
          <a:xfrm>
            <a:off x="2627280" y="3198960"/>
            <a:ext cx="3457440" cy="3398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64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4"/>
          <p:cNvSpPr/>
          <p:nvPr/>
        </p:nvSpPr>
        <p:spPr>
          <a:xfrm>
            <a:off x="684360" y="476280"/>
            <a:ext cx="79200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ahoma"/>
              </a:rPr>
              <a:t>Пламенный привет!                                     Доброго здоровья!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ahoma"/>
              </a:rPr>
              <a:t>Позвольте поприветствовать Вас!            Здравствуй(те)!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ahoma"/>
              </a:rPr>
              <a:t>Кого я вижу! Мое почтение!             Привет честнОй компании!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ahoma"/>
              </a:rPr>
              <a:t>Наше Вам с кисточкой!                       Сколько лет, сколько зим!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ahoma"/>
              </a:rPr>
              <a:t>С прибытием!                                             Добро пожаловать!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ahoma"/>
              </a:rPr>
              <a:t>Салют! Здорово, браток!                           Легок на помине!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ahoma"/>
              </a:rPr>
              <a:t>Привет от старых штиблет!                        Моё почтение!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ahoma"/>
              </a:rPr>
              <a:t>Хлеб да соль!                                                Рад вас видеть!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ahoma"/>
              </a:rPr>
              <a:t>Доброе утро!                                                   Здравия желаю!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ahoma"/>
              </a:rPr>
              <a:t>Хелло</a:t>
            </a: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AutoShape 174"/>
          <p:cNvSpPr/>
          <p:nvPr/>
        </p:nvSpPr>
        <p:spPr>
          <a:xfrm>
            <a:off x="539640" y="5300640"/>
            <a:ext cx="2664000" cy="1079640"/>
          </a:xfrm>
          <a:custGeom>
            <a:avLst/>
            <a:gdLst>
              <a:gd name="textAreaLeft" fmla="*/ 0 w 2664000"/>
              <a:gd name="textAreaRight" fmla="*/ 2664360 w 2664000"/>
              <a:gd name="textAreaTop" fmla="*/ 139680 h 1079640"/>
              <a:gd name="textAreaBottom" fmla="*/ 9399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ahoma"/>
              </a:rPr>
              <a:t>Междометие ПО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AutoShape 172"/>
          <p:cNvSpPr/>
          <p:nvPr/>
        </p:nvSpPr>
        <p:spPr>
          <a:xfrm>
            <a:off x="539640" y="4149720"/>
            <a:ext cx="2519640" cy="1224000"/>
          </a:xfrm>
          <a:prstGeom prst="downArrowCallout">
            <a:avLst>
              <a:gd name="adj1" fmla="val 51468"/>
              <a:gd name="adj2" fmla="val 51463"/>
              <a:gd name="adj3" fmla="val 16667"/>
              <a:gd name="adj4" fmla="val 6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AutoShape 171"/>
          <p:cNvSpPr/>
          <p:nvPr/>
        </p:nvSpPr>
        <p:spPr>
          <a:xfrm>
            <a:off x="468360" y="3068640"/>
            <a:ext cx="2663640" cy="1081080"/>
          </a:xfrm>
          <a:prstGeom prst="downArrowCallout">
            <a:avLst>
              <a:gd name="adj1" fmla="val 61602"/>
              <a:gd name="adj2" fmla="val 61597"/>
              <a:gd name="adj3" fmla="val 16667"/>
              <a:gd name="adj4" fmla="val 6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AutoShape 170"/>
          <p:cNvSpPr/>
          <p:nvPr/>
        </p:nvSpPr>
        <p:spPr>
          <a:xfrm>
            <a:off x="468360" y="1989000"/>
            <a:ext cx="2663640" cy="1079640"/>
          </a:xfrm>
          <a:prstGeom prst="downArrowCallout">
            <a:avLst>
              <a:gd name="adj1" fmla="val 61684"/>
              <a:gd name="adj2" fmla="val 61679"/>
              <a:gd name="adj3" fmla="val 16667"/>
              <a:gd name="adj4" fmla="val 6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AutoShape 169"/>
          <p:cNvSpPr/>
          <p:nvPr/>
        </p:nvSpPr>
        <p:spPr>
          <a:xfrm>
            <a:off x="395280" y="836640"/>
            <a:ext cx="2664000" cy="1152360"/>
          </a:xfrm>
          <a:prstGeom prst="downArrowCallout">
            <a:avLst>
              <a:gd name="adj1" fmla="val 57800"/>
              <a:gd name="adj2" fmla="val 57794"/>
              <a:gd name="adj3" fmla="val 16667"/>
              <a:gd name="adj4" fmla="val 6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519120" y="276120"/>
            <a:ext cx="153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7"/>
          <p:cNvSpPr/>
          <p:nvPr/>
        </p:nvSpPr>
        <p:spPr>
          <a:xfrm>
            <a:off x="1547640" y="333360"/>
            <a:ext cx="55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Text Box 8"/>
          <p:cNvSpPr/>
          <p:nvPr/>
        </p:nvSpPr>
        <p:spPr>
          <a:xfrm>
            <a:off x="2340000" y="11592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Tahoma"/>
              </a:rPr>
              <a:t>Формулы проща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Text Box 162"/>
          <p:cNvSpPr/>
          <p:nvPr/>
        </p:nvSpPr>
        <p:spPr>
          <a:xfrm>
            <a:off x="771480" y="1114560"/>
            <a:ext cx="236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Text Box 163"/>
          <p:cNvSpPr/>
          <p:nvPr/>
        </p:nvSpPr>
        <p:spPr>
          <a:xfrm>
            <a:off x="468360" y="98100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 КАкое МЕСТ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Text Box 164"/>
          <p:cNvSpPr/>
          <p:nvPr/>
        </p:nvSpPr>
        <p:spPr>
          <a:xfrm>
            <a:off x="395280" y="3068640"/>
            <a:ext cx="26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+КА+МЕСТ = ПОКАМЕС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Text Box 165"/>
          <p:cNvSpPr/>
          <p:nvPr/>
        </p:nvSpPr>
        <p:spPr>
          <a:xfrm>
            <a:off x="468360" y="1989000"/>
            <a:ext cx="2663640" cy="673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КА МЕСТО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(сращение частей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Text Box 166"/>
          <p:cNvSpPr/>
          <p:nvPr/>
        </p:nvSpPr>
        <p:spPr>
          <a:xfrm>
            <a:off x="3995640" y="2133720"/>
            <a:ext cx="19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167"/>
          <p:cNvSpPr/>
          <p:nvPr/>
        </p:nvSpPr>
        <p:spPr>
          <a:xfrm>
            <a:off x="611280" y="429264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речие ПОКА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AutoShape 177"/>
          <p:cNvSpPr/>
          <p:nvPr/>
        </p:nvSpPr>
        <p:spPr>
          <a:xfrm>
            <a:off x="3564000" y="692280"/>
            <a:ext cx="1873080" cy="1873080"/>
          </a:xfrm>
          <a:custGeom>
            <a:avLst/>
            <a:gdLst>
              <a:gd name="textAreaLeft" fmla="*/ 220680 w 1873080"/>
              <a:gd name="textAreaRight" fmla="*/ 1652400 w 1873080"/>
              <a:gd name="textAreaTop" fmla="*/ 220680 h 1873080"/>
              <a:gd name="textAreaBottom" fmla="*/ 1652400 h 1873080"/>
            </a:gdLst>
            <a:ahLst/>
            <a:rect l="textAreaLeft" t="textAreaTop" r="textAreaRight" b="textAreaBottom"/>
            <a:pathLst>
              <a:path w="216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8000" y="21600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66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велительно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аклонени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глагол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ОЩА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AutoShape 178"/>
          <p:cNvSpPr/>
          <p:nvPr/>
        </p:nvSpPr>
        <p:spPr>
          <a:xfrm>
            <a:off x="6804000" y="333360"/>
            <a:ext cx="2087640" cy="2736720"/>
          </a:xfrm>
          <a:custGeom>
            <a:avLst/>
            <a:gdLst>
              <a:gd name="textAreaLeft" fmla="*/ 245880 w 2087640"/>
              <a:gd name="textAreaRight" fmla="*/ 1841760 w 2087640"/>
              <a:gd name="textAreaTop" fmla="*/ 245880 h 2736720"/>
              <a:gd name="textAreaBottom" fmla="*/ 2490840 h 2736720"/>
            </a:gdLst>
            <a:ahLst/>
            <a:rect l="textAreaLeft" t="textAreaTop" r="textAreaRight" b="textAreaBottom"/>
            <a:pathLst>
              <a:path w="21600" h="28315">
                <a:moveTo>
                  <a:pt x="3600" y="0"/>
                </a:moveTo>
                <a:arcTo wR="3600" hR="3600" stAng="0" swAng="5400000"/>
                <a:lnTo>
                  <a:pt x="0" y="24715"/>
                </a:lnTo>
                <a:arcTo wR="3600" hR="3600" stAng="16200000" swAng="5400000"/>
                <a:lnTo>
                  <a:pt x="18000" y="28315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66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ервоначальное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значен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прости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(если что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не так)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Фразеологизм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прощай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не поминай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лихом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AutoShape 179"/>
          <p:cNvSpPr/>
          <p:nvPr/>
        </p:nvSpPr>
        <p:spPr>
          <a:xfrm>
            <a:off x="5435640" y="692280"/>
            <a:ext cx="1359000" cy="1871640"/>
          </a:xfrm>
          <a:custGeom>
            <a:avLst/>
            <a:gdLst>
              <a:gd name="textAreaLeft" fmla="*/ 339840 w 1359000"/>
              <a:gd name="textAreaRight" fmla="*/ 1019520 w 1359000"/>
              <a:gd name="textAreaTop" fmla="*/ 0 h 1871640"/>
              <a:gd name="textAreaBottom" fmla="*/ 1872000 h 187164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ahoma"/>
              </a:rPr>
              <a:t>ПРОЩА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Text Box 180"/>
          <p:cNvSpPr/>
          <p:nvPr/>
        </p:nvSpPr>
        <p:spPr>
          <a:xfrm>
            <a:off x="4932360" y="4005360"/>
            <a:ext cx="446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АДЬЮ –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«с Богом, до свидания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181"/>
          <p:cNvSpPr/>
          <p:nvPr/>
        </p:nvSpPr>
        <p:spPr>
          <a:xfrm>
            <a:off x="5219640" y="5734080"/>
            <a:ext cx="352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от фр. 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 (предлог) +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DIEU </a:t>
            </a: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(Бог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AutoShape 182"/>
          <p:cNvSpPr/>
          <p:nvPr/>
        </p:nvSpPr>
        <p:spPr>
          <a:xfrm>
            <a:off x="6588000" y="5013360"/>
            <a:ext cx="136692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9" name="Picture 2" descr="http://3.bp.blogspot.com/_FHsa0DCSlu4/S_06abLijfI/AAAAAAAAG_k/tBYZMdVx4wM/s1600/0f32bd9346b0.png"/>
          <p:cNvPicPr/>
          <p:nvPr/>
        </p:nvPicPr>
        <p:blipFill>
          <a:blip r:embed="rId1"/>
          <a:stretch/>
        </p:blipFill>
        <p:spPr>
          <a:xfrm>
            <a:off x="2556000" y="2133720"/>
            <a:ext cx="3528720" cy="35748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4"/>
          <p:cNvSpPr/>
          <p:nvPr/>
        </p:nvSpPr>
        <p:spPr>
          <a:xfrm>
            <a:off x="468360" y="13572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«Благодарность- чувство признательности к кому-нибудь за оказанное добро, внимание».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AutoShape 11"/>
          <p:cNvSpPr/>
          <p:nvPr/>
        </p:nvSpPr>
        <p:spPr>
          <a:xfrm>
            <a:off x="539640" y="907920"/>
            <a:ext cx="2448000" cy="1152720"/>
          </a:xfrm>
          <a:prstGeom prst="wedgeRoundRectCallout">
            <a:avLst>
              <a:gd name="adj1" fmla="val -34398"/>
              <a:gd name="adj2" fmla="val 12782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т старинного пожелания «СПАСИ БОГ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WordArt 12"/>
          <p:cNvSpPr txBox="1"/>
          <p:nvPr/>
        </p:nvSpPr>
        <p:spPr>
          <a:xfrm>
            <a:off x="324000" y="3068640"/>
            <a:ext cx="2592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3" name="AutoShape 13"/>
          <p:cNvSpPr/>
          <p:nvPr/>
        </p:nvSpPr>
        <p:spPr>
          <a:xfrm>
            <a:off x="4788000" y="2997360"/>
            <a:ext cx="2643120" cy="792000"/>
          </a:xfrm>
          <a:prstGeom prst="wedgeRectCallout">
            <a:avLst>
              <a:gd name="adj1" fmla="val 7115"/>
              <a:gd name="adj2" fmla="val -20739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ЛАГО + ДАРИТЬ («ДАРИТЬ ДОБРО»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WordArt 14"/>
          <p:cNvSpPr txBox="1"/>
          <p:nvPr/>
        </p:nvSpPr>
        <p:spPr>
          <a:xfrm>
            <a:off x="4788000" y="1052640"/>
            <a:ext cx="3240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ЛАГОДАРЮ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5" name="Picture 2" descr="http://www.zanimatika.narod.ru/Vejlivost.jpg"/>
          <p:cNvPicPr/>
          <p:nvPr/>
        </p:nvPicPr>
        <p:blipFill>
          <a:blip r:embed="rId1"/>
          <a:stretch/>
        </p:blipFill>
        <p:spPr>
          <a:xfrm>
            <a:off x="2050920" y="3716280"/>
            <a:ext cx="3067200" cy="2905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7:54:06Z</dcterms:created>
  <dc:creator>User</dc:creator>
  <dc:description/>
  <dc:language>en-US</dc:language>
  <cp:lastModifiedBy>Семья</cp:lastModifiedBy>
  <dcterms:modified xsi:type="dcterms:W3CDTF">2017-11-26T21:30:43Z</dcterms:modified>
  <cp:revision>56</cp:revision>
  <dc:subject/>
  <dc:title>Слайд 1</dc:title>
</cp:coreProperties>
</file>