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AB5-E29B-40A0-A6CF-1C94C7D4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5C3-AC48-4796-910B-FB64E6CF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1BA-535C-4CEF-8AB0-BBA7E560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9CC-A657-4DBE-B044-4DF92B63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5654-BD28-43A0-A532-73858649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47BC-4364-4F08-B7F6-132FF5B7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3D59-A7C9-4CB0-895B-9857752F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A247-8D52-4BF1-81FD-5D40C7E3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87A5-C2E4-4743-A7E6-F443ADC0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BA63-414F-4926-A723-48E2680E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3910-0C96-4A71-BAB8-76E38028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30C-F45B-4247-B184-05C37449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2164-9113-407B-BB1A-27E476C4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8F04-6A8A-44C4-81F1-5FD17230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4EB3-35B0-42B6-8B38-8262666C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A13B-890F-4759-B616-5135EF13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329A-EE63-4EF2-A822-51474254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3B9-B615-4DE7-91D9-520372D3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914-F38B-4323-A113-B1F34186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D90-45FA-4927-9C98-A17BB7E1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1EC-7EC9-43C5-845D-A8BA0CF4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F28-0D52-417B-995F-1ECAB502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A70-57D8-42EF-90EB-2A49DB7E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32F-299F-4D4E-A898-CB4A9B61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1138-A010-4E6D-9880-01B036F0AD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D462-FFCF-4A73-B32B-D1EBCE7B14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Грамматический сон Почемучк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4" descr="2"/>
          <p:cNvPicPr/>
          <p:nvPr/>
        </p:nvPicPr>
        <p:blipFill>
          <a:blip r:embed="rId1"/>
          <a:stretch/>
        </p:blipFill>
        <p:spPr>
          <a:xfrm>
            <a:off x="395280" y="3500280"/>
            <a:ext cx="16081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-44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4152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вместо него режиссер ввел слово «</a:t>
            </a: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вероятн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перь предложение звучало так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Это представление,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вероятно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, вам понравит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836640"/>
            <a:ext cx="73422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не, да и всем зрителям, такое предложение очень даже понравилось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ртисты предполагают, что их ждет успех, но не считают это предположение бесспорным – зрители должны сами решить: нравится им или н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836640"/>
            <a:ext cx="73422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селся я в кресло поудобнее, приготовился смотреть... но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к сожалению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проснул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200"/>
                </a:solidFill>
                <a:latin typeface="Comic Sans MS"/>
              </a:rPr>
              <a:t>Тема уро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водные сло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-4813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4152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Вводным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азываются слова, при помощи которых говорящий (пишущий) выражает свое отношение к высказыванию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0" y="404640"/>
          <a:ext cx="9144000" cy="5977080"/>
        </p:xfrm>
        <a:graphic>
          <a:graphicData uri="http://schemas.openxmlformats.org/drawingml/2006/table">
            <a:tbl>
              <a:tblPr/>
              <a:tblGrid>
                <a:gridCol w="2411280"/>
                <a:gridCol w="2305080"/>
                <a:gridCol w="2303640"/>
                <a:gridCol w="2124000"/>
              </a:tblGrid>
              <a:tr h="3000600"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давать уверенность неуверен-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ражать разные чув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казывать на связь мыслей и их последова-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общать источник информа-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6480"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вер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еч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жет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жет бы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счас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сожален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несчас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-перв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-втор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мнен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-мое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-мое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4360" y="2204640"/>
            <a:ext cx="5543280" cy="32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Спасибо за помощь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юные исследователи язык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5" descr="1"/>
          <p:cNvPicPr/>
          <p:nvPr/>
        </p:nvPicPr>
        <p:blipFill>
          <a:blip r:embed="rId1"/>
          <a:stretch/>
        </p:blipFill>
        <p:spPr>
          <a:xfrm>
            <a:off x="6156360" y="3213000"/>
            <a:ext cx="18860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Упражнение 1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Составить текст-рассуждение на одну из тем (употребить вводные слова)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очему я люблю заниматься спортом?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очему я люблю читать книги?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Мое любимое время год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исать по аналогии грамматическую сказку с использованием вводных сл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2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2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2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4813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78483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отите верьте, хотите – не верьте, но однажды мне приснился удивительный сон. Будто сижу я в театре, жду начала представления. И вот открывается занавес, и на сцену один за другим выходят... необыкновенные артисты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лены предложения 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лежащее с определением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сказуемое с дополнени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-4435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4865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строились, взялись за ру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составили такое предложе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Это представление вам понравитс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-4813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06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друг из-за кулис вынырнуло еще одно словечко и втиснулось в самую середину, а соседние слова тут же от него запятыми отгородились. Читаю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Это представление,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возможно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,  вам понравит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-44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л... Что это значит: возможно, понравится. Что же это такое? Выходит, что сами артисты совсем не уверены в успехе? Даже предполагают, что представление зрителям не понравитс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44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4152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о тут на сцену выскочило другое слово, растолкало всех, вытеснило слово «возможно» и заняло его место. Получилось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Это представление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бесспорно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вам понравится.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200720" cy="37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звините, друзья, но мне это вовсе не понравилось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Что значит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«бесспорно»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у и самоуверенность у этих артистов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777060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нако члены предложения тоже проявили недовольство, нажали с двух сторон на слово «бесспорно», и оно быстро исчезло, а через пару секунд возникло снова и встало в начале предложе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Бесспорно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, это представление вам понравит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-44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4152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начался шум на сцене, и в зале. Слово «</a:t>
            </a: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бесспорн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» перекочевало в конец предложения, но это никого не успокоило. И неизвестно, чем бы все закончилось, если бы на сцену не вышел сам режиссер. Он строго что-то сказал своенравному слову и вывел его из предложени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9:50:55Z</dcterms:created>
  <dc:creator>Кирилл</dc:creator>
  <dc:description/>
  <dc:language>en-US</dc:language>
  <cp:lastModifiedBy>Семья</cp:lastModifiedBy>
  <dcterms:modified xsi:type="dcterms:W3CDTF">2015-10-22T22:16:14Z</dcterms:modified>
  <cp:revision>10</cp:revision>
  <dc:subject/>
  <dc:title>Грамматический сон Почемучки</dc:title>
</cp:coreProperties>
</file>