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7C1-B0FE-4061-8384-79B61907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1AE-7853-4870-9246-9750B0BB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D0B-28D4-48A9-BFC3-4B5D0425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80E-AD12-488D-9E5B-87794068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838B-1A38-4AD5-89B9-991B25EA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95AB-4229-4801-BB94-95837492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2967-D6B0-4F6C-BC68-F2BC8F95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E0A5-BCC5-40C9-B7A9-3C94A5BF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F4C3-FE95-4A26-B36C-3B2085DC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444E-C2E6-4545-AD29-402BF6FD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BF69-E08D-47F9-BE79-02DAE6D5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CA2-87D3-41F9-B6E6-0941433C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CD69-08B3-43D8-873B-4EEE2F64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5A33-6F42-4965-BBC5-C158321A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F6AB-2AD2-4754-9CC5-AC05DAE9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D8DC-1971-4F05-BE78-46A91265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EF23-67E1-478A-9C34-90163763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D54-B6C2-4501-9F3A-55FE2ADE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ED1-2781-4FC6-BEB5-52099879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C42-36F1-451B-8514-123777CF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0DF-A021-408D-8ECF-99D68667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7D5-2668-43C2-8BB7-D797B0D2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5FB-A07D-43CB-89BA-C0506AA7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776-7348-4FD7-8493-E11A3FB4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1491-20B8-467C-ABD5-826C1D9515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4272-3665-49BC-B32B-C380FF6666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Грамматический сон Почемучк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2"/>
          <p:cNvPicPr/>
          <p:nvPr/>
        </p:nvPicPr>
        <p:blipFill>
          <a:blip r:embed="rId1"/>
          <a:stretch/>
        </p:blipFill>
        <p:spPr>
          <a:xfrm>
            <a:off x="395280" y="3500280"/>
            <a:ext cx="1608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4152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вместо него режиссер ввел слово «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вероятн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перь предложение звучало так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Это представление,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вероятно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, вам понрави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836640"/>
            <a:ext cx="73422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не, да и всем зрителям, такое предложение очень даже понравилось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ртисты предполагают, что их ждет успех, но не считают это предположение бесспорным – зрители должны сами решить: нравится им или н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836640"/>
            <a:ext cx="73422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селся я в кресло поудобнее, приготовился смотреть... но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к сожалению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проснул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200"/>
                </a:solidFill>
                <a:latin typeface="Comic Sans MS"/>
              </a:rPr>
              <a:t>Тема уро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-4813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4152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Вводным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зываются слова, при помощи которых говорящий (пишущий) выражает свое отношение к высказыванию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0" y="404640"/>
          <a:ext cx="9144000" cy="5977080"/>
        </p:xfrm>
        <a:graphic>
          <a:graphicData uri="http://schemas.openxmlformats.org/drawingml/2006/table">
            <a:tbl>
              <a:tblPr/>
              <a:tblGrid>
                <a:gridCol w="2411280"/>
                <a:gridCol w="2305080"/>
                <a:gridCol w="2303640"/>
                <a:gridCol w="2124000"/>
              </a:tblGrid>
              <a:tr h="3000600"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давать уверенность неуверен-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ражать разные чув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казывать на связь мыслей и их последова-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бщать источник информа-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6480"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вер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еч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жет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жет бы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сча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сожален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несча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-перв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-втор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мнен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-мое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-мое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5543280" cy="32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Спасибо за помощь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юные исследователи язык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5" descr="1"/>
          <p:cNvPicPr/>
          <p:nvPr/>
        </p:nvPicPr>
        <p:blipFill>
          <a:blip r:embed="rId1"/>
          <a:stretch/>
        </p:blipFill>
        <p:spPr>
          <a:xfrm>
            <a:off x="6156360" y="3213000"/>
            <a:ext cx="18860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Упражнение 1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Составить текст-рассуждение на одну из тем (употребить вводные слова)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очему я люблю заниматься спортом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очему я люблю читать книги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Мое любимое время год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исать по аналогии грамматическую сказку с использованием вводных сл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2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4813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78483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отите верьте, хотите – не верьте, но однажды мне приснился удивительный сон. Будто сижу я в театре, жду начала представления. И вот открывается занавес, и на сцену один за другим выходят... необыкновенные артисты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лены предложения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лежащее с определением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сказуемое с дополнени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-4435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4865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троились, взялись за ру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составили такое предложе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Это представление вам понравитс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-4813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06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друг из-за кулис вынырнуло еще одно словечко и втиснулось в самую середину, а соседние слова тут же от него запятыми отгородились. Читаю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Это представление,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возможно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,  вам понрави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л... Что это значит: возможно, понравится. Что же это такое? Выходит, что сами артисты совсем не уверены в успехе? Даже предполагают, что представление зрителям не понравитс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4152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 тут на сцену выскочило другое слово, растолкало всех, вытеснило слово «возможно» и заняло его место. Получилос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Это представлени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бесспорно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ам понравится.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200720" cy="37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звините, друзья, но мне это вовсе не понравилось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Что значит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«бесспорно»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у и самоуверенность у этих артистов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777060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нако члены предложения тоже проявили недовольство, нажали с двух сторон на слово «бесспорно», и оно быстро исчезло, а через пару секунд возникло снова и встало в начале предлож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Бесспорно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, это представление вам понравит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4152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начался шум на сцене, и в зале. Слово «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бесспорн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» перекочевало в конец предложения, но это никого не успокоило. И неизвестно, чем бы все закончилось, если бы на сцену не вышел сам режиссер. Он строго что-то сказал своенравному слову и вывел его из предложен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9:50:55Z</dcterms:created>
  <dc:creator>Кирилл</dc:creator>
  <dc:description/>
  <dc:language>en-US</dc:language>
  <cp:lastModifiedBy>Семья</cp:lastModifiedBy>
  <dcterms:modified xsi:type="dcterms:W3CDTF">2015-10-22T22:16:14Z</dcterms:modified>
  <cp:revision>10</cp:revision>
  <dc:subject/>
  <dc:title>Грамматический сон Почемучки</dc:title>
</cp:coreProperties>
</file>