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26DD-FDF4-4202-A4C6-DA9B85BE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70C-7AE5-4AEA-8AFD-2255F8EF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FD0-017B-4397-923E-DD8D3C42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656-16ED-48AA-B704-ED09B7D0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3793-81F1-473F-86E6-051859B5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EF2C-1B93-4717-9FB0-7EE3E133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82D0-120E-4B90-8D97-93B8C8D8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9224-0F47-41FF-B846-EBC5804D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5D7A-D975-42D4-83EA-564600C9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D616-BD51-4B47-BC37-7FFDC268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4712-AD60-42A1-A685-093BB51D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D9A-DC12-4E6C-885E-D21D5079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FB74-5BF8-413C-A560-0B1C37CB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AACC-DFE9-4E0A-890A-2DACB8AD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71D4-345B-4ADA-AF69-36EDBAC1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A2FB-B6EA-45A3-B2EB-209C4A5C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07B6-D218-436E-B750-74E8BA39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417-D394-4DA2-B9A0-0C1AFDEE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2623-C1A2-4EE1-9C63-5A151071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FBB0-DAA1-4A5D-BA18-967A8060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9BA-25F3-4DED-AA89-6441706B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81AA-6586-4B8A-97FE-FDB20F64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D2E4-86E2-484B-AB4B-973E5F23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CC6A-E626-423C-928B-CF5832C7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BA0E-B231-4F4A-94B8-1E942646E0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F0CB-5F24-48CC-825D-5A48070D3C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Грамматический сон Почемучк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4" descr="2"/>
          <p:cNvPicPr/>
          <p:nvPr/>
        </p:nvPicPr>
        <p:blipFill>
          <a:blip r:embed="rId1"/>
          <a:stretch/>
        </p:blipFill>
        <p:spPr>
          <a:xfrm>
            <a:off x="395280" y="3500280"/>
            <a:ext cx="16081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-44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4152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вместо него режиссер ввел слово «</a:t>
            </a: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вероятн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перь предложение звучало так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Это представление, 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вероятно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, вам понравит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836640"/>
            <a:ext cx="73422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не, да и всем зрителям, такое предложение очень даже понравилось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ртисты предполагают, что их ждет успех, но не считают это предположение бесспорным – зрители должны сами решить: нравится им или н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836640"/>
            <a:ext cx="73422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селся я в кресло поудобнее, приготовился смотреть... но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к сожалению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проснул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200"/>
                </a:solidFill>
                <a:latin typeface="Comic Sans MS"/>
              </a:rPr>
              <a:t>Тема уро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водные сло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-4813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4152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Вводным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азываются слова, при помощи которых говорящий (пишущий) выражает свое отношение к высказыванию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0" y="404640"/>
          <a:ext cx="9144000" cy="5977080"/>
        </p:xfrm>
        <a:graphic>
          <a:graphicData uri="http://schemas.openxmlformats.org/drawingml/2006/table">
            <a:tbl>
              <a:tblPr/>
              <a:tblGrid>
                <a:gridCol w="2411280"/>
                <a:gridCol w="2305080"/>
                <a:gridCol w="2303640"/>
                <a:gridCol w="2124000"/>
              </a:tblGrid>
              <a:tr h="3000600"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давать уверенность неуверен-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ражать разные чув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казывать на связь мыслей и их последова-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общать источник информа-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6480"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вер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еч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жет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жет бы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счас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сожален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несчас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-перв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-втор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мнен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-мое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-мое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4360" y="2204640"/>
            <a:ext cx="5543280" cy="32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Спасибо за помощь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юные исследователи языка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5" descr="1"/>
          <p:cNvPicPr/>
          <p:nvPr/>
        </p:nvPicPr>
        <p:blipFill>
          <a:blip r:embed="rId1"/>
          <a:stretch/>
        </p:blipFill>
        <p:spPr>
          <a:xfrm>
            <a:off x="6156360" y="3213000"/>
            <a:ext cx="18860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Упражнение 16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Составить текст-рассуждение на одну из тем (употребить вводные слова)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очему я люблю заниматься спортом?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очему я люблю читать книги?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Мое любимое время год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исать по аналогии грамматическую сказку с использованием вводных сл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2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2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2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4813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78483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отите верьте, хотите – не верьте, но однажды мне приснился удивительный сон. Будто сижу я в театре, жду начала представления. И вот открывается занавес, и на сцену один за другим выходят... необыкновенные артисты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лены предложения 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лежащее с определением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сказуемое с дополнени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-4435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4865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строились, взялись за ру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составили такое предложен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Это представление вам понравитс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-4813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06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друг из-за кулис вынырнуло еще одно словечко и втиснулось в самую середину, а соседние слова тут же от него запятыми отгородились. Читаю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Это представление, 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возможно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,  вам понравит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-44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читал... Что это значит: возможно, понравится. Что же это такое? Выходит, что сами артисты совсем не уверены в успехе? Даже предполагают, что представление зрителям не понравитс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-44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4152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о тут на сцену выскочило другое слово, растолкало всех, вытеснило слово «возможно» и заняло его место. Получилось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Это представление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бесспорно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вам понравится.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200720" cy="37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звините, друзья, но мне это вовсе не понравилось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Что значит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«бесспорно»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у и самоуверенность у этих артистов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777060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нако члены предложения тоже проявили недовольство, нажали с двух сторон на слово «бесспорно», и оно быстро исчезло, а через пару секунд возникло снова и встало в начале предложе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Бесспорно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, это представление вам понравит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-44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4152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начался шум на сцене, и в зале. Слово «</a:t>
            </a: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бесспорн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» перекочевало в конец предложения, но это никого не успокоило. И неизвестно, чем бы все закончилось, если бы на сцену не вышел сам режиссер. Он строго что-то сказал своенравному слову и вывел его из предложени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9:50:55Z</dcterms:created>
  <dc:creator>Кирилл</dc:creator>
  <dc:description/>
  <dc:language>en-US</dc:language>
  <cp:lastModifiedBy>Семья</cp:lastModifiedBy>
  <dcterms:modified xsi:type="dcterms:W3CDTF">2015-10-22T22:16:14Z</dcterms:modified>
  <cp:revision>10</cp:revision>
  <dc:subject/>
  <dc:title>Грамматический сон Почемучки</dc:title>
</cp:coreProperties>
</file>