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BD2-2A2A-43F9-80FD-B645C9D7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8DE-09ED-4D8A-A334-BEF099A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2FE-5855-4964-AACA-8D2C7731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465-B7EE-4C52-A9E7-BC252C46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910-AF64-4B1B-8C8F-A117326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42C-9CE3-45ED-83AC-3B737E5F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C80-CD61-4090-899F-65A20F5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63B-1DCD-48EE-9C63-B503CA3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93F-B72B-4935-A645-928F179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C20-D484-4085-96B0-1F8BB39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E1A-24BC-4A8D-81A2-0BFFE82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809-4353-4C0B-8D07-5AC5065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83A3-DAA0-43B8-83B4-40F31D451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43280" y="1000080"/>
            <a:ext cx="92869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ублицистический стиль речи.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на читателей или слуш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, экспрессивность, эмо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ко выраженное авторское отношение к пробл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орические обращения,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692280"/>
            <a:ext cx="7058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блицистика -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0000" y="378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ублицистике можно отнести 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письма, дневниковые записи, статьи, выступления на телевидении, интервью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71640" y="1916280"/>
            <a:ext cx="7056360" cy="13136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наименование литературных произведений, рассматривающих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острые, злободневные 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повлиять на общественное м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выз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читателей активный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интерес к поставленным вопрос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140360" y="0"/>
            <a:ext cx="482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«В краю родникового с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Знакомство с публицистикой Федора Александровича Абрам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000680" y="214200"/>
            <a:ext cx="49640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Bodoni MT Black"/>
              </a:rPr>
              <a:t>Цель:</a:t>
            </a:r>
            <a:r>
              <a:rPr b="1" lang="ru-RU" sz="3600" spc="-1" strike="noStrike">
                <a:solidFill>
                  <a:srgbClr val="a50021"/>
                </a:solidFill>
                <a:latin typeface="Bodoni MT Black"/>
              </a:rPr>
              <a:t> познакомиться с публицистикой Ф.А.Абрамова, выделить проблемы, которые волновали его не только как писателя, как художника слова, но, в первую очередь, как гражда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0820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029040" y="-92160"/>
            <a:ext cx="3809880" cy="1298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500120" y="1214280"/>
            <a:ext cx="71438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Чем живем-кормимс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Пашня живая и мерт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От этих весей Русь по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Слово в ядерный 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Возжечь человеческ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В краю родникового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О хлебе насущном и хлебе духов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Что же нам дела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Самый надежный судья-сове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bat"/>
              </a:rPr>
              <a:t>«Работа – самое большое счаст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23 из 284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395280" y="333360"/>
            <a:ext cx="3456000" cy="439092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324000" y="5013360"/>
            <a:ext cx="8497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doni MT Black"/>
              </a:rPr>
              <a:t>«Он был и поразительным оратором, оратором-публицистом, слушать которого было почти потрясен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Д.С.Лих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140360" y="4762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Болью и гневом рвалась твоя душа, страд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 родную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ы рассказал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 о себе и каким-то чудом слил это в единое сло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Е. М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брамов 1"/>
          <p:cNvPicPr/>
          <p:nvPr/>
        </p:nvPicPr>
        <p:blipFill>
          <a:blip r:embed="rId2"/>
          <a:stretch/>
        </p:blipFill>
        <p:spPr>
          <a:xfrm>
            <a:off x="324000" y="260280"/>
            <a:ext cx="4681440" cy="33418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3" name="Rectangle 7"/>
          <p:cNvSpPr/>
          <p:nvPr/>
        </p:nvSpPr>
        <p:spPr>
          <a:xfrm>
            <a:off x="5148360" y="1989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амов-публицист – это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260280"/>
            <a:ext cx="8569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Картинки по запросу памятник шергину в архангельске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535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и по запросу памятник писахову в архангельске"/>
          <p:cNvPicPr/>
          <p:nvPr/>
        </p:nvPicPr>
        <p:blipFill>
          <a:blip r:embed="rId3"/>
          <a:stretch/>
        </p:blipFill>
        <p:spPr>
          <a:xfrm>
            <a:off x="4572000" y="404640"/>
            <a:ext cx="4257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05:54Z</dcterms:created>
  <dc:creator>Людмила</dc:creator>
  <dc:description/>
  <dc:language>en-US</dc:language>
  <cp:lastModifiedBy>Семья</cp:lastModifiedBy>
  <dcterms:modified xsi:type="dcterms:W3CDTF">2017-11-14T21:39:35Z</dcterms:modified>
  <cp:revision>25</cp:revision>
  <dc:subject/>
  <dc:title>Слайд 1</dc:title>
</cp:coreProperties>
</file>