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C16-2160-488D-B2FE-F1C837E8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0C3-1483-4E1D-BD55-63BAA2F7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4D3-BB2B-4DED-8679-40E2C56A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702-6A4F-4B1C-B72D-736D783F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EE19-1956-4497-8FE4-0941F993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6A4-6E95-492B-B31D-4187DDCA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35A-6D57-4105-829B-2A2D435C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7B9-DA28-4983-B42A-4FE4E449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77D-752A-4AAD-93BB-8173E1B2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84E-C43D-485F-87B9-221E7DD6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9290-2DEC-42E1-903E-F7760610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D06D-240E-4A0B-B17A-1C348E1A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1711-E601-41D1-B683-F720B13BE1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-2005-09.photosight.ru/13/1032042.jp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istorydoc.edu.ru/attach.asp?a_no=676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2005-09.photosight.ru/13/1032042.jp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istorydoc.edu.ru/attach.asp?a_no=676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-2005-09.photosight.ru/13/1032042.jp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43280" y="1000080"/>
            <a:ext cx="928692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Публицистический стиль речи.</a:t>
            </a: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зна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ействие на читателей или слуш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уальность, экспрессивность, эмоцион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ко выраженное авторское отношение к пробл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торические обращения,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826920" y="692280"/>
            <a:ext cx="7058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блицистика -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900000" y="378936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публицистике можно отнести </a:t>
            </a:r>
            <a:r>
              <a:rPr b="0" lang="ru-RU" sz="2400" spc="-1" strike="noStrike">
                <a:solidFill>
                  <a:srgbClr val="000000"/>
                </a:solidFill>
                <a:latin typeface="Arbat"/>
              </a:rPr>
              <a:t>письма, дневниковые записи, статьи, выступления на телевидении, интервью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971640" y="1916280"/>
            <a:ext cx="7056360" cy="131364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е наименование литературных произведений, рассматривающих </a:t>
            </a:r>
            <a:r>
              <a:rPr b="0" lang="ru-RU" sz="2000" spc="-1" strike="noStrike">
                <a:solidFill>
                  <a:srgbClr val="fd6982"/>
                </a:solidFill>
                <a:latin typeface="Arial"/>
              </a:rPr>
              <a:t>острые, злободневные пробле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ю </a:t>
            </a:r>
            <a:r>
              <a:rPr b="0" lang="ru-RU" sz="2000" spc="-1" strike="noStrike">
                <a:solidFill>
                  <a:srgbClr val="fd6982"/>
                </a:solidFill>
                <a:latin typeface="Arial"/>
              </a:rPr>
              <a:t>повлиять на общественное мн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2000" spc="-1" strike="noStrike">
                <a:solidFill>
                  <a:srgbClr val="fd6982"/>
                </a:solidFill>
                <a:latin typeface="Arial"/>
              </a:rPr>
              <a:t>вызва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читателей активный </a:t>
            </a:r>
            <a:r>
              <a:rPr b="0" lang="ru-RU" sz="2000" spc="-1" strike="noStrike">
                <a:solidFill>
                  <a:srgbClr val="fd6982"/>
                </a:solidFill>
                <a:latin typeface="Arial"/>
              </a:rPr>
              <a:t>интерес к поставленным вопрос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-main-pic" descr="Картинка 10 из 38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4140360" y="0"/>
            <a:ext cx="48243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Bodoni MT Black"/>
              </a:rPr>
              <a:t>«В краю родникового слов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Bodoni MT Black"/>
              </a:rPr>
              <a:t>Знакомство с публицистикой Федора Александровича Абрамо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-main-pic" descr="Картинка 25 из 28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700280"/>
            <a:ext cx="3695400" cy="4824360"/>
          </a:xfrm>
          <a:prstGeom prst="rect">
            <a:avLst/>
          </a:prstGeom>
          <a:ln w="12708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-main-pic" descr="Картинка 10 из 38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000680" y="214200"/>
            <a:ext cx="496404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a50021"/>
                </a:solidFill>
                <a:uFillTx/>
                <a:latin typeface="Bodoni MT Black"/>
              </a:rPr>
              <a:t>Цель:</a:t>
            </a:r>
            <a:r>
              <a:rPr b="1" lang="ru-RU" sz="3600" spc="-1" strike="noStrike">
                <a:solidFill>
                  <a:srgbClr val="a50021"/>
                </a:solidFill>
                <a:latin typeface="Bodoni MT Black"/>
              </a:rPr>
              <a:t> познакомиться с публицистикой Ф.А.Абрамова, выделить проблемы, которые волновали его не только как писателя, как художника слова, но, в первую очередь, как граждан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-main-pic" descr="Картинка 25 из 28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700280"/>
            <a:ext cx="3695400" cy="4824360"/>
          </a:xfrm>
          <a:prstGeom prst="rect">
            <a:avLst/>
          </a:prstGeom>
          <a:ln w="12708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-main-pic" descr="Картинка 10 из 38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80820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3" descr=""/>
          <p:cNvPicPr/>
          <p:nvPr/>
        </p:nvPicPr>
        <p:blipFill>
          <a:blip r:embed="rId3"/>
          <a:stretch/>
        </p:blipFill>
        <p:spPr>
          <a:xfrm>
            <a:off x="3029040" y="-92160"/>
            <a:ext cx="3809880" cy="12985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500120" y="1214280"/>
            <a:ext cx="71438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bat"/>
              </a:rPr>
              <a:t>«Чем живем-кормимс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bat"/>
              </a:rPr>
              <a:t>«Пашня живая и мертва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bat"/>
              </a:rPr>
              <a:t>«От этих весей Русь пош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bat"/>
              </a:rPr>
              <a:t>«Слово в ядерный ве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bat"/>
              </a:rPr>
              <a:t>«Возжечь человеческо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bat"/>
              </a:rPr>
              <a:t>«В краю родникового сло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bat"/>
              </a:rPr>
              <a:t>«О хлебе насущном и хлебе духовн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bat"/>
              </a:rPr>
              <a:t>«Что же нам делать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bat"/>
              </a:rPr>
              <a:t>«Самый надежный судья-совес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bat"/>
              </a:rPr>
              <a:t>«Работа – самое большое счасть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-main-pic" descr="Картинка 10 из 38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Картинка 23 из 284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395280" y="333360"/>
            <a:ext cx="3456000" cy="4390920"/>
          </a:xfrm>
          <a:prstGeom prst="rect">
            <a:avLst/>
          </a:prstGeom>
          <a:ln w="127080">
            <a:solidFill>
              <a:srgbClr val="a50021"/>
            </a:solidFill>
            <a:miter/>
          </a:ln>
        </p:spPr>
      </p:pic>
      <p:sp>
        <p:nvSpPr>
          <p:cNvPr id="59" name="Text Box 8"/>
          <p:cNvSpPr/>
          <p:nvPr/>
        </p:nvSpPr>
        <p:spPr>
          <a:xfrm>
            <a:off x="324000" y="5013360"/>
            <a:ext cx="8497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Bodoni MT Black"/>
              </a:rPr>
              <a:t>«Он был и поразительным оратором, оратором-публицистом, слушать которого было почти потрясение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Bodoni MT Black"/>
              </a:rPr>
              <a:t>                                                                                   </a:t>
            </a:r>
            <a:r>
              <a:rPr b="1" lang="ru-RU" sz="1800" spc="-1" strike="noStrike">
                <a:solidFill>
                  <a:srgbClr val="a50021"/>
                </a:solidFill>
                <a:latin typeface="Bodoni MT Black"/>
              </a:rPr>
              <a:t>Д.С.Лиха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4140360" y="476280"/>
            <a:ext cx="446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«Болью и гневом рвалась твоя душа, страда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за родную земл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Ты рассказал 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и о себе и каким-то чудом слил это в единое слов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Е. Ми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-main-pic" descr="Картинка 10 из 38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Абрамов 1"/>
          <p:cNvPicPr/>
          <p:nvPr/>
        </p:nvPicPr>
        <p:blipFill>
          <a:blip r:embed="rId2"/>
          <a:stretch/>
        </p:blipFill>
        <p:spPr>
          <a:xfrm>
            <a:off x="324000" y="260280"/>
            <a:ext cx="4681440" cy="3341880"/>
          </a:xfrm>
          <a:prstGeom prst="rect">
            <a:avLst/>
          </a:prstGeom>
          <a:ln w="127080">
            <a:solidFill>
              <a:srgbClr val="a50021"/>
            </a:solidFill>
            <a:miter/>
          </a:ln>
        </p:spPr>
      </p:pic>
      <p:sp>
        <p:nvSpPr>
          <p:cNvPr id="63" name="Rectangle 7"/>
          <p:cNvSpPr/>
          <p:nvPr/>
        </p:nvSpPr>
        <p:spPr>
          <a:xfrm>
            <a:off x="5148360" y="198900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брамов-публицист – это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-main-pic" descr="Картинка 10 из 38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24000" y="260280"/>
            <a:ext cx="85690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Картинки по запросу памятник шергину в архангельске"/>
          <p:cNvPicPr/>
          <p:nvPr/>
        </p:nvPicPr>
        <p:blipFill>
          <a:blip r:embed="rId2"/>
          <a:stretch/>
        </p:blipFill>
        <p:spPr>
          <a:xfrm>
            <a:off x="468360" y="476280"/>
            <a:ext cx="3887640" cy="5351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Картинки по запросу памятник писахову в архангельске"/>
          <p:cNvPicPr/>
          <p:nvPr/>
        </p:nvPicPr>
        <p:blipFill>
          <a:blip r:embed="rId3"/>
          <a:stretch/>
        </p:blipFill>
        <p:spPr>
          <a:xfrm>
            <a:off x="4572000" y="404640"/>
            <a:ext cx="42577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3:05:54Z</dcterms:created>
  <dc:creator>Людмила</dc:creator>
  <dc:description/>
  <dc:language>en-US</dc:language>
  <cp:lastModifiedBy>Семья</cp:lastModifiedBy>
  <dcterms:modified xsi:type="dcterms:W3CDTF">2017-11-14T21:39:35Z</dcterms:modified>
  <cp:revision>25</cp:revision>
  <dc:subject/>
  <dc:title>Слайд 1</dc:title>
</cp:coreProperties>
</file>