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CB17-A42D-413C-AE0A-0200A5EFB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2958-54D0-4B2F-A5C2-5B9A3C8E6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A317-85BB-487A-A4E0-8E66F7EBF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79F8-0BD9-48DA-BCF0-2F9AE40B1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8EFF-1E8A-40C4-9B15-B5A171E5E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0C50-1CEC-4CC5-AFFF-8EA4941D8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466C-11AE-4E75-A598-904FE2A30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018C-7849-4203-81D9-4C420BB4D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9BB3-D2AF-4A41-A8A4-D56D3DE34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DD62-E230-4007-961C-CC2759596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BB7C-728A-418B-B8BD-948A45458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079F-45B3-4C32-941C-2186A56D6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A7479-FCDA-4165-A397-1363F73B29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fot-leitsing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&amp;YAcy;&amp;kcy;&amp;ocy;&amp;vcy; &amp;Lcy;&amp;iecy;&amp;jcy;&amp;tscy;&amp;icy;&amp;ncy;&amp;gcy;&amp;iecy;&amp;rcy; &amp;scy; &amp;scy;&amp;iecy;&amp;mcy;&amp;softcy;&amp;iecy;&amp;jcy;"/>
          <p:cNvPicPr/>
          <p:nvPr/>
        </p:nvPicPr>
        <p:blipFill>
          <a:blip r:embed="rId2"/>
          <a:stretch/>
        </p:blipFill>
        <p:spPr>
          <a:xfrm>
            <a:off x="468360" y="765000"/>
            <a:ext cx="8129520" cy="4570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fot-leitsinger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8"/>
          <p:cNvSpPr/>
          <p:nvPr/>
        </p:nvSpPr>
        <p:spPr>
          <a:xfrm>
            <a:off x="1186920" y="333360"/>
            <a:ext cx="620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«Я.И. Лейцингер- фотограф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2-z24-bddea5ab-7519-47f5-b3b3-d4aa978380fd"/>
          <p:cNvPicPr/>
          <p:nvPr/>
        </p:nvPicPr>
        <p:blipFill>
          <a:blip r:embed="rId4"/>
          <a:stretch/>
        </p:blipFill>
        <p:spPr>
          <a:xfrm>
            <a:off x="3059280" y="1052640"/>
            <a:ext cx="2936880" cy="414792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"/>
          <p:cNvSpPr/>
          <p:nvPr/>
        </p:nvSpPr>
        <p:spPr>
          <a:xfrm>
            <a:off x="6405120" y="3679200"/>
            <a:ext cx="263880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боту выполни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нисова Анастасия Олеговн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ченица   6 «В»   кла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БОУ СШ № 1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м. Я.И.Лейцинг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уковод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ятовская Мария Вяче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читель русского языка и литера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4164480" y="6092280"/>
            <a:ext cx="1148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. Архангель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15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fot-leitsing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&amp;YAcy;&amp;kcy;&amp;ocy;&amp;vcy; &amp;Lcy;&amp;iecy;&amp;jcy;&amp;tscy;&amp;icy;&amp;ncy;&amp;gcy;&amp;iecy;&amp;rcy; &amp;scy; &amp;scy;&amp;iecy;&amp;mcy;&amp;softcy;&amp;iecy;&amp;jcy;"/>
          <p:cNvPicPr/>
          <p:nvPr/>
        </p:nvPicPr>
        <p:blipFill>
          <a:blip r:embed="rId2"/>
          <a:stretch/>
        </p:blipFill>
        <p:spPr>
          <a:xfrm>
            <a:off x="468360" y="765000"/>
            <a:ext cx="8129520" cy="4570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fot-leitsinger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tmpA3C1-11"/>
          <p:cNvPicPr/>
          <p:nvPr/>
        </p:nvPicPr>
        <p:blipFill>
          <a:blip r:embed="rId4"/>
          <a:stretch/>
        </p:blipFill>
        <p:spPr>
          <a:xfrm>
            <a:off x="3276720" y="189000"/>
            <a:ext cx="5621040" cy="302076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7"/>
          <p:cNvSpPr/>
          <p:nvPr/>
        </p:nvSpPr>
        <p:spPr>
          <a:xfrm>
            <a:off x="0" y="915480"/>
            <a:ext cx="27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емецкая слоб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 почтовой открытки.       До 1914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9" descr="tmpA3C1-7"/>
          <p:cNvPicPr/>
          <p:nvPr/>
        </p:nvPicPr>
        <p:blipFill>
          <a:blip r:embed="rId5"/>
          <a:stretch/>
        </p:blipFill>
        <p:spPr>
          <a:xfrm>
            <a:off x="250920" y="3141720"/>
            <a:ext cx="5138640" cy="324648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10"/>
          <p:cNvSpPr/>
          <p:nvPr/>
        </p:nvSpPr>
        <p:spPr>
          <a:xfrm>
            <a:off x="5580000" y="4149360"/>
            <a:ext cx="35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сковский проспект зимой. Фото Я Лейцингера. 1899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fot-leitsing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&amp;YAcy;&amp;kcy;&amp;ocy;&amp;vcy; &amp;Lcy;&amp;iecy;&amp;jcy;&amp;tscy;&amp;icy;&amp;ncy;&amp;gcy;&amp;iecy;&amp;rcy; &amp;scy; &amp;scy;&amp;iecy;&amp;mcy;&amp;softcy;&amp;iecy;&amp;jcy;"/>
          <p:cNvPicPr/>
          <p:nvPr/>
        </p:nvPicPr>
        <p:blipFill>
          <a:blip r:embed="rId2"/>
          <a:stretch/>
        </p:blipFill>
        <p:spPr>
          <a:xfrm>
            <a:off x="468360" y="765000"/>
            <a:ext cx="8129520" cy="4570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fot-leitsinger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5"/>
          <p:cNvSpPr/>
          <p:nvPr/>
        </p:nvSpPr>
        <p:spPr>
          <a:xfrm>
            <a:off x="0" y="27180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ти снимки и сейчас вызывают большой интерес, стали предметом коллекционирования, а тогда и вовсе расходились тысячами в виде открыток, паспарту и подарочных альбомов. Глазами Якова Лейцингера мы видим сегодня русский Север конца XIX-начала XX ве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0" y="184356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1895 году, когда Яков Иванович не был ещё городским Головой, губернатор Александр Платонович Энгельгардт пригласил его в поездку по отдалённым уездам Архангельской губерн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&amp;Dcy;&amp;ocy;&amp;rcy;&amp;ocy;&amp;gcy;&amp;acy; &amp;ncy;&amp;acy; &amp;Kcy;&amp;acy;&amp;ncy;&amp;dcy;&amp;acy;&amp;lcy;&amp;acy;&amp;kcy;&amp;shcy;&amp;ucy;."/>
          <p:cNvPicPr/>
          <p:nvPr/>
        </p:nvPicPr>
        <p:blipFill>
          <a:blip r:embed="rId4"/>
          <a:stretch/>
        </p:blipFill>
        <p:spPr>
          <a:xfrm>
            <a:off x="395280" y="2924280"/>
            <a:ext cx="4286160" cy="34858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9"/>
          <p:cNvSpPr/>
          <p:nvPr/>
        </p:nvSpPr>
        <p:spPr>
          <a:xfrm>
            <a:off x="5439960" y="3788640"/>
            <a:ext cx="271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рога на Кандалакшу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fot-leitsing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&amp;YAcy;&amp;kcy;&amp;ocy;&amp;vcy; &amp;Lcy;&amp;iecy;&amp;jcy;&amp;tscy;&amp;icy;&amp;ncy;&amp;gcy;&amp;iecy;&amp;rcy; &amp;scy; &amp;scy;&amp;iecy;&amp;mcy;&amp;softcy;&amp;iecy;&amp;jcy;"/>
          <p:cNvPicPr/>
          <p:nvPr/>
        </p:nvPicPr>
        <p:blipFill>
          <a:blip r:embed="rId2"/>
          <a:stretch/>
        </p:blipFill>
        <p:spPr>
          <a:xfrm>
            <a:off x="468360" y="765000"/>
            <a:ext cx="8129520" cy="4570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fot-leitsinger"/>
          <p:cNvPicPr/>
          <p:nvPr/>
        </p:nvPicPr>
        <p:blipFill>
          <a:blip r:embed="rId3"/>
          <a:stretch/>
        </p:blipFill>
        <p:spPr>
          <a:xfrm>
            <a:off x="-468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5"/>
          <p:cNvSpPr/>
          <p:nvPr/>
        </p:nvSpPr>
        <p:spPr>
          <a:xfrm>
            <a:off x="0" y="151200"/>
            <a:ext cx="896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частники экспедиции исходили вдоль и поперёк Кольский полуостров, прошли побережьем Белого моря, поднялись в верховья Печоры, Мезени, Пинеги, совершили нелёгкое путешествие на Новую Земл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0" y="1419480"/>
            <a:ext cx="5580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Яков Лейцингер запечатлел быт жителей этих мест — рыбаков, крестьян, оленеводов; снимал поморов и коренных обитателей Севера — ненцев, саамов и многих други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8" descr="&amp;Scy;&amp;iecy;&amp;mcy;&amp;iecy;&amp;jcy;&amp;scy;&amp;tcy;&amp;vcy;&amp;ocy; &amp;scy;&amp;acy;&amp;mcy;&amp;ocy;&amp;iecy;&amp;dcy;&amp;ocy;&amp;vcy;."/>
          <p:cNvPicPr/>
          <p:nvPr/>
        </p:nvPicPr>
        <p:blipFill>
          <a:blip r:embed="rId4"/>
          <a:stretch/>
        </p:blipFill>
        <p:spPr>
          <a:xfrm>
            <a:off x="0" y="2924280"/>
            <a:ext cx="4286160" cy="30765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&amp;Mcy;&amp;acy;&amp;lcy;&amp;softcy;&amp;chcy;&amp;icy;&amp;kcy;&amp;icy; &amp;ncy;&amp;iecy;&amp;ncy;&amp;tscy;&amp;ycy;. &amp;Icy;&amp;zcy; &amp;acy;&amp;rcy;&amp;khcy;&amp;icy;&amp;vcy;&amp;acy; &amp;Ncy;.&amp;Lcy;.&amp;TScy;&amp;iecy;&amp;lcy;&amp;icy;&amp;kcy;&amp;ocy;&amp;vcy;&amp;ocy;&amp;jcy;."/>
          <p:cNvPicPr/>
          <p:nvPr/>
        </p:nvPicPr>
        <p:blipFill>
          <a:blip r:embed="rId5"/>
          <a:stretch/>
        </p:blipFill>
        <p:spPr>
          <a:xfrm>
            <a:off x="4932360" y="4076640"/>
            <a:ext cx="2857680" cy="1629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2" descr="&amp;Scy;&amp;iecy;&amp;lcy;&amp;ocy; &amp;Scy;&amp;ocy;&amp;rcy;&amp;ocy;&amp;kcy;&amp;acy; (&amp;scy;&amp;iecy;&amp;jcy;&amp;chcy;&amp;acy;&amp;scy; &amp;gcy;.&amp;Bcy;&amp;iecy;&amp;lcy;&amp;ocy;&amp;mcy;&amp;ocy;&amp;rcy;&amp;scy;&amp;kcy;). &amp;Fcy;&amp;ocy;&amp;tcy;&amp;ocy; &amp;YAcy;.&amp;Icy;. &amp;Lcy;&amp;iecy;&amp;jcy;&amp;tscy;&amp;icy;&amp;ncy;&amp;gcy;&amp;iecy;&amp;rcy;&amp;acy;."/>
          <p:cNvPicPr/>
          <p:nvPr/>
        </p:nvPicPr>
        <p:blipFill>
          <a:blip r:embed="rId6"/>
          <a:stretch/>
        </p:blipFill>
        <p:spPr>
          <a:xfrm>
            <a:off x="5651640" y="1268280"/>
            <a:ext cx="3181320" cy="21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fot-leitsing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&amp;YAcy;&amp;kcy;&amp;ocy;&amp;vcy; &amp;Lcy;&amp;iecy;&amp;jcy;&amp;tscy;&amp;icy;&amp;ncy;&amp;gcy;&amp;iecy;&amp;rcy; &amp;scy; &amp;scy;&amp;iecy;&amp;mcy;&amp;softcy;&amp;iecy;&amp;jcy;"/>
          <p:cNvPicPr/>
          <p:nvPr/>
        </p:nvPicPr>
        <p:blipFill>
          <a:blip r:embed="rId2"/>
          <a:stretch/>
        </p:blipFill>
        <p:spPr>
          <a:xfrm>
            <a:off x="468360" y="765000"/>
            <a:ext cx="8129520" cy="45705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fot-leitsinger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5"/>
          <p:cNvSpPr/>
          <p:nvPr/>
        </p:nvSpPr>
        <p:spPr>
          <a:xfrm>
            <a:off x="395280" y="5400"/>
            <a:ext cx="8159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Часть из многочисленных фоторабот была включена в вышедшую вскоре книгу Энгельгадта «Русский Север. Путевые записки» (СПб., 1897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395280" y="1080000"/>
            <a:ext cx="8353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то были виды Мурманского побережья и промыслов, становищ и поселений, Печенги и Трифонов- Печенгского  монастыря, Кандалакши, Умбы, Княжей Губы, Колы и д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8" descr="&amp;Kcy;&amp;acy;&amp;ncy;&amp;dcy;&amp;acy;&amp;lcy;&amp;acy;&amp;kcy;&amp;shcy;&amp;scy;&amp;kcy;&amp;icy;&amp;jcy; &amp;mcy;&amp;ucy;&amp;zhcy;&amp;scy;&amp;kcy;&amp;ocy;&amp;jcy; &amp;mcy;&amp;ocy;&amp;ncy;&amp;acy;&amp;scy;&amp;tcy;&amp;ycy;&amp;rcy;&amp;softcy;, 1887 &amp;gcy;. "/>
          <p:cNvPicPr/>
          <p:nvPr/>
        </p:nvPicPr>
        <p:blipFill>
          <a:blip r:embed="rId4"/>
          <a:stretch/>
        </p:blipFill>
        <p:spPr>
          <a:xfrm>
            <a:off x="3494160" y="1989000"/>
            <a:ext cx="5649840" cy="371016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9"/>
          <p:cNvSpPr/>
          <p:nvPr/>
        </p:nvSpPr>
        <p:spPr>
          <a:xfrm>
            <a:off x="3840480" y="4723560"/>
            <a:ext cx="49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ндалакшский мужской монастырь, 1887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1" descr="&amp;ZHcy;&amp;iecy;&amp;ncy;&amp;shchcy;&amp;icy;&amp;ncy;&amp;ycy; &amp;scy;.&amp;Kcy;&amp;acy;&amp;ncy;&amp;dcy;&amp;acy;&amp;lcy;&amp;acy;&amp;kcy;&amp;shcy;&amp;acy;"/>
          <p:cNvPicPr/>
          <p:nvPr/>
        </p:nvPicPr>
        <p:blipFill>
          <a:blip r:embed="rId5"/>
          <a:stretch/>
        </p:blipFill>
        <p:spPr>
          <a:xfrm>
            <a:off x="395280" y="2276640"/>
            <a:ext cx="2624040" cy="357804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2"/>
          <p:cNvSpPr/>
          <p:nvPr/>
        </p:nvSpPr>
        <p:spPr>
          <a:xfrm>
            <a:off x="388800" y="2420280"/>
            <a:ext cx="287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Женщины с.Кандалакш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fot-leitsing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&amp;YAcy;&amp;kcy;&amp;ocy;&amp;vcy; &amp;Lcy;&amp;iecy;&amp;jcy;&amp;tscy;&amp;icy;&amp;ncy;&amp;gcy;&amp;iecy;&amp;rcy; &amp;scy; &amp;scy;&amp;iecy;&amp;mcy;&amp;softcy;&amp;iecy;&amp;jcy;"/>
          <p:cNvPicPr/>
          <p:nvPr/>
        </p:nvPicPr>
        <p:blipFill>
          <a:blip r:embed="rId2"/>
          <a:stretch/>
        </p:blipFill>
        <p:spPr>
          <a:xfrm>
            <a:off x="468360" y="765000"/>
            <a:ext cx="8129520" cy="45705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fot-leitsinger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5"/>
          <p:cNvSpPr/>
          <p:nvPr/>
        </p:nvSpPr>
        <p:spPr>
          <a:xfrm>
            <a:off x="1440" y="187920"/>
            <a:ext cx="9142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Часть снимков Яков Иванович впоследствии издал в Москве в виде открыток. Их раскупали так быстро, что некоторые зарубежные фирмы также взялись за издание открыток с фотографиями архангельского масте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0" y="1635480"/>
            <a:ext cx="9396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тдельно стоит упомянуть о нескольких поездках фотографа на Соловки. Благодаря нему мы можем увидеть, как выглядел монастырь в ту пору, увидеть не разрушенные еще покои, библиотеку, другие интерьеры северного монастыря, полностью уничтоженные при советской власти, можем увидеть быт монахов и трудников – добровольных и неоплачиваемых работников, исполнявших все основные работы в монастыр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8" descr="&amp;YAcy;.&amp;Icy;.&amp;Lcy;&amp;iecy;&amp;jcy;&amp;tscy;&amp;icy;&amp;ncy;&amp;gcy;&amp;iecy;&amp;rcy; - &amp;tcy;&amp;rcy;&amp;ucy;&amp;dcy;&amp;ncy;&amp;icy;&amp;kcy; &amp;ncy;&amp;acy; &amp;Scy;&amp;ocy;&amp;lcy;&amp;ocy;&amp;vcy;&amp;kcy;&amp;acy;&amp;khcy;"/>
          <p:cNvPicPr/>
          <p:nvPr/>
        </p:nvPicPr>
        <p:blipFill>
          <a:blip r:embed="rId4"/>
          <a:stretch/>
        </p:blipFill>
        <p:spPr>
          <a:xfrm>
            <a:off x="395280" y="3789360"/>
            <a:ext cx="1886040" cy="28576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9"/>
          <p:cNvSpPr/>
          <p:nvPr/>
        </p:nvSpPr>
        <p:spPr>
          <a:xfrm>
            <a:off x="2340000" y="4438080"/>
            <a:ext cx="1655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Я.И.Лейцингер —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рудник на Соловка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1" descr="&amp;Scy;&amp;ocy;&amp;lcy;&amp;ocy;&amp;vcy;&amp;iecy;&amp;tscy;&amp;kcy;&amp;icy;&amp;jcy; &amp;mcy;&amp;ocy;&amp;ncy;&amp;acy;&amp;scy;&amp;tcy;&amp;ycy;&amp;rcy;&amp;softcy;."/>
          <p:cNvPicPr/>
          <p:nvPr/>
        </p:nvPicPr>
        <p:blipFill>
          <a:blip r:embed="rId5"/>
          <a:stretch/>
        </p:blipFill>
        <p:spPr>
          <a:xfrm>
            <a:off x="4356000" y="3357720"/>
            <a:ext cx="4286520" cy="286704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12"/>
          <p:cNvSpPr/>
          <p:nvPr/>
        </p:nvSpPr>
        <p:spPr>
          <a:xfrm>
            <a:off x="5116680" y="5589000"/>
            <a:ext cx="25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оловецкий монастырь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fot-leitsing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&amp;YAcy;&amp;kcy;&amp;ocy;&amp;vcy; &amp;Lcy;&amp;iecy;&amp;jcy;&amp;tscy;&amp;icy;&amp;ncy;&amp;gcy;&amp;iecy;&amp;rcy; &amp;scy; &amp;scy;&amp;iecy;&amp;mcy;&amp;softcy;&amp;iecy;&amp;jcy;"/>
          <p:cNvPicPr/>
          <p:nvPr/>
        </p:nvPicPr>
        <p:blipFill>
          <a:blip r:embed="rId2"/>
          <a:stretch/>
        </p:blipFill>
        <p:spPr>
          <a:xfrm>
            <a:off x="468360" y="765000"/>
            <a:ext cx="8129520" cy="4570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fot-leitsinger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5"/>
          <p:cNvSpPr/>
          <p:nvPr/>
        </p:nvSpPr>
        <p:spPr>
          <a:xfrm>
            <a:off x="0" y="449280"/>
            <a:ext cx="9144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ти снимки не только уникальный изобразительный материал, повествующий о давно ушедшей жизни, но и потрясающее документальное подспорье реставраторам, шаг за шагом пытающимся восстановить былое обличье этого уникального места. Его Соловецкий цикл попал даже в коллекцию дома Романовых (находился в библиотеке императора Николая II), а в книге «Россия в прошлом и настоящем», изданной к 300-летию дома Романовых, Якову Лейцингеру посвящена одна из стат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250920" y="3003480"/>
            <a:ext cx="45003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з всех поездок он привозил массу снимков, посылал их во многие журналы Севера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не беря гонораров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, что трудно сегодня представить. Лучшие его работы были опубликованы в иллюстрированном альбоме Архангельской губернии «Северный край». Издавались и многочисленные почтовые карточ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8" descr="&amp;Scy;&amp;IEcy;&amp;Kcy;&amp;Icy;&amp;Rcy;&amp;Kcy;&amp;Acy;. &amp;Scy;&amp;ocy;&amp;lcy;&amp;ocy;&amp;vcy;&amp;kcy;&amp;icy;.1888 &amp;gcy;&amp;ocy;&amp;dcy;."/>
          <p:cNvPicPr/>
          <p:nvPr/>
        </p:nvPicPr>
        <p:blipFill>
          <a:blip r:embed="rId4"/>
          <a:stretch/>
        </p:blipFill>
        <p:spPr>
          <a:xfrm>
            <a:off x="6012000" y="2781360"/>
            <a:ext cx="1971360" cy="31464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9"/>
          <p:cNvSpPr/>
          <p:nvPr/>
        </p:nvSpPr>
        <p:spPr>
          <a:xfrm>
            <a:off x="5364000" y="5459040"/>
            <a:ext cx="33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ЕКИРКА. Соловки.1888 го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fot-leitsing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&amp;YAcy;&amp;kcy;&amp;ocy;&amp;vcy; &amp;Lcy;&amp;iecy;&amp;jcy;&amp;tscy;&amp;icy;&amp;ncy;&amp;gcy;&amp;iecy;&amp;rcy; &amp;scy; &amp;scy;&amp;iecy;&amp;mcy;&amp;softcy;&amp;iecy;&amp;jcy;"/>
          <p:cNvPicPr/>
          <p:nvPr/>
        </p:nvPicPr>
        <p:blipFill>
          <a:blip r:embed="rId2"/>
          <a:stretch/>
        </p:blipFill>
        <p:spPr>
          <a:xfrm>
            <a:off x="468360" y="765000"/>
            <a:ext cx="8129520" cy="45705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fot-leitsinger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5"/>
          <p:cNvSpPr/>
          <p:nvPr/>
        </p:nvSpPr>
        <p:spPr>
          <a:xfrm>
            <a:off x="0" y="150840"/>
            <a:ext cx="9144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Яков Иванович увлекал своим примером других, и занятие фотографией на архангельском Севере стало носить массовый характер. Фотоаппараты взяли в руки врачи, учителя и даже крестьяне. В мае 1909 года любители объединились в большое Архангельское фотографическое общество. Яков Лейцингер вошел в число учредителей этого объединения. Яков Иванович участвовал во многих выставках и за свое искусство был награжден медалями Дагера (основоположника фотографии) и Русского географического общества.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0" y="2908440"/>
            <a:ext cx="9144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 его снимках и сегодня можно увидеть то, чем жил Архангельск, который был крупным портом, занимался рыболовством, строил суда, заготавливал и экспортировал лес, отсюда уходили полярные экспедиции. Здесь испокон веку жили свободные и предприимчивые люди, сюда приходили торговые суда из-за границы, и на улицах города нередко слышалась иноземная речь. Многие снимки Якова Лейцингера – документальные иллюстрации к этому образному описанию: рыбные пристани, ярмарки, торговля свежей рыбой, всевозможные празднества и городские гуляния, типы, жанровые сцены и, конечно, события – радостные, необычные и даже драматические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fot-leitsing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&amp;YAcy;&amp;kcy;&amp;ocy;&amp;vcy; &amp;Lcy;&amp;iecy;&amp;jcy;&amp;tscy;&amp;icy;&amp;ncy;&amp;gcy;&amp;iecy;&amp;rcy; &amp;scy; &amp;scy;&amp;iecy;&amp;mcy;&amp;softcy;&amp;iecy;&amp;jcy;"/>
          <p:cNvPicPr/>
          <p:nvPr/>
        </p:nvPicPr>
        <p:blipFill>
          <a:blip r:embed="rId2"/>
          <a:stretch/>
        </p:blipFill>
        <p:spPr>
          <a:xfrm>
            <a:off x="468360" y="765000"/>
            <a:ext cx="8129520" cy="45705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fot-leitsinger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7"/>
          <p:cNvSpPr/>
          <p:nvPr/>
        </p:nvSpPr>
        <p:spPr>
          <a:xfrm>
            <a:off x="900000" y="2158920"/>
            <a:ext cx="7993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СПАСИБО ЗА ВНИМАНИЕ 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fot-leitsing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&amp;YAcy;&amp;kcy;&amp;ocy;&amp;vcy; &amp;Lcy;&amp;iecy;&amp;jcy;&amp;tscy;&amp;icy;&amp;ncy;&amp;gcy;&amp;iecy;&amp;rcy; &amp;scy; &amp;scy;&amp;iecy;&amp;mcy;&amp;softcy;&amp;iecy;&amp;jcy;"/>
          <p:cNvPicPr/>
          <p:nvPr/>
        </p:nvPicPr>
        <p:blipFill>
          <a:blip r:embed="rId2"/>
          <a:stretch/>
        </p:blipFill>
        <p:spPr>
          <a:xfrm>
            <a:off x="468360" y="765000"/>
            <a:ext cx="8129520" cy="4570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fot-leitsinger"/>
          <p:cNvPicPr/>
          <p:nvPr/>
        </p:nvPicPr>
        <p:blipFill>
          <a:blip r:embed="rId3"/>
          <a:stretch/>
        </p:blipFill>
        <p:spPr>
          <a:xfrm>
            <a:off x="179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7"/>
          <p:cNvSpPr/>
          <p:nvPr/>
        </p:nvSpPr>
        <p:spPr>
          <a:xfrm>
            <a:off x="250920" y="40464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Цель работы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зучить вклад Я.И. Лейцингера в историю Архангельска как фотограф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468360" y="2708280"/>
            <a:ext cx="950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Задач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знакомиться с литературой и интернет-ресурсами, рассказывающими о Я.И. Лейцинге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обрать информацию про его фотографическую деяте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ссмотреть особенность творчества Лейцингера-фотографа, его вклад в развитие фотографии в Архангельс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0" descr="fot-leitsing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1"/>
          <p:cNvSpPr/>
          <p:nvPr/>
        </p:nvSpPr>
        <p:spPr>
          <a:xfrm>
            <a:off x="250920" y="465120"/>
            <a:ext cx="889308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иография Якова Ивановича Лейцингер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Яков Лейцингер родился 18 (30) марта 1855 года. Он обучался в Вологодской мужской гимназии, но, не окончив курса, поступил на работу учеником фотографа в мастерскую в Вологде. Его призвали в армию, служил унтер-офицером, писарем в 148-ом пехотном Каспийском полку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анкт-Петербург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1881 году Яков Лейцингер переехал в Архангельск, где открыл хорошо оснащенный фотосалон. В качестве фотографа участвовал в поездках губернаторов по Архангельской губернии. В 1897 году Якова Ивановича выбрали гласным в городскую думу Архангельска, а в 1903 году – городским головой. Переизбирался на пост городского головы четыре раза – в 1903, 1906, 1909 и 1912 годах. Доходы городской казны увеличились вдвое, были построены несколько школ, два приемных покоя и амбулатория городской больницы, проложен водопровод, запущен первый автобусный маршрут. По инициативе Лейцингера была устроена городская электростанция, проведена первая трамвайная линия. Яков Иванович скончался 2(16) сентября 1914 года в Санкт-Петербург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fot-leitsing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&amp;YAcy;&amp;kcy;&amp;ocy;&amp;vcy; &amp;Lcy;&amp;iecy;&amp;jcy;&amp;tscy;&amp;icy;&amp;ncy;&amp;gcy;&amp;iecy;&amp;rcy; &amp;scy; &amp;scy;&amp;iecy;&amp;mcy;&amp;softcy;&amp;iecy;&amp;jcy;"/>
          <p:cNvPicPr/>
          <p:nvPr/>
        </p:nvPicPr>
        <p:blipFill>
          <a:blip r:embed="rId2"/>
          <a:stretch/>
        </p:blipFill>
        <p:spPr>
          <a:xfrm>
            <a:off x="468360" y="765000"/>
            <a:ext cx="8129520" cy="4570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fot-leitsinger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5"/>
          <p:cNvSpPr/>
          <p:nvPr/>
        </p:nvSpPr>
        <p:spPr>
          <a:xfrm>
            <a:off x="3154680" y="359280"/>
            <a:ext cx="377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Яков Лейцингер с семь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&amp;YAcy;&amp;kcy;&amp;ocy;&amp;vcy; &amp;Lcy;&amp;iecy;&amp;jcy;&amp;tscy;&amp;icy;&amp;ncy;&amp;gcy;&amp;iecy;&amp;rcy; &amp;scy; &amp;scy;&amp;iecy;&amp;mcy;&amp;softcy;&amp;iecy;&amp;jcy;"/>
          <p:cNvPicPr/>
          <p:nvPr/>
        </p:nvPicPr>
        <p:blipFill>
          <a:blip r:embed="rId4"/>
          <a:stretch/>
        </p:blipFill>
        <p:spPr>
          <a:xfrm>
            <a:off x="684360" y="907920"/>
            <a:ext cx="7810200" cy="43912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8"/>
          <p:cNvSpPr/>
          <p:nvPr/>
        </p:nvSpPr>
        <p:spPr>
          <a:xfrm>
            <a:off x="755640" y="4509360"/>
            <a:ext cx="799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 центре Я. И. Лейцингер, его жена Александра Асинкритовна, Лидия, Баранов (муж Нины), Игорь, Ольга, Евгения, Анна, Аркадий, Нина, Вадим, Марина, Иван, Елена, Вячеслав, Александ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fot-leitsing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&amp;YAcy;&amp;kcy;&amp;ocy;&amp;vcy; &amp;Lcy;&amp;iecy;&amp;jcy;&amp;tscy;&amp;icy;&amp;ncy;&amp;gcy;&amp;iecy;&amp;rcy; &amp;scy; &amp;scy;&amp;iecy;&amp;mcy;&amp;softcy;&amp;iecy;&amp;jcy;"/>
          <p:cNvPicPr/>
          <p:nvPr/>
        </p:nvPicPr>
        <p:blipFill>
          <a:blip r:embed="rId2"/>
          <a:stretch/>
        </p:blipFill>
        <p:spPr>
          <a:xfrm>
            <a:off x="468360" y="765000"/>
            <a:ext cx="8129520" cy="4570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fot-leitsinger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5"/>
          <p:cNvSpPr/>
          <p:nvPr/>
        </p:nvSpPr>
        <p:spPr>
          <a:xfrm>
            <a:off x="468360" y="1170000"/>
            <a:ext cx="8424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1880 году Яков Иванович перебрался в Архангельск, где в мае 1882 года подал на имя архангельского губернатора Полторацкого прошение с просьбой об открытии фотографического де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скоре он открыл фотостудию в собственном деревянном доме на Псковском проспекте. Теперь это улица Чумбарова-Лучинского – заповедная улица Архангельска. Несмотря на жесткую конкуренцию, дела его пошли в гору, видимо, потому, что этот человек имел не только талант фотохудожника, но и прекрасные организаторские способности. Вскоре у него появились помощники, техперсонал, которые помогали ускорить процесс работы над фотоснимками, а фотостудия стала пользоваться у северян большой популярность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2773080" y="187560"/>
            <a:ext cx="416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ейцингер Я.И. — фотогра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fot-leitsing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&amp;YAcy;&amp;kcy;&amp;ocy;&amp;vcy; &amp;Lcy;&amp;iecy;&amp;jcy;&amp;tscy;&amp;icy;&amp;ncy;&amp;gcy;&amp;iecy;&amp;rcy; &amp;scy; &amp;scy;&amp;iecy;&amp;mcy;&amp;softcy;&amp;iecy;&amp;jcy;"/>
          <p:cNvPicPr/>
          <p:nvPr/>
        </p:nvPicPr>
        <p:blipFill>
          <a:blip r:embed="rId2"/>
          <a:stretch/>
        </p:blipFill>
        <p:spPr>
          <a:xfrm>
            <a:off x="468360" y="765000"/>
            <a:ext cx="8129520" cy="4570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fot-leitsinger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7"/>
          <p:cNvSpPr/>
          <p:nvPr/>
        </p:nvSpPr>
        <p:spPr>
          <a:xfrm>
            <a:off x="0" y="700560"/>
            <a:ext cx="9325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актически у каждого состоятельного архангелогородца хранились в семейном альбоме фотографии, сделанные в салоне Я.И.Лейцингера. Туда шли представители самых разных слоев местного общества: рабочие, купцы, чиновники, священники, прислуга, приезжий лю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0" y="234828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рупповые портреты на увеселительных сборищах, фотографии для семейных альбомов, прославляющие родственные узы; парочки, пожелавшие увековечить свою любовь или тайную связь; бабушки и дедушки, «ангелочки», умершие в младенчестве; мальчики и девочки, едва переступившие порог дет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0" y="421992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лучив в 1884 году исключительные права на съемки в городе и по всей губернии (в те годы на это требовалось особое разрешение), Яков Иванович начал выходить со своим фотоаппаратом на улицы и снимать обычную жизнь города-пор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fot-leitsing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&amp;YAcy;&amp;kcy;&amp;ocy;&amp;vcy; &amp;Lcy;&amp;iecy;&amp;jcy;&amp;tscy;&amp;icy;&amp;ncy;&amp;gcy;&amp;iecy;&amp;rcy; &amp;scy; &amp;scy;&amp;iecy;&amp;mcy;&amp;softcy;&amp;iecy;&amp;jcy;"/>
          <p:cNvPicPr/>
          <p:nvPr/>
        </p:nvPicPr>
        <p:blipFill>
          <a:blip r:embed="rId2"/>
          <a:stretch/>
        </p:blipFill>
        <p:spPr>
          <a:xfrm>
            <a:off x="468360" y="765000"/>
            <a:ext cx="8129520" cy="4570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fot-leitsinger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tmpA3C1-8"/>
          <p:cNvPicPr/>
          <p:nvPr/>
        </p:nvPicPr>
        <p:blipFill>
          <a:blip r:embed="rId4"/>
          <a:stretch/>
        </p:blipFill>
        <p:spPr>
          <a:xfrm>
            <a:off x="755640" y="333360"/>
            <a:ext cx="7921800" cy="418464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1"/>
          <p:cNvSpPr/>
          <p:nvPr/>
        </p:nvSpPr>
        <p:spPr>
          <a:xfrm>
            <a:off x="1343520" y="4941360"/>
            <a:ext cx="663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ид на центр Архангельска с реки. Фото Я. Лейцингера. 190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fot-leitsing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&amp;YAcy;&amp;kcy;&amp;ocy;&amp;vcy; &amp;Lcy;&amp;iecy;&amp;jcy;&amp;tscy;&amp;icy;&amp;ncy;&amp;gcy;&amp;iecy;&amp;rcy; &amp;scy; &amp;scy;&amp;iecy;&amp;mcy;&amp;softcy;&amp;iecy;&amp;jcy;"/>
          <p:cNvPicPr/>
          <p:nvPr/>
        </p:nvPicPr>
        <p:blipFill>
          <a:blip r:embed="rId2"/>
          <a:stretch/>
        </p:blipFill>
        <p:spPr>
          <a:xfrm>
            <a:off x="468360" y="765000"/>
            <a:ext cx="8129520" cy="45705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fot-leitsinger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&amp;Fcy;&amp;ocy;&amp;tcy;&amp;ocy;&amp;scy;&amp;tcy;&amp;ucy;&amp;dcy;&amp;icy;&amp;yacy; &amp;YAcy;.&amp;Icy;.&amp;Lcy;&amp;iecy;&amp;jcy;&amp;tscy;&amp;icy;&amp;ncy;&amp;gcy;&amp;iecy;&amp;rcy;&amp;acy;."/>
          <p:cNvPicPr/>
          <p:nvPr/>
        </p:nvPicPr>
        <p:blipFill>
          <a:blip r:embed="rId4"/>
          <a:stretch/>
        </p:blipFill>
        <p:spPr>
          <a:xfrm>
            <a:off x="395280" y="333360"/>
            <a:ext cx="3024360" cy="230508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7"/>
          <p:cNvSpPr/>
          <p:nvPr/>
        </p:nvSpPr>
        <p:spPr>
          <a:xfrm>
            <a:off x="493560" y="2133000"/>
            <a:ext cx="29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Фотостудия Я.И.Лейцингер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9" descr="&amp;Acy;&amp;lcy;&amp;icy;&amp;ncy;&amp;acy; &amp;Pcy;&amp;iecy;&amp;tscy;."/>
          <p:cNvPicPr/>
          <p:nvPr/>
        </p:nvPicPr>
        <p:blipFill>
          <a:blip r:embed="rId5"/>
          <a:stretch/>
        </p:blipFill>
        <p:spPr>
          <a:xfrm>
            <a:off x="179280" y="3068640"/>
            <a:ext cx="2394000" cy="3610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vaga_land: &amp;Fcy;&amp;ocy;&amp;tcy;&amp;ocy;&amp;gcy;&amp;rcy;&amp;acy;&amp;fcy;&amp;icy;&amp;icy; &amp;scy;&amp;tcy;&amp;acy;&amp;rcy;&amp;ocy;&amp;gcy;&amp;ocy; &amp;Acy;&amp;rcy;&amp;khcy;&amp;acy;&amp;ncy;&amp;gcy;&amp;iecy;&amp;lcy;&amp;softcy;&amp;scy;&amp;kcy;&amp;acy;"/>
          <p:cNvPicPr/>
          <p:nvPr/>
        </p:nvPicPr>
        <p:blipFill>
          <a:blip r:embed="rId6"/>
          <a:stretch/>
        </p:blipFill>
        <p:spPr>
          <a:xfrm>
            <a:off x="4356000" y="189000"/>
            <a:ext cx="4329360" cy="28908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4" descr="&amp;Dcy;.&amp;Fcy;&amp;ocy;&amp;ncy;&amp;tcy;&amp;iecy;&amp;jcy;&amp;ncy;&amp;iecy;&amp;scy;&amp;ycy; - &amp;Dcy;&amp;acy;&amp;gcy;&amp;mcy;&amp;acy;&amp;rcy;&amp;acy;, &amp;Ocy;&amp;lcy;&amp;softcy;&amp;gcy;&amp;acy;, &amp;Acy;&amp;lcy;&amp;iecy;&amp;kcy;&amp;scy;&amp;acy;&amp;ncy;&amp;dcy;&amp;rcy;"/>
          <p:cNvPicPr/>
          <p:nvPr/>
        </p:nvPicPr>
        <p:blipFill>
          <a:blip r:embed="rId7"/>
          <a:stretch/>
        </p:blipFill>
        <p:spPr>
          <a:xfrm>
            <a:off x="3419640" y="3284640"/>
            <a:ext cx="2190600" cy="28573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7" descr=" &amp;Acy;&amp;lcy;&amp;lcy;&amp;acy; &amp;Mcy;&amp;acy;&amp;gcy;&amp;iecy;&amp;rcy; &amp;icy; &amp;Dcy;&amp;ocy;&amp;rcy;&amp;ocy;&amp;tcy;&amp;iecy;&amp;yacy; &amp;Pcy;&amp;iecy;&amp;tscy;"/>
          <p:cNvPicPr/>
          <p:nvPr/>
        </p:nvPicPr>
        <p:blipFill>
          <a:blip r:embed="rId8"/>
          <a:stretch/>
        </p:blipFill>
        <p:spPr>
          <a:xfrm>
            <a:off x="6588000" y="3284640"/>
            <a:ext cx="14954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fot-leitsing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&amp;YAcy;&amp;kcy;&amp;ocy;&amp;vcy; &amp;Lcy;&amp;iecy;&amp;jcy;&amp;tscy;&amp;icy;&amp;ncy;&amp;gcy;&amp;iecy;&amp;rcy; &amp;scy; &amp;scy;&amp;iecy;&amp;mcy;&amp;softcy;&amp;iecy;&amp;jcy;"/>
          <p:cNvPicPr/>
          <p:nvPr/>
        </p:nvPicPr>
        <p:blipFill>
          <a:blip r:embed="rId2"/>
          <a:stretch/>
        </p:blipFill>
        <p:spPr>
          <a:xfrm>
            <a:off x="468360" y="765000"/>
            <a:ext cx="8129520" cy="4570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fot-leitsinger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5"/>
          <p:cNvSpPr/>
          <p:nvPr/>
        </p:nvSpPr>
        <p:spPr>
          <a:xfrm>
            <a:off x="0" y="691200"/>
            <a:ext cx="939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то благодаря его фотоснимкам мы знаем, каким был старый Архангельск, – с многолюдьем на рыбных базарах, с ярмарками, со всевозможными празднествами и городскими гуляниями, поленницами дров на фоне домов с замысловатыми наличник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http://paetz.ru/wp-content/uploads/2014/09/6-%D0%A1-%D0%B3%D0%BE%D1%80%D0%BA%D0%B8.jpg"/>
          <p:cNvPicPr/>
          <p:nvPr/>
        </p:nvPicPr>
        <p:blipFill>
          <a:blip r:embed="rId4"/>
          <a:stretch/>
        </p:blipFill>
        <p:spPr>
          <a:xfrm>
            <a:off x="1692360" y="2205000"/>
            <a:ext cx="571824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9T18:26:04Z</dcterms:created>
  <dc:creator>1</dc:creator>
  <dc:description/>
  <dc:language>en-US</dc:language>
  <cp:lastModifiedBy>Семья</cp:lastModifiedBy>
  <dcterms:modified xsi:type="dcterms:W3CDTF">2015-03-24T18:24:03Z</dcterms:modified>
  <cp:revision>5</cp:revision>
  <dc:subject/>
  <dc:title>Слайд 1</dc:title>
</cp:coreProperties>
</file>