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4250-2F1A-4782-B197-A508302C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2D4-05C6-4866-88C7-4CA73E7C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626-79FF-49CC-8ED2-78CDB490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667-93FF-4654-85D1-74BAF98F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C1FE-87D7-433D-8AC9-BC9B6C09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1F8-6180-472A-A2E1-ADFDAB0E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D42-6F00-4B4F-9A5E-7EF946C3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138-63AA-47D3-B49F-2332FDAB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1BF-9760-4EE9-BC6B-2E7A9D08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DD94-74A3-4AC1-A568-BB010E4D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35C-E519-4788-9803-9A3FE615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F86-4975-4C9B-A14B-0949E692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6582-33AD-4C8A-8251-12D0988F60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1186920" y="333360"/>
            <a:ext cx="62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Я.И. Лейцингер- фотограф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2-z24-bddea5ab-7519-47f5-b3b3-d4aa978380fd"/>
          <p:cNvPicPr/>
          <p:nvPr/>
        </p:nvPicPr>
        <p:blipFill>
          <a:blip r:embed="rId4"/>
          <a:stretch/>
        </p:blipFill>
        <p:spPr>
          <a:xfrm>
            <a:off x="3059280" y="1052640"/>
            <a:ext cx="2936880" cy="4147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6405120" y="3679200"/>
            <a:ext cx="2638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у выполн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исова Анастасия Олег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ница   6 «В»  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БОУ СШ №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. Я.И.Лейцинг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вская Мария Вяче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164480" y="6092280"/>
            <a:ext cx="114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Архангель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15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tmpA3C1-11"/>
          <p:cNvPicPr/>
          <p:nvPr/>
        </p:nvPicPr>
        <p:blipFill>
          <a:blip r:embed="rId4"/>
          <a:stretch/>
        </p:blipFill>
        <p:spPr>
          <a:xfrm>
            <a:off x="3276720" y="189000"/>
            <a:ext cx="5621040" cy="3020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0" y="91548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мецкая сл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почтовой открытки.       До 191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tmpA3C1-7"/>
          <p:cNvPicPr/>
          <p:nvPr/>
        </p:nvPicPr>
        <p:blipFill>
          <a:blip r:embed="rId5"/>
          <a:stretch/>
        </p:blipFill>
        <p:spPr>
          <a:xfrm>
            <a:off x="250920" y="3141720"/>
            <a:ext cx="5138640" cy="3246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5580000" y="414936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сковский проспект зимой. Фото Я Лейцингера. 189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0" y="2718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и снимки и сейчас вызывают большой интерес, стали предметом коллекционирования, а тогда и вовсе расходились тысячами в виде открыток, паспарту и подарочных альбомов. Глазами Якова Лейцингера мы видим сегодня русский Север конца XIX-начала XX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18435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95 году, когда Яков Иванович не был ещё городским Головой, губернатор Александр Платонович Энгельгардт пригласил его в поездку по отдалённым уездам Архангельской губер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&amp;Dcy;&amp;ocy;&amp;rcy;&amp;ocy;&amp;gcy;&amp;acy; &amp;ncy;&amp;acy; &amp;Kcy;&amp;acy;&amp;ncy;&amp;dcy;&amp;acy;&amp;lcy;&amp;acy;&amp;kcy;&amp;shcy;&amp;ucy;."/>
          <p:cNvPicPr/>
          <p:nvPr/>
        </p:nvPicPr>
        <p:blipFill>
          <a:blip r:embed="rId4"/>
          <a:stretch/>
        </p:blipFill>
        <p:spPr>
          <a:xfrm>
            <a:off x="395280" y="2924280"/>
            <a:ext cx="4286160" cy="3485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5439960" y="37886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рога на Кандалакш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fot-leitsinger"/>
          <p:cNvPicPr/>
          <p:nvPr/>
        </p:nvPicPr>
        <p:blipFill>
          <a:blip r:embed="rId3"/>
          <a:stretch/>
        </p:blipFill>
        <p:spPr>
          <a:xfrm>
            <a:off x="-468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0" y="15120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стники экспедиции исходили вдоль и поперёк Кольский полуостров, прошли побережьем Белого моря, поднялись в верховья Печоры, Мезени, Пинеги, совершили нелёгкое путешествие на Новую Земл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1419480"/>
            <a:ext cx="558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ков Лейцингер запечатлел быт жителей этих мест — рыбаков, крестьян, оленеводов; снимал поморов и коренных обитателей Севера — ненцев, саамов и многих друг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&amp;Scy;&amp;iecy;&amp;mcy;&amp;iecy;&amp;jcy;&amp;scy;&amp;tcy;&amp;vcy;&amp;ocy; &amp;scy;&amp;acy;&amp;mcy;&amp;ocy;&amp;iecy;&amp;dcy;&amp;ocy;&amp;vcy;."/>
          <p:cNvPicPr/>
          <p:nvPr/>
        </p:nvPicPr>
        <p:blipFill>
          <a:blip r:embed="rId4"/>
          <a:stretch/>
        </p:blipFill>
        <p:spPr>
          <a:xfrm>
            <a:off x="0" y="2924280"/>
            <a:ext cx="4286160" cy="307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&amp;Mcy;&amp;acy;&amp;lcy;&amp;softcy;&amp;chcy;&amp;icy;&amp;kcy;&amp;icy; &amp;ncy;&amp;iecy;&amp;ncy;&amp;tscy;&amp;ycy;. &amp;Icy;&amp;zcy; &amp;acy;&amp;rcy;&amp;khcy;&amp;icy;&amp;vcy;&amp;acy; &amp;Ncy;.&amp;Lcy;.&amp;TScy;&amp;iecy;&amp;lcy;&amp;icy;&amp;kcy;&amp;ocy;&amp;vcy;&amp;ocy;&amp;jcy;."/>
          <p:cNvPicPr/>
          <p:nvPr/>
        </p:nvPicPr>
        <p:blipFill>
          <a:blip r:embed="rId5"/>
          <a:stretch/>
        </p:blipFill>
        <p:spPr>
          <a:xfrm>
            <a:off x="4932360" y="4076640"/>
            <a:ext cx="2857680" cy="16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&amp;Scy;&amp;iecy;&amp;lcy;&amp;ocy; &amp;Scy;&amp;ocy;&amp;rcy;&amp;ocy;&amp;kcy;&amp;acy; (&amp;scy;&amp;iecy;&amp;jcy;&amp;chcy;&amp;acy;&amp;scy; &amp;gcy;.&amp;Bcy;&amp;iecy;&amp;lcy;&amp;ocy;&amp;mcy;&amp;ocy;&amp;rcy;&amp;scy;&amp;kcy;). &amp;Fcy;&amp;ocy;&amp;tcy;&amp;ocy; &amp;YAcy;.&amp;Icy;. &amp;Lcy;&amp;iecy;&amp;jcy;&amp;tscy;&amp;icy;&amp;ncy;&amp;gcy;&amp;iecy;&amp;rcy;&amp;acy;."/>
          <p:cNvPicPr/>
          <p:nvPr/>
        </p:nvPicPr>
        <p:blipFill>
          <a:blip r:embed="rId6"/>
          <a:stretch/>
        </p:blipFill>
        <p:spPr>
          <a:xfrm>
            <a:off x="5651640" y="1268280"/>
            <a:ext cx="318132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395280" y="5400"/>
            <a:ext cx="815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ть из многочисленных фоторабот была включена в вышедшую вскоре книгу Энгельгадта «Русский Север. Путевые записки» (СПб., 189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95280" y="108000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были виды Мурманского побережья и промыслов, становищ и поселений, Печенги и Трифонов- Печенгского  монастыря, Кандалакши, Умбы, Княжей Губы, Колы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&amp;Kcy;&amp;acy;&amp;ncy;&amp;dcy;&amp;acy;&amp;lcy;&amp;acy;&amp;kcy;&amp;shcy;&amp;scy;&amp;kcy;&amp;icy;&amp;jcy; &amp;mcy;&amp;ucy;&amp;zhcy;&amp;scy;&amp;kcy;&amp;ocy;&amp;jcy; &amp;mcy;&amp;ocy;&amp;ncy;&amp;acy;&amp;scy;&amp;tcy;&amp;ycy;&amp;rcy;&amp;softcy;, 1887 &amp;gcy;. "/>
          <p:cNvPicPr/>
          <p:nvPr/>
        </p:nvPicPr>
        <p:blipFill>
          <a:blip r:embed="rId4"/>
          <a:stretch/>
        </p:blipFill>
        <p:spPr>
          <a:xfrm>
            <a:off x="3494160" y="1989000"/>
            <a:ext cx="5649840" cy="3710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3840480" y="4723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ндалакшский мужской монастырь, 188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&amp;ZHcy;&amp;iecy;&amp;ncy;&amp;shchcy;&amp;icy;&amp;ncy;&amp;ycy; &amp;scy;.&amp;Kcy;&amp;acy;&amp;ncy;&amp;dcy;&amp;acy;&amp;lcy;&amp;acy;&amp;kcy;&amp;shcy;&amp;acy;"/>
          <p:cNvPicPr/>
          <p:nvPr/>
        </p:nvPicPr>
        <p:blipFill>
          <a:blip r:embed="rId5"/>
          <a:stretch/>
        </p:blipFill>
        <p:spPr>
          <a:xfrm>
            <a:off x="395280" y="2276640"/>
            <a:ext cx="2624040" cy="35780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388800" y="2420280"/>
            <a:ext cx="28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щины с.Кандалакш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1440" y="187920"/>
            <a:ext cx="914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ть снимков Яков Иванович впоследствии издал в Москве в виде открыток. Их раскупали так быстро, что некоторые зарубежные фирмы также взялись за издание открыток с фотографиями архангельского масте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1635480"/>
            <a:ext cx="939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ельно стоит упомянуть о нескольких поездках фотографа на Соловки. Благодаря нему мы можем увидеть, как выглядел монастырь в ту пору, увидеть не разрушенные еще покои, библиотеку, другие интерьеры северного монастыря, полностью уничтоженные при советской власти, можем увидеть быт монахов и трудников – добровольных и неоплачиваемых работников, исполнявших все основные работы в монасты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&amp;YAcy;.&amp;Icy;.&amp;Lcy;&amp;iecy;&amp;jcy;&amp;tscy;&amp;icy;&amp;ncy;&amp;gcy;&amp;iecy;&amp;rcy; - &amp;tcy;&amp;rcy;&amp;ucy;&amp;dcy;&amp;ncy;&amp;icy;&amp;kcy; &amp;ncy;&amp;acy; &amp;Scy;&amp;ocy;&amp;lcy;&amp;ocy;&amp;vcy;&amp;kcy;&amp;acy;&amp;khcy;"/>
          <p:cNvPicPr/>
          <p:nvPr/>
        </p:nvPicPr>
        <p:blipFill>
          <a:blip r:embed="rId4"/>
          <a:stretch/>
        </p:blipFill>
        <p:spPr>
          <a:xfrm>
            <a:off x="395280" y="3789360"/>
            <a:ext cx="1886040" cy="2857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2340000" y="4438080"/>
            <a:ext cx="165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Я.И.Лейцингер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удник на Солов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&amp;Scy;&amp;ocy;&amp;lcy;&amp;ocy;&amp;vcy;&amp;iecy;&amp;tscy;&amp;kcy;&amp;icy;&amp;jcy; &amp;mcy;&amp;ocy;&amp;ncy;&amp;acy;&amp;scy;&amp;tcy;&amp;ycy;&amp;rcy;&amp;softcy;."/>
          <p:cNvPicPr/>
          <p:nvPr/>
        </p:nvPicPr>
        <p:blipFill>
          <a:blip r:embed="rId5"/>
          <a:stretch/>
        </p:blipFill>
        <p:spPr>
          <a:xfrm>
            <a:off x="4356000" y="3357720"/>
            <a:ext cx="4286520" cy="2867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2"/>
          <p:cNvSpPr/>
          <p:nvPr/>
        </p:nvSpPr>
        <p:spPr>
          <a:xfrm>
            <a:off x="5116680" y="558900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ловецкий монастыр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44928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и снимки не только уникальный изобразительный материал, повествующий о давно ушедшей жизни, но и потрясающее документальное подспорье реставраторам, шаг за шагом пытающимся восстановить былое обличье этого уникального места. Его Соловецкий цикл попал даже в коллекцию дома Романовых (находился в библиотеке императора Николая II), а в книге «Россия в прошлом и настоящем», изданной к 300-летию дома Романовых, Якову Лейцингеру посвящена одна из ста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50920" y="3003480"/>
            <a:ext cx="450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 всех поездок он привозил массу снимков, посылал их во многие журналы Север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 беря гонорар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что трудно сегодня представить. Лучшие его работы были опубликованы в иллюстрированном альбоме Архангельской губернии «Северный край». Издавались и многочисленные почтовые карточ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&amp;Scy;&amp;IEcy;&amp;Kcy;&amp;Icy;&amp;Rcy;&amp;Kcy;&amp;Acy;. &amp;Scy;&amp;ocy;&amp;lcy;&amp;ocy;&amp;vcy;&amp;kcy;&amp;icy;.1888 &amp;gcy;&amp;ocy;&amp;dcy;."/>
          <p:cNvPicPr/>
          <p:nvPr/>
        </p:nvPicPr>
        <p:blipFill>
          <a:blip r:embed="rId4"/>
          <a:stretch/>
        </p:blipFill>
        <p:spPr>
          <a:xfrm>
            <a:off x="6012000" y="2781360"/>
            <a:ext cx="1971360" cy="3146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5364000" y="5459040"/>
            <a:ext cx="33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КИРКА. Соловки.1888 г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0" y="15084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Яков Иванович увлекал своим примером других, и занятие фотографией на архангельском Севере стало носить массовый характер. Фотоаппараты взяли в руки врачи, учителя и даже крестьяне. В мае 1909 года любители объединились в большое Архангельское фотографическое общество. Яков Лейцингер вошел в число учредителей этого объединения. Яков Иванович участвовал во многих выставках и за свое искусство был награжден медалями Дагера (основоположника фотографии) и Русского географического общества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290844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его снимках и сегодня можно увидеть то, чем жил Архангельск, который был крупным портом, занимался рыболовством, строил суда, заготавливал и экспортировал лес, отсюда уходили полярные экспедиции. Здесь испокон веку жили свободные и предприимчивые люди, сюда приходили торговые суда из-за границы, и на улицах города нередко слышалась иноземная речь. Многие снимки Якова Лейцингера – документальные иллюстрации к этому образному описанию: рыбные пристани, ярмарки, торговля свежей рыбой, всевозможные празднества и городские гуляния, типы, жанровые сцены и, конечно, события – радостные, необычные и даже драматическ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900000" y="215892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ПАСИБО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fot-leitsinger"/>
          <p:cNvPicPr/>
          <p:nvPr/>
        </p:nvPicPr>
        <p:blipFill>
          <a:blip r:embed="rId3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250920" y="404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рабо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ить вклад Я.И. Лейцингера в историю Архангельска как фотогра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68360" y="2708280"/>
            <a:ext cx="95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знакомиться с литературой и интернет-ресурсами, рассказывающими о Я.И. Лейцинг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обрать информацию про его фотографическ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мотреть особенность творчества Лейцингера-фотографа, его вклад в развитие фотографии в Архангельс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1"/>
          <p:cNvSpPr/>
          <p:nvPr/>
        </p:nvSpPr>
        <p:spPr>
          <a:xfrm>
            <a:off x="250920" y="465120"/>
            <a:ext cx="8893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рафия Якова Ивановича Лейцинг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ков Лейцингер родился 18 (30) марта 1855 года. Он обучался в Вологодской мужской гимназии, но, не окончив курса, поступил на работу учеником фотографа в мастерскую в Вологде. Его призвали в армию, служил унтер-офицером, писарем в 148-ом пехотном Каспийском полку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нкт-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1881 году Яков Лейцингер переехал в Архангельск, где открыл хорошо оснащенный фотосалон. В качестве фотографа участвовал в поездках губернаторов по Архангельской губернии. В 1897 году Якова Ивановича выбрали гласным в городскую думу Архангельска, а в 1903 году – городским головой. Переизбирался на пост городского головы четыре раза – в 1903, 1906, 1909 и 1912 годах. Доходы городской казны увеличились вдвое, были построены несколько школ, два приемных покоя и амбулатория городской больницы, проложен водопровод, запущен первый автобусный маршрут. По инициативе Лейцингера была устроена городская электростанция, проведена первая трамвайная линия. Яков Иванович скончался 2(16) сентября 1914 года в Санкт-Петербур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3154680" y="359280"/>
            <a:ext cx="37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ков Лейцингер с семь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4"/>
          <a:stretch/>
        </p:blipFill>
        <p:spPr>
          <a:xfrm>
            <a:off x="684360" y="907920"/>
            <a:ext cx="7810200" cy="4391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755640" y="450936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центре Я. И. Лейцингер, его жена Александра Асинкритовна, Лидия, Баранов (муж Нины), Игорь, Ольга, Евгения, Анна, Аркадий, Нина, Вадим, Марина, Иван, Елена, Вячеслав, Александ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468360" y="1170000"/>
            <a:ext cx="842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80 году Яков Иванович перебрался в Архангельск, где в мае 1882 года подал на имя архангельского губернатора Полторацкого прошение с просьбой об открытии фотографического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коре он открыл фотостудию в собственном деревянном доме на Псковском проспекте. Теперь это улица Чумбарова-Лучинского – заповедная улица Архангельска. Несмотря на жесткую конкуренцию, дела его пошли в гору, видимо, потому, что этот человек имел не только талант фотохудожника, но и прекрасные организаторские способности. Вскоре у него появились помощники, техперсонал, которые помогали ускорить процесс работы над фотоснимками, а фотостудия стала пользоваться у северян большой популяр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773080" y="187560"/>
            <a:ext cx="416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йцингер Я.И. — фото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0" y="700560"/>
            <a:ext cx="932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ктически у каждого состоятельного архангелогородца хранились в семейном альбоме фотографии, сделанные в салоне Я.И.Лейцингера. Туда шли представители самых разных слоев местного общества: рабочие, купцы, чиновники, священники, прислуга, приезжий лю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2348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упповые портреты на увеселительных сборищах, фотографии для семейных альбомов, прославляющие родственные узы; парочки, пожелавшие увековечить свою любовь или тайную связь; бабушки и дедушки, «ангелочки», умершие в младенчестве; мальчики и девочки, едва переступившие порог дет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4219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чив в 1884 году исключительные права на съемки в городе и по всей губернии (в те годы на это требовалось особое разрешение), Яков Иванович начал выходить со своим фотоаппаратом на улицы и снимать обычную жизнь города-п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tmpA3C1-8"/>
          <p:cNvPicPr/>
          <p:nvPr/>
        </p:nvPicPr>
        <p:blipFill>
          <a:blip r:embed="rId4"/>
          <a:stretch/>
        </p:blipFill>
        <p:spPr>
          <a:xfrm>
            <a:off x="755640" y="333360"/>
            <a:ext cx="7921800" cy="4184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1"/>
          <p:cNvSpPr/>
          <p:nvPr/>
        </p:nvSpPr>
        <p:spPr>
          <a:xfrm>
            <a:off x="1343520" y="4941360"/>
            <a:ext cx="66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ид на центр Архангельска с реки. Фото Я. Лейцингера. 19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&amp;Fcy;&amp;ocy;&amp;tcy;&amp;ocy;&amp;scy;&amp;tcy;&amp;ucy;&amp;dcy;&amp;icy;&amp;yacy; &amp;YAcy;.&amp;Icy;.&amp;Lcy;&amp;iecy;&amp;jcy;&amp;tscy;&amp;icy;&amp;ncy;&amp;gcy;&amp;iecy;&amp;rcy;&amp;acy;."/>
          <p:cNvPicPr/>
          <p:nvPr/>
        </p:nvPicPr>
        <p:blipFill>
          <a:blip r:embed="rId4"/>
          <a:stretch/>
        </p:blipFill>
        <p:spPr>
          <a:xfrm>
            <a:off x="395280" y="333360"/>
            <a:ext cx="3024360" cy="2305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493560" y="213300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отостудия Я.И.Лейцинге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&amp;Acy;&amp;lcy;&amp;icy;&amp;ncy;&amp;acy; &amp;Pcy;&amp;iecy;&amp;tscy;."/>
          <p:cNvPicPr/>
          <p:nvPr/>
        </p:nvPicPr>
        <p:blipFill>
          <a:blip r:embed="rId5"/>
          <a:stretch/>
        </p:blipFill>
        <p:spPr>
          <a:xfrm>
            <a:off x="179280" y="3068640"/>
            <a:ext cx="2394000" cy="361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vaga_land: &amp;Fcy;&amp;ocy;&amp;tcy;&amp;ocy;&amp;gcy;&amp;rcy;&amp;acy;&amp;fcy;&amp;icy;&amp;icy; &amp;scy;&amp;tcy;&amp;acy;&amp;rcy;&amp;ocy;&amp;gcy;&amp;ocy; &amp;Acy;&amp;rcy;&amp;khcy;&amp;acy;&amp;ncy;&amp;gcy;&amp;iecy;&amp;lcy;&amp;softcy;&amp;scy;&amp;kcy;&amp;acy;"/>
          <p:cNvPicPr/>
          <p:nvPr/>
        </p:nvPicPr>
        <p:blipFill>
          <a:blip r:embed="rId6"/>
          <a:stretch/>
        </p:blipFill>
        <p:spPr>
          <a:xfrm>
            <a:off x="4356000" y="189000"/>
            <a:ext cx="4329360" cy="2890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&amp;Dcy;.&amp;Fcy;&amp;ocy;&amp;ncy;&amp;tcy;&amp;iecy;&amp;jcy;&amp;ncy;&amp;iecy;&amp;scy;&amp;ycy; - &amp;Dcy;&amp;acy;&amp;gcy;&amp;mcy;&amp;acy;&amp;rcy;&amp;acy;, &amp;Ocy;&amp;lcy;&amp;softcy;&amp;gcy;&amp;acy;, &amp;Acy;&amp;lcy;&amp;iecy;&amp;kcy;&amp;scy;&amp;acy;&amp;ncy;&amp;dcy;&amp;rcy;"/>
          <p:cNvPicPr/>
          <p:nvPr/>
        </p:nvPicPr>
        <p:blipFill>
          <a:blip r:embed="rId7"/>
          <a:stretch/>
        </p:blipFill>
        <p:spPr>
          <a:xfrm>
            <a:off x="3419640" y="3284640"/>
            <a:ext cx="2190600" cy="285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 &amp;Acy;&amp;lcy;&amp;lcy;&amp;acy; &amp;Mcy;&amp;acy;&amp;gcy;&amp;iecy;&amp;rcy; &amp;icy; &amp;Dcy;&amp;ocy;&amp;rcy;&amp;ocy;&amp;tcy;&amp;iecy;&amp;yacy; &amp;Pcy;&amp;iecy;&amp;tscy;"/>
          <p:cNvPicPr/>
          <p:nvPr/>
        </p:nvPicPr>
        <p:blipFill>
          <a:blip r:embed="rId8"/>
          <a:stretch/>
        </p:blipFill>
        <p:spPr>
          <a:xfrm>
            <a:off x="6588000" y="3284640"/>
            <a:ext cx="14954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ot-leits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&amp;YAcy;&amp;kcy;&amp;ocy;&amp;vcy; &amp;Lcy;&amp;iecy;&amp;jcy;&amp;tscy;&amp;icy;&amp;ncy;&amp;gcy;&amp;iecy;&amp;rcy; &amp;scy; &amp;scy;&amp;iecy;&amp;mcy;&amp;softcy;&amp;iecy;&amp;jcy;"/>
          <p:cNvPicPr/>
          <p:nvPr/>
        </p:nvPicPr>
        <p:blipFill>
          <a:blip r:embed="rId2"/>
          <a:stretch/>
        </p:blipFill>
        <p:spPr>
          <a:xfrm>
            <a:off x="468360" y="765000"/>
            <a:ext cx="8129520" cy="457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fot-leitsing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0" y="691200"/>
            <a:ext cx="93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благодаря его фотоснимкам мы знаем, каким был старый Архангельск, – с многолюдьем на рыбных базарах, с ярмарками, со всевозможными празднествами и городскими гуляниями, поленницами дров на фоне домов с замысловатыми налични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paetz.ru/wp-content/uploads/2014/09/6-%D0%A1-%D0%B3%D0%BE%D1%80%D0%BA%D0%B8.jpg"/>
          <p:cNvPicPr/>
          <p:nvPr/>
        </p:nvPicPr>
        <p:blipFill>
          <a:blip r:embed="rId4"/>
          <a:stretch/>
        </p:blipFill>
        <p:spPr>
          <a:xfrm>
            <a:off x="1692360" y="2205000"/>
            <a:ext cx="57182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8:26:04Z</dcterms:created>
  <dc:creator>1</dc:creator>
  <dc:description/>
  <dc:language>en-US</dc:language>
  <cp:lastModifiedBy>Семья</cp:lastModifiedBy>
  <dcterms:modified xsi:type="dcterms:W3CDTF">2015-03-24T18:24:03Z</dcterms:modified>
  <cp:revision>5</cp:revision>
  <dc:subject/>
  <dc:title>Слайд 1</dc:title>
</cp:coreProperties>
</file>