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C389-C2B9-4DA9-BAE3-B5B80C4409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E291-DE51-4FF2-8E43-F72F82A425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6A9-E4E7-4522-B04B-0347FCC2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015-42C6-4F45-BE50-8ECD1365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15A-760B-4006-8FF7-3143D298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4FF-F491-490C-A041-40E61002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D1241-3CE1-4CDD-B527-E55E780F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CEEC5-ABA9-41FD-A60D-50696C6B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86CBE-B492-4B3D-8266-70DE56A8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FF6B5-D851-4597-B39A-EB246CEA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F7BD2-55B4-4DE1-B5F2-C1D14DE4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0A996-BFA6-4284-8D6F-F6991216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E6E76-365C-4BED-AE53-CB5A8E2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EB5-3B0E-4177-9910-60EFA36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810D3-9A94-4F86-AAFB-F77CC5C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84E55-70B0-4729-B50F-424ED0FC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FA629-9ECA-47D4-A7D3-5D0F3916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D426D-535B-4A94-B057-A622E523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5D6E8-500D-432D-9779-527AACAA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EDA-6A80-45E4-9E20-5E1A9E50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69C-E388-4914-A93A-E4AF1AF0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BD4-5125-43FB-9B88-0D50DF23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06C-ECD6-4C22-9455-2252A96F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73C-5F04-4160-B42A-A837BB8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656-E3F1-49B3-8EBD-9DA8651B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F70-9775-403D-B1A0-8A5EB82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A85B-9F8C-41EB-AFE8-37872F935E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AD3B-0834-49DD-AFA1-05412D33F5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егкие панеты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74296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32" name="WordArt 6"/>
          <p:cNvSpPr txBox="1"/>
          <p:nvPr/>
        </p:nvSpPr>
        <p:spPr>
          <a:xfrm>
            <a:off x="611280" y="260280"/>
            <a:ext cx="828036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ТЕ ЛЕГКИЕ ПЛАНЕ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4000680" y="6572160"/>
            <a:ext cx="471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БОУ «Курумканская СОШ№  2»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«б» к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ководитель: Эрдыниева Б.В. Учитель биоло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0" y="227484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 великий дар природы. </a:t>
            </a:r>
            <a:br>
              <a:rPr sz="3600"/>
            </a:br>
            <a:r>
              <a:rPr b="1" lang="ru-RU" sz="3600" spc="-1" strike="noStrike">
                <a:solidFill>
                  <a:srgbClr val="000030"/>
                </a:solidFill>
                <a:latin typeface="Arial"/>
              </a:rPr>
              <a:t> Лес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«легкие планеты»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Лес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это урожай. </a:t>
            </a:r>
            <a:br>
              <a:rPr sz="3600"/>
            </a:br>
            <a:r>
              <a:rPr b="1" lang="ru-RU" sz="3600" spc="-1" strike="noStrike">
                <a:solidFill>
                  <a:srgbClr val="a5e9e9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источник пищи и сыр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da46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это лесная аптека и кладовая здоровья.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планета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70722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38" name="Скругленный прямоугольник 9"/>
          <p:cNvSpPr/>
          <p:nvPr/>
        </p:nvSpPr>
        <p:spPr>
          <a:xfrm>
            <a:off x="3500280" y="6143760"/>
            <a:ext cx="5429520" cy="57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eeff4"/>
                </a:solidFill>
                <a:latin typeface="Arial"/>
              </a:rPr>
              <a:t>МБОУ «Курумканская СОШ №2»  Будаев  Жамбал 6 «б»  к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eeff4"/>
                </a:solidFill>
                <a:latin typeface="Arial"/>
              </a:rPr>
              <a:t>Руководитель: Эрдыниева Б.В. Учитель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0" y="357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Байгаали манай гэр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тиимэ</a:t>
            </a:r>
            <a:r>
              <a:rPr b="1" lang="en-US" sz="4000" spc="-1" strike="noStrike">
                <a:solidFill>
                  <a:srgbClr val="33cccc"/>
                </a:solidFill>
                <a:latin typeface="Arial"/>
              </a:rPr>
              <a:t>h</a:t>
            </a: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ээ арюун сэбарээр байлга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-428760" y="4500720"/>
            <a:ext cx="957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cc"/>
                </a:solidFill>
                <a:latin typeface="Arial"/>
              </a:rPr>
              <a:t>Лес зеленый нам, как дом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cc"/>
                </a:solidFill>
                <a:latin typeface="Arial"/>
              </a:rPr>
              <a:t>сохрани порядок в нем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дере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Баярма\Pictures\весенние палы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9" descr=""/>
          <p:cNvPicPr/>
          <p:nvPr/>
        </p:nvPicPr>
        <p:blipFill>
          <a:blip r:embed="rId3"/>
          <a:stretch/>
        </p:blipFill>
        <p:spPr>
          <a:xfrm>
            <a:off x="-933480" y="4602240"/>
            <a:ext cx="10186920" cy="82872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1" descr=""/>
          <p:cNvPicPr/>
          <p:nvPr/>
        </p:nvPicPr>
        <p:blipFill>
          <a:blip r:embed="rId4"/>
          <a:stretch/>
        </p:blipFill>
        <p:spPr>
          <a:xfrm>
            <a:off x="-2077920" y="189000"/>
            <a:ext cx="13299840" cy="749160"/>
          </a:xfrm>
          <a:prstGeom prst="rect">
            <a:avLst/>
          </a:prstGeom>
          <a:ln w="0">
            <a:noFill/>
          </a:ln>
        </p:spPr>
      </p:pic>
      <p:sp>
        <p:nvSpPr>
          <p:cNvPr id="147" name="Скругленный прямоугольник 12"/>
          <p:cNvSpPr/>
          <p:nvPr/>
        </p:nvSpPr>
        <p:spPr>
          <a:xfrm>
            <a:off x="2786040" y="6215040"/>
            <a:ext cx="60721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f2b"/>
                </a:solidFill>
                <a:latin typeface="Arial"/>
              </a:rPr>
              <a:t>МБОУ «Курумканская СОШ №2»  Санжиева Светлана  6 «б»  к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f2b"/>
                </a:solidFill>
                <a:latin typeface="Arial"/>
              </a:rPr>
              <a:t>Руководитель: Эрдыниева Б.В. учитель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49:38Z</dcterms:created>
  <dc:creator>WiZaRd</dc:creator>
  <dc:description/>
  <dc:language>en-US</dc:language>
  <cp:lastModifiedBy>Курумкан</cp:lastModifiedBy>
  <dcterms:modified xsi:type="dcterms:W3CDTF">2017-11-26T05:36:52Z</dcterms:modified>
  <cp:revision>26</cp:revision>
  <dc:subject/>
  <dc:title>Слайд 1</dc:title>
</cp:coreProperties>
</file>