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4CF1-A24E-4E9B-BCAF-1BF24E61A0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8BDB-4398-4516-BA5A-824E349ABD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275-7CBD-4737-A9AE-F8D14266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1E1-C7F9-48B1-A924-68E0A1FC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9B7-C54F-439C-8BEF-8BD1CAE7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FF4-A977-489A-ADC7-3D4A4F31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A7198-AAB5-48DB-81A3-84F97296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0081F-67AF-49AD-A8A6-C1BBF5F2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B37A2-34FB-4B4F-908C-F9945BA1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609E8-693A-4C82-920B-0ABC1FD8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16B7C-AD9F-46FF-B0DB-96E1D034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B814A-9C5A-40DE-89FE-5189D00C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333A0-F123-4495-9618-9138C3FC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459-C0F8-4C05-98FD-12D7687A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1B933-4768-48AE-BF18-D5B1E885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29083-1D06-4E69-A04F-064C0C91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D8257-19C2-4A30-B4BC-A38259A0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D25C1-80CB-4536-B37D-0CD1F3A4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EA812-0FEF-4CE5-90DE-B83D899A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D47-9599-4ADF-B930-EA8A9A90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DF8-242F-4C41-898E-8C8A57EB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0DE-17DD-42C0-A255-B20D212F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7D4-6F83-4716-A5A5-E149DB7C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A89-C1B7-480F-AD1C-102D24D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83DC-1F9F-49E5-9EFE-4F884998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DE0-B5BE-4859-AA29-D65E55C8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475C-3F83-4DFB-BE8B-19B75DD768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BCA7-6F35-4D78-8072-D1A4434170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егкие панеты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742968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132" name="WordArt 6"/>
          <p:cNvSpPr txBox="1"/>
          <p:nvPr/>
        </p:nvSpPr>
        <p:spPr>
          <a:xfrm>
            <a:off x="611280" y="260280"/>
            <a:ext cx="828036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ГИТЕ ЛЕГКИЕ ПЛАНЕТ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4000680" y="6572160"/>
            <a:ext cx="471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БОУ «Курумканская СОШ№  2»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 «б» к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ководитель: Эрдыниева Б.В. Учитель биоло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0" y="2274840"/>
            <a:ext cx="9144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 великий дар природы. </a:t>
            </a:r>
            <a:br>
              <a:rPr sz="3600"/>
            </a:br>
            <a:r>
              <a:rPr b="1" lang="ru-RU" sz="3600" spc="-1" strike="noStrike">
                <a:solidFill>
                  <a:srgbClr val="000030"/>
                </a:solidFill>
                <a:latin typeface="Arial"/>
              </a:rPr>
              <a:t> Лес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«легкие планеты».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Лес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это урожай. </a:t>
            </a:r>
            <a:br>
              <a:rPr sz="3600"/>
            </a:br>
            <a:r>
              <a:rPr b="1" lang="ru-RU" sz="3600" spc="-1" strike="noStrike">
                <a:solidFill>
                  <a:srgbClr val="a5e9e9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источник пищи и сыр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da46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это лесная аптека и кладовая здоровья.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планета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70722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38" name="Скругленный прямоугольник 9"/>
          <p:cNvSpPr/>
          <p:nvPr/>
        </p:nvSpPr>
        <p:spPr>
          <a:xfrm>
            <a:off x="3500280" y="6143760"/>
            <a:ext cx="5429520" cy="571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eeff4"/>
                </a:solidFill>
                <a:latin typeface="Arial"/>
              </a:rPr>
              <a:t>МБОУ «Курумканская СОШ №2»  Будаев  Жамбал 6 «б»  к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eeff4"/>
                </a:solidFill>
                <a:latin typeface="Arial"/>
              </a:rPr>
              <a:t>Руководитель: Эрдыниева Б.В. Учитель би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0" y="3571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Байгаали манай гэр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тиимэ</a:t>
            </a:r>
            <a:r>
              <a:rPr b="1" lang="en-US" sz="4000" spc="-1" strike="noStrike">
                <a:solidFill>
                  <a:srgbClr val="33cccc"/>
                </a:solidFill>
                <a:latin typeface="Arial"/>
              </a:rPr>
              <a:t>h</a:t>
            </a: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ээ арюун сэбарээр байлга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-428760" y="4500720"/>
            <a:ext cx="957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cc"/>
                </a:solidFill>
                <a:latin typeface="Arial"/>
              </a:rPr>
              <a:t>Лес зеленый нам, как дом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cc"/>
                </a:solidFill>
                <a:latin typeface="Arial"/>
              </a:rPr>
              <a:t>сохрани порядок в нем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дере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Баярма\Pictures\весенние палы.jpg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9" descr=""/>
          <p:cNvPicPr/>
          <p:nvPr/>
        </p:nvPicPr>
        <p:blipFill>
          <a:blip r:embed="rId3"/>
          <a:stretch/>
        </p:blipFill>
        <p:spPr>
          <a:xfrm>
            <a:off x="-933480" y="4602240"/>
            <a:ext cx="10186920" cy="82872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11" descr=""/>
          <p:cNvPicPr/>
          <p:nvPr/>
        </p:nvPicPr>
        <p:blipFill>
          <a:blip r:embed="rId4"/>
          <a:stretch/>
        </p:blipFill>
        <p:spPr>
          <a:xfrm>
            <a:off x="-2077920" y="189000"/>
            <a:ext cx="13299840" cy="749160"/>
          </a:xfrm>
          <a:prstGeom prst="rect">
            <a:avLst/>
          </a:prstGeom>
          <a:ln w="0">
            <a:noFill/>
          </a:ln>
        </p:spPr>
      </p:pic>
      <p:sp>
        <p:nvSpPr>
          <p:cNvPr id="147" name="Скругленный прямоугольник 12"/>
          <p:cNvSpPr/>
          <p:nvPr/>
        </p:nvSpPr>
        <p:spPr>
          <a:xfrm>
            <a:off x="2786040" y="6215040"/>
            <a:ext cx="60721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f2b"/>
                </a:solidFill>
                <a:latin typeface="Arial"/>
              </a:rPr>
              <a:t>МБОУ «Курумканская СОШ №2»  Санжиева Светлана  6 «б»  к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f2b"/>
                </a:solidFill>
                <a:latin typeface="Arial"/>
              </a:rPr>
              <a:t>Руководитель: Эрдыниева Б.В. учитель би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49:38Z</dcterms:created>
  <dc:creator>WiZaRd</dc:creator>
  <dc:description/>
  <dc:language>en-US</dc:language>
  <cp:lastModifiedBy>Курумкан</cp:lastModifiedBy>
  <dcterms:modified xsi:type="dcterms:W3CDTF">2017-11-26T05:36:52Z</dcterms:modified>
  <cp:revision>26</cp:revision>
  <dc:subject/>
  <dc:title>Слайд 1</dc:title>
</cp:coreProperties>
</file>