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FE60-C3AA-402C-B581-37FFB74B6B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92F-EFF2-4D7A-A272-A9BC70435C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996-8807-450F-9303-838C9CA2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5D34-CE65-4BFD-8331-08E8ECB9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6044-AB5C-4A44-8B6A-35DF281BB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839-A089-4DB3-AA08-72CAB0D07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7C979-4827-40F1-BF83-66F24445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52B3F-A58B-4A02-A76E-4C2F6CF5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4BFF0-B009-4947-B456-E85344A1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645D9-17C4-491D-B7DD-CB103906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3B177-0F63-4129-96D5-FB4AD63B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3A612-1729-40B3-8ED4-3561C151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D7DB1-C0AC-4D72-BCAE-4F0BAA85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F0D-3ABA-439B-9F81-43D019B3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72455-B1A1-4E83-B85F-2CA64ED3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3F28B-54BD-4CC0-AFD6-C65A2F13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B447E-FE3F-4539-B27A-BC61F2DF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683E8-8C9E-436B-BA50-C8CE7D79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0C1A9-9390-43DA-A441-4531AA83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4BB-7803-4E8A-BE3A-9730CB48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EBB7-4EF5-45F3-9F75-719E53F2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7B9-C1E3-490D-9032-A8348A3E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F5A-498B-487D-9E31-E226082C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4BD-F1DC-4CF0-A32B-C591AE5E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431-3FA6-4C70-BD96-DEFFAEDF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D6E2-6437-4866-8E8D-320DF726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E341-3A80-4DB4-BC4D-A02111BC73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871-6EFC-4A92-A844-75FE0A4E17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егкие панеты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0" y="0"/>
            <a:ext cx="9144000" cy="742968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  <p:sp>
        <p:nvSpPr>
          <p:cNvPr id="132" name="WordArt 6"/>
          <p:cNvSpPr txBox="1"/>
          <p:nvPr/>
        </p:nvSpPr>
        <p:spPr>
          <a:xfrm>
            <a:off x="611280" y="260280"/>
            <a:ext cx="8280360" cy="13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ЕРЕГИТЕ ЛЕГКИЕ ПЛАНЕ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4000680" y="6572160"/>
            <a:ext cx="471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БОУ «Курумканская СОШ№  2»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 «б» к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ководитель: Эрдыниева Б.В. Учитель биолог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0" y="2274840"/>
            <a:ext cx="914400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 великий дар природы. </a:t>
            </a:r>
            <a:br>
              <a:rPr sz="3600"/>
            </a:br>
            <a:r>
              <a:rPr b="1" lang="ru-RU" sz="3600" spc="-1" strike="noStrike">
                <a:solidFill>
                  <a:srgbClr val="000030"/>
                </a:solidFill>
                <a:latin typeface="Arial"/>
              </a:rPr>
              <a:t> Лес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«легкие планеты»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Лес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это урожай. </a:t>
            </a:r>
            <a:br>
              <a:rPr sz="3600"/>
            </a:br>
            <a:r>
              <a:rPr b="1" lang="ru-RU" sz="3600" spc="-1" strike="noStrike">
                <a:solidFill>
                  <a:srgbClr val="a5e9e9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 источник пищи и сыр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da460"/>
                </a:solidFill>
                <a:latin typeface="Arial"/>
              </a:rPr>
              <a:t>Лес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-это лесная аптека и кладовая здоровья.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планета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70722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38" name="Скругленный прямоугольник 9"/>
          <p:cNvSpPr/>
          <p:nvPr/>
        </p:nvSpPr>
        <p:spPr>
          <a:xfrm>
            <a:off x="3500280" y="6143760"/>
            <a:ext cx="5429520" cy="57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eeff4"/>
                </a:solidFill>
                <a:latin typeface="Arial"/>
              </a:rPr>
              <a:t>МБОУ «Курумканская СОШ №2»  Будаев  Жамбал 6 «б»  к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eeff4"/>
                </a:solidFill>
                <a:latin typeface="Arial"/>
              </a:rPr>
              <a:t>Руководитель: Эрдыниева Б.В. Учитель би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10"/>
          <p:cNvSpPr/>
          <p:nvPr/>
        </p:nvSpPr>
        <p:spPr>
          <a:xfrm>
            <a:off x="0" y="3571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Байгаали манай гэр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тиимэ</a:t>
            </a:r>
            <a:r>
              <a:rPr b="1" lang="en-US" sz="4000" spc="-1" strike="noStrike">
                <a:solidFill>
                  <a:srgbClr val="33cccc"/>
                </a:solidFill>
                <a:latin typeface="Arial"/>
              </a:rPr>
              <a:t>h</a:t>
            </a:r>
            <a:r>
              <a:rPr b="1" lang="ru-RU" sz="4000" spc="-1" strike="noStrike">
                <a:solidFill>
                  <a:srgbClr val="33cccc"/>
                </a:solidFill>
                <a:latin typeface="Arial"/>
              </a:rPr>
              <a:t>ээ арюун сэбарээр байлга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11"/>
          <p:cNvSpPr/>
          <p:nvPr/>
        </p:nvSpPr>
        <p:spPr>
          <a:xfrm>
            <a:off x="-428760" y="4500720"/>
            <a:ext cx="957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cc"/>
                </a:solidFill>
                <a:latin typeface="Arial"/>
              </a:rPr>
              <a:t>Лес зеленый нам, как дом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cccc"/>
                </a:solidFill>
                <a:latin typeface="Arial"/>
              </a:rPr>
              <a:t>сохрани порядок в нем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дерев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Users\Баярма\Pictures\весенние палы.jpg"/>
          <p:cNvPicPr/>
          <p:nvPr/>
        </p:nvPicPr>
        <p:blipFill>
          <a:blip r:embed="rId2"/>
          <a:stretch/>
        </p:blipFill>
        <p:spPr>
          <a:xfrm>
            <a:off x="0" y="6000840"/>
            <a:ext cx="914400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9" descr=""/>
          <p:cNvPicPr/>
          <p:nvPr/>
        </p:nvPicPr>
        <p:blipFill>
          <a:blip r:embed="rId3"/>
          <a:stretch/>
        </p:blipFill>
        <p:spPr>
          <a:xfrm>
            <a:off x="-933480" y="4602240"/>
            <a:ext cx="10186920" cy="828720"/>
          </a:xfrm>
          <a:prstGeom prst="rect">
            <a:avLst/>
          </a:prstGeom>
          <a:ln w="0">
            <a:noFill/>
          </a:ln>
        </p:spPr>
      </p:pic>
      <p:pic>
        <p:nvPicPr>
          <p:cNvPr id="146" name="Прямоугольник 11" descr=""/>
          <p:cNvPicPr/>
          <p:nvPr/>
        </p:nvPicPr>
        <p:blipFill>
          <a:blip r:embed="rId4"/>
          <a:stretch/>
        </p:blipFill>
        <p:spPr>
          <a:xfrm>
            <a:off x="-2077920" y="189000"/>
            <a:ext cx="13299840" cy="749160"/>
          </a:xfrm>
          <a:prstGeom prst="rect">
            <a:avLst/>
          </a:prstGeom>
          <a:ln w="0">
            <a:noFill/>
          </a:ln>
        </p:spPr>
      </p:pic>
      <p:sp>
        <p:nvSpPr>
          <p:cNvPr id="147" name="Скругленный прямоугольник 12"/>
          <p:cNvSpPr/>
          <p:nvPr/>
        </p:nvSpPr>
        <p:spPr>
          <a:xfrm>
            <a:off x="2786040" y="6215040"/>
            <a:ext cx="6072120" cy="64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f2b"/>
                </a:solidFill>
                <a:latin typeface="Arial"/>
              </a:rPr>
              <a:t>МБОУ «Курумканская СОШ №2»  Санжиева Светлана  6 «б»  к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f2b"/>
                </a:solidFill>
                <a:latin typeface="Arial"/>
              </a:rPr>
              <a:t>Руководитель: Эрдыниева Б.В. учитель биолог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49:38Z</dcterms:created>
  <dc:creator>WiZaRd</dc:creator>
  <dc:description/>
  <dc:language>en-US</dc:language>
  <cp:lastModifiedBy>Курумкан</cp:lastModifiedBy>
  <dcterms:modified xsi:type="dcterms:W3CDTF">2017-11-26T05:36:52Z</dcterms:modified>
  <cp:revision>26</cp:revision>
  <dc:subject/>
  <dc:title>Слайд 1</dc:title>
</cp:coreProperties>
</file>