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3.jpeg" ContentType="image/jpeg"/>
  <Override PartName="/ppt/media/image21.png" ContentType="image/png"/>
  <Override PartName="/ppt/media/image28.jpeg" ContentType="image/jpeg"/>
  <Override PartName="/ppt/media/image20.png" ContentType="image/png"/>
  <Override PartName="/ppt/media/image19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7.png" ContentType="image/png"/>
  <Override PartName="/ppt/media/image34.jpeg" ContentType="image/jpeg"/>
  <Override PartName="/ppt/media/image4.png" ContentType="image/png"/>
  <Override PartName="/ppt/media/image12.wmf" ContentType="image/x-wmf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png" ContentType="image/png"/>
  <Override PartName="/ppt/media/image29.png" ContentType="image/pn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B163-718F-4B6A-AD6D-5A6DE316D7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49CF-C657-4F31-9816-73760F09C0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5142-8388-4338-B5AD-DCE135C22E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3393-0150-4B0F-97F0-2C3E40BF9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A92F-E591-4CF0-A3AF-678A69A6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DA49-B807-4D08-BE96-539646D4C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7D4C-8535-4AF5-9216-DA0B0CE45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4A0D-281B-4DB6-8F71-9E18B9B4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0AE9-6F8D-404B-ACF7-861175FE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94FE-819D-467F-A662-3C60C788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252C-2D98-4954-94CC-BAD65C7D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9E3C-1846-4BF3-BCE4-FB3AF226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D7BA-3D91-4AD1-B1C5-54AC332D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2737-B4BA-41A7-BF3C-23A250D9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C961-3062-4A65-B56F-746C2F55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4830-54E1-42C3-AFFD-288A5A5599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1785600"/>
            <a:ext cx="8704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990000"/>
                </a:solidFill>
                <a:latin typeface="Mistral"/>
              </a:rPr>
              <a:t>70-летию</a:t>
            </a:r>
            <a:br>
              <a:rPr sz="8800"/>
            </a:br>
            <a:r>
              <a:rPr b="0" lang="ru-RU" sz="8800" spc="-1" strike="noStrike">
                <a:solidFill>
                  <a:srgbClr val="990000"/>
                </a:solidFill>
                <a:latin typeface="Mistral"/>
              </a:rPr>
              <a:t> Победы посвящается…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shapka1"/>
          <p:cNvPicPr/>
          <p:nvPr/>
        </p:nvPicPr>
        <p:blipFill>
          <a:blip r:embed="rId1"/>
          <a:stretch/>
        </p:blipFill>
        <p:spPr>
          <a:xfrm>
            <a:off x="6566040" y="920880"/>
            <a:ext cx="2309760" cy="3297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Война – это 4 года,</a:t>
            </a:r>
            <a:br>
              <a:rPr sz="4500"/>
            </a:b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это 1 418 бессонных дней и ночей, </a:t>
            </a:r>
            <a:br>
              <a:rPr sz="4500"/>
            </a:b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это 20 миллионов погибших русских людей, это значит  22 человека на каждые 2 метра земли, </a:t>
            </a:r>
            <a:br>
              <a:rPr sz="4500"/>
            </a:b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это значит 13 человек в каждую минуту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1942_17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-85680"/>
            <a:ext cx="9144000" cy="6943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8425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йна… Это бесстрашие защитников Бреста, это 900 дней блокадного Ленинграда, это клятва панфиловцев: «Ни шагу назад, за нами Москва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добытая огнем и кровью победа под Сталинградом, это подвиг героев Курской дуги, это штурм Берлина, это память сердца всего наро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274680"/>
            <a:ext cx="79200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ач   матерей  по  погибши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21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Object 4"/>
          <p:cNvGraphicFramePr/>
          <p:nvPr/>
        </p:nvGraphicFramePr>
        <p:xfrm>
          <a:off x="8748720" y="5877000"/>
          <a:ext cx="39528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48720" y="5877000"/>
                    <a:ext cx="3952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итва за Моск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Отморожение"/>
          <p:cNvPicPr/>
          <p:nvPr/>
        </p:nvPicPr>
        <p:blipFill>
          <a:blip r:embed="rId1"/>
          <a:stretch/>
        </p:blipFill>
        <p:spPr>
          <a:xfrm>
            <a:off x="714240" y="1357200"/>
            <a:ext cx="7620120" cy="473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8000" y="54900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итва за Моск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68360" y="2133720"/>
            <a:ext cx="802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ятого и шестого декабря 1941 года уже последовало мощное контрнаступление советских войск. Враг отошел от Москвы на 100 – 250 километр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445600" cy="62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 спиной Москв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лица мир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 неё, в огне лихих годи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тали насмерть братья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ын башкира, русский , и татарин, и грузин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, Москв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ы сердце всей Росс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 очей твоих струиться св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вы мы, хоть нас свинцом коси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з тебя, Моск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м жизни не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. Кар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локада Ленингра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000" y="1386000"/>
            <a:ext cx="78483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а, мы не скроем: в эти д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Мы ели землю, клей, ремн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о, съев похлёбку из ремне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ставал к станку упрямый мастер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тобы точить орудий част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еобходимые войн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2" descr="Мы помним - 27 января, День полного снятия блокады Ленинграда - Развлекательный портал &quot;Флаг в руки&quot; - Флаг в Руки"/>
          <p:cNvPicPr/>
          <p:nvPr/>
        </p:nvPicPr>
        <p:blipFill>
          <a:blip r:embed="rId1"/>
          <a:stretch/>
        </p:blipFill>
        <p:spPr>
          <a:xfrm>
            <a:off x="642960" y="428760"/>
            <a:ext cx="3714840" cy="2711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Героические страницы российской истории"/>
          <p:cNvPicPr/>
          <p:nvPr/>
        </p:nvPicPr>
        <p:blipFill>
          <a:blip r:embed="rId2"/>
          <a:stretch/>
        </p:blipFill>
        <p:spPr>
          <a:xfrm>
            <a:off x="4572000" y="357120"/>
            <a:ext cx="4000680" cy="2954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Блокадный Ленинград"/>
          <p:cNvPicPr/>
          <p:nvPr/>
        </p:nvPicPr>
        <p:blipFill>
          <a:blip r:embed="rId3"/>
          <a:stretch/>
        </p:blipFill>
        <p:spPr>
          <a:xfrm>
            <a:off x="1071720" y="2928960"/>
            <a:ext cx="2651040" cy="3701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8" descr="Блокада Ленинграда в фотографиях"/>
          <p:cNvPicPr/>
          <p:nvPr/>
        </p:nvPicPr>
        <p:blipFill>
          <a:blip r:embed="rId4"/>
          <a:stretch/>
        </p:blipFill>
        <p:spPr>
          <a:xfrm>
            <a:off x="4214880" y="3357720"/>
            <a:ext cx="4303800" cy="3136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lbertus Extra Bold"/>
              </a:rPr>
              <a:t>«Дорога жизн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0" y="1413000"/>
            <a:ext cx="4176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набжение города и войск удалось наладить по «Дороге жизни» (через Ладожское оз.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Кольцо смерти и Дорога жизни &quot; Кумертауское Время"/>
          <p:cNvPicPr/>
          <p:nvPr/>
        </p:nvPicPr>
        <p:blipFill>
          <a:blip r:embed="rId1"/>
          <a:stretch/>
        </p:blipFill>
        <p:spPr>
          <a:xfrm>
            <a:off x="928800" y="1000080"/>
            <a:ext cx="3500280" cy="3121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Без заголовка 1423"/>
          <p:cNvPicPr/>
          <p:nvPr/>
        </p:nvPicPr>
        <p:blipFill>
          <a:blip r:embed="rId2"/>
          <a:stretch/>
        </p:blipFill>
        <p:spPr>
          <a:xfrm>
            <a:off x="357120" y="3571920"/>
            <a:ext cx="4579920" cy="2930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4920" y="593280"/>
            <a:ext cx="84596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ледним мирным днём 1941 года была суббота. После обычной трудовой недели миллионы советских людей отправились отдыхать. Тишину наступившей ночи, по-летнему тёплой, благоухающей, во многих городах и сёлах нарушали счастливые голоса молодых людей, праздновавших своё вступление во взрослую жизн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алинградская би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979640" y="62373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линградская</a:t>
            </a:r>
            <a:r>
              <a:rPr b="1" lang="ru-RU" sz="2400" spc="-1" strike="noStrike">
                <a:solidFill>
                  <a:srgbClr val="05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нор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09.avi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68360" y="1268280"/>
            <a:ext cx="7920000" cy="4897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урская би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10.avi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5640" y="907920"/>
            <a:ext cx="7488360" cy="5618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За годы войны фашисты уничтожили 1710 советских городов и более 70 тысяч сел и деревень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Картинка 5 из 7138"/>
          <p:cNvPicPr/>
          <p:nvPr/>
        </p:nvPicPr>
        <p:blipFill>
          <a:blip r:embed="rId1"/>
          <a:stretch/>
        </p:blipFill>
        <p:spPr>
          <a:xfrm>
            <a:off x="2124000" y="0"/>
            <a:ext cx="44578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g42"/>
          <p:cNvPicPr/>
          <p:nvPr/>
        </p:nvPicPr>
        <p:blipFill>
          <a:blip r:embed="rId1"/>
          <a:stretch/>
        </p:blipFill>
        <p:spPr>
          <a:xfrm>
            <a:off x="0" y="0"/>
            <a:ext cx="494352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21413"/>
          <p:cNvPicPr/>
          <p:nvPr/>
        </p:nvPicPr>
        <p:blipFill>
          <a:blip r:embed="rId2"/>
          <a:stretch/>
        </p:blipFill>
        <p:spPr>
          <a:xfrm>
            <a:off x="1511280" y="333360"/>
            <a:ext cx="7632720" cy="5722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55"/>
          <p:cNvPicPr/>
          <p:nvPr/>
        </p:nvPicPr>
        <p:blipFill>
          <a:blip r:embed="rId3"/>
          <a:stretch/>
        </p:blipFill>
        <p:spPr>
          <a:xfrm>
            <a:off x="179280" y="260280"/>
            <a:ext cx="8964720" cy="648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i0008r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рубеже весны четвёр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аграду за года трев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ыму и прахе распростёр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лин лежал у наших ног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умолкает гром оруд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шует пламя в дымной мг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говорят друг другу люди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справедливость на Земл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итва за Берл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1" descr="i0006rp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i0012rp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08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i0006rp"/>
          <p:cNvPicPr/>
          <p:nvPr/>
        </p:nvPicPr>
        <p:blipFill>
          <a:blip r:embed="rId1"/>
          <a:stretch/>
        </p:blipFill>
        <p:spPr>
          <a:xfrm>
            <a:off x="0" y="0"/>
            <a:ext cx="9144000" cy="7095960"/>
          </a:xfrm>
          <a:prstGeom prst="rect">
            <a:avLst/>
          </a:prstGeom>
          <a:ln w="0">
            <a:noFill/>
          </a:ln>
        </p:spPr>
      </p:pic>
      <p:pic>
        <p:nvPicPr>
          <p:cNvPr id="110" name="levitan3.mp3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71000">
    <p:fade/>
  </p:transition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43072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F:\Новая папка (4)\2007_06_22_08_44_40_a1fd7e74437b5ad9dc504ed2628ffff5.jpg"/>
          <p:cNvPicPr/>
          <p:nvPr/>
        </p:nvPicPr>
        <p:blipFill>
          <a:blip r:embed="rId1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0"/>
          <p:cNvSpPr/>
          <p:nvPr/>
        </p:nvSpPr>
        <p:spPr>
          <a:xfrm>
            <a:off x="5254560" y="476280"/>
            <a:ext cx="388944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Войн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2 июн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овно в 4 час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иев бомбил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ъяви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началас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йн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ПУСТЬ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ПОКОЛЕНИЯ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ЗНАЮТ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1816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11280" y="1268280"/>
            <a:ext cx="7619760" cy="5589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годы войны было сожжено и разрушено 6 млн. зданий. Остались без крова над головой почти 25 млн. человек. Страна потеряла 30% национального богат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 сколько людей погибло в концлагеря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тский  лагерь  Саласпил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0658"/>
          <p:cNvPicPr/>
          <p:nvPr/>
        </p:nvPicPr>
        <p:blipFill>
          <a:blip r:embed="rId1"/>
          <a:srcRect l="0" t="15427" r="0" b="16253"/>
          <a:stretch/>
        </p:blipFill>
        <p:spPr>
          <a:xfrm>
            <a:off x="0" y="1413000"/>
            <a:ext cx="914400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9"/>
          <p:cNvSpPr/>
          <p:nvPr/>
        </p:nvSpPr>
        <p:spPr>
          <a:xfrm>
            <a:off x="-252360" y="549360"/>
            <a:ext cx="96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4 июня 1945 г.  в Москве состоялся Парад Побе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6" descr="Картинка 3 из 21539"/>
          <p:cNvPicPr/>
          <p:nvPr/>
        </p:nvPicPr>
        <p:blipFill>
          <a:blip r:embed="rId1"/>
          <a:stretch/>
        </p:blipFill>
        <p:spPr>
          <a:xfrm>
            <a:off x="1403280" y="1197000"/>
            <a:ext cx="5616720" cy="5362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8" descr="Картинка 71 из 21539"/>
          <p:cNvPicPr/>
          <p:nvPr/>
        </p:nvPicPr>
        <p:blipFill>
          <a:blip r:embed="rId2"/>
          <a:stretch/>
        </p:blipFill>
        <p:spPr>
          <a:xfrm>
            <a:off x="755640" y="1125360"/>
            <a:ext cx="7885080" cy="5472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" descr="Картинка 73 из 21539"/>
          <p:cNvPicPr/>
          <p:nvPr/>
        </p:nvPicPr>
        <p:blipFill>
          <a:blip r:embed="rId3"/>
          <a:stretch/>
        </p:blipFill>
        <p:spPr>
          <a:xfrm>
            <a:off x="684360" y="1125360"/>
            <a:ext cx="7777080" cy="5500800"/>
          </a:xfrm>
          <a:prstGeom prst="rect">
            <a:avLst/>
          </a:prstGeom>
          <a:ln w="0">
            <a:noFill/>
          </a:ln>
        </p:spPr>
      </p:pic>
    </p:spTree>
  </p:cSld>
  <p:transition spd="slow" advTm="236000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 мая мы отмечаем великий праздник – День Победы ,70 годовщину Победы советского народа в Великой вой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 горя и страха принесла война, но несмотря на голод, холод, разруху, наш народ победил. Он победил страшного врага, который поработил много государств и заставил их жить в страхе, народ , который победил  - фашиз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levitan3.mp3" descr=""/>
          <p:cNvPicPr/>
          <p:nvPr/>
        </p:nvPicPr>
        <p:blipFill>
          <a:blip r:embed="rId1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43072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ы здесь не потому, что да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злой осколок, память жжет в гру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 могиле неизвестного солд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ы в праздники и в будни прихо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 защитил тебя на поле б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ал, ни шагу не ступив наз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имя есть у этого героя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ликой Армии простой солд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. Исако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Содержимое 3" descr="http://www.vtura-apk.gossaas.ru/uploads/%D1%81%D0%BA%D0%B0%D0%BD%D0%B8%D1%80%D0%BE%D0%B2%D0%B0%D0%BD%D0%B8%D0%B50032_1.jpg"/>
          <p:cNvPicPr/>
          <p:nvPr/>
        </p:nvPicPr>
        <p:blipFill>
          <a:blip r:embed="rId1"/>
          <a:stretch/>
        </p:blipFill>
        <p:spPr>
          <a:xfrm>
            <a:off x="0" y="0"/>
            <a:ext cx="9901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Администратор\Рабочий стол\война\войнай\Rodina_mat-.jpg"/>
          <p:cNvPicPr/>
          <p:nvPr/>
        </p:nvPicPr>
        <p:blipFill>
          <a:blip r:embed="rId1"/>
          <a:stretch/>
        </p:blipFill>
        <p:spPr>
          <a:xfrm>
            <a:off x="2484360" y="0"/>
            <a:ext cx="5040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20_big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428760" y="1214280"/>
            <a:ext cx="403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евели чёрные крыль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вистел ураган свинц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о парни границу закры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 собственные сердц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Пам"/>
          <p:cNvPicPr/>
          <p:nvPr/>
        </p:nvPicPr>
        <p:blipFill>
          <a:blip r:embed="rId1"/>
          <a:stretch/>
        </p:blipFill>
        <p:spPr>
          <a:xfrm>
            <a:off x="4643280" y="0"/>
            <a:ext cx="3781440" cy="5113440"/>
          </a:xfrm>
          <a:prstGeom prst="rect">
            <a:avLst/>
          </a:prstGeom>
          <a:ln w="57240">
            <a:solidFill>
              <a:srgbClr val="a50021"/>
            </a:solidFill>
            <a:miter/>
          </a:ln>
        </p:spPr>
      </p:pic>
      <p:pic>
        <p:nvPicPr>
          <p:cNvPr id="57" name="Picture 6" descr="Каска"/>
          <p:cNvPicPr/>
          <p:nvPr/>
        </p:nvPicPr>
        <p:blipFill>
          <a:blip r:embed="rId2"/>
          <a:stretch/>
        </p:blipFill>
        <p:spPr>
          <a:xfrm>
            <a:off x="6407280" y="4781520"/>
            <a:ext cx="2736720" cy="2076480"/>
          </a:xfrm>
          <a:prstGeom prst="rect">
            <a:avLst/>
          </a:prstGeom>
          <a:ln w="57240">
            <a:solidFill>
              <a:srgbClr val="a50021"/>
            </a:solidFill>
            <a:miter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Брестская креп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брестская крепость"/>
          <p:cNvPicPr/>
          <p:nvPr/>
        </p:nvPicPr>
        <p:blipFill>
          <a:blip r:embed="rId1"/>
          <a:stretch/>
        </p:blipFill>
        <p:spPr>
          <a:xfrm>
            <a:off x="0" y="1125360"/>
            <a:ext cx="4633920" cy="5732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 – Брест. Я стою обожженны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 бьюсь за солдатскую ч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 нету здесь, нету сраженны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десь только убитые 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4920" y="593280"/>
            <a:ext cx="8209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йна… От Бреста до Москвы 1000 километров, от Москвы до Берлина — 1600. Итого 2600 километр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если считать по прямой. Так мало, не правда ли? 2600 километров. Поездом — четверо суток, самолетом — четыре часа, а перебежками по-пластунски — четыре долгих го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1956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79280" y="158760"/>
            <a:ext cx="8713800" cy="6567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20:25:23Z</dcterms:created>
  <dc:creator>Alex</dc:creator>
  <dc:description/>
  <dc:language>en-US</dc:language>
  <cp:lastModifiedBy>Семья</cp:lastModifiedBy>
  <dcterms:modified xsi:type="dcterms:W3CDTF">2017-11-27T21:43:24Z</dcterms:modified>
  <cp:revision>75</cp:revision>
  <dc:subject/>
  <dc:title>65-летию Победы посвящается…</dc:title>
</cp:coreProperties>
</file>