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7.png" ContentType="image/png"/>
  <Override PartName="/ppt/media/image34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80E6-C87D-4508-9902-44591CA26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CA0-0D2F-4EF2-937E-492155E83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E387-C791-47E5-A2E3-1FEFACB42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23A-AC01-49F9-A4F9-FDAA1817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3E6-21DA-40D7-AE37-66995E9B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854-6D7B-44DD-AED3-71E52D2D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66A-22F5-465E-B8CA-762645B6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A71-5829-413A-8E2D-73495F17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F0D-9BD0-441A-AD0E-78AB509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E90-70D6-4652-BA48-6D7917B6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AEC-6318-40C8-9AEF-148FE45B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89A-5B2A-4017-92FC-7D5E515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F3F-6924-4A97-B5A5-286F85A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A15-FA59-47C4-BFA4-F4C96A01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7E8-5699-4368-8F83-4CCB87E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63BE-63CB-4A1C-A45F-B795FD71A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70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hapka1"/>
          <p:cNvPicPr/>
          <p:nvPr/>
        </p:nvPicPr>
        <p:blipFill>
          <a:blip r:embed="rId1"/>
          <a:stretch/>
        </p:blipFill>
        <p:spPr>
          <a:xfrm>
            <a:off x="6566040" y="920880"/>
            <a:ext cx="23097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68360" y="213372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того и шестого декабря 1941 года уже последовало мощное контрнаступление советских войск. Враг отошел от Москвы на 100 – 25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445600" cy="62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 Ка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459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ним мирным днём 1941 года была суббота. После обычной трудовой недели миллионы советских людей отправились отдыхать. Тишину наступившей ночи, по-летнему тёплой, благоухающей, во многих городах и сёлах нарушали счастливые голоса молодых людей, праздновавших своё вступление во взрослую жи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 годы войны фашисты уничтожили 1710 советских городов и более 70 тысяч сел и деревен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артинка 5 из 7138"/>
          <p:cNvPicPr/>
          <p:nvPr/>
        </p:nvPicPr>
        <p:blipFill>
          <a:blip r:embed="rId1"/>
          <a:stretch/>
        </p:blipFill>
        <p:spPr>
          <a:xfrm>
            <a:off x="212400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55"/>
          <p:cNvPicPr/>
          <p:nvPr/>
        </p:nvPicPr>
        <p:blipFill>
          <a:blip r:embed="rId3"/>
          <a:stretch/>
        </p:blipFill>
        <p:spPr>
          <a:xfrm>
            <a:off x="179280" y="260280"/>
            <a:ext cx="8964720" cy="648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беже весны четвёр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граду за года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ыму и прахе распростё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ин лежал у наших но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молкает гром оруд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ует пламя в дымной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ворят друг другу люди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справедливость на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i0006rp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10" name="levitan3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1000">
    <p:fade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307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ды войны было сожжено и разрушено 6 млн. зданий. Остались без крова над головой почти 25 млн. человек. Страна потеряла 30% национального бога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сколько людей погибло в концлагер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Картинка 3 из 21539"/>
          <p:cNvPicPr/>
          <p:nvPr/>
        </p:nvPicPr>
        <p:blipFill>
          <a:blip r:embed="rId1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Картинка 71 из 21539"/>
          <p:cNvPicPr/>
          <p:nvPr/>
        </p:nvPicPr>
        <p:blipFill>
          <a:blip r:embed="rId2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Картинка 73 из 21539"/>
          <p:cNvPicPr/>
          <p:nvPr/>
        </p:nvPicPr>
        <p:blipFill>
          <a:blip r:embed="rId3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0 годовщину Победы советского народа в Велик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evitan3.mp3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307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здесь не потому, что д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лой осколок, память жжет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могиле неизвестного сол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 в праздники и в будни при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защитил тебя на поле б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ал, ни шагу не ступив наз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имя есть у этого геро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ой Армии простой солд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. Иса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одержимое 3" descr="http://www.vtura-apk.gossaas.ru/uploads/%D1%81%D0%BA%D0%B0%D0%BD%D0%B8%D1%80%D0%BE%D0%B2%D0%B0%D0%BD%D0%B8%D0%B50032_1.jpg"/>
          <p:cNvPicPr/>
          <p:nvPr/>
        </p:nvPicPr>
        <p:blipFill>
          <a:blip r:embed="rId1"/>
          <a:stretch/>
        </p:blipFill>
        <p:spPr>
          <a:xfrm>
            <a:off x="0" y="0"/>
            <a:ext cx="990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57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брестская крепость"/>
          <p:cNvPicPr/>
          <p:nvPr/>
        </p:nvPicPr>
        <p:blipFill>
          <a:blip r:embed="rId1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Семья</cp:lastModifiedBy>
  <dcterms:modified xsi:type="dcterms:W3CDTF">2017-11-27T21:43:24Z</dcterms:modified>
  <cp:revision>75</cp:revision>
  <dc:subject/>
  <dc:title>65-летию Победы посвящается…</dc:title>
</cp:coreProperties>
</file>