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34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D4F-24C3-4BC3-9A77-1BB4A58AD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45E-2E2D-4E15-80F9-93CF4E417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768F-F702-4E9A-B437-6F777323F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9B5-08E5-47C2-B911-E32AA0B3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84F-CB55-4D8C-B7C4-807EF6F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DB9-514D-45B2-B45F-0E77198C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C36-88F9-429C-A515-36F99AC4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FF4-D35F-494F-BBE6-6D7CF2A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ACA-7F51-4A05-BB4C-E617251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455-6997-4B3E-A8BE-DE1194E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B1D-5D22-4C96-8E69-6079386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520-239D-4155-ACA7-4837A215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E8C-A28B-4631-8DC8-DBCB52F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D6D-0DD5-4B82-B781-40FFD59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10A-0C18-447B-B7A3-CD2F36B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BCE-74D8-4404-BE0D-42B8F3227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445600" cy="62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 Ка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55"/>
          <p:cNvPicPr/>
          <p:nvPr/>
        </p:nvPicPr>
        <p:blipFill>
          <a:blip r:embed="rId3"/>
          <a:stretch/>
        </p:blipFill>
        <p:spPr>
          <a:xfrm>
            <a:off x="179280" y="260280"/>
            <a:ext cx="8964720" cy="648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10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307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здесь не потому, что д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лой осколок, память жже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могиле неизвестного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 в праздники и в будни при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щитил тебя на поле б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ал, ни шагу не ступив наз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имя есть у этого геро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ой Армии простой солд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. Иса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3" descr="http://www.vtura-apk.gossaas.ru/uploads/%D1%81%D0%BA%D0%B0%D0%BD%D0%B8%D1%80%D0%BE%D0%B2%D0%B0%D0%BD%D0%B8%D0%B50032_1.jpg"/>
          <p:cNvPicPr/>
          <p:nvPr/>
        </p:nvPicPr>
        <p:blipFill>
          <a:blip r:embed="rId1"/>
          <a:stretch/>
        </p:blipFill>
        <p:spPr>
          <a:xfrm>
            <a:off x="0" y="0"/>
            <a:ext cx="990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Семья</cp:lastModifiedBy>
  <dcterms:modified xsi:type="dcterms:W3CDTF">2017-11-27T21:43:24Z</dcterms:modified>
  <cp:revision>75</cp:revision>
  <dc:subject/>
  <dc:title>65-летию Победы посвящается…</dc:title>
</cp:coreProperties>
</file>