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4DA-CBCE-4385-9BF4-6C6F901A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AAF-28F6-499D-8D30-FF89915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DC8-3DB2-4717-8A9E-56726819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54E-6CF3-4BC6-B528-1009B0F2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E3D-DAF1-45E2-805E-BA758506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1E9-A5B6-4F3D-AB6A-F05C942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5F31-0A64-4FF2-AD21-086A40B6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9815-FD9E-4AAF-94D1-0D667D20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0E7-2ABE-4AC9-A627-E2A7B3F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8A07-64BA-487B-A9C4-7E1AE567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BDDA-2363-49BC-9B9F-E5D6C9A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A2A-AC5B-43D3-AB00-DEBED09C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787-DE64-4CC6-A81C-B981BE1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E671-632D-45AD-AE15-30F22ED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ACD-BF94-4C7D-B2FE-82F9DA75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12CA-C157-4B62-B2C3-51A78F30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2169-80BD-45A9-B773-49A54686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C7D-C631-4179-A19C-C0F06892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C7D-49ED-424C-94AA-FD3ED522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817-545E-4505-BC3A-6CF780F2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42E-FE3F-450E-9383-F196D92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41F-1C0E-4278-A8D8-B413ADB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A4B-2C24-4B5E-A334-FEBC58B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179-B633-4C5D-B098-07EC9967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007-2CF8-4475-8150-51643FDEAC0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705A-8EA0-4620-ACBB-59948744875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Мастер - клас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Формирование у учащихся умений понимания текста путём использования диалоговой формы обуч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2199960"/>
            <a:ext cx="8226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накомство участников мастер – класса с опытом использования диалоговой формы обучения при решении текстовых задач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Задач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своение участниками мастер – класса основных приёмов организации учебного диалог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ормирование умений построения учебного диалога для обеспечения учащимися текстового материала математических задач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Этапы работ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1920960"/>
                <a:gridCol w="1070280"/>
                <a:gridCol w="2720520"/>
                <a:gridCol w="251424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тапы работ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ятельность  организатора мастера класс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ятельность участников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.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рганизацион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минут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водное слово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становка на работ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лушают сообщение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страиваются на работ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. Основно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 мину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лит учителей на группы по принципу собирания открыток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даёт  группам КОЗ, задачи. Объясняет каждому участнику группы его действия. Организует учебный диалог учащихс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рганизует самопроверку выполнения зад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рганизует рефлексию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лятся на группы по принципу собирания открыток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ботают в группах: читают задания и решают задачи по инструкции. Каждый выполняет свою работ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веряют полученный ответ с правильным решением задачи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деляют трудности и находят пути реше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. Заключитель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минут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амоанализ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дают вопросы по мастер - классу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Инструкц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. Распределите роли ( договоритесь, кто будет участником №1,№2, №3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2. Прочитайте задачу, написанную на карточк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3. Выполните следующие действия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частник №1 – перескажи своими словами условие задачи другим ребятам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частник №2 – повтори вопрос задач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частник №3 – определи величины, которые встречаются в задач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Запишите формулу нахождения расстояния, зная скорость и врем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4. Задайте по очереди те вопросы, которые записаны на ваших карточках, участникам группы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5 Сделайте краткую запись к задаче, используя схему, таблицу, рисунок или чертёж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6. Решите задачу. Для этого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Установите, каких данных не хватает для ответа на главный вопрос задачи, и как мы можем найт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Найдите эти данные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Если нашли все данные для ответа на главный вопрос задачи - запишите решение. Если -  нет, вернитесь к пункту А и Б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7. Сравните полученный в группе ответ с правильным решением задач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Если ваш ответ не совпадает, то попробуйте решить задачу заново, внимательно прочитав услов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Если ваш ответ является правильным, то составьте новую задачу, обратную данной; запишите её и сдайте учителю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чащиеся слушают и понимают текст задач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едставляют и моделируют ситуацию, предлагаемую учителем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бирают нужное действие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ставляют необходимое математическое выражение(ребёнок может решит и действиями или выражением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авильно выполняют вычислени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водят к единым единицам измер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20:13Z</dcterms:created>
  <dc:creator>User</dc:creator>
  <dc:description/>
  <dc:language>en-US</dc:language>
  <cp:lastModifiedBy>User</cp:lastModifiedBy>
  <dcterms:modified xsi:type="dcterms:W3CDTF">2009-03-26T16:16:13Z</dcterms:modified>
  <cp:revision>3</cp:revision>
  <dc:subject/>
  <dc:title>Мастер - класс</dc:title>
</cp:coreProperties>
</file>