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A42-46DA-461D-B429-DC37F6E5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765E-C0C9-4FBE-9092-2A90A8EE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C0E7-8F46-4724-A258-B955FD37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FDC6-C3C8-45BB-93A8-AE9665D9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4EA7-B494-427C-8D6A-40E8F5DE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7794-DB16-43CC-BB57-305724FD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6469-E3A8-4A98-B214-1C95AD1C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65B4-A7D9-402C-9D27-02E288C9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E916-042D-4884-9130-15A8FD70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DBC1-E48A-4A31-9164-BFFDBC81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62F1-8556-4346-A7AD-F540AF62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8B09-48FB-4AA4-A4E7-24F90736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ABED-3C41-408B-8585-D297ABF9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58FD-A4DB-42AB-955B-FB07E81A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F9A2-395D-4EFA-81E8-6F128ADD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F21F-D712-4299-A501-269901F5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DABA-B693-4363-AD39-708B1663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D180-72B1-48DB-89E9-4F3A62D6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1A9-58C6-49C2-9E93-742F0329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5F3-334A-415A-96F0-2E4B776D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04A4-212B-43EA-9819-BBD5837E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11B-97FA-4C30-B558-3EC92A38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E0A5-BDD9-4DAA-B0A0-2F83FF83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2EAB-265C-4638-9B2C-5707591D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6BDC-F833-4D00-B07B-91F170799DF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2D18-33FB-408F-98E9-B9C12141E9F6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Arial"/>
              </a:rPr>
              <a:t>Мастер - класс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Формирование у учащихся умений понимания текста путём использования диалоговой формы обучения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2199960"/>
            <a:ext cx="822636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Знакомство участников мастер – класса с опытом использования диалоговой формы обучения при решении текстовых задач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Задач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рисвоение участниками мастер – класса основных приёмов организации учебного диалог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Формирование умений построения учебного диалога для обеспечения учащимися текстового материала математических задач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Этапы работы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5760" y="1598760"/>
          <a:ext cx="8226000" cy="4496760"/>
        </p:xfrm>
        <a:graphic>
          <a:graphicData uri="http://schemas.openxmlformats.org/drawingml/2006/table">
            <a:tbl>
              <a:tblPr/>
              <a:tblGrid>
                <a:gridCol w="1920960"/>
                <a:gridCol w="1070280"/>
                <a:gridCol w="2720520"/>
                <a:gridCol w="2514240"/>
              </a:tblGrid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Этапы работы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еятельность  организатора мастера класса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еятельность участников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.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рганизационны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 минуты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водное слово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становка на работу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лушают сообщение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астраиваются на работу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. Основно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7 минут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aeaea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елит учителей на группы по принципу собирания открыток.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aeaea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аздаёт  группам КОЗ, задачи. Объясняет каждому участнику группы его действия. Организует учебный диалог учащихся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aeaea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рганизует самопроверку выполнения задания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aeaea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рганизует рефлексию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aeaea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елятся на группы по принципу собирания открыток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aeaea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аботают в группах: читают задания и решают задачи по инструкции. Каждый выполняет свою работу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aeaea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веряют полученный ответ с правильным решением задачи.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aeaea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деляют трудности и находят пути решения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. Заключительны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 минут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амоанализ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Задают вопросы по мастер - классу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Инструкц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. Распределите роли ( договоритесь, кто будет участником №1,№2, №3)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2. Прочитайте задачу, написанную на карточке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3. Выполните следующие действия: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Участник №1 – перескажи своими словами условие задачи другим ребятам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Участник №2 – повтори вопрос задачи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Участник №3 – определи величины, которые встречаются в задаче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Запишите формулу нахождения расстояния, зная скорость и время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4. Задайте по очереди те вопросы, которые записаны на ваших карточках, участникам группы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5 Сделайте краткую запись к задаче, используя схему, таблицу, рисунок или чертёж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6. Решите задачу. Для этого: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Установите, каких данных не хватает для ответа на главный вопрос задачи, и как мы можем найти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Найдите эти данные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Если нашли все данные для ответа на главный вопрос задачи - запишите решение. Если -  нет, вернитесь к пункту А и Б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7. Сравните полученный в группе ответ с правильным решением задачи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Если ваш ответ не совпадает, то попробуйте решить задачу заново, внимательно прочитав условие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Если ваш ответ является правильным, то составьте новую задачу, обратную данной; запишите её и сдайте учителю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Ито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Учащиеся слушают и понимают текст задач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редставляют и моделируют ситуацию, предлагаемую учителем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ыбирают нужное действие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оставляют необходимое математическое выражение(ребёнок может решит и действиями или выражением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равильно выполняют вычисления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риводят к единым единицам измер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5:20:13Z</dcterms:created>
  <dc:creator>User</dc:creator>
  <dc:description/>
  <dc:language>en-US</dc:language>
  <cp:lastModifiedBy>User</cp:lastModifiedBy>
  <dcterms:modified xsi:type="dcterms:W3CDTF">2009-03-26T16:16:13Z</dcterms:modified>
  <cp:revision>3</cp:revision>
  <dc:subject/>
  <dc:title>Мастер - класс</dc:title>
</cp:coreProperties>
</file>