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695-F769-4450-A552-E169A4B6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8B7-CA35-4617-9FFD-858CA5DF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289-CC7E-4252-9CAF-0553B8CC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880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5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27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880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5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48E-8E11-42C2-9819-7FA67C2E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A852A-D7FF-4B69-BB20-802F9DFD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4A286-00F5-481E-A2B8-B1E498BA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87CDE-4837-4DF2-86B1-0D7D980F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06427-7338-4F3F-8698-7A2A72D4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F4970-8965-4910-ACF0-4AF3E7DC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2201760"/>
            <a:ext cx="8569440" cy="731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6EF68-5809-4654-B1A5-B9F0FAFE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EC0A8-F2A1-4D4B-89F1-5B739BCA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9AF-F41E-43CE-AFF9-C8B230A5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F46F4-0828-4491-8AB7-86ABB5A7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06BEE-3233-48F6-BA62-53AEF14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E5A10-B520-41AD-ACCF-56820ACC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EAAB0-A315-4574-AE02-5F40EEA7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880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4520" y="428256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127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880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4520" y="5292000"/>
            <a:ext cx="227196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2DE58-AB1A-4B91-B94F-37744547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8FC-3A35-4AC7-9227-784C2241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358-1388-4B21-9D11-62D25661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3C7-AA0A-4356-856F-4C815B83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640" y="2201760"/>
            <a:ext cx="8569440" cy="731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E6B-087B-47ED-B1ED-78CAFB1C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477-6F99-42ED-AD9B-E9B8A08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8560" y="529200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307-8E60-443F-9207-E7B62653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272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8560" y="4282560"/>
            <a:ext cx="344340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2720" y="5292000"/>
            <a:ext cx="7056720" cy="9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A3A-DC08-4092-8FA1-5E89915F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8E6A3C8D-E258-443B-8509-27C59F369359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01760"/>
            <a:ext cx="8569440" cy="157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3090960"/>
            <a:ext cx="3240" cy="33447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B81020E-D9CA-430D-9A31-8994B3E3F3D6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2" marL="100800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511280" algn="ctr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4" marL="201600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201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201600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-181080"/>
            <a:ext cx="10225080" cy="77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010199"/>
                </a:solidFill>
                <a:latin typeface="Times New Roman"/>
              </a:rPr>
              <a:t>Приставки русского язык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в-(во-)(взо-)                 вы-                       до-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за-(изо-)                       ко-                        на-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над-(надо-)                  не-(недо-)            о-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об-(обо-)                      от-(ото-)              па-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по-                                под-(подо-)         пра-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пред-(предо-)              про-                      разо-                  с-(со-)                           су-                        у- 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без-(бес-)                     вз-(вс-)                 воз-(вос-)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0" lang="ru-RU" sz="3500" spc="-1" strike="noStrike">
                <a:solidFill>
                  <a:srgbClr val="010199"/>
                </a:solidFill>
                <a:latin typeface="Times New Roman"/>
              </a:rPr>
              <a:t>из-(ис-)                         низ-(нис-)            раз-(рас-)  роз-(рос-)                     через-(черес-)      пре- и при-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5221440" cy="414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040360" y="0"/>
            <a:ext cx="5221080" cy="755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4140360"/>
            <a:ext cx="504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416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00"/>
                </a:solidFill>
                <a:latin typeface="Times New Roman"/>
              </a:rPr>
              <a:t>Проверь свой тест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2099880"/>
            <a:ext cx="44276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3000"/>
          </a:bodyPr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Правильные ответы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1 — а,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2 — б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3 — б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4 — в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5 — б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6 — а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-351360">
              <a:lnSpc>
                <a:spcPct val="95000"/>
              </a:lnSpc>
              <a:spcBef>
                <a:spcPts val="876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Times New Roman"/>
              </a:rPr>
              <a:t>7 — б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5136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600360" y="2627280"/>
            <a:ext cx="6120000" cy="4105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4586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ahoma"/>
              </a:rPr>
              <a:t>7 ответов — «5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586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ahoma"/>
              </a:rPr>
              <a:t>6 — 5 ответов - «4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586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586"/>
                </a:solidFill>
                <a:latin typeface="Tahoma"/>
              </a:rPr>
              <a:t>4 — 1 ответ — будь внимателе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-181080"/>
            <a:ext cx="10080720" cy="7740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312480"/>
            <a:ext cx="90694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4900" spc="-1" strike="noStrike">
                <a:solidFill>
                  <a:srgbClr val="ff3300"/>
                </a:solidFill>
                <a:latin typeface="Times New Roman"/>
              </a:rPr>
              <a:t>Спасибо за работу!</a:t>
            </a:r>
            <a:br>
              <a:rPr sz="4900"/>
            </a:br>
            <a:r>
              <a:rPr b="1" lang="ru-RU" sz="4900" spc="-1" strike="noStrike">
                <a:solidFill>
                  <a:srgbClr val="ff3300"/>
                </a:solidFill>
                <a:latin typeface="Times New Roman"/>
              </a:rPr>
              <a:t>Молодцы!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322200"/>
            <a:ext cx="9072720" cy="152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РУССКИЙ ЯЗЫК 3 КЛАСС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720" y="209988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Подготовила учитель начальных классов Дзибло Варвара Михайловн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МОУ «Гимназия» Г.Новозыбков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2009-2010 учебный год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60000" y="539640"/>
            <a:ext cx="9396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осень        трава      листья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66ff66"/>
                </a:solidFill>
                <a:latin typeface="Times New Roman"/>
              </a:rPr>
              <a:t>о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сень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1" lang="ru-RU" sz="3500" spc="-1" strike="noStrike">
                <a:solidFill>
                  <a:srgbClr val="66ff66"/>
                </a:solidFill>
                <a:latin typeface="Times New Roman"/>
              </a:rPr>
              <a:t>а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ва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3500" spc="-1" strike="noStrike">
                <a:solidFill>
                  <a:srgbClr val="66ff66"/>
                </a:solidFill>
                <a:latin typeface="Times New Roman"/>
              </a:rPr>
              <a:t>и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стья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5000"/>
              </a:lnSpc>
              <a:spcBef>
                <a:spcPts val="13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О               </a:t>
            </a:r>
            <a:r>
              <a:rPr b="1" lang="ru-RU" sz="53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53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5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9080" y="320760"/>
            <a:ext cx="9610560" cy="68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носом (в) землю посту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м...хнёт крылом и закр...ч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...чит он даже с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...кун неуг...м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080" y="320760"/>
            <a:ext cx="9610560" cy="68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носом в землю посту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м</a:t>
            </a:r>
            <a:r>
              <a:rPr b="1" lang="ru-RU" sz="3200" spc="-1" strike="noStrike">
                <a:solidFill>
                  <a:srgbClr val="00ae00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нёт крылом и закр</a:t>
            </a:r>
            <a:r>
              <a:rPr b="1" lang="ru-RU" sz="3200" spc="-1" strike="noStrike">
                <a:solidFill>
                  <a:srgbClr val="00ae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1" lang="ru-RU" sz="3200" spc="-1" strike="noStrike">
                <a:solidFill>
                  <a:srgbClr val="00ae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т он даже с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1" lang="ru-RU" sz="3200" spc="-1" strike="noStrike">
                <a:solidFill>
                  <a:srgbClr val="00ae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н неуг</a:t>
            </a:r>
            <a:r>
              <a:rPr b="1" lang="ru-RU" sz="3200" spc="-1" strike="noStrike">
                <a:solidFill>
                  <a:srgbClr val="00ae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3203640"/>
            <a:ext cx="898560" cy="360360"/>
          </a:xfrm>
          <a:prstGeom prst="blockArc">
            <a:avLst>
              <a:gd name="adj1" fmla="val 10105789"/>
              <a:gd name="adj2" fmla="val 694211"/>
              <a:gd name="adj3" fmla="val 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720" y="3635280"/>
            <a:ext cx="898560" cy="360360"/>
          </a:xfrm>
          <a:prstGeom prst="blockArc">
            <a:avLst>
              <a:gd name="adj1" fmla="val 10105789"/>
              <a:gd name="adj2" fmla="val 694211"/>
              <a:gd name="adj3" fmla="val 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0720" y="4140360"/>
            <a:ext cx="898560" cy="360360"/>
          </a:xfrm>
          <a:prstGeom prst="blockArc">
            <a:avLst>
              <a:gd name="adj1" fmla="val 10105789"/>
              <a:gd name="adj2" fmla="val 694211"/>
              <a:gd name="adj3" fmla="val 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0360" y="181080"/>
            <a:ext cx="9178920" cy="2698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24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Times New Roman"/>
              </a:rPr>
              <a:t>Тема урок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3564000"/>
            <a:ext cx="9252000" cy="3241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24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Times New Roman"/>
              </a:rPr>
              <a:t>Общее понятие о приставк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78200" y="539640"/>
            <a:ext cx="4502160" cy="197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ст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360" y="3240000"/>
            <a:ext cx="2160720" cy="1800360"/>
          </a:xfrm>
          <a:prstGeom prst="wedgeEllipseCallout">
            <a:avLst>
              <a:gd name="adj1" fmla="val 108805"/>
              <a:gd name="adj2" fmla="val -9211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асть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680000"/>
            <a:ext cx="2158920" cy="1800000"/>
          </a:xfrm>
          <a:prstGeom prst="wedgeEllipseCallout">
            <a:avLst>
              <a:gd name="adj1" fmla="val 34666"/>
              <a:gd name="adj2" fmla="val -1761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56360" y="5219640"/>
            <a:ext cx="2771640" cy="2160720"/>
          </a:xfrm>
          <a:prstGeom prst="wedgeEllipseCallout">
            <a:avLst>
              <a:gd name="adj1" fmla="val -31912"/>
              <a:gd name="adj2" fmla="val -18617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у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ля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вых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61440" y="3419640"/>
            <a:ext cx="2158920" cy="1800000"/>
          </a:xfrm>
          <a:prstGeom prst="wedgeEllipseCallout">
            <a:avLst>
              <a:gd name="adj1" fmla="val -100453"/>
              <a:gd name="adj2" fmla="val -10618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ер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р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0" y="5759280"/>
            <a:ext cx="900360" cy="360360"/>
          </a:xfrm>
          <a:custGeom>
            <a:avLst/>
            <a:gdLst/>
            <a:ahLst/>
            <a:rect l="l" t="t" r="r" b="b"/>
            <a:pathLst>
              <a:path w="2501" h="1001">
                <a:moveTo>
                  <a:pt x="0" y="0"/>
                </a:moveTo>
                <a:lnTo>
                  <a:pt x="2500" y="0"/>
                </a:lnTo>
                <a:lnTo>
                  <a:pt x="2500" y="1000"/>
                </a:lnTo>
                <a:lnTo>
                  <a:pt x="2500" y="0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02920" y="1800360"/>
            <a:ext cx="907092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Город, городок, пригород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Подснежник, снег, снежок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Забег, завод, замок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3500" spc="-1" strike="noStrike">
                <a:solidFill>
                  <a:srgbClr val="ffffff"/>
                </a:solidFill>
                <a:latin typeface="Times New Roman"/>
              </a:rPr>
              <a:t>След, свет, сход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19280" y="250920"/>
            <a:ext cx="8640720" cy="2665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ahoma"/>
              </a:rPr>
              <a:t>Из каждого ряда слов выпиши слово с приставк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Tahoma"/>
              </a:rPr>
              <a:t>Выдели пристав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-289080" y="2626920"/>
            <a:ext cx="1008072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1. Подбери однокоренные слова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                </a:t>
            </a: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2. Укажи корень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                </a:t>
            </a: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3. Отметь часть слова перед корнем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                    </a:t>
            </a: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Это приставка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                </a:t>
            </a:r>
            <a:r>
              <a:rPr b="1" lang="ru-RU" sz="3500" spc="-1" strike="noStrike">
                <a:solidFill>
                  <a:srgbClr val="f8f86e"/>
                </a:solidFill>
                <a:latin typeface="Times New Roman"/>
              </a:rPr>
              <a:t>4. Назови приставку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511280" y="0"/>
            <a:ext cx="6624720" cy="2771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Памя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Как найти приста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9:30:22Z</dcterms:created>
  <dc:creator>My_Comp</dc:creator>
  <dc:description/>
  <dc:language>en-US</dc:language>
  <cp:lastModifiedBy>My_Comp</cp:lastModifiedBy>
  <dcterms:modified xsi:type="dcterms:W3CDTF">2010-06-09T12:06:56Z</dcterms:modified>
  <cp:revision>4</cp:revision>
  <dc:subject/>
  <dc:title>Слайд 1</dc:title>
</cp:coreProperties>
</file>