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AC8-1E94-4862-AD1B-B6797812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FDB-E0E0-47CF-B4AA-322CFF98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ECB-5D13-4C55-81DF-C4AE5F07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880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5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27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880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5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134-25F4-449A-9782-E58574C3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4C5DF-2BF3-4E77-863A-EBB78348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68C41-6F4F-40E0-9237-B3652940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F8555-35C1-4F42-A6AD-505D16DA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1C25C-2B6C-4449-96FF-221E4894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A301A-AB38-4447-913F-AA1BD329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5640" y="2201760"/>
            <a:ext cx="8569440" cy="731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3CBAF-A0E7-4B83-843F-2F115058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E37DB-C092-4920-A52F-E93B54E4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EEA-E48A-4778-9A24-A3516952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E9D75-7C69-46CE-A9FD-8E3E2BC5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AA59F-9D24-4209-935F-48E4A53B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BE487-26E9-482E-9BDD-CEAC61D8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8F3D6-4484-467A-9B63-36F075FB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9880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45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127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9880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845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7EFBA-391D-4AA6-8D0E-EA16963D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250-792F-425F-8937-48294B9B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F8A-FE8C-4702-A90A-62987975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51E-329B-46A7-903A-44F937B5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640" y="2201760"/>
            <a:ext cx="8569440" cy="731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05C-1839-4DCF-BE55-ABEB277E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801-CBA5-4D9E-ABA0-5497F2A5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877-951A-48CE-BF64-E45D4893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B5C-4E92-4603-90A5-0D0773E5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CB761F11-57E2-42FC-84F5-2BA97F3EBE17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3090960"/>
            <a:ext cx="3240" cy="33447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C88CD8C5-7039-401D-8574-DB1F80C5F388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008000" algn="ctr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1511280" algn="ctr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4" marL="2016000" algn="ctr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5" marL="20160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6" marL="20160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-360" y="-181080"/>
            <a:ext cx="10225080" cy="774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ru-RU" sz="3500" spc="-1" strike="noStrike">
                <a:solidFill>
                  <a:srgbClr val="010199"/>
                </a:solidFill>
                <a:latin typeface="Times New Roman"/>
              </a:rPr>
              <a:t>Приставки русского языка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0" lang="ru-RU" sz="3500" spc="-1" strike="noStrike">
                <a:solidFill>
                  <a:srgbClr val="010199"/>
                </a:solidFill>
                <a:latin typeface="Times New Roman"/>
              </a:rPr>
              <a:t>в-(во-)(взо-)                 вы-                       до-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0" lang="ru-RU" sz="3500" spc="-1" strike="noStrike">
                <a:solidFill>
                  <a:srgbClr val="010199"/>
                </a:solidFill>
                <a:latin typeface="Times New Roman"/>
              </a:rPr>
              <a:t>за-(изо-)                       ко-                        на-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0" lang="ru-RU" sz="3500" spc="-1" strike="noStrike">
                <a:solidFill>
                  <a:srgbClr val="010199"/>
                </a:solidFill>
                <a:latin typeface="Times New Roman"/>
              </a:rPr>
              <a:t>над-(надо-)                  не-(недо-)            о-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0" lang="ru-RU" sz="3500" spc="-1" strike="noStrike">
                <a:solidFill>
                  <a:srgbClr val="010199"/>
                </a:solidFill>
                <a:latin typeface="Times New Roman"/>
              </a:rPr>
              <a:t>об-(обо-)                      от-(ото-)              па-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0" lang="ru-RU" sz="3500" spc="-1" strike="noStrike">
                <a:solidFill>
                  <a:srgbClr val="010199"/>
                </a:solidFill>
                <a:latin typeface="Times New Roman"/>
              </a:rPr>
              <a:t>по-                                под-(подо-)         пра-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0" lang="ru-RU" sz="3500" spc="-1" strike="noStrike">
                <a:solidFill>
                  <a:srgbClr val="010199"/>
                </a:solidFill>
                <a:latin typeface="Times New Roman"/>
              </a:rPr>
              <a:t>пред-(предо-)              про-                      разо-                  с-(со-)                           су-                        у- 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0" lang="ru-RU" sz="3500" spc="-1" strike="noStrike">
                <a:solidFill>
                  <a:srgbClr val="010199"/>
                </a:solidFill>
                <a:latin typeface="Times New Roman"/>
              </a:rPr>
              <a:t>без-(бес-)                     вз-(вс-)                 воз-(вос-)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0" lang="ru-RU" sz="3500" spc="-1" strike="noStrike">
                <a:solidFill>
                  <a:srgbClr val="010199"/>
                </a:solidFill>
                <a:latin typeface="Times New Roman"/>
              </a:rPr>
              <a:t>из-(ис-)                         низ-(нис-)            раз-(рас-)  роз-(рос-)                     через-(черес-)      пре- и при-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5221440" cy="4140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040360" y="0"/>
            <a:ext cx="5221080" cy="755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0" y="4140360"/>
            <a:ext cx="50403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416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ffff00"/>
                </a:solidFill>
                <a:latin typeface="Times New Roman"/>
              </a:rPr>
              <a:t>Проверь свой тест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2099880"/>
            <a:ext cx="44276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3000"/>
          </a:bodyPr>
          <a:p>
            <a:pPr marL="351360" indent="-351360">
              <a:lnSpc>
                <a:spcPct val="95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Правильные ответы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5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1 — а,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5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2 — б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5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3 — б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5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4 — в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5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5 — б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5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6 — а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5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7 — б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600360" y="2627280"/>
            <a:ext cx="6120000" cy="4105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4586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ahoma"/>
              </a:rPr>
              <a:t>7 ответов — «5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586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ahoma"/>
              </a:rPr>
              <a:t>6 — 5 ответов - «4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586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ahoma"/>
              </a:rPr>
              <a:t>4 — 1 ответ — будь внимателе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-181080"/>
            <a:ext cx="10080720" cy="7740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3600" y="312480"/>
            <a:ext cx="906948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ru-RU" sz="4900" spc="-1" strike="noStrike">
                <a:solidFill>
                  <a:srgbClr val="ff3300"/>
                </a:solidFill>
                <a:latin typeface="Times New Roman"/>
              </a:rPr>
              <a:t>Спасибо за работу!</a:t>
            </a:r>
            <a:br>
              <a:rPr sz="4900"/>
            </a:br>
            <a:r>
              <a:rPr b="1" lang="ru-RU" sz="4900" spc="-1" strike="noStrike">
                <a:solidFill>
                  <a:srgbClr val="ff3300"/>
                </a:solidFill>
                <a:latin typeface="Times New Roman"/>
              </a:rPr>
              <a:t>Молодцы!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РУССКИЙ ЯЗЫК 3 КЛАСС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Подготовила учитель начальных классов Дзибло Варвара Михайловна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МОУ «Гимназия» Г.Новозыбкова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2009-2010 учебный год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60000" y="539640"/>
            <a:ext cx="9396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осень        трава      листья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66ff66"/>
                </a:solidFill>
                <a:latin typeface="Times New Roman"/>
              </a:rPr>
              <a:t>о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сень</a:t>
            </a: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тр</a:t>
            </a:r>
            <a:r>
              <a:rPr b="1" lang="ru-RU" sz="3500" spc="-1" strike="noStrike">
                <a:solidFill>
                  <a:srgbClr val="66ff66"/>
                </a:solidFill>
                <a:latin typeface="Times New Roman"/>
              </a:rPr>
              <a:t>а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ва</a:t>
            </a: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ru-RU" sz="3500" spc="-1" strike="noStrike">
                <a:solidFill>
                  <a:srgbClr val="66ff66"/>
                </a:solidFill>
                <a:latin typeface="Times New Roman"/>
              </a:rPr>
              <a:t>и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стья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5000"/>
              </a:lnSpc>
              <a:spcBef>
                <a:spcPts val="13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О               </a:t>
            </a:r>
            <a:r>
              <a:rPr b="1" lang="ru-RU" sz="53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53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53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9080" y="320760"/>
            <a:ext cx="9610560" cy="68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носом (в) землю посту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м...хнёт крылом и закр...ч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...чит он даже со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...кун неуг...мо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9080" y="320760"/>
            <a:ext cx="9610560" cy="68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носом в землю посту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м</a:t>
            </a:r>
            <a:r>
              <a:rPr b="1" lang="ru-RU" sz="3200" spc="-1" strike="noStrike">
                <a:solidFill>
                  <a:srgbClr val="00ae00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нёт крылом и закр</a:t>
            </a:r>
            <a:r>
              <a:rPr b="1" lang="ru-RU" sz="3200" spc="-1" strike="noStrike">
                <a:solidFill>
                  <a:srgbClr val="00ae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1" lang="ru-RU" sz="3200" spc="-1" strike="noStrike">
                <a:solidFill>
                  <a:srgbClr val="00ae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т он даже со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1" lang="ru-RU" sz="3200" spc="-1" strike="noStrike">
                <a:solidFill>
                  <a:srgbClr val="00ae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н неуг</a:t>
            </a:r>
            <a:r>
              <a:rPr b="1" lang="ru-RU" sz="3200" spc="-1" strike="noStrike">
                <a:solidFill>
                  <a:srgbClr val="00ae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3203640"/>
            <a:ext cx="898560" cy="360360"/>
          </a:xfrm>
          <a:prstGeom prst="blockArc">
            <a:avLst>
              <a:gd name="adj1" fmla="val 10105789"/>
              <a:gd name="adj2" fmla="val 694211"/>
              <a:gd name="adj3" fmla="val 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0720" y="3635280"/>
            <a:ext cx="898560" cy="360360"/>
          </a:xfrm>
          <a:prstGeom prst="blockArc">
            <a:avLst>
              <a:gd name="adj1" fmla="val 10105789"/>
              <a:gd name="adj2" fmla="val 694211"/>
              <a:gd name="adj3" fmla="val 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0720" y="4140360"/>
            <a:ext cx="898560" cy="360360"/>
          </a:xfrm>
          <a:prstGeom prst="blockArc">
            <a:avLst>
              <a:gd name="adj1" fmla="val 10105789"/>
              <a:gd name="adj2" fmla="val 694211"/>
              <a:gd name="adj3" fmla="val 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0360" y="181080"/>
            <a:ext cx="9178920" cy="26985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24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Times New Roman"/>
              </a:rPr>
              <a:t>Тема урок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3564000"/>
            <a:ext cx="9252000" cy="3241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24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Times New Roman"/>
              </a:rPr>
              <a:t>Общее понятие о приставке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78200" y="539640"/>
            <a:ext cx="4502160" cy="1979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ст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0360" y="3240000"/>
            <a:ext cx="2160720" cy="1800360"/>
          </a:xfrm>
          <a:prstGeom prst="wedgeEllipseCallout">
            <a:avLst>
              <a:gd name="adj1" fmla="val 108805"/>
              <a:gd name="adj2" fmla="val -9211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асть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4680000"/>
            <a:ext cx="2158920" cy="1800000"/>
          </a:xfrm>
          <a:prstGeom prst="wedgeEllipseCallout">
            <a:avLst>
              <a:gd name="adj1" fmla="val 34666"/>
              <a:gd name="adj2" fmla="val -17619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56360" y="5219640"/>
            <a:ext cx="2771640" cy="2160720"/>
          </a:xfrm>
          <a:prstGeom prst="wedgeEllipseCallout">
            <a:avLst>
              <a:gd name="adj1" fmla="val -31912"/>
              <a:gd name="adj2" fmla="val -18617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у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ля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овых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61440" y="3419640"/>
            <a:ext cx="2158920" cy="1800000"/>
          </a:xfrm>
          <a:prstGeom prst="wedgeEllipseCallout">
            <a:avLst>
              <a:gd name="adj1" fmla="val -100453"/>
              <a:gd name="adj2" fmla="val -10618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ер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р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0" y="5759280"/>
            <a:ext cx="900360" cy="360360"/>
          </a:xfrm>
          <a:custGeom>
            <a:avLst/>
            <a:gdLst/>
            <a:ahLst/>
            <a:rect l="l" t="t" r="r" b="b"/>
            <a:pathLst>
              <a:path w="2501" h="1001">
                <a:moveTo>
                  <a:pt x="0" y="0"/>
                </a:moveTo>
                <a:lnTo>
                  <a:pt x="2500" y="0"/>
                </a:lnTo>
                <a:lnTo>
                  <a:pt x="2500" y="1000"/>
                </a:lnTo>
                <a:lnTo>
                  <a:pt x="2500" y="0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02920" y="1800360"/>
            <a:ext cx="907092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Город, городок, пригород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Подснежник, снег, снежок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Забег, завод, замок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След, свет, сход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719280" y="250920"/>
            <a:ext cx="8640720" cy="2665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ahoma"/>
              </a:rPr>
              <a:t>Из каждого ряда слов выпиши слово с приставк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Tahoma"/>
              </a:rPr>
              <a:t>Выдели пристав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-289080" y="2626920"/>
            <a:ext cx="1008072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1. Подбери однокоренные слова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                </a:t>
            </a: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2. Укажи корень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                </a:t>
            </a: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3. Отметь часть слова перед корнем.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                    </a:t>
            </a: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Это приставка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                </a:t>
            </a: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4. Назови приставку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511280" y="0"/>
            <a:ext cx="6624720" cy="2771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Памя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Как найти пристав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9:30:22Z</dcterms:created>
  <dc:creator>My_Comp</dc:creator>
  <dc:description/>
  <dc:language>en-US</dc:language>
  <cp:lastModifiedBy>My_Comp</cp:lastModifiedBy>
  <dcterms:modified xsi:type="dcterms:W3CDTF">2010-06-09T12:06:56Z</dcterms:modified>
  <cp:revision>4</cp:revision>
  <dc:subject/>
  <dc:title>Слайд 1</dc:title>
</cp:coreProperties>
</file>