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6D6-9EA3-42D0-9989-D8F6F658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0FA-2F63-4136-8EEE-417C230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FEF-BFDC-4BC3-B4CF-508D03B6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4A5-6670-46F9-8AAE-C8489609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FA0B-C853-4DE6-BB84-7277D647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F9C-329D-4FFF-830B-D1A96ACA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059-F642-40D5-A86D-FD8BB45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941D-8AD9-477F-91D4-3A5CB4B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BFCD-1D2F-4DE4-A2FD-5862B806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FFFF-B339-469B-972F-2356B4E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4BAD-9B05-4D3E-816D-F451BC5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8C0-D92B-462A-AF74-D0E44C93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254-A665-44E3-B5A4-9EBB3A6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F07B-193F-4B4B-B000-D36C439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30E-8A08-4436-9E26-412A72E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B331-8CCA-4F35-8C80-8E6C1A0B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003-96E3-4A74-A749-E40E3072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757-C2F0-41B5-A13F-D9777D3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8DB-541D-4DEA-B39F-A019F7A4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6FA-8BE6-43C9-9EBD-70ADFB4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E0D-FFD0-4D45-A0A1-5C73A0E0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552-24B2-4104-8E95-FDA8593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5D4-7B03-41CC-A394-BE59694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D20-8213-435A-B0CB-718F902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F32D-3B96-4AE6-8C80-2EE175690ED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E34-42A3-4477-AFDF-3A0DD7B812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5560" y="260280"/>
            <a:ext cx="83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звенел, друзья, звон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инается ур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900000" y="2276640"/>
            <a:ext cx="712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4" descr="2bb644c8602637be2f0248de281c999f"/>
          <p:cNvPicPr/>
          <p:nvPr/>
        </p:nvPicPr>
        <p:blipFill>
          <a:blip r:embed="rId1"/>
          <a:stretch/>
        </p:blipFill>
        <p:spPr>
          <a:xfrm>
            <a:off x="6084720" y="4581360"/>
            <a:ext cx="2880000" cy="205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ни</a:t>
            </a:r>
            <a:br>
              <a:rPr sz="25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Содержимое 6" descr="0_629fd_b638f002_XL.jpeg"/>
          <p:cNvPicPr/>
          <p:nvPr/>
        </p:nvPicPr>
        <p:blipFill>
          <a:blip r:embed="rId1"/>
          <a:stretch/>
        </p:blipFill>
        <p:spPr>
          <a:xfrm>
            <a:off x="2771640" y="2362320"/>
            <a:ext cx="54007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Прямая соединительная линия 4"/>
          <p:cNvSpPr/>
          <p:nvPr/>
        </p:nvSpPr>
        <p:spPr>
          <a:xfrm flipH="1">
            <a:off x="971280" y="333360"/>
            <a:ext cx="14436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30492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жилая часть дома, соединяющая жилое помещение с улиц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Эврика.ру - EveryQA.ru :: Вопросы :: Какие существуют законы…"/>
          <p:cNvPicPr/>
          <p:nvPr/>
        </p:nvPicPr>
        <p:blipFill>
          <a:blip r:embed="rId1"/>
          <a:stretch/>
        </p:blipFill>
        <p:spPr>
          <a:xfrm>
            <a:off x="0" y="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Готов ли Ваш ребенок к школе. - Сайт Татьяны Шамоновой"/>
          <p:cNvPicPr/>
          <p:nvPr/>
        </p:nvPicPr>
        <p:blipFill>
          <a:blip r:embed="rId2"/>
          <a:stretch/>
        </p:blipFill>
        <p:spPr>
          <a:xfrm>
            <a:off x="3886200" y="32767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исьмо учител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я узна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ом уроке я похвалил(а)  бы себя за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урока мне захотелось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я суме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8"/>
          <p:cNvPicPr/>
          <p:nvPr/>
        </p:nvPicPr>
        <p:blipFill>
          <a:blip r:embed="rId1"/>
          <a:stretch/>
        </p:blipFill>
        <p:spPr>
          <a:xfrm>
            <a:off x="2209680" y="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-154080" y="3276720"/>
            <a:ext cx="90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к наш окончен и выполнен план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асибо, ребята, огромное  вам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 то, что упорно, усердно трудилис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знания ваши нам всем пригодилис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52120" y="18288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ассказ, ответьте на вопросы учебника (по желанию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 самого интересного момента  в рассказ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 иллюстрацию, побыть в роли художника- анима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с родителями  чтение диалога по рол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62120" y="2590920"/>
          <a:ext cx="7675560" cy="1763640"/>
        </p:xfrm>
        <a:graphic>
          <a:graphicData uri="http://schemas.openxmlformats.org/drawingml/2006/table">
            <a:tbl>
              <a:tblPr/>
              <a:tblGrid>
                <a:gridCol w="907920"/>
                <a:gridCol w="907920"/>
                <a:gridCol w="906480"/>
                <a:gridCol w="770040"/>
                <a:gridCol w="1046160"/>
                <a:gridCol w="1046160"/>
                <a:gridCol w="104472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6"/>
          <p:cNvSpPr/>
          <p:nvPr/>
        </p:nvSpPr>
        <p:spPr>
          <a:xfrm>
            <a:off x="900000" y="32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074960" y="3286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790000" y="3357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431960" y="3357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638680" y="32860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7504920" y="3429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0" descr="Городские олимпиады по математике 4 класс с ответами 2013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Скачать домашнее задание"/>
          <p:cNvPicPr/>
          <p:nvPr/>
        </p:nvPicPr>
        <p:blipFill>
          <a:blip r:embed="rId2"/>
          <a:stretch/>
        </p:blipFill>
        <p:spPr>
          <a:xfrm>
            <a:off x="5029200" y="449568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250920" y="1557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шный рассказ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19320" y="3068640"/>
            <a:ext cx="3105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914400" y="3049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Иванович Чаруш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86240" y="274680"/>
            <a:ext cx="34005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Евгений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ванович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Чаруши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C:\Documents and Settings\Admin\Мои документы\Мои рисунки\charushin_e._i.-1.jpg"/>
          <p:cNvPicPr/>
          <p:nvPr/>
        </p:nvPicPr>
        <p:blipFill>
          <a:blip r:embed="rId1"/>
          <a:stretch/>
        </p:blipFill>
        <p:spPr>
          <a:xfrm>
            <a:off x="658800" y="55440"/>
            <a:ext cx="4675320" cy="8607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929120" y="5572080"/>
            <a:ext cx="42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01-1965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28600" y="8848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.И. Чарушин очень любил животных, наблюдал за ними и бережно к ним онтосился. Он написал для нас очень много произведений о живот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2" descr="C:\Documents and Settings\Admin\Мои документы\Мои рисунки\i_bianki-malish_2.jpg"/>
          <p:cNvPicPr/>
          <p:nvPr/>
        </p:nvPicPr>
        <p:blipFill>
          <a:blip r:embed="rId1"/>
          <a:stretch/>
        </p:blipFill>
        <p:spPr>
          <a:xfrm>
            <a:off x="5572080" y="3006720"/>
            <a:ext cx="3333960" cy="365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Мои документы\Мои рисунки\i_rasskazki-charushin_1.jpg"/>
          <p:cNvPicPr/>
          <p:nvPr/>
        </p:nvPicPr>
        <p:blipFill>
          <a:blip r:embed="rId2"/>
          <a:stretch/>
        </p:blipFill>
        <p:spPr>
          <a:xfrm>
            <a:off x="1143000" y="3429000"/>
            <a:ext cx="3571920" cy="22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BezhalEzhik1.jpg"/>
          <p:cNvPicPr/>
          <p:nvPr/>
        </p:nvPicPr>
        <p:blipFill>
          <a:blip r:embed="rId1"/>
          <a:stretch/>
        </p:blipFill>
        <p:spPr>
          <a:xfrm>
            <a:off x="4427640" y="189000"/>
            <a:ext cx="2376360" cy="3260520"/>
          </a:xfrm>
          <a:prstGeom prst="rect">
            <a:avLst/>
          </a:prstGeom>
          <a:ln w="9360">
            <a:solidFill>
              <a:srgbClr val="a6a6a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Рисунок 6" descr="Vorobishko1.jpg"/>
          <p:cNvPicPr/>
          <p:nvPr/>
        </p:nvPicPr>
        <p:blipFill>
          <a:blip r:embed="rId2"/>
          <a:stretch/>
        </p:blipFill>
        <p:spPr>
          <a:xfrm>
            <a:off x="250920" y="189000"/>
            <a:ext cx="25016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4" name="Рисунок 7" descr="Schenok1.jpg"/>
          <p:cNvPicPr/>
          <p:nvPr/>
        </p:nvPicPr>
        <p:blipFill>
          <a:blip r:embed="rId3"/>
          <a:stretch/>
        </p:blipFill>
        <p:spPr>
          <a:xfrm>
            <a:off x="6516720" y="3357720"/>
            <a:ext cx="22622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" name="Рисунок 8" descr="imgv158.jpg"/>
          <p:cNvPicPr/>
          <p:nvPr/>
        </p:nvPicPr>
        <p:blipFill>
          <a:blip r:embed="rId4"/>
          <a:stretch/>
        </p:blipFill>
        <p:spPr>
          <a:xfrm>
            <a:off x="1908000" y="3429000"/>
            <a:ext cx="263232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2028.jpg"/>
          <p:cNvPicPr/>
          <p:nvPr/>
        </p:nvPicPr>
        <p:blipFill>
          <a:blip r:embed="rId1"/>
          <a:stretch/>
        </p:blipFill>
        <p:spPr>
          <a:xfrm>
            <a:off x="0" y="0"/>
            <a:ext cx="2629080" cy="36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Рисунок 2" descr="2084.jpg"/>
          <p:cNvPicPr/>
          <p:nvPr/>
        </p:nvPicPr>
        <p:blipFill>
          <a:blip r:embed="rId2"/>
          <a:stretch/>
        </p:blipFill>
        <p:spPr>
          <a:xfrm>
            <a:off x="3232080" y="0"/>
            <a:ext cx="267984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Рисунок 3" descr="201977.jpg"/>
          <p:cNvPicPr/>
          <p:nvPr/>
        </p:nvPicPr>
        <p:blipFill>
          <a:blip r:embed="rId3"/>
          <a:stretch/>
        </p:blipFill>
        <p:spPr>
          <a:xfrm>
            <a:off x="6283440" y="0"/>
            <a:ext cx="286056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Рисунок 4" descr="book_118.jpg"/>
          <p:cNvPicPr/>
          <p:nvPr/>
        </p:nvPicPr>
        <p:blipFill>
          <a:blip r:embed="rId4"/>
          <a:stretch/>
        </p:blipFill>
        <p:spPr>
          <a:xfrm>
            <a:off x="2050920" y="3762360"/>
            <a:ext cx="20750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Рисунок 5" descr="charushin-protomku.jpg"/>
          <p:cNvPicPr/>
          <p:nvPr/>
        </p:nvPicPr>
        <p:blipFill>
          <a:blip r:embed="rId5"/>
          <a:stretch/>
        </p:blipFill>
        <p:spPr>
          <a:xfrm>
            <a:off x="4859280" y="3789360"/>
            <a:ext cx="211320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итай целыми слова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-та-лись         оста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м-не-ло         стемнел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-тель-ки        постель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-до-е-дов        людоед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-ко-ди-лов     крокодил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-кры-лись         закры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ул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ая соединительная линия 3"/>
          <p:cNvSpPr/>
          <p:nvPr/>
        </p:nvSpPr>
        <p:spPr>
          <a:xfrm flipH="1">
            <a:off x="1258560" y="404640"/>
            <a:ext cx="7308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87280" y="2362320"/>
            <a:ext cx="3156120" cy="4047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3528720" cy="234180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sp>
        <p:nvSpPr>
          <p:cNvPr id="187" name="Прямоугольник 10"/>
          <p:cNvSpPr/>
          <p:nvPr/>
        </p:nvSpPr>
        <p:spPr>
          <a:xfrm>
            <a:off x="380880" y="10666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большое отгороженное помещение в жилом доме, обычно служащее кладовой (для вещей, съестных припас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11-28T14:31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