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2.gif" ContentType="image/gif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E2F9-A7AC-44C8-A316-F6AEF540C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B531-138B-4C00-8E9B-CD3C9FB3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6CA5-F898-4909-AB81-C8D7CF0A3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9A18-FD5B-490E-96B0-CB4B4F0EA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D3FE-AEA0-469F-AC13-457FE0213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931A-1673-45A6-978F-10ED1D54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F665-2F31-4AD3-A683-B8B765AB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E3CA-7CA0-4ACA-A18D-C9835ACE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E66E-3412-4E19-9908-14817D88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34C5-53BF-443F-A919-317AD562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7363-E652-4192-BD71-D7746F1C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1878-0674-4E6B-9D80-19B8387B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B3C0-EA27-492D-90C6-6705A32E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536A-43EE-4CD8-A9CA-687E4173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EBFE-A417-49A0-ABE8-3DB9ACA9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3C25-45FE-49D1-A753-474C2DEB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6E65-3BDA-493A-A69B-74603608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8B1B-B28F-42F1-BD19-301DD3D2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7A4D-66F3-4D41-A52C-4956C0F4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785C-D36B-4F3B-B353-DAB91D17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D439-34B8-426A-B314-56B8BCEC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5A71-9EB3-4B1E-AF09-623A975B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943D-4F85-4FA8-9DAA-3CD623CB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CCB7-179A-4C68-8325-891900BD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3E73-46A4-4AE4-A11C-6B92624DD61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>
                    <a:gd name="textAreaLeft" fmla="*/ 0 w 427680"/>
                    <a:gd name="textAreaRight" fmla="*/ 428040 w 4276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>
                    <a:gd name="textAreaLeft" fmla="*/ 0 w 803160"/>
                    <a:gd name="textAreaRight" fmla="*/ 803520 w 8031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>
                    <a:gd name="textAreaLeft" fmla="*/ 0 w 1205640"/>
                    <a:gd name="textAreaRight" fmla="*/ 1206000 w 1205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7BD5-2A44-419E-809C-7BC35BC693E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475560" y="260280"/>
            <a:ext cx="837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розвенел, друзья, звонок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ачинается урок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WordArt 3"/>
          <p:cNvSpPr txBox="1"/>
          <p:nvPr/>
        </p:nvSpPr>
        <p:spPr>
          <a:xfrm>
            <a:off x="900000" y="2276640"/>
            <a:ext cx="7129440" cy="26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b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b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итературное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b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b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е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b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3" name="Picture 4" descr="2bb644c8602637be2f0248de281c999f"/>
          <p:cNvPicPr/>
          <p:nvPr/>
        </p:nvPicPr>
        <p:blipFill>
          <a:blip r:embed="rId1"/>
          <a:stretch/>
        </p:blipFill>
        <p:spPr>
          <a:xfrm>
            <a:off x="6084720" y="4581360"/>
            <a:ext cx="2880000" cy="2055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ени</a:t>
            </a:r>
            <a:br>
              <a:rPr sz="25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Содержимое 6" descr="0_629fd_b638f002_XL.jpeg"/>
          <p:cNvPicPr/>
          <p:nvPr/>
        </p:nvPicPr>
        <p:blipFill>
          <a:blip r:embed="rId1"/>
          <a:stretch/>
        </p:blipFill>
        <p:spPr>
          <a:xfrm>
            <a:off x="2771640" y="2362320"/>
            <a:ext cx="5400720" cy="41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0" name="Прямая соединительная линия 4"/>
          <p:cNvSpPr/>
          <p:nvPr/>
        </p:nvSpPr>
        <p:spPr>
          <a:xfrm flipH="1">
            <a:off x="971280" y="333360"/>
            <a:ext cx="144360" cy="287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Прямоугольник 8"/>
          <p:cNvSpPr/>
          <p:nvPr/>
        </p:nvSpPr>
        <p:spPr>
          <a:xfrm>
            <a:off x="30492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жилая часть дома, соединяющая жилое помещение с улиц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Эврика.ру - EveryQA.ru :: Вопросы :: Какие существуют законы…"/>
          <p:cNvPicPr/>
          <p:nvPr/>
        </p:nvPicPr>
        <p:blipFill>
          <a:blip r:embed="rId1"/>
          <a:stretch/>
        </p:blipFill>
        <p:spPr>
          <a:xfrm>
            <a:off x="0" y="0"/>
            <a:ext cx="3962520" cy="3429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Готов ли Ваш ребенок к школе. - Сайт Татьяны Шамоновой"/>
          <p:cNvPicPr/>
          <p:nvPr/>
        </p:nvPicPr>
        <p:blipFill>
          <a:blip r:embed="rId2"/>
          <a:stretch/>
        </p:blipFill>
        <p:spPr>
          <a:xfrm>
            <a:off x="3886200" y="3276720"/>
            <a:ext cx="4572000" cy="3352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исьмо учител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годня на уроке я узнал(а)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этом уроке я похвалил(а)  бы себя за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сле урока мне захотелось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годня я сумел(а)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3" descr="8"/>
          <p:cNvPicPr/>
          <p:nvPr/>
        </p:nvPicPr>
        <p:blipFill>
          <a:blip r:embed="rId1"/>
          <a:stretch/>
        </p:blipFill>
        <p:spPr>
          <a:xfrm>
            <a:off x="2209680" y="0"/>
            <a:ext cx="3673440" cy="36734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"/>
          <p:cNvSpPr/>
          <p:nvPr/>
        </p:nvSpPr>
        <p:spPr>
          <a:xfrm>
            <a:off x="-154080" y="3276720"/>
            <a:ext cx="900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Урок наш окончен и выполнен план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пасибо, ребята, огромное  вам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 то, что упорно, усердно трудились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И знания ваши нам всем пригодились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752120" y="182880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37040" indent="-43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рассказ, ответьте на вопросы учебника (по желанию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37040" indent="-43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каз  самого интересного момента  в рассказ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37040" indent="-43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овать  иллюстрацию, побыть в роли художника- анималис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37040" indent="-43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ьте с родителями  чтение диалога по роля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37040" indent="-43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рассказ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762120" y="2590920"/>
          <a:ext cx="7675560" cy="1763640"/>
        </p:xfrm>
        <a:graphic>
          <a:graphicData uri="http://schemas.openxmlformats.org/drawingml/2006/table">
            <a:tbl>
              <a:tblPr/>
              <a:tblGrid>
                <a:gridCol w="907920"/>
                <a:gridCol w="907920"/>
                <a:gridCol w="906480"/>
                <a:gridCol w="770040"/>
                <a:gridCol w="1046160"/>
                <a:gridCol w="1046160"/>
                <a:gridCol w="1044720"/>
                <a:gridCol w="1046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5" name="Прямоугольник 6"/>
          <p:cNvSpPr/>
          <p:nvPr/>
        </p:nvSpPr>
        <p:spPr>
          <a:xfrm>
            <a:off x="900000" y="3284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1074960" y="328608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790000" y="335772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4431960" y="335772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Box 14"/>
          <p:cNvSpPr/>
          <p:nvPr/>
        </p:nvSpPr>
        <p:spPr>
          <a:xfrm>
            <a:off x="5638680" y="328608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15"/>
          <p:cNvSpPr/>
          <p:nvPr/>
        </p:nvSpPr>
        <p:spPr>
          <a:xfrm>
            <a:off x="7504920" y="342900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30" descr="Городские олимпиады по математике 4 класс с ответами 2013"/>
          <p:cNvPicPr/>
          <p:nvPr/>
        </p:nvPicPr>
        <p:blipFill>
          <a:blip r:embed="rId1"/>
          <a:stretch/>
        </p:blipFill>
        <p:spPr>
          <a:xfrm>
            <a:off x="228600" y="152280"/>
            <a:ext cx="3124080" cy="2286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2" descr="Скачать домашнее задание"/>
          <p:cNvPicPr/>
          <p:nvPr/>
        </p:nvPicPr>
        <p:blipFill>
          <a:blip r:embed="rId2"/>
          <a:stretch/>
        </p:blipFill>
        <p:spPr>
          <a:xfrm>
            <a:off x="5029200" y="449568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2"/>
          <p:cNvSpPr/>
          <p:nvPr/>
        </p:nvSpPr>
        <p:spPr>
          <a:xfrm>
            <a:off x="250920" y="155736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ашный рассказ»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Рисунок 3" descr=""/>
          <p:cNvPicPr/>
          <p:nvPr/>
        </p:nvPicPr>
        <p:blipFill>
          <a:blip r:embed="rId1"/>
          <a:stretch/>
        </p:blipFill>
        <p:spPr>
          <a:xfrm>
            <a:off x="3019320" y="3068640"/>
            <a:ext cx="3105360" cy="342900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5"/>
          <p:cNvSpPr/>
          <p:nvPr/>
        </p:nvSpPr>
        <p:spPr>
          <a:xfrm>
            <a:off x="914400" y="30492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гений Иванович Чарушин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286240" y="274680"/>
            <a:ext cx="340056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Евгений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Иванович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Чарушин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2" descr="C:\Documents and Settings\Admin\Мои документы\Мои рисунки\charushin_e._i.-1.jpg"/>
          <p:cNvPicPr/>
          <p:nvPr/>
        </p:nvPicPr>
        <p:blipFill>
          <a:blip r:embed="rId1"/>
          <a:stretch/>
        </p:blipFill>
        <p:spPr>
          <a:xfrm>
            <a:off x="658800" y="55440"/>
            <a:ext cx="4675320" cy="86076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/>
          <p:cNvSpPr/>
          <p:nvPr/>
        </p:nvSpPr>
        <p:spPr>
          <a:xfrm>
            <a:off x="4929120" y="5572080"/>
            <a:ext cx="421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(1901-1965)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228600" y="884880"/>
            <a:ext cx="807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.И. Чарушин очень любил животных, наблюдал за ними и бережно к ним онтосился. Он написал для нас очень много произведений о животны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2" descr="C:\Documents and Settings\Admin\Мои документы\Мои рисунки\i_bianki-malish_2.jpg"/>
          <p:cNvPicPr/>
          <p:nvPr/>
        </p:nvPicPr>
        <p:blipFill>
          <a:blip r:embed="rId1"/>
          <a:stretch/>
        </p:blipFill>
        <p:spPr>
          <a:xfrm>
            <a:off x="5572080" y="3006720"/>
            <a:ext cx="3333960" cy="3651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Documents and Settings\Admin\Мои документы\Мои рисунки\i_rasskazki-charushin_1.jpg"/>
          <p:cNvPicPr/>
          <p:nvPr/>
        </p:nvPicPr>
        <p:blipFill>
          <a:blip r:embed="rId2"/>
          <a:stretch/>
        </p:blipFill>
        <p:spPr>
          <a:xfrm>
            <a:off x="1143000" y="3429000"/>
            <a:ext cx="3571920" cy="2214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4" descr="BezhalEzhik1.jpg"/>
          <p:cNvPicPr/>
          <p:nvPr/>
        </p:nvPicPr>
        <p:blipFill>
          <a:blip r:embed="rId1"/>
          <a:stretch/>
        </p:blipFill>
        <p:spPr>
          <a:xfrm>
            <a:off x="4427640" y="189000"/>
            <a:ext cx="2376360" cy="3260520"/>
          </a:xfrm>
          <a:prstGeom prst="rect">
            <a:avLst/>
          </a:prstGeom>
          <a:ln w="9360">
            <a:solidFill>
              <a:srgbClr val="a6a6a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3" name="Рисунок 6" descr="Vorobishko1.jpg"/>
          <p:cNvPicPr/>
          <p:nvPr/>
        </p:nvPicPr>
        <p:blipFill>
          <a:blip r:embed="rId2"/>
          <a:stretch/>
        </p:blipFill>
        <p:spPr>
          <a:xfrm>
            <a:off x="250920" y="189000"/>
            <a:ext cx="2501640" cy="329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4" name="Рисунок 7" descr="Schenok1.jpg"/>
          <p:cNvPicPr/>
          <p:nvPr/>
        </p:nvPicPr>
        <p:blipFill>
          <a:blip r:embed="rId3"/>
          <a:stretch/>
        </p:blipFill>
        <p:spPr>
          <a:xfrm>
            <a:off x="6516720" y="3357720"/>
            <a:ext cx="2262240" cy="320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5" name="Рисунок 8" descr="imgv158.jpg"/>
          <p:cNvPicPr/>
          <p:nvPr/>
        </p:nvPicPr>
        <p:blipFill>
          <a:blip r:embed="rId4"/>
          <a:stretch/>
        </p:blipFill>
        <p:spPr>
          <a:xfrm>
            <a:off x="1908000" y="3429000"/>
            <a:ext cx="2632320" cy="331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Рисунок 1" descr="2028.jpg"/>
          <p:cNvPicPr/>
          <p:nvPr/>
        </p:nvPicPr>
        <p:blipFill>
          <a:blip r:embed="rId1"/>
          <a:stretch/>
        </p:blipFill>
        <p:spPr>
          <a:xfrm>
            <a:off x="0" y="0"/>
            <a:ext cx="2629080" cy="364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7" name="Рисунок 2" descr="2084.jpg"/>
          <p:cNvPicPr/>
          <p:nvPr/>
        </p:nvPicPr>
        <p:blipFill>
          <a:blip r:embed="rId2"/>
          <a:stretch/>
        </p:blipFill>
        <p:spPr>
          <a:xfrm>
            <a:off x="3232080" y="0"/>
            <a:ext cx="2679840" cy="3716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8" name="Рисунок 3" descr="201977.jpg"/>
          <p:cNvPicPr/>
          <p:nvPr/>
        </p:nvPicPr>
        <p:blipFill>
          <a:blip r:embed="rId3"/>
          <a:stretch/>
        </p:blipFill>
        <p:spPr>
          <a:xfrm>
            <a:off x="6283440" y="0"/>
            <a:ext cx="2860560" cy="3716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9" name="Рисунок 4" descr="book_118.jpg"/>
          <p:cNvPicPr/>
          <p:nvPr/>
        </p:nvPicPr>
        <p:blipFill>
          <a:blip r:embed="rId4"/>
          <a:stretch/>
        </p:blipFill>
        <p:spPr>
          <a:xfrm>
            <a:off x="2050920" y="3762360"/>
            <a:ext cx="2075040" cy="309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0" name="Рисунок 5" descr="charushin-protomku.jpg"/>
          <p:cNvPicPr/>
          <p:nvPr/>
        </p:nvPicPr>
        <p:blipFill>
          <a:blip r:embed="rId5"/>
          <a:stretch/>
        </p:blipFill>
        <p:spPr>
          <a:xfrm>
            <a:off x="4859280" y="3789360"/>
            <a:ext cx="2113200" cy="3068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Читай целыми словам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-та-лись         осталис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м-не-ло         стемнел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-тель-ки        постельк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-до-е-дов        людоед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-ко-ди-лов     крокодил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-кры-лись         закрылис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in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Чулан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Прямая соединительная линия 3"/>
          <p:cNvSpPr/>
          <p:nvPr/>
        </p:nvSpPr>
        <p:spPr>
          <a:xfrm flipH="1">
            <a:off x="1258560" y="404640"/>
            <a:ext cx="73080" cy="21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1187280" y="2362320"/>
            <a:ext cx="3156120" cy="4047840"/>
          </a:xfrm>
          <a:prstGeom prst="rect">
            <a:avLst/>
          </a:prstGeom>
          <a:ln w="28440">
            <a:solidFill>
              <a:srgbClr val="603000"/>
            </a:solidFill>
            <a:miter/>
          </a:ln>
        </p:spPr>
      </p:pic>
      <p:pic>
        <p:nvPicPr>
          <p:cNvPr id="186" name="Picture 8" descr=""/>
          <p:cNvPicPr/>
          <p:nvPr/>
        </p:nvPicPr>
        <p:blipFill>
          <a:blip r:embed="rId2"/>
          <a:stretch/>
        </p:blipFill>
        <p:spPr>
          <a:xfrm>
            <a:off x="5105520" y="3352680"/>
            <a:ext cx="3528720" cy="2341800"/>
          </a:xfrm>
          <a:prstGeom prst="rect">
            <a:avLst/>
          </a:prstGeom>
          <a:ln w="28440">
            <a:solidFill>
              <a:srgbClr val="602600"/>
            </a:solidFill>
            <a:miter/>
          </a:ln>
        </p:spPr>
      </p:pic>
      <p:sp>
        <p:nvSpPr>
          <p:cNvPr id="187" name="Прямоугольник 10"/>
          <p:cNvSpPr/>
          <p:nvPr/>
        </p:nvSpPr>
        <p:spPr>
          <a:xfrm>
            <a:off x="380880" y="1066680"/>
            <a:ext cx="739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большое отгороженное помещение в жилом доме, обычно служащее кладовой (для вещей, съестных припасов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Пользователь</cp:lastModifiedBy>
  <dcterms:modified xsi:type="dcterms:W3CDTF">2017-11-28T14:31:40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