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042-2230-4B2A-BEE5-3EBBF420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F00-F38C-4F98-96BA-7E9949F9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87B8-E80D-4B03-A019-367D5ECA1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C00-FAD5-42AC-BC06-DD5E07F9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9904-DA3B-4469-B585-839EF82A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9A6B-67D5-48F9-822D-384DDD9C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2379-0CF5-4F31-9B93-0A35C45A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3072-8944-49B2-AAD7-ABBA1CFE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D346-D585-432B-9B98-15D11E62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2C8C-4F55-40D9-812D-280F0992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B183-4EEC-44AE-8515-9CA0703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44E-0B4C-4E2D-960A-FF401DC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8201-01D6-4CD1-AF6D-BDF360E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8426-2AFC-44E3-9BE3-756A8535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E42-17C7-457B-AC19-B83F342F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B8BB-65FA-4305-B732-DFD538FD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835D-FF8B-4B45-8DA6-D738AE8A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B53-2EA7-4E48-9C30-55C0550F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BF7-483A-4DA6-88DD-280CB1BF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B266-B18F-4B8B-9580-29B1DDA9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E53-4F1B-4CA1-B08D-1F2D0FAE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F4C-9B03-49F7-9A35-6CA4947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406-42E4-45D4-A510-0AA266E8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8CB-93BF-46B5-B9F9-89DD760B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238D-DD49-44BD-8545-5D8FD670579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>
                    <a:gd name="textAreaLeft" fmla="*/ 0 w 1205640"/>
                    <a:gd name="textAreaRight" fmla="*/ 1206000 w 120564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8673-C930-413D-903E-E3AA54D39EA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75560" y="260280"/>
            <a:ext cx="837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розвенел, друзья, звоно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чинается уро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WordArt 3"/>
          <p:cNvSpPr txBox="1"/>
          <p:nvPr/>
        </p:nvSpPr>
        <p:spPr>
          <a:xfrm>
            <a:off x="900000" y="2276640"/>
            <a:ext cx="71294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тературное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b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b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е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b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3" name="Picture 4" descr="2bb644c8602637be2f0248de281c999f"/>
          <p:cNvPicPr/>
          <p:nvPr/>
        </p:nvPicPr>
        <p:blipFill>
          <a:blip r:embed="rId1"/>
          <a:stretch/>
        </p:blipFill>
        <p:spPr>
          <a:xfrm>
            <a:off x="6084720" y="4581360"/>
            <a:ext cx="2880000" cy="2055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ни</a:t>
            </a:r>
            <a:br>
              <a:rPr sz="25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Содержимое 6" descr="0_629fd_b638f002_XL.jpeg"/>
          <p:cNvPicPr/>
          <p:nvPr/>
        </p:nvPicPr>
        <p:blipFill>
          <a:blip r:embed="rId1"/>
          <a:stretch/>
        </p:blipFill>
        <p:spPr>
          <a:xfrm>
            <a:off x="2771640" y="2362320"/>
            <a:ext cx="540072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90" name="Прямая соединительная линия 4"/>
          <p:cNvSpPr/>
          <p:nvPr/>
        </p:nvSpPr>
        <p:spPr>
          <a:xfrm flipH="1">
            <a:off x="971280" y="333360"/>
            <a:ext cx="144360" cy="28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Прямоугольник 8"/>
          <p:cNvSpPr/>
          <p:nvPr/>
        </p:nvSpPr>
        <p:spPr>
          <a:xfrm>
            <a:off x="304920" y="14479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жилая часть дома, соединяющая жилое помещение с улиц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5" descr="Эврика.ру - EveryQA.ru :: Вопросы :: Какие существуют законы…"/>
          <p:cNvPicPr/>
          <p:nvPr/>
        </p:nvPicPr>
        <p:blipFill>
          <a:blip r:embed="rId1"/>
          <a:stretch/>
        </p:blipFill>
        <p:spPr>
          <a:xfrm>
            <a:off x="0" y="0"/>
            <a:ext cx="3962520" cy="3429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Готов ли Ваш ребенок к школе. - Сайт Татьяны Шамоновой"/>
          <p:cNvPicPr/>
          <p:nvPr/>
        </p:nvPicPr>
        <p:blipFill>
          <a:blip r:embed="rId2"/>
          <a:stretch/>
        </p:blipFill>
        <p:spPr>
          <a:xfrm>
            <a:off x="3886200" y="32767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исьмо учител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на уроке я узнал(а)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этом уроке я похвалил(а)  бы себя за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сле урока мне захотелось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годня я сумел(а)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8"/>
          <p:cNvPicPr/>
          <p:nvPr/>
        </p:nvPicPr>
        <p:blipFill>
          <a:blip r:embed="rId1"/>
          <a:stretch/>
        </p:blipFill>
        <p:spPr>
          <a:xfrm>
            <a:off x="2209680" y="0"/>
            <a:ext cx="3673440" cy="3673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4"/>
          <p:cNvSpPr/>
          <p:nvPr/>
        </p:nvSpPr>
        <p:spPr>
          <a:xfrm>
            <a:off x="-154080" y="3276720"/>
            <a:ext cx="90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рок наш окончен и выполнен план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асибо, ребята, огромное  вам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 то, что упорно, усердно трудились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знания ваши нам всем пригодились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52120" y="18288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рассказ, ответьте на вопросы учебника (по желанию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  самого интересного момента  в рассказ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 иллюстрацию, побыть в роли художника- анимали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ьте с родителями  чтение диалога по роля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сск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762120" y="2590920"/>
          <a:ext cx="7675560" cy="1763640"/>
        </p:xfrm>
        <a:graphic>
          <a:graphicData uri="http://schemas.openxmlformats.org/drawingml/2006/table">
            <a:tbl>
              <a:tblPr/>
              <a:tblGrid>
                <a:gridCol w="907920"/>
                <a:gridCol w="907920"/>
                <a:gridCol w="906480"/>
                <a:gridCol w="770040"/>
                <a:gridCol w="1046160"/>
                <a:gridCol w="1046160"/>
                <a:gridCol w="1044720"/>
                <a:gridCol w="1046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ef66"/>
                      </a:solidFill>
                    </a:lnL>
                    <a:lnR w="5760">
                      <a:solidFill>
                        <a:srgbClr val="ffef66"/>
                      </a:solidFill>
                    </a:lnR>
                    <a:lnT w="5760">
                      <a:solidFill>
                        <a:srgbClr val="ffef66"/>
                      </a:solidFill>
                    </a:lnT>
                    <a:lnB w="5760">
                      <a:solidFill>
                        <a:srgbClr val="ffef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6"/>
          <p:cNvSpPr/>
          <p:nvPr/>
        </p:nvSpPr>
        <p:spPr>
          <a:xfrm>
            <a:off x="900000" y="328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1074960" y="3286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790000" y="335772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4431960" y="33577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5638680" y="32860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7504920" y="342900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30" descr="Городские олимпиады по математике 4 класс с ответами 2013"/>
          <p:cNvPicPr/>
          <p:nvPr/>
        </p:nvPicPr>
        <p:blipFill>
          <a:blip r:embed="rId1"/>
          <a:stretch/>
        </p:blipFill>
        <p:spPr>
          <a:xfrm>
            <a:off x="228600" y="152280"/>
            <a:ext cx="312408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2" descr="Скачать домашнее задание"/>
          <p:cNvPicPr/>
          <p:nvPr/>
        </p:nvPicPr>
        <p:blipFill>
          <a:blip r:embed="rId2"/>
          <a:stretch/>
        </p:blipFill>
        <p:spPr>
          <a:xfrm>
            <a:off x="5029200" y="449568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250920" y="155736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шный рассказ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3" descr=""/>
          <p:cNvPicPr/>
          <p:nvPr/>
        </p:nvPicPr>
        <p:blipFill>
          <a:blip r:embed="rId1"/>
          <a:stretch/>
        </p:blipFill>
        <p:spPr>
          <a:xfrm>
            <a:off x="3019320" y="3068640"/>
            <a:ext cx="3105360" cy="34290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5"/>
          <p:cNvSpPr/>
          <p:nvPr/>
        </p:nvSpPr>
        <p:spPr>
          <a:xfrm>
            <a:off x="914400" y="30492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 Иванович Чарушин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86240" y="274680"/>
            <a:ext cx="3400560" cy="24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Евгений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Иванович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omic Sans MS"/>
              </a:rPr>
              <a:t>Чарушин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2" descr="C:\Documents and Settings\Admin\Мои документы\Мои рисунки\charushin_e._i.-1.jpg"/>
          <p:cNvPicPr/>
          <p:nvPr/>
        </p:nvPicPr>
        <p:blipFill>
          <a:blip r:embed="rId1"/>
          <a:stretch/>
        </p:blipFill>
        <p:spPr>
          <a:xfrm>
            <a:off x="658800" y="55440"/>
            <a:ext cx="4675320" cy="86076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4"/>
          <p:cNvSpPr/>
          <p:nvPr/>
        </p:nvSpPr>
        <p:spPr>
          <a:xfrm>
            <a:off x="4929120" y="5572080"/>
            <a:ext cx="421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(1901-1965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228600" y="884880"/>
            <a:ext cx="807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.И. Чарушин очень любил животных, наблюдал за ними и бережно к ним онтосился. Он написал для нас очень много произведений о живот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2" descr="C:\Documents and Settings\Admin\Мои документы\Мои рисунки\i_bianki-malish_2.jpg"/>
          <p:cNvPicPr/>
          <p:nvPr/>
        </p:nvPicPr>
        <p:blipFill>
          <a:blip r:embed="rId1"/>
          <a:stretch/>
        </p:blipFill>
        <p:spPr>
          <a:xfrm>
            <a:off x="5572080" y="3006720"/>
            <a:ext cx="3333960" cy="3651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Admin\Мои документы\Мои рисунки\i_rasskazki-charushin_1.jpg"/>
          <p:cNvPicPr/>
          <p:nvPr/>
        </p:nvPicPr>
        <p:blipFill>
          <a:blip r:embed="rId2"/>
          <a:stretch/>
        </p:blipFill>
        <p:spPr>
          <a:xfrm>
            <a:off x="1143000" y="3429000"/>
            <a:ext cx="3571920" cy="221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4" descr="BezhalEzhik1.jpg"/>
          <p:cNvPicPr/>
          <p:nvPr/>
        </p:nvPicPr>
        <p:blipFill>
          <a:blip r:embed="rId1"/>
          <a:stretch/>
        </p:blipFill>
        <p:spPr>
          <a:xfrm>
            <a:off x="4427640" y="189000"/>
            <a:ext cx="2376360" cy="3260520"/>
          </a:xfrm>
          <a:prstGeom prst="rect">
            <a:avLst/>
          </a:prstGeom>
          <a:ln w="9360">
            <a:solidFill>
              <a:srgbClr val="a6a6a6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Рисунок 6" descr="Vorobishko1.jpg"/>
          <p:cNvPicPr/>
          <p:nvPr/>
        </p:nvPicPr>
        <p:blipFill>
          <a:blip r:embed="rId2"/>
          <a:stretch/>
        </p:blipFill>
        <p:spPr>
          <a:xfrm>
            <a:off x="250920" y="189000"/>
            <a:ext cx="25016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4" name="Рисунок 7" descr="Schenok1.jpg"/>
          <p:cNvPicPr/>
          <p:nvPr/>
        </p:nvPicPr>
        <p:blipFill>
          <a:blip r:embed="rId3"/>
          <a:stretch/>
        </p:blipFill>
        <p:spPr>
          <a:xfrm>
            <a:off x="6516720" y="3357720"/>
            <a:ext cx="2262240" cy="320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5" name="Рисунок 8" descr="imgv158.jpg"/>
          <p:cNvPicPr/>
          <p:nvPr/>
        </p:nvPicPr>
        <p:blipFill>
          <a:blip r:embed="rId4"/>
          <a:stretch/>
        </p:blipFill>
        <p:spPr>
          <a:xfrm>
            <a:off x="1908000" y="3429000"/>
            <a:ext cx="2632320" cy="33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1" descr="2028.jpg"/>
          <p:cNvPicPr/>
          <p:nvPr/>
        </p:nvPicPr>
        <p:blipFill>
          <a:blip r:embed="rId1"/>
          <a:stretch/>
        </p:blipFill>
        <p:spPr>
          <a:xfrm>
            <a:off x="0" y="0"/>
            <a:ext cx="2629080" cy="36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7" name="Рисунок 2" descr="2084.jpg"/>
          <p:cNvPicPr/>
          <p:nvPr/>
        </p:nvPicPr>
        <p:blipFill>
          <a:blip r:embed="rId2"/>
          <a:stretch/>
        </p:blipFill>
        <p:spPr>
          <a:xfrm>
            <a:off x="3232080" y="0"/>
            <a:ext cx="267984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8" name="Рисунок 3" descr="201977.jpg"/>
          <p:cNvPicPr/>
          <p:nvPr/>
        </p:nvPicPr>
        <p:blipFill>
          <a:blip r:embed="rId3"/>
          <a:stretch/>
        </p:blipFill>
        <p:spPr>
          <a:xfrm>
            <a:off x="6283440" y="0"/>
            <a:ext cx="2860560" cy="3716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9" name="Рисунок 4" descr="book_118.jpg"/>
          <p:cNvPicPr/>
          <p:nvPr/>
        </p:nvPicPr>
        <p:blipFill>
          <a:blip r:embed="rId4"/>
          <a:stretch/>
        </p:blipFill>
        <p:spPr>
          <a:xfrm>
            <a:off x="2050920" y="3762360"/>
            <a:ext cx="2075040" cy="3095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0" name="Рисунок 5" descr="charushin-protomku.jpg"/>
          <p:cNvPicPr/>
          <p:nvPr/>
        </p:nvPicPr>
        <p:blipFill>
          <a:blip r:embed="rId5"/>
          <a:stretch/>
        </p:blipFill>
        <p:spPr>
          <a:xfrm>
            <a:off x="4859280" y="3789360"/>
            <a:ext cx="211320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итай целыми словам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-та-лись         остали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м-не-ло         стемнел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-тель-ки        постель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-до-е-дов        людоед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-ко-ди-лов     крокодил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-кры-лись         закрылис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plit dir="in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улан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ая соединительная линия 3"/>
          <p:cNvSpPr/>
          <p:nvPr/>
        </p:nvSpPr>
        <p:spPr>
          <a:xfrm flipH="1">
            <a:off x="1258560" y="404640"/>
            <a:ext cx="7308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187280" y="2362320"/>
            <a:ext cx="3156120" cy="4047840"/>
          </a:xfrm>
          <a:prstGeom prst="rect">
            <a:avLst/>
          </a:prstGeom>
          <a:ln w="28440">
            <a:solidFill>
              <a:srgbClr val="603000"/>
            </a:solidFill>
            <a:miter/>
          </a:ln>
        </p:spPr>
      </p:pic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5105520" y="3352680"/>
            <a:ext cx="3528720" cy="2341800"/>
          </a:xfrm>
          <a:prstGeom prst="rect">
            <a:avLst/>
          </a:prstGeom>
          <a:ln w="28440">
            <a:solidFill>
              <a:srgbClr val="602600"/>
            </a:solidFill>
            <a:miter/>
          </a:ln>
        </p:spPr>
      </p:pic>
      <p:sp>
        <p:nvSpPr>
          <p:cNvPr id="187" name="Прямоугольник 10"/>
          <p:cNvSpPr/>
          <p:nvPr/>
        </p:nvSpPr>
        <p:spPr>
          <a:xfrm>
            <a:off x="380880" y="106668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большое отгороженное помещение в жилом доме, обычно служащее кладовой (для вещей, съестных припас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7-11-28T14:31:4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