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587-FB4D-429C-B17F-221AE20B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B76-DFBF-4447-9ACB-525F60F5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208-D88B-4F76-986F-03C62231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928-E5BC-4EAB-88D0-1B77177C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1BB-73C2-4F6B-ADCD-95CD2831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0C7-8765-4E1F-B6CD-DC1F1198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C0F-EA6B-497C-A9CE-19D6C63B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DA9-2C6C-4CAC-8676-D1EE78AF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460-B12C-458C-9AFF-DEAAC664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C6F-20BA-446D-97E1-50E4DBC5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EAB-A3C7-4F2F-AD6F-6E2930F0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CF6-76BF-4B14-83DA-3D8AEB6D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AB7A-CE96-49EE-8EFA-185D329EF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008080"/>
                </a:solidFill>
                <a:latin typeface="Arial Black"/>
              </a:rPr>
              <a:t>Тестовые задание</a:t>
            </a:r>
            <a:br>
              <a:rPr sz="4400"/>
            </a:br>
            <a:r>
              <a:rPr b="1" lang="en-US" sz="4400" spc="-1" strike="noStrike">
                <a:solidFill>
                  <a:srgbClr val="008080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008080"/>
                </a:solidFill>
                <a:latin typeface="Arial Black"/>
              </a:rPr>
              <a:t>по математике </a:t>
            </a:r>
            <a:br>
              <a:rPr sz="4400"/>
            </a:br>
            <a:r>
              <a:rPr b="1" lang="en-US" sz="4400" spc="-1" strike="noStrike">
                <a:solidFill>
                  <a:srgbClr val="008080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008080"/>
                </a:solidFill>
                <a:latin typeface="Arial Black"/>
              </a:rPr>
              <a:t>в 3 класс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908000" y="1700280"/>
            <a:ext cx="38293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 rot="10800000">
            <a:off x="2916360" y="3716280"/>
            <a:ext cx="1641240" cy="223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80360" y="5950080"/>
            <a:ext cx="647640" cy="691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бери правильный ответ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9:7=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8147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4(ост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76720" y="1844640"/>
            <a:ext cx="3357360" cy="19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умай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635280" y="4221000"/>
            <a:ext cx="1873440" cy="1873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6308640"/>
            <a:ext cx="792360" cy="549360"/>
          </a:xfrm>
          <a:prstGeom prst="leftArrow">
            <a:avLst>
              <a:gd name="adj1" fmla="val 50000"/>
              <a:gd name="adj2" fmla="val 360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8000" y="1700280"/>
            <a:ext cx="38293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flipH="1" rot="10800000">
            <a:off x="2916360" y="3716280"/>
            <a:ext cx="164124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80360" y="5950080"/>
            <a:ext cx="647640" cy="691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124000" y="2565360"/>
            <a:ext cx="5639040" cy="2257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ы справился с задание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найти неизвестный множитель над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-а) произведение разделить на множ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б)множитель разделить на произвед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76720" y="1844640"/>
            <a:ext cx="3357360" cy="19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умай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4221000"/>
            <a:ext cx="1873440" cy="187344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7524720" y="6308640"/>
            <a:ext cx="792360" cy="549360"/>
          </a:xfrm>
          <a:prstGeom prst="leftArrow">
            <a:avLst>
              <a:gd name="adj1" fmla="val 50000"/>
              <a:gd name="adj2" fmla="val 360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8000" y="1700280"/>
            <a:ext cx="38293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flipH="1" rot="10800000">
            <a:off x="2916360" y="3716280"/>
            <a:ext cx="1641240" cy="22320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7380360" y="5950080"/>
            <a:ext cx="647640" cy="691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такое четные чис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2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а)те числа ,которые делятся на 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б)те числа, которые  не делятся на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76720" y="1844640"/>
            <a:ext cx="3357360" cy="19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умай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35280" y="4221000"/>
            <a:ext cx="1873440" cy="18734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524720" y="6308640"/>
            <a:ext cx="792360" cy="549360"/>
          </a:xfrm>
          <a:prstGeom prst="leftArrow">
            <a:avLst>
              <a:gd name="adj1" fmla="val 50000"/>
              <a:gd name="adj2" fmla="val 360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8000" y="1700280"/>
            <a:ext cx="38293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flipH="1" rot="10800000">
            <a:off x="2916360" y="3716280"/>
            <a:ext cx="1641240" cy="22320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380360" y="5950080"/>
            <a:ext cx="647640" cy="691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ите логическую задач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толе стояло 3 стакана с вишней. Сережа съел 2 стакана. Сколько стаканов оста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один стак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три стак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76720" y="1844640"/>
            <a:ext cx="3357360" cy="19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умай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5280" y="4221000"/>
            <a:ext cx="1873440" cy="187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24720" y="6308640"/>
            <a:ext cx="792360" cy="549360"/>
          </a:xfrm>
          <a:prstGeom prst="leftArrow">
            <a:avLst>
              <a:gd name="adj1" fmla="val 50000"/>
              <a:gd name="adj2" fmla="val 360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9:14:05Z</dcterms:created>
  <dc:creator>c</dc:creator>
  <dc:description/>
  <dc:language>en-US</dc:language>
  <cp:lastModifiedBy>Администратор</cp:lastModifiedBy>
  <dcterms:modified xsi:type="dcterms:W3CDTF">2010-12-02T17:56:40Z</dcterms:modified>
  <cp:revision>11</cp:revision>
  <dc:subject/>
  <dc:title>Тестовые задание по математике  в 3 классе </dc:title>
</cp:coreProperties>
</file>