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CB5D-5CA4-4E3B-A556-1181C2635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3272-4C93-48F0-9EA7-CCA850D49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10D3-F910-42C0-811A-29B09C422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9640-8C29-4E42-B078-7886A11DB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2F07-E53A-4F38-8AE5-0BDA1B1882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3A06-CE08-4EA6-B6BB-E95736A1ED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30FA-5111-4C6B-92C6-78E2C8F22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FDDB-BA6F-494E-8008-5B738CFEB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49F0-F09D-4136-91F5-CEC2BAC7D2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038B-53DE-40E4-A4A8-454ADE56A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5D57-9A3B-4183-927B-C78A0AC0A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868E-D238-4F4E-8423-673B6E541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00FE-C559-489B-B81F-3234DCD67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7E15-1702-4E7A-9DED-5ECABE76D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4DB5-D644-46C0-A460-19EEB07AC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CD38-7C3A-430D-8585-0E0DA169AE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737A-7C9E-4010-990D-E486165A7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37A6-F918-4D19-BEFE-09C3BD907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6B50-9500-4D9F-A6AE-A3CC6790A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50DD-D999-496B-8CAE-4CEA865FA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4335-A980-421A-9589-9D7871C20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76BF-C79F-456D-8542-74E688CC7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4972-5F38-4DC4-8B72-01AEB3325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C580-C2FC-4E85-8A05-3E7629C62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Freeform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3223B0-52A7-4730-ABB2-671F1EA8678C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Freeform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3BBF94-1BE3-4BEE-A16E-447E99FA24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324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Опыт работы с детьми, переживающими развод родителей.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«Дети разведенных родителей: между травмой и надеждой…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r>
              <a:rPr b="0" lang="ru-RU" sz="2800" spc="-1" strike="noStrike">
                <a:solidFill>
                  <a:srgbClr val="a26d18"/>
                </a:solidFill>
                <a:latin typeface="Times New Roman"/>
              </a:rPr>
              <a:t>Педагог-психолог (Дошкольное образовательное учреждение – Центр развития ребенка - д/с №5), арттерапевт: Трушечкин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00122 0.47315 E">
                                      <p:cBhvr>
                                        <p:cTn id="6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468360" y="266760"/>
            <a:ext cx="8075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, что работ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0" y="936720"/>
            <a:ext cx="504036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ариации игри «Я люблю» и «Интервью» (социо-игровая педагогика Е.Е.Шулешк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пособствует развитию у ребенка умения встать на место другого, разумно мыслить, преодолеть эгоцентризм. Проявляет положительное отношение к себе и окружающим людя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«Я люблю.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Ребенок по очереди садится на один из двух стульев и пытается себе представить:«Если я девочка-...я люблю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«Если я мальчик-...я люблю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«Если я мама-...я люблю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«Если я папа-...я люблю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«Интервью»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Чем взрослый отличается от детей?(Ростом) Ребенок встает на стульчик и пытается побыть взрослым, входит в роль, представляется, сообщает, где работает, что любит...и т.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967280" y="907920"/>
            <a:ext cx="403236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Игра-бесе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апа уехал в командиров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 подготовка к разводу родит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ся совместно с матерью ребе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грываем и обсуждаем вопро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ь, что папе нужно уехать в срочную командировку...Мы остались с тобой..Давай вместе подумае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ы постараемся обойтись без его присутствия? Что же мы можем делать вместе? Чем заниматься? А что мы уже умеем делать?Чем бы ты хотел(а) мне помочь по дом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rcRect l="0" t="0" r="0" b="28969"/>
          <a:stretch/>
        </p:blipFill>
        <p:spPr>
          <a:xfrm>
            <a:off x="249120" y="2016000"/>
            <a:ext cx="8647200" cy="4583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27" name="Text Box 2"/>
          <p:cNvSpPr/>
          <p:nvPr/>
        </p:nvSpPr>
        <p:spPr>
          <a:xfrm>
            <a:off x="15840" y="71280"/>
            <a:ext cx="9207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4d1"/>
                </a:solidFill>
                <a:latin typeface="Wingdings"/>
                <a:ea typeface="Wingdings"/>
              </a:rPr>
              <a:t>ИНФОРМАЦИЯДЛЯВЗРОСЛЫХ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од - тема чрезвычайно сложная. Один развод не похож на другой. И, тем не менее, если спросить людей, переживших развод, о том, как он повлиял на их жизнь, вы увидите, что многие будут вторить друг другу: «Вот-вот, точно также было и со мной; я испытывал (испытывала) то же само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57040" y="2879640"/>
            <a:ext cx="86407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од связан с невероятным стрессом для всех, кого он так или иначе затрагивает. Люди реагируют на него обилием разнообразных эмоций, таких, как чувство гнева, злости, вины, греха, печали, страха, облегчения, неизбывной тоски, и т. 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, хотя для большинства детей развод является серьезной травмой, исследования свидетельствуют, что в конечном итоге он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водит их к длительному эмоциональному стрессу или ущербу. В большинстве случаев с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ом происходит развод, влияет на то, как ребенок приходит в себя после этого болезненного и крайне тяжелого собы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71280" y="233280"/>
            <a:ext cx="8641080" cy="574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431640" y="144360"/>
            <a:ext cx="855360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55640" y="216000"/>
            <a:ext cx="4473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w Cen MT Condensed Extra Bold"/>
              </a:rPr>
              <a:t>Как сказать детям "об этом".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1280" y="720720"/>
            <a:ext cx="87109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озможно, поставьте вашего ребенка в известность о предстоящем разводе до того, как вы действительно разойдетесь с вашим супругом. Это даст ему возможность обдумать горькую новость, частично преодолеть первоначальный шок и переговорить с каждым из вас о том, что это означает для него. Нужно предоставить детям не одну возможность выяснить ситуацию с обоими родителями: задать им вопросы и поговорить о своих чувствах. Им нужно дать время "переварить" создавшееся положение, приспособиться к нему. Не думайте, что одного разговора по душам будет достаточно, чтобы разрешить вс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ку порой бывает трудно выразить свои мысли и чувства словами. В таких случаях рекомендуется побуждать его к этому через занятия рукоделием, игру в кукольный театр или рассказывание историй. Такие занятия предоставляют родителям уникальную возможность проникнуть в сокровенные мысли и чувства своих дет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ясняя причины развода своему ребенку, следите за тем, чтобы ваш язык был понятен и доходчив. Исследования свидетельствуют, что очень многим детям причины развода не объяснялись вообще, или объяснение давалось на языке, недоступном для их поним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0" y="71280"/>
            <a:ext cx="943128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хотя прежний мир ребенка, в котором он родился и жил до развода родителей, разрушился, перед ним встает трудная задача – нужно выживать, приспосабливаясь к новым обстоятельствам. Помощи больше всего он ждет от родите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ая помощь родителям и детям, переживающим разв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йное консультиров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ая работа (для детей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ные этапы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Проработка чувств обиды, отчаяния, злости, вины и т. 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ыявление фрустрированных потребностей, стоящих за предъявляемыми чувствами, и поиск способов их удовлетворения с учетом изменившейся ситу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Переосмысление и позитивная реинтерпретация полученного опы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Поиск внутренних ресурсов и построение планов на будуще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5975280" y="4176720"/>
            <a:ext cx="3186360" cy="2701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16000" y="287280"/>
            <a:ext cx="68101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lackadder ITC"/>
              </a:rPr>
              <a:t>Педагог-психолог детского сада, Трушечкина Татьяна Владимировна, приглашает Вас на консультацию, где мы вместе постараемся найти выход из сложившейся ситуации и поддержать нашего малыша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1280" y="1905120"/>
            <a:ext cx="7560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е направления психологической помощи детям в ситуации развода родителей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ая терап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 игра оказывает сильное влияние на развитие личности, способствует созданию близких отношений между участниками группы, снимает напряженность, тревогу, страх перед окружающими, повышает самооценку, позволяет проверить себя в различных ситуациях общения, снимая опасность социально значимых последств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цессе игровой терапии у ребенка появляется возможность продемонстрировать свои негативные установки.. Ребенок обращается к самому себе, заново постигает и принимает свои чувств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4360" y="5160960"/>
            <a:ext cx="5975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ная особенность игры – ее двуплановость, присущая также драматическому искусству: играющий выполняет реальную деятельность, осуществление которой требует действий, связанных с решением вполне конкретных, часто нестандартных зада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5994360" y="44280"/>
            <a:ext cx="3006720" cy="47800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39" name="Text Box 2"/>
          <p:cNvSpPr/>
          <p:nvPr/>
        </p:nvSpPr>
        <p:spPr>
          <a:xfrm>
            <a:off x="20520" y="930240"/>
            <a:ext cx="92552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ттерап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ет выход внутренним конфликтам и сильным эмоциям, помогает при интерпритации вытесненных переживаний 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ует повышению самооцен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ности осознавать свои ощущения и чувств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ет художественные способно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азкотерап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Сказка как поиск жизненного сценар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материала для психологической помощи ребен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0520" y="3095640"/>
            <a:ext cx="653112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азкотерапевтическая коррекцион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детей, переживших развод родите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программа состоит из серии специально организованных коррекционных занятий составленных с учетом уровня развития детей, их возрастных и индивидуальных особеннос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грамма состоит из 9 занятий. Занятия проводятся в виде тренин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аждого занятия - коррекция эмоциональных нарушений (негативных проявлений психики): страх, гне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у разработки сказкотерапевтических занятий, легли работы Л. Коротковой и Д.Брет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23840" y="436680"/>
            <a:ext cx="7435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Сказки для детей, чьи родители разводятся..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ставание (Анна Смирнов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есса двух королев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про Энни (Жила-была девочка, похожая на тебя...) (Дорис Брет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264360" y="71280"/>
            <a:ext cx="2811240" cy="18720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07240" y="4103640"/>
            <a:ext cx="3128760" cy="27576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3386160" y="3079800"/>
            <a:ext cx="3095640" cy="23144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45" name="Text Box 5"/>
          <p:cNvSpPr/>
          <p:nvPr/>
        </p:nvSpPr>
        <p:spPr>
          <a:xfrm>
            <a:off x="2952720" y="5904000"/>
            <a:ext cx="2808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овместное творче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44360" y="3456000"/>
            <a:ext cx="307656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овая игра для родите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ма: "Роль отца в формировании личности ребенка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4"/>
          <a:stretch/>
        </p:blipFill>
        <p:spPr>
          <a:xfrm>
            <a:off x="190440" y="455292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44360" y="135000"/>
            <a:ext cx="8966160" cy="74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Арттерапевтические техник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Техника «Волшебное искусств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при обсуждении переживаний, связанных с родительским разводом или другими драматическими событиями в жизни детей. Рисуем гусеницу. Рассказываем детям о том, как гусеница превращается в куколку и, наконец, – в бабоч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чаем, что нечто подобное происходит иногда в жизни со всеми людьми: любая ситуация (даже развод родителей) может, в конце концов, иметь положительные последств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Техника «До и после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тем, что техника позволяет оценить негативные последствия известных событий, она дает возможность рассматривать положительные стороны новой жизненной ситуации:акцентирует внимание ребенка на возможных перспективах, его взаимоотношениях с окружающими и способах преодоления психической травмы. После развода родителей у ребенка усиливается привязанность к брату или сестре (дети на2 рисунке часто располагают себя ближе к брату или сестре, чем на 1). Эта привязанность порождена потребностью компенсировать чувства одиночества и изоляции. Она дает большие возможности и для отражения чувств. Видя, что другой испытывает сходные чувства, вызванные родительским разводом или утратой, ребенок в определенной мере освобождается от груза собственных пережив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«Шарики чувств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енда Шорт. Данная техника предназначена помочь детям выразить и осознать свои чувства. Она может быть использована в работе с любыми детьми и вызывает у них большой интерес, поскольку дает возможность увидеть, сколь разнообразными могут быть чувств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Шевченко М.А. "Психологические рисуночные тесты для детей и взрослых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66600" y="4392720"/>
            <a:ext cx="2813040" cy="24336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pic>
        <p:nvPicPr>
          <p:cNvPr id="150" name="Picture 2" descr=""/>
          <p:cNvPicPr/>
          <p:nvPr/>
        </p:nvPicPr>
        <p:blipFill>
          <a:blip r:embed="rId2"/>
          <a:srcRect l="9693" t="0" r="10901" b="0"/>
          <a:stretch/>
        </p:blipFill>
        <p:spPr>
          <a:xfrm>
            <a:off x="5759280" y="4267080"/>
            <a:ext cx="3240360" cy="24544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pic>
        <p:nvPicPr>
          <p:cNvPr id="151" name="Picture 3" descr=""/>
          <p:cNvPicPr/>
          <p:nvPr/>
        </p:nvPicPr>
        <p:blipFill>
          <a:blip r:embed="rId3"/>
          <a:srcRect l="0" t="0" r="21949" b="21422"/>
          <a:stretch/>
        </p:blipFill>
        <p:spPr>
          <a:xfrm>
            <a:off x="2879640" y="5297400"/>
            <a:ext cx="2855880" cy="15303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  <p:sp>
        <p:nvSpPr>
          <p:cNvPr id="152" name="Text Box 4"/>
          <p:cNvSpPr/>
          <p:nvPr/>
        </p:nvSpPr>
        <p:spPr>
          <a:xfrm>
            <a:off x="0" y="0"/>
            <a:ext cx="8928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есочная терап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этой игровой терапии на занятиях с детьми способствует созданию психоэмоционального комфорта (снятие напряжения, утомляемости, развитие положительных эмоций, эмпатии). Играя с песком, ребенок самовыражается. Используя игрушки, он выражает все то, что ему трудно выразить в словах. Ребенок чувствует себя хозяином своего маленького ми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.В.Ратникова, А.В.Гавр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ок «Моя семья». Тема: «Семейный портрет». Развитие навыков семейных отношений, открытой и конструктивной коммуникации, укрепление позитивного отношения к себе и други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сочница делится на 2 равные части:на одной работает-родитель, на второй-ребенок. Строим мир семьи при помощи миниатюрных фигурок. Отработка упражнений: «Признательность», «Комплимент», «Ладошки»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ама и п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«Подарок моей семье». Притча «Алмазные россып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4"/>
          <a:stretch/>
        </p:blipFill>
        <p:spPr>
          <a:xfrm>
            <a:off x="7353360" y="4381560"/>
            <a:ext cx="1173240" cy="15685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5:18:44Z</dcterms:created>
  <dc:creator>мы</dc:creator>
  <dc:description/>
  <dc:language>en-US</dc:language>
  <cp:lastModifiedBy>User</cp:lastModifiedBy>
  <cp:lastPrinted>2015-09-07T23:12:43Z</cp:lastPrinted>
  <dcterms:modified xsi:type="dcterms:W3CDTF">2017-11-29T19:43:35Z</dcterms:modified>
  <cp:revision>58</cp:revision>
  <dc:subject/>
  <dc:title>Слайд 1</dc:title>
</cp:coreProperties>
</file>