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E42-3F1A-4E13-84D2-E0CB78AC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D7D-DA55-486B-B8FB-B0DFF879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15F-F8BA-474B-A17D-05C6D358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1DE-AFA7-43B0-A1A9-31E88BFF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C224-A1E9-4D87-8C96-32AAC023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7F14-D027-48AD-9EC8-00229775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207E-024F-4BBC-860B-23AE5EC4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7052-5138-4AD3-AD2A-F3B192A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90BE-7DB8-46D4-84CF-E89AC100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4F35-5452-4E2D-AF46-E40D1A3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D60B-2073-4CD8-B0EC-1855C2EB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86E-E493-44E3-9780-8AB50A1E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0E65-7807-41BA-91AB-946AD6B0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0652-3548-401F-8476-59980013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3E8F-1A05-442F-8A98-7A2AE8B2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6477-EC96-4E09-83FB-E9A1D217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C02-8BC5-4689-9446-C18A8576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0DFF-81E1-40B3-B2C5-20F254D5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C103-EAE2-46DF-B08E-AEAD1120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99C6-E398-41A2-90EB-500BD6D0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4F1A-3E25-428A-9D18-07470BA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3087-B885-43BE-8E88-AD7EDCB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8CF-BE2E-4C8A-BC66-B1304249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7CC57-30B1-42F7-BC07-1CCBE7B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3D02-A1B0-45C6-92D9-D1E461E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3437-00A2-4419-BA2A-1957D7D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F5FA-B211-4297-8FA5-6A9A989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A07D-808A-4877-985D-69DD796B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B8C3-C7F7-4D95-A345-798B2370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2F53-A76D-4FFD-AFB2-FEA3C29A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955-8426-4D1E-8031-37496A12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359-57F9-4C80-88B7-05EDED7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30A-E4F5-4663-9C74-9C8B4B2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5F1-0F46-458A-ABD0-56E7120B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011-114B-4DAA-BEF9-CF226FD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A93-F775-4CF4-8D63-AD731D4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2F7D-CC32-44FD-BE82-29EF78E134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054-E81D-4500-B2EB-4E1BBC475E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BC4C-C8E1-434D-B9A1-0EF84C9F06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22440" y="426960"/>
            <a:ext cx="7783200" cy="2687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143000" y="25351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 Бойченко Лариса Леонид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ДОУ детский сад № 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од  Белгород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 Black"/>
              </a:rPr>
              <a:t>Красота   родной  земл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6" name="Picture 2" descr="C:\Users\Home\Downloads\5e4c42c955a6.jpg"/>
          <p:cNvPicPr/>
          <p:nvPr/>
        </p:nvPicPr>
        <p:blipFill>
          <a:blip r:embed="rId1"/>
          <a:stretch/>
        </p:blipFill>
        <p:spPr>
          <a:xfrm>
            <a:off x="1670040" y="1825560"/>
            <a:ext cx="5803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Холмы, перелески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Луга и поля —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Родная, зелёная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Наша земля. 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8" name="Picture 4" descr="C:\Users\Home\Downloads\1491 (1).jpg"/>
          <p:cNvPicPr/>
          <p:nvPr/>
        </p:nvPicPr>
        <p:blipFill>
          <a:blip r:embed="rId1"/>
          <a:stretch/>
        </p:blipFill>
        <p:spPr>
          <a:xfrm>
            <a:off x="1781280" y="1825560"/>
            <a:ext cx="55814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0" name="Picture 2" descr="C:\Users\Home\Downloads\1f34235b47bb.jpg"/>
          <p:cNvPicPr/>
          <p:nvPr/>
        </p:nvPicPr>
        <p:blipFill>
          <a:blip r:embed="rId1"/>
          <a:stretch/>
        </p:blipFill>
        <p:spPr>
          <a:xfrm>
            <a:off x="666720" y="692280"/>
            <a:ext cx="8188200" cy="57751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2286000" y="289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вокруг свое, родное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ы, степи и леса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к сверканье голубое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лубые небе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147600"/>
            <a:ext cx="788688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 Light"/>
              </a:rPr>
              <a:t>То берёзка, то рябина, 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 Light"/>
              </a:rPr>
              <a:t>Куст ракиты над рекой. 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 Light"/>
              </a:rPr>
              <a:t>Край родной, навек    любимый, 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 Light"/>
              </a:rPr>
              <a:t>Где найдёшь ещё такой!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3" name="Picture 2" descr="C:\Users\Home\Downloads\0001-001-Mir-vokrug-nas-4-klass.jpg"/>
          <p:cNvPicPr/>
          <p:nvPr/>
        </p:nvPicPr>
        <p:blipFill>
          <a:blip r:embed="rId1"/>
          <a:stretch/>
        </p:blipFill>
        <p:spPr>
          <a:xfrm>
            <a:off x="387360" y="1359000"/>
            <a:ext cx="83948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 Black"/>
              </a:rPr>
              <a:t>Богатство лесов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5" name="Picture 2" descr="C:\Users\Home\Downloads\i (1).jpg"/>
          <p:cNvPicPr/>
          <p:nvPr/>
        </p:nvPicPr>
        <p:blipFill>
          <a:blip r:embed="rId1"/>
          <a:stretch/>
        </p:blipFill>
        <p:spPr>
          <a:xfrm>
            <a:off x="662040" y="21002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Home\Downloads\Dwy_4KFwj-k.jpg"/>
          <p:cNvPicPr/>
          <p:nvPr/>
        </p:nvPicPr>
        <p:blipFill>
          <a:blip r:embed="rId2"/>
          <a:stretch/>
        </p:blipFill>
        <p:spPr>
          <a:xfrm>
            <a:off x="736560" y="3747960"/>
            <a:ext cx="2854440" cy="257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Home\Downloads\les-nashe-bogatstvo.jpg"/>
          <p:cNvPicPr/>
          <p:nvPr/>
        </p:nvPicPr>
        <p:blipFill>
          <a:blip r:embed="rId3"/>
          <a:stretch/>
        </p:blipFill>
        <p:spPr>
          <a:xfrm>
            <a:off x="3641760" y="2004840"/>
            <a:ext cx="2835360" cy="1941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Home\Downloads\0016-018-Prirodnye-resursy.jpg"/>
          <p:cNvPicPr/>
          <p:nvPr/>
        </p:nvPicPr>
        <p:blipFill>
          <a:blip r:embed="rId4"/>
          <a:stretch/>
        </p:blipFill>
        <p:spPr>
          <a:xfrm>
            <a:off x="5038560" y="4029120"/>
            <a:ext cx="3810240" cy="2574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Users\Home\Downloads\i (9).jpg"/>
          <p:cNvPicPr/>
          <p:nvPr/>
        </p:nvPicPr>
        <p:blipFill>
          <a:blip r:embed="rId5"/>
          <a:stretch/>
        </p:blipFill>
        <p:spPr>
          <a:xfrm>
            <a:off x="6897600" y="16686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1" name="Picture 2" descr="C:\Users\Home\Downloads\i (4).jpg"/>
          <p:cNvPicPr/>
          <p:nvPr/>
        </p:nvPicPr>
        <p:blipFill>
          <a:blip r:embed="rId1"/>
          <a:stretch/>
        </p:blipFill>
        <p:spPr>
          <a:xfrm>
            <a:off x="3314880" y="19764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Home\Downloads\i (5).jpg"/>
          <p:cNvPicPr/>
          <p:nvPr/>
        </p:nvPicPr>
        <p:blipFill>
          <a:blip r:embed="rId2"/>
          <a:stretch/>
        </p:blipFill>
        <p:spPr>
          <a:xfrm>
            <a:off x="519120" y="194004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Users\Home\Downloads\i (6).jpg"/>
          <p:cNvPicPr/>
          <p:nvPr/>
        </p:nvPicPr>
        <p:blipFill>
          <a:blip r:embed="rId3"/>
          <a:stretch/>
        </p:blipFill>
        <p:spPr>
          <a:xfrm>
            <a:off x="181080" y="31845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Users\Home\Downloads\i (7).jpg"/>
          <p:cNvPicPr/>
          <p:nvPr/>
        </p:nvPicPr>
        <p:blipFill>
          <a:blip r:embed="rId4"/>
          <a:stretch/>
        </p:blipFill>
        <p:spPr>
          <a:xfrm>
            <a:off x="4714920" y="306072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Users\Home\Downloads\i (8).jpg"/>
          <p:cNvPicPr/>
          <p:nvPr/>
        </p:nvPicPr>
        <p:blipFill>
          <a:blip r:embed="rId5"/>
          <a:stretch/>
        </p:blipFill>
        <p:spPr>
          <a:xfrm>
            <a:off x="2103480" y="4427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s\Home\Downloads\i (10).jpg"/>
          <p:cNvPicPr/>
          <p:nvPr/>
        </p:nvPicPr>
        <p:blipFill>
          <a:blip r:embed="rId6"/>
          <a:stretch/>
        </p:blipFill>
        <p:spPr>
          <a:xfrm>
            <a:off x="6388200" y="4324320"/>
            <a:ext cx="2492280" cy="214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Users\Home\Downloads\i (11).jpg"/>
          <p:cNvPicPr/>
          <p:nvPr/>
        </p:nvPicPr>
        <p:blipFill>
          <a:blip r:embed="rId7"/>
          <a:stretch/>
        </p:blipFill>
        <p:spPr>
          <a:xfrm>
            <a:off x="6145200" y="382680"/>
            <a:ext cx="2784600" cy="2254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Users\Home\Downloads\70235066_0_2dcda_fa33c9a3_XL.jpg"/>
          <p:cNvPicPr/>
          <p:nvPr/>
        </p:nvPicPr>
        <p:blipFill>
          <a:blip r:embed="rId8"/>
          <a:stretch/>
        </p:blipFill>
        <p:spPr>
          <a:xfrm>
            <a:off x="716040" y="201600"/>
            <a:ext cx="271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0" name="Picture 2" descr="C:\Users\Home\Downloads\img10.jpg"/>
          <p:cNvPicPr/>
          <p:nvPr/>
        </p:nvPicPr>
        <p:blipFill>
          <a:blip r:embed="rId1"/>
          <a:stretch/>
        </p:blipFill>
        <p:spPr>
          <a:xfrm>
            <a:off x="147600" y="642960"/>
            <a:ext cx="87073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2" name="Picture 2" descr="C:\Users\Home\Downloads\dauria_7.jpg"/>
          <p:cNvPicPr/>
          <p:nvPr/>
        </p:nvPicPr>
        <p:blipFill>
          <a:blip r:embed="rId1"/>
          <a:stretch/>
        </p:blipFill>
        <p:spPr>
          <a:xfrm>
            <a:off x="1776240" y="2097000"/>
            <a:ext cx="5591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  <a:ea typeface="Aharoni"/>
              </a:rPr>
              <a:t>Нет края на свете красивей,</a:t>
            </a:r>
            <a:br>
              <a:rPr sz="4400"/>
            </a:br>
            <a:r>
              <a:rPr b="0" i="1" lang="ru-RU" sz="4400" spc="-1" strike="noStrike">
                <a:solidFill>
                  <a:srgbClr val="7030a0"/>
                </a:solidFill>
                <a:latin typeface="Calibri"/>
                <a:ea typeface="Aharoni"/>
              </a:rPr>
              <a:t>Нет Родины в мире светлей!</a:t>
            </a:r>
            <a:br>
              <a:rPr sz="4400"/>
            </a:br>
            <a:r>
              <a:rPr b="0" i="1" lang="ru-RU" sz="4400" spc="-1" strike="noStrike">
                <a:solidFill>
                  <a:srgbClr val="7030a0"/>
                </a:solidFill>
                <a:latin typeface="Calibri"/>
                <a:ea typeface="Aharoni"/>
              </a:rPr>
              <a:t>Россия, Россия, Россия, –</a:t>
            </a:r>
            <a:br>
              <a:rPr sz="4400"/>
            </a:br>
            <a:r>
              <a:rPr b="0" i="1" lang="ru-RU" sz="4400" spc="-1" strike="noStrike">
                <a:solidFill>
                  <a:srgbClr val="7030a0"/>
                </a:solidFill>
                <a:latin typeface="Calibri"/>
                <a:ea typeface="Aharoni"/>
              </a:rPr>
              <a:t>Что может быть сердцу мил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8235"/>
                </a:solidFill>
                <a:latin typeface="Calibri Light"/>
              </a:rPr>
              <a:t>Что мы Родиной зовём 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Что мы Родиной зовём?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Дом, где мы с тобой живём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И берёзки, вдоль которых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Рядом с мамой мы идём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Что мы Родиной зовём?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оле с тонким колоском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Наши праздники и песни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Тёплый вечер за окном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Что мы Родиной зовём?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Всё, что в сердце бережём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И под небом синим-синим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Флаг России над Кремлём.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(В. Степан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осударственные  символы 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ражение идей государства с помощью условных знаков или предметов , т.е. символ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 Light"/>
              </a:rPr>
              <a:t>Список   используемых   источников :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3160" y="1825200"/>
            <a:ext cx="4341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Шаблоны для презентаций на тему "Страны и флаг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-Режим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shablony-powerpoint.ru/?page=shablony&amp;id=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ртинка  флага  России     Картинка    герб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 -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boombob.ru/download.php?id=105086&amp;num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ртинка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 -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salon.com/2013/02/21/its_official_russia_lost_49_billion_to_kremlin_capitalism_partn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28880" y="1095120"/>
            <a:ext cx="38862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ртинки    «вид прир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- 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yandex.ru/images/search?img_url=http%3A%2F%2Fwww.look.com.ua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ртинка   «ши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- 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logoportal.ru/proekt-na-temu-les-nashe-bogatstvo/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тих о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  -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russlav.ru/aktualno/stikhi-o-rossii.htmlhttp://zanimatika.narod.ru/RF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стих   о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й ресурс  -   режим 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zanimatika.narod.ru/RF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дата обращения -20.03.20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 Light"/>
              </a:rPr>
              <a:t>Спасибо   за  внимание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0" name="Picture 2" descr="C:\Users\Home\Downloads\1_02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Государственные символ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Российской  Федераци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ГЕР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ФЛА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ctr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ГИМ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6480" y="372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 Black"/>
              </a:rPr>
              <a:t>ГЕРБ  РОССИ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ГЕРБ –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отличительный знак государства , города или   рода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 Light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который изображают  на флагах , монетах , печатях.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 Black"/>
              </a:rPr>
              <a:t>ФЛАГ  РОССИ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  <a:ea typeface="Microsoft Yi Baiti"/>
              </a:rPr>
              <a:t>ФЛАГ   -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Microsoft Yi Baiti"/>
              </a:rPr>
              <a:t>символ государства , города и т.п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 Light"/>
                <a:ea typeface="Microsoft Yi Bait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Microsoft Yi Baiti"/>
              </a:rPr>
              <a:t>сделанный  из  ткани , прикрепленный  к  древ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Home\Downloads\resize.jpg"/>
          <p:cNvPicPr/>
          <p:nvPr/>
        </p:nvPicPr>
        <p:blipFill>
          <a:blip r:embed="rId1"/>
          <a:stretch/>
        </p:blipFill>
        <p:spPr>
          <a:xfrm>
            <a:off x="5378400" y="1663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  <a:ea typeface="Aharoni"/>
              </a:rPr>
              <a:t>Белый, синий и красный цве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  <a:ea typeface="Aharoni"/>
              </a:rPr>
              <a:t>  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  <a:ea typeface="Aharoni"/>
              </a:rPr>
              <a:t>с древних времён на Руси означали: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* 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елый цв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 — благородство, чистота  и откровенность;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* 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синий цвет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 —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рность, честность, правда ,        безупречность ;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* 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асный цвет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— мужество, смелость,  великодушие и любовь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 Black"/>
              </a:rPr>
              <a:t>ГИМН  РОССИ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ГИМН –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торжественное музыкально – поэтическое произведение , принятое , как символ государственного един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 гимна отражает чувства патриотизма , уважения к истории страны , её государственному стр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ГОСУДАРСТВЕННЫЙ ГИМН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8040" y="1825200"/>
            <a:ext cx="4176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оссия — священная наша держав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оссия — любимая наша стран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огучая воля, великая слава —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воё достоянье на все време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Отечество наше свободно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атских народов союз веков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дками данная мудрость народна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т южных морей до полярного края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скинулись наши леса и пол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дна ты на свете! Одна ты такая —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ранимая Богом родная земл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28880" y="1825200"/>
            <a:ext cx="4390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Отечество наше свободно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атских народов союз веков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дками данная мудрость народна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ирокий простор для мечты и для жизн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рядущие нам открывают год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м силу даёт наша верность Отчизне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ак было, так есть и так будет всег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Отечество наше свободно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атских народов союз веков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дками данная мудрость народна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  <a:ea typeface="Arial"/>
              </a:rPr>
              <a:t>Столица   России –</a:t>
            </a:r>
            <a:br>
              <a:rPr sz="5400"/>
            </a:br>
            <a:r>
              <a:rPr b="1" lang="ru-RU" sz="5400" spc="-1" strike="noStrike">
                <a:solidFill>
                  <a:srgbClr val="ffc000"/>
                </a:solidFill>
                <a:latin typeface="Arial"/>
                <a:ea typeface="Arial"/>
              </a:rPr>
              <a:t>МОСКВА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4" name="Picture 2" descr="C:\Users\Home\Downloads\20100117_811765661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8:25:27Z</dcterms:created>
  <dc:creator>Инна</dc:creator>
  <dc:description/>
  <dc:language>en-US</dc:language>
  <cp:lastModifiedBy>Home</cp:lastModifiedBy>
  <dcterms:modified xsi:type="dcterms:W3CDTF">2015-03-20T11:09:05Z</dcterms:modified>
  <cp:revision>33</cp:revision>
  <dc:subject/>
  <dc:title>Название презентации</dc:title>
</cp:coreProperties>
</file>