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443-EEAB-47AB-945B-47BF2018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65E-3FF1-4C4B-98FF-96270E4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5E3-1647-40E1-8C02-9A0C57BF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F48-B8EC-4349-84B0-5ECD2917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5A7A-5EA5-4B54-9BD8-0F69447F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84F7-ACC3-4655-9EDD-A46C554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540-538E-4958-AA22-75B77E0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D2D-832E-45A4-839E-1095B20B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13E1-A600-4270-AD9C-396786A0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429B-9FDE-48E7-B2B8-0E78FE1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C31F-BF12-46F0-864D-BA7300F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C7B-ACD7-48C1-8219-85F716F3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90A8-9066-4249-B59E-3BC99B4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F4E5-A2EE-4166-AADE-7A0EFD6D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5115-25B7-4BE3-A363-6419E67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5328-43E8-434B-833B-172090BD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DB29-7575-4573-97D1-A9D2C1FE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E315-1C71-41F0-81C1-EF086892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4B59-E4C6-4241-B80C-A672FCA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9B41-B1E0-4C27-943D-476832CA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88AF-BD15-4A00-A48D-733C6CC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61DC-1DE7-4ED9-84AF-B348AFE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141-294A-442A-A559-9412D095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5C0D-3D24-4068-B745-FA1962A8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3D69-9E49-4A98-8F1A-DB7651D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374E-F62E-4D6F-BC2C-12F9397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7DF5-6842-46BD-A49D-46ECB39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EFDB-215C-44BC-A7BE-52F2154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491F-D144-43D6-9F5A-0E48BED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731C-3780-4DF0-843C-5BD8205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548-C992-4763-9164-2233AB9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9A4-879D-4919-AE4B-21E67EF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0A4-810B-4BFA-A5C8-2F851B3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AD8-BCFE-4296-BEA5-D27DE11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5AC-C549-469C-84C8-C888E7AA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103-03C1-42DD-B5AB-34471A3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9A6-64C4-4A4B-9A2E-A8677725FC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33D-9329-40B0-92DF-133DAC7DB8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AAD-311E-4CEB-BDA8-699AE6F0F5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22440" y="426960"/>
            <a:ext cx="7783200" cy="2687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43000" y="25351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Бойченко Лариса Леонид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ДОУ детский сад № 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  Белгород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Красота   родной  земл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6" name="Picture 2" descr="C:\Users\Home\Downloads\5e4c42c955a6.jpg"/>
          <p:cNvPicPr/>
          <p:nvPr/>
        </p:nvPicPr>
        <p:blipFill>
          <a:blip r:embed="rId1"/>
          <a:stretch/>
        </p:blipFill>
        <p:spPr>
          <a:xfrm>
            <a:off x="1670040" y="1825560"/>
            <a:ext cx="5803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Холмы, перелеск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Луга и поля —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Родная, зелёная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Наша земля. 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8" name="Picture 4" descr="C:\Users\Home\Downloads\1491 (1).jpg"/>
          <p:cNvPicPr/>
          <p:nvPr/>
        </p:nvPicPr>
        <p:blipFill>
          <a:blip r:embed="rId1"/>
          <a:stretch/>
        </p:blipFill>
        <p:spPr>
          <a:xfrm>
            <a:off x="1781280" y="1825560"/>
            <a:ext cx="5581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Picture 2" descr="C:\Users\Home\Downloads\1f34235b47bb.jpg"/>
          <p:cNvPicPr/>
          <p:nvPr/>
        </p:nvPicPr>
        <p:blipFill>
          <a:blip r:embed="rId1"/>
          <a:stretch/>
        </p:blipFill>
        <p:spPr>
          <a:xfrm>
            <a:off x="666720" y="692280"/>
            <a:ext cx="8188200" cy="5775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286000" y="28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вокруг свое, родное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ы, степи и лес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к сверканье голубое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лубые небе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147600"/>
            <a:ext cx="788688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То берёзка, то рябина,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Куст ракиты над рекой.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Край родной, навек    любимый,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Где найдёшь ещё такой!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Picture 2" descr="C:\Users\Home\Downloads\0001-001-Mir-vokrug-nas-4-klass.jpg"/>
          <p:cNvPicPr/>
          <p:nvPr/>
        </p:nvPicPr>
        <p:blipFill>
          <a:blip r:embed="rId1"/>
          <a:stretch/>
        </p:blipFill>
        <p:spPr>
          <a:xfrm>
            <a:off x="387360" y="1359000"/>
            <a:ext cx="83948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Богатство ле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" name="Picture 2" descr="C:\Users\Home\Downloads\i (1).jpg"/>
          <p:cNvPicPr/>
          <p:nvPr/>
        </p:nvPicPr>
        <p:blipFill>
          <a:blip r:embed="rId1"/>
          <a:stretch/>
        </p:blipFill>
        <p:spPr>
          <a:xfrm>
            <a:off x="662040" y="21002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Home\Downloads\Dwy_4KFwj-k.jpg"/>
          <p:cNvPicPr/>
          <p:nvPr/>
        </p:nvPicPr>
        <p:blipFill>
          <a:blip r:embed="rId2"/>
          <a:stretch/>
        </p:blipFill>
        <p:spPr>
          <a:xfrm>
            <a:off x="736560" y="3747960"/>
            <a:ext cx="2854440" cy="25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Home\Downloads\les-nashe-bogatstvo.jpg"/>
          <p:cNvPicPr/>
          <p:nvPr/>
        </p:nvPicPr>
        <p:blipFill>
          <a:blip r:embed="rId3"/>
          <a:stretch/>
        </p:blipFill>
        <p:spPr>
          <a:xfrm>
            <a:off x="3641760" y="2004840"/>
            <a:ext cx="2835360" cy="1941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Home\Downloads\0016-018-Prirodnye-resursy.jpg"/>
          <p:cNvPicPr/>
          <p:nvPr/>
        </p:nvPicPr>
        <p:blipFill>
          <a:blip r:embed="rId4"/>
          <a:stretch/>
        </p:blipFill>
        <p:spPr>
          <a:xfrm>
            <a:off x="5038560" y="4029120"/>
            <a:ext cx="3810240" cy="257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Home\Downloads\i (9).jpg"/>
          <p:cNvPicPr/>
          <p:nvPr/>
        </p:nvPicPr>
        <p:blipFill>
          <a:blip r:embed="rId5"/>
          <a:stretch/>
        </p:blipFill>
        <p:spPr>
          <a:xfrm>
            <a:off x="6897600" y="16686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1" name="Picture 2" descr="C:\Users\Home\Downloads\i (4).jpg"/>
          <p:cNvPicPr/>
          <p:nvPr/>
        </p:nvPicPr>
        <p:blipFill>
          <a:blip r:embed="rId1"/>
          <a:stretch/>
        </p:blipFill>
        <p:spPr>
          <a:xfrm>
            <a:off x="3314880" y="19764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Home\Downloads\i (5).jpg"/>
          <p:cNvPicPr/>
          <p:nvPr/>
        </p:nvPicPr>
        <p:blipFill>
          <a:blip r:embed="rId2"/>
          <a:stretch/>
        </p:blipFill>
        <p:spPr>
          <a:xfrm>
            <a:off x="519120" y="194004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Users\Home\Downloads\i (6).jpg"/>
          <p:cNvPicPr/>
          <p:nvPr/>
        </p:nvPicPr>
        <p:blipFill>
          <a:blip r:embed="rId3"/>
          <a:stretch/>
        </p:blipFill>
        <p:spPr>
          <a:xfrm>
            <a:off x="181080" y="31845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Users\Home\Downloads\i (7).jpg"/>
          <p:cNvPicPr/>
          <p:nvPr/>
        </p:nvPicPr>
        <p:blipFill>
          <a:blip r:embed="rId4"/>
          <a:stretch/>
        </p:blipFill>
        <p:spPr>
          <a:xfrm>
            <a:off x="4714920" y="306072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s\Home\Downloads\i (8).jpg"/>
          <p:cNvPicPr/>
          <p:nvPr/>
        </p:nvPicPr>
        <p:blipFill>
          <a:blip r:embed="rId5"/>
          <a:stretch/>
        </p:blipFill>
        <p:spPr>
          <a:xfrm>
            <a:off x="2103480" y="4427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Home\Downloads\i (10).jpg"/>
          <p:cNvPicPr/>
          <p:nvPr/>
        </p:nvPicPr>
        <p:blipFill>
          <a:blip r:embed="rId6"/>
          <a:stretch/>
        </p:blipFill>
        <p:spPr>
          <a:xfrm>
            <a:off x="6388200" y="4324320"/>
            <a:ext cx="249228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Home\Downloads\i (11).jpg"/>
          <p:cNvPicPr/>
          <p:nvPr/>
        </p:nvPicPr>
        <p:blipFill>
          <a:blip r:embed="rId7"/>
          <a:stretch/>
        </p:blipFill>
        <p:spPr>
          <a:xfrm>
            <a:off x="6145200" y="382680"/>
            <a:ext cx="2784600" cy="2254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Users\Home\Downloads\70235066_0_2dcda_fa33c9a3_XL.jpg"/>
          <p:cNvPicPr/>
          <p:nvPr/>
        </p:nvPicPr>
        <p:blipFill>
          <a:blip r:embed="rId8"/>
          <a:stretch/>
        </p:blipFill>
        <p:spPr>
          <a:xfrm>
            <a:off x="716040" y="201600"/>
            <a:ext cx="271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0" name="Picture 2" descr="C:\Users\Home\Downloads\img10.jpg"/>
          <p:cNvPicPr/>
          <p:nvPr/>
        </p:nvPicPr>
        <p:blipFill>
          <a:blip r:embed="rId1"/>
          <a:stretch/>
        </p:blipFill>
        <p:spPr>
          <a:xfrm>
            <a:off x="147600" y="642960"/>
            <a:ext cx="8707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Picture 2" descr="C:\Users\Home\Downloads\dauria_7.jpg"/>
          <p:cNvPicPr/>
          <p:nvPr/>
        </p:nvPicPr>
        <p:blipFill>
          <a:blip r:embed="rId1"/>
          <a:stretch/>
        </p:blipFill>
        <p:spPr>
          <a:xfrm>
            <a:off x="1776240" y="2097000"/>
            <a:ext cx="5591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Нет края на свете красивей,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Нет Родины в мире светлей!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Россия, Россия, Россия, –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Что может быть сердцу ми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8235"/>
                </a:solidFill>
                <a:latin typeface="Calibri Light"/>
              </a:rPr>
              <a:t>Что мы Родиной зовём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Дом, где мы с тобой живё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И берёзки, вдоль которых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ядом с мамой мы идё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ле с тонким колоско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Наши праздники и песни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Тёплый вечер за окно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сё, что в сердце бережё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И под небом синим-синим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Флаг России над Кремлём.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(В. Степан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осударственные  символы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ражение идей государства с помощью условных знаков или предметов , т.е. символ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 Light"/>
              </a:rPr>
              <a:t>Список   используемых   источников :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3160" y="1825200"/>
            <a:ext cx="434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Шаблоны для презентаций на тему "Страны и флаг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-Режим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ablony-powerpoint.ru/?page=shablony&amp;id=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ртинка  флага  России     Картинка    герб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-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boombob.ru/download.php?id=105086&amp;num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ртинка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-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salon.com/2013/02/21/its_official_russia_lost_49_billion_to_kremlin_capitalism_partn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28880" y="1095120"/>
            <a:ext cx="38862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тинки    «вид прир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yandex.ru/images/search?img_url=http%3A%2F%2Fwww.look.com.ua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ртинка   «ши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logoportal.ru/proekt-na-temu-les-nashe-bogatstvo/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тих о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 -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russlav.ru/aktualno/stikhi-o-rossii.htmlhttp://zanimatika.narod.ru/RF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стих   о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zanimatika.narod.ru/RF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 Light"/>
              </a:rPr>
              <a:t>Спасибо   за  внимание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0" name="Picture 2" descr="C:\Users\Home\Downloads\1_02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Государственные симво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Российской  Федерац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ГЕР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ФЛА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ГИМ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6480" y="372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ГЕРБ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ГЕРБ –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отличительный знак государства , города или   рода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 Ligh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который изображают  на флагах , монетах , печатях.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ФЛАГ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  <a:ea typeface="Microsoft Yi Baiti"/>
              </a:rPr>
              <a:t>ФЛАГ   -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Microsoft Yi Baiti"/>
              </a:rPr>
              <a:t>символ государства , города и т.п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 Light"/>
                <a:ea typeface="Microsoft Yi Bait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Microsoft Yi Baiti"/>
              </a:rPr>
              <a:t>сделанный  из  ткани , прикрепленный  к  древ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Home\Downloads\resize.jpg"/>
          <p:cNvPicPr/>
          <p:nvPr/>
        </p:nvPicPr>
        <p:blipFill>
          <a:blip r:embed="rId1"/>
          <a:stretch/>
        </p:blipFill>
        <p:spPr>
          <a:xfrm>
            <a:off x="5378400" y="1663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Белый, синий и красный цве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 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с древних времён на Руси означали: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лый цв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 — благородство, чистота  и откровенность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иний цвет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 —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сть, честность, правда ,        безупречность 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асный цве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— мужество, смелость,  великодушие и любовь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ГИМН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ГИМН –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торжественное музыкально – поэтическое произведение , принятое , как символ государственного един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 гимна отражает чувства патриотизма , уважения к истории страны , её государственному стр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ГОСУДАРСТВЕННЫЙ ГИМН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8040" y="1825200"/>
            <a:ext cx="4176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ссия — священная наша держав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ссия — любимая наша стран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гучая воля, великая слава 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 южных морей до полярного кра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скинулись наши леса и пол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дна ты на свете! Одна ты такая 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28880" y="1825200"/>
            <a:ext cx="4390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ирокий простор для мечты и для жизн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рядущие нам открывают год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м силу даёт наша верность Отчизн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Столица   России –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МОСКВА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4" name="Picture 2" descr="C:\Users\Home\Downloads\20100117_811765661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8:25:27Z</dcterms:created>
  <dc:creator>Инна</dc:creator>
  <dc:description/>
  <dc:language>en-US</dc:language>
  <cp:lastModifiedBy>Home</cp:lastModifiedBy>
  <dcterms:modified xsi:type="dcterms:W3CDTF">2015-03-20T11:09:05Z</dcterms:modified>
  <cp:revision>33</cp:revision>
  <dc:subject/>
  <dc:title>Название презентации</dc:title>
</cp:coreProperties>
</file>