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72B-5617-435B-92CE-2FDEC4E2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084-7334-4931-ACE9-EC5B6BE1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F50-4E8A-4AB9-BA33-F6579576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EC6-1C24-4639-82EC-12ACEF68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2D1D-127A-4A8F-8A66-C0918134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AF5E-D4F0-4EA6-ADB6-A15AC0E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BAE0-8E98-4C78-898D-222557E2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B51B-1043-41E7-B7E9-5879C4B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343-90D5-4EA1-8240-73C02237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65E9-B9B2-46CC-89BE-E9DF5204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6A39-7D18-4E88-B013-4D5B6B46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00E-5478-4932-BF7F-1869E25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3793-F73B-476D-91A0-B2B61BC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1501-26BA-43EF-8D48-B9766C0F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37E2-5F60-42FD-8A3A-64259C9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4AB7-3E8C-43D2-B97B-CCB33E45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208B-E732-45A5-A8D7-E8795675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400C-ECA8-444D-AA7E-61D1F45E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B627-3746-4032-93D5-BD93B058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5929-5595-44A7-86F3-D4989793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8E6C-AEB6-41FD-8685-ACB7AFEF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2626-257F-4EF4-86B0-5171447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C92-1403-4EC3-8849-005894F7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5164-191F-494D-86B6-8CD8028F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BADC-9607-40E4-BE5A-00E8651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ED88-A02C-4CA7-BFA0-B4FD533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6BD1-6C05-4884-8436-5448CFA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E182-7F11-4794-9A21-5497B23B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0990-D006-47D8-8DCC-37CB66EB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3566-A350-4102-BC3F-8E41C988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282-0601-4758-9551-A44CD923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553-74FE-4DB5-93F2-B435145C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B68-0122-4D45-8367-CE57A4A6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418-302D-473C-BC91-EFE60B77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287-55EA-4F1F-BC10-1E395D6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832-5CA8-43A4-AB7D-5376A531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25.xml"/><Relationship Id="rId36" Type="http://schemas.openxmlformats.org/officeDocument/2006/relationships/slideLayout" Target="../slideLayouts/slideLayout26.xml"/><Relationship Id="rId37" Type="http://schemas.openxmlformats.org/officeDocument/2006/relationships/slideLayout" Target="../slideLayouts/slideLayout27.xml"/><Relationship Id="rId38" Type="http://schemas.openxmlformats.org/officeDocument/2006/relationships/slideLayout" Target="../slideLayouts/slideLayout28.xml"/><Relationship Id="rId39" Type="http://schemas.openxmlformats.org/officeDocument/2006/relationships/slideLayout" Target="../slideLayouts/slideLayout29.xml"/><Relationship Id="rId40" Type="http://schemas.openxmlformats.org/officeDocument/2006/relationships/slideLayout" Target="../slideLayouts/slideLayout30.xml"/><Relationship Id="rId41" Type="http://schemas.openxmlformats.org/officeDocument/2006/relationships/slideLayout" Target="../slideLayouts/slideLayout31.xml"/><Relationship Id="rId42" Type="http://schemas.openxmlformats.org/officeDocument/2006/relationships/slideLayout" Target="../slideLayouts/slideLayout32.xml"/><Relationship Id="rId43" Type="http://schemas.openxmlformats.org/officeDocument/2006/relationships/slideLayout" Target="../slideLayouts/slideLayout33.xml"/><Relationship Id="rId44" Type="http://schemas.openxmlformats.org/officeDocument/2006/relationships/slideLayout" Target="../slideLayouts/slideLayout34.xml"/><Relationship Id="rId45" Type="http://schemas.openxmlformats.org/officeDocument/2006/relationships/slideLayout" Target="../slideLayouts/slideLayout35.xml"/><Relationship Id="rId4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7D77-F8B4-482C-BD62-805640310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BE7-A123-408B-8143-2D69B28154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508-CC1D-4720-8DAF-46FBC8F97BB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5"/>
    <p:sldLayoutId id="2147483676" r:id="rId36"/>
    <p:sldLayoutId id="2147483677" r:id="rId37"/>
    <p:sldLayoutId id="2147483678" r:id="rId38"/>
    <p:sldLayoutId id="2147483679" r:id="rId39"/>
    <p:sldLayoutId id="2147483680" r:id="rId40"/>
    <p:sldLayoutId id="2147483681" r:id="rId41"/>
    <p:sldLayoutId id="2147483682" r:id="rId42"/>
    <p:sldLayoutId id="2147483683" r:id="rId43"/>
    <p:sldLayoutId id="2147483684" r:id="rId44"/>
    <p:sldLayoutId id="2147483685" r:id="rId45"/>
    <p:sldLayoutId id="2147483686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Estrangelo Edessa"/>
              </a:rPr>
              <a:t>Сфера, описанная вокруг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99"/>
                </a:solidFill>
                <a:latin typeface="Estrangelo Edessa"/>
              </a:rPr>
              <a:t>многогранник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25909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Calibri"/>
              </a:rPr>
              <a:t>Курышова Н.Е. СПб лицей 4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"/>
          <p:cNvSpPr/>
          <p:nvPr/>
        </p:nvSpPr>
        <p:spPr>
          <a:xfrm>
            <a:off x="1066680" y="609480"/>
            <a:ext cx="60199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99"/>
                </a:solidFill>
                <a:latin typeface="Coronet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99"/>
                </a:solidFill>
                <a:latin typeface="Coronet"/>
              </a:rPr>
              <a:t>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H:\с 1.01.2011\картинки\0797-01_med.jpg"/>
          <p:cNvPicPr/>
          <p:nvPr/>
        </p:nvPicPr>
        <p:blipFill>
          <a:blip r:embed="rId1"/>
          <a:stretch/>
        </p:blipFill>
        <p:spPr>
          <a:xfrm>
            <a:off x="6477120" y="4419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33412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0" i="1" lang="ru-RU" sz="2000" spc="-1" strike="noStrike">
                <a:solidFill>
                  <a:srgbClr val="990099"/>
                </a:solidFill>
                <a:latin typeface="Arial"/>
              </a:rPr>
              <a:t>Многогранник называется вписанным в сферу (вписанным в шар), если все вершины многогранника принадлежат этой сфере.</a:t>
            </a:r>
            <a:r>
              <a:rPr b="0" i="1" lang="en-US" sz="20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 сферу в этом случае говорят, что она описана около многогр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:\с 1.01.2011\картинки\0791-01_med.jpg"/>
          <p:cNvPicPr/>
          <p:nvPr/>
        </p:nvPicPr>
        <p:blipFill>
          <a:blip r:embed="rId1"/>
          <a:stretch/>
        </p:blipFill>
        <p:spPr>
          <a:xfrm>
            <a:off x="6248520" y="22860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Множество точек, равноудалённых от концов отрезка в плоскости, есть серединный перпендикуляр, проведённый к этому отре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181480" y="373392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6705720" y="2209680"/>
            <a:ext cx="0" cy="358164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5015160" y="377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640260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815508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472000" y="5065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326280" y="2057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H:\с 1.01.2011\картинки\0750-01_med.jpg"/>
          <p:cNvPicPr/>
          <p:nvPr/>
        </p:nvPicPr>
        <p:blipFill>
          <a:blip r:embed="rId1"/>
          <a:stretch/>
        </p:blipFill>
        <p:spPr>
          <a:xfrm>
            <a:off x="152388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Множество точек, равноудалённых от двух данных точек, есть плоскость, перпендикулярная к отрезку с концами в данных точках, проходящих через его середину (плоскость серединных перпендикуля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54100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486400" y="1295280"/>
            <a:ext cx="2895480" cy="3124440"/>
          </a:xfrm>
          <a:prstGeom prst="parallelogram">
            <a:avLst>
              <a:gd name="adj" fmla="val 49634"/>
            </a:avLst>
          </a:prstGeom>
          <a:gradFill rotWithShape="0">
            <a:gsLst>
              <a:gs pos="0">
                <a:srgbClr val="993300">
                  <a:alpha val="29019"/>
                </a:srgbClr>
              </a:gs>
              <a:gs pos="100000">
                <a:srgbClr val="e1c2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6095880" y="220968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8769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6934320" y="289548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6400800" y="2438280"/>
            <a:ext cx="45720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6019920" y="2133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17400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670752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785052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5640120" y="5105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H:\с 1.01.2011\картинки\0799-01_med.jpg"/>
          <p:cNvPicPr/>
          <p:nvPr/>
        </p:nvPicPr>
        <p:blipFill>
          <a:blip r:embed="rId1"/>
          <a:stretch/>
        </p:blipFill>
        <p:spPr>
          <a:xfrm>
            <a:off x="3048120" y="4419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41972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Множество точек, равноудалённых от «</a:t>
            </a:r>
            <a:r>
              <a:rPr b="0" i="1" lang="en-US" sz="2000" spc="-1" strike="noStrike">
                <a:solidFill>
                  <a:srgbClr val="990099"/>
                </a:solidFill>
                <a:latin typeface="Tahoma"/>
              </a:rPr>
              <a:t>n</a:t>
            </a: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» данных точек («</a:t>
            </a:r>
            <a:r>
              <a:rPr b="0" i="1" lang="en-US" sz="2000" spc="-1" strike="noStrike">
                <a:solidFill>
                  <a:srgbClr val="990099"/>
                </a:solidFill>
                <a:latin typeface="Tahoma"/>
              </a:rPr>
              <a:t>n</a:t>
            </a: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» больше 2), лежащих на одной окружности, есть прямая, перпендикулярная плоскости этих точек, проходящая через центр описанной около них окружности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3809880" y="3429000"/>
            <a:ext cx="5029200" cy="1828800"/>
          </a:xfrm>
          <a:prstGeom prst="parallelogram">
            <a:avLst>
              <a:gd name="adj" fmla="val 68750"/>
            </a:avLst>
          </a:prstGeom>
          <a:gradFill rotWithShape="0">
            <a:gsLst>
              <a:gs pos="0">
                <a:srgbClr val="cc99ff">
                  <a:alpha val="35294"/>
                </a:srgbClr>
              </a:gs>
              <a:gs pos="100000">
                <a:srgbClr val="ff99cc">
                  <a:alpha val="35294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 rot="21013200">
            <a:off x="5105520" y="3657240"/>
            <a:ext cx="2438280" cy="1217520"/>
          </a:xfrm>
          <a:prstGeom prst="ellipse">
            <a:avLst/>
          </a:prstGeom>
          <a:gradFill rotWithShape="0">
            <a:gsLst>
              <a:gs pos="0">
                <a:srgbClr val="99ff99">
                  <a:alpha val="51372"/>
                </a:srgbClr>
              </a:gs>
              <a:gs pos="100000">
                <a:srgbClr val="66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3244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63244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63244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67057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24852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739152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5183640" y="358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7088400" y="335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754524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67831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4955040" y="4800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868360" y="3886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5868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6" descr="H:\с 1.01.2011\картинки\0792-01_med.jpg"/>
          <p:cNvPicPr/>
          <p:nvPr/>
        </p:nvPicPr>
        <p:blipFill>
          <a:blip r:embed="rId1"/>
          <a:stretch/>
        </p:blipFill>
        <p:spPr>
          <a:xfrm>
            <a:off x="144792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Около треугольной пирамиды можно описать ш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876920" y="1447920"/>
            <a:ext cx="3657600" cy="3581280"/>
          </a:xfrm>
          <a:prstGeom prst="ellipse">
            <a:avLst/>
          </a:prstGeom>
          <a:gradFill rotWithShape="0">
            <a:gsLst>
              <a:gs pos="0">
                <a:srgbClr val="ffabd5">
                  <a:alpha val="28235"/>
                </a:srgbClr>
              </a:gs>
              <a:gs pos="100000">
                <a:srgbClr val="993366">
                  <a:alpha val="3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5105520" y="3505320"/>
            <a:ext cx="3124080" cy="1143000"/>
          </a:xfrm>
          <a:prstGeom prst="ellipse">
            <a:avLst/>
          </a:pr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969696">
                  <a:alpha val="3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54100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77724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5867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701028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3"/>
          <p:cNvSpPr/>
          <p:nvPr/>
        </p:nvSpPr>
        <p:spPr>
          <a:xfrm>
            <a:off x="5562720" y="1523880"/>
            <a:ext cx="2286000" cy="914400"/>
          </a:xfrm>
          <a:prstGeom prst="ellipse">
            <a:avLst/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969696">
                  <a:alpha val="28235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25924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792612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5640120" y="464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7164360" y="2438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5486400" y="3657600"/>
            <a:ext cx="45720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5486400" y="36576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 flipH="1">
            <a:off x="5943600" y="3657600"/>
            <a:ext cx="19051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 flipH="1">
            <a:off x="5486040" y="2362320"/>
            <a:ext cx="1600200" cy="13716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7086600" y="2362320"/>
            <a:ext cx="762120" cy="1295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4"/>
          <p:cNvSpPr/>
          <p:nvPr/>
        </p:nvSpPr>
        <p:spPr>
          <a:xfrm flipH="1">
            <a:off x="5943240" y="2362320"/>
            <a:ext cx="1143000" cy="22096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5"/>
          <p:cNvSpPr/>
          <p:nvPr/>
        </p:nvSpPr>
        <p:spPr>
          <a:xfrm flipH="1">
            <a:off x="6705360" y="1981080"/>
            <a:ext cx="7596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7086600" y="24382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7164360" y="4495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6249600" y="3809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9"/>
              <p:cNvSpPr txBox="1"/>
              <p:nvPr/>
            </p:nvSpPr>
            <p:spPr>
              <a:xfrm>
                <a:off x="6781680" y="1600200"/>
                <a:ext cx="685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10" name="Picture 32" descr="H:\с 1.01.2011\картинки\0797-01_med.jpg"/>
          <p:cNvPicPr/>
          <p:nvPr/>
        </p:nvPicPr>
        <p:blipFill>
          <a:blip r:embed="rId1"/>
          <a:stretch/>
        </p:blipFill>
        <p:spPr>
          <a:xfrm>
            <a:off x="1066680" y="3429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-53388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Если около основания пирамиды можно описать окружность, то около этой пирамиды можно описать ш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Следствие: Около любой правильной пирамиды можно описать ш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4724280" y="1676520"/>
            <a:ext cx="3657600" cy="3581280"/>
          </a:xfrm>
          <a:prstGeom prst="ellipse">
            <a:avLst/>
          </a:prstGeom>
          <a:gradFill rotWithShape="0">
            <a:gsLst>
              <a:gs pos="0">
                <a:srgbClr val="ffffff">
                  <a:alpha val="28235"/>
                </a:srgbClr>
              </a:gs>
              <a:gs pos="100000">
                <a:srgbClr val="ff99cc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8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67057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7010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2"/>
          <p:cNvSpPr/>
          <p:nvPr/>
        </p:nvSpPr>
        <p:spPr>
          <a:xfrm>
            <a:off x="78487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"/>
          <p:cNvSpPr/>
          <p:nvPr/>
        </p:nvSpPr>
        <p:spPr>
          <a:xfrm>
            <a:off x="4952880" y="3886200"/>
            <a:ext cx="3124440" cy="914400"/>
          </a:xfrm>
          <a:prstGeom prst="ellipse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993366">
                  <a:alpha val="21176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4"/>
          <p:cNvSpPr/>
          <p:nvPr/>
        </p:nvSpPr>
        <p:spPr>
          <a:xfrm>
            <a:off x="5410080" y="1828800"/>
            <a:ext cx="2210040" cy="60948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99cc">
                  <a:alpha val="40000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6"/>
          <p:cNvSpPr/>
          <p:nvPr/>
        </p:nvSpPr>
        <p:spPr>
          <a:xfrm>
            <a:off x="5486400" y="4648320"/>
            <a:ext cx="1295280" cy="152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7"/>
          <p:cNvSpPr/>
          <p:nvPr/>
        </p:nvSpPr>
        <p:spPr>
          <a:xfrm flipV="1">
            <a:off x="6781680" y="4114440"/>
            <a:ext cx="1143000" cy="685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H="1">
            <a:off x="6781320" y="2286000"/>
            <a:ext cx="304920" cy="25146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>
            <a:off x="7086600" y="2362320"/>
            <a:ext cx="838080" cy="1752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57800" y="4114800"/>
            <a:ext cx="228600" cy="533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4"/>
          <p:cNvSpPr/>
          <p:nvPr/>
        </p:nvSpPr>
        <p:spPr>
          <a:xfrm>
            <a:off x="5257800" y="411480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5"/>
          <p:cNvSpPr/>
          <p:nvPr/>
        </p:nvSpPr>
        <p:spPr>
          <a:xfrm flipH="1">
            <a:off x="5257800" y="2362320"/>
            <a:ext cx="1828800" cy="1752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 flipH="1">
            <a:off x="5486040" y="2362320"/>
            <a:ext cx="1600200" cy="2286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"/>
          <p:cNvSpPr/>
          <p:nvPr/>
        </p:nvSpPr>
        <p:spPr>
          <a:xfrm>
            <a:off x="480204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9"/>
          <p:cNvSpPr/>
          <p:nvPr/>
        </p:nvSpPr>
        <p:spPr>
          <a:xfrm>
            <a:off x="792612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6783120" y="4876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51829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2"/>
          <p:cNvSpPr/>
          <p:nvPr/>
        </p:nvSpPr>
        <p:spPr>
          <a:xfrm>
            <a:off x="7011720" y="1905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6553080" y="213372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6021000" y="4343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5"/>
              <p:cNvSpPr txBox="1"/>
              <p:nvPr/>
            </p:nvSpPr>
            <p:spPr>
              <a:xfrm>
                <a:off x="6019920" y="1371600"/>
                <a:ext cx="672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Line 38"/>
          <p:cNvSpPr/>
          <p:nvPr/>
        </p:nvSpPr>
        <p:spPr>
          <a:xfrm>
            <a:off x="7086600" y="236232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9"/>
          <p:cNvSpPr/>
          <p:nvPr/>
        </p:nvSpPr>
        <p:spPr>
          <a:xfrm>
            <a:off x="7164360" y="4572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6553080" y="2133720"/>
            <a:ext cx="53352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2" descr="H:\с 1.01.2011\картинки\0750-01_med.jpg"/>
          <p:cNvPicPr/>
          <p:nvPr/>
        </p:nvPicPr>
        <p:blipFill>
          <a:blip r:embed="rId1"/>
          <a:stretch/>
        </p:blipFill>
        <p:spPr>
          <a:xfrm>
            <a:off x="1371600" y="3886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5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Tahoma"/>
              </a:rPr>
              <a:t>Центр шара, описанного около пирамиды, высота которой проектируется в центр описанной окружности вокруг основания, лежит на середине диаметра, проведённого через центр этой окружности, перпендикулярно 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4952880" y="1676520"/>
            <a:ext cx="3581640" cy="342900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990099">
                  <a:alpha val="4705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5105520" y="3581280"/>
            <a:ext cx="3200400" cy="9144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69696">
                  <a:alpha val="56078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6705720" y="17524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510552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5105160" y="1676520"/>
            <a:ext cx="1600200" cy="2361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5105520" y="40384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57913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4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5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6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7"/>
          <p:cNvSpPr/>
          <p:nvPr/>
        </p:nvSpPr>
        <p:spPr>
          <a:xfrm>
            <a:off x="50292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5791320" y="2895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662940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4802040" y="403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6783120" y="13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670716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6783120" y="3809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548820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6783480" y="3200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6708240" y="26668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783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5640480" y="3581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9"/>
          <p:cNvSpPr/>
          <p:nvPr/>
        </p:nvSpPr>
        <p:spPr>
          <a:xfrm>
            <a:off x="6784560" y="4419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0" descr="H:\с 1.01.2011\картинки\0799-01_med.jpg"/>
          <p:cNvPicPr/>
          <p:nvPr/>
        </p:nvPicPr>
        <p:blipFill>
          <a:blip r:embed="rId1"/>
          <a:stretch/>
        </p:blipFill>
        <p:spPr>
          <a:xfrm>
            <a:off x="160020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Tahoma"/>
              </a:rPr>
              <a:t>Центр шара, описанного около пирамиды лежит в точке пересечения прямой перпендикулярной основанию пирамиды, проходящей через центр описанной около основания окружности и плоскости, перпендикулярной любому боковому ребру, проведённой через середину этого ре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7"/>
          <p:cNvSpPr/>
          <p:nvPr/>
        </p:nvSpPr>
        <p:spPr>
          <a:xfrm>
            <a:off x="4876920" y="1905120"/>
            <a:ext cx="3657600" cy="3733560"/>
          </a:xfrm>
          <a:prstGeom prst="ellipse">
            <a:avLst/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cc00cc">
                  <a:alpha val="3137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8"/>
          <p:cNvSpPr/>
          <p:nvPr/>
        </p:nvSpPr>
        <p:spPr>
          <a:xfrm>
            <a:off x="5029200" y="3886200"/>
            <a:ext cx="3352680" cy="1143000"/>
          </a:xfrm>
          <a:prstGeom prst="ellipse">
            <a:avLst/>
          </a:prstGeom>
          <a:gradFill rotWithShape="0">
            <a:gsLst>
              <a:gs pos="0">
                <a:srgbClr val="ffffff">
                  <a:alpha val="47058"/>
                </a:srgbClr>
              </a:gs>
              <a:gs pos="100000">
                <a:srgbClr val="969696">
                  <a:alpha val="46274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9"/>
          <p:cNvSpPr/>
          <p:nvPr/>
        </p:nvSpPr>
        <p:spPr>
          <a:xfrm>
            <a:off x="5486400" y="2057400"/>
            <a:ext cx="2514600" cy="914400"/>
          </a:xfrm>
          <a:prstGeom prst="ellipse">
            <a:avLst/>
          </a:prstGeom>
          <a:gradFill rotWithShape="0">
            <a:gsLst>
              <a:gs pos="0">
                <a:srgbClr val="c0c0c0">
                  <a:alpha val="64313"/>
                </a:srgbClr>
              </a:gs>
              <a:gs pos="100000">
                <a:srgbClr val="ffffff">
                  <a:alpha val="51372"/>
                </a:srgbClr>
              </a:gs>
            </a:gsLst>
            <a:lin ang="27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59436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662940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62940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6705720" y="2438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 flipH="1">
            <a:off x="5181120" y="2133720"/>
            <a:ext cx="83844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556272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9"/>
          <p:cNvSpPr/>
          <p:nvPr/>
        </p:nvSpPr>
        <p:spPr>
          <a:xfrm>
            <a:off x="55627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0" descr="H:\с 1.01.2011\картинки\0792-01_med.jpg"/>
          <p:cNvPicPr/>
          <p:nvPr/>
        </p:nvPicPr>
        <p:blipFill>
          <a:blip r:embed="rId1"/>
          <a:stretch/>
        </p:blipFill>
        <p:spPr>
          <a:xfrm>
            <a:off x="1600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7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500"/>
                            </p:stCondLst>
                            <p:childTnLst>
                              <p:par>
                                <p:cTn id="567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10:46Z</dcterms:created>
  <dc:creator>Наталья</dc:creator>
  <dc:description/>
  <dc:language>en-US</dc:language>
  <cp:lastModifiedBy>Наталья</cp:lastModifiedBy>
  <dcterms:modified xsi:type="dcterms:W3CDTF">2011-02-20T07:28:5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