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7E0B9-051E-47E0-85DC-5DF66DA80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572A-2169-4752-B2B6-1F34F701C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EFCF-6E4A-42B3-97B4-C9DBC06DC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737E-C968-4956-9F49-BEC96BCA1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1F71-2640-47E1-9BE9-622CCFFE5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3AF0-1D78-45D0-8F6F-5BA03CB58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9F7A-A6F8-4F96-A31E-043C74DBC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57DF-CBFA-4A61-9600-96F1DF44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7A2D-B58B-4B84-9F02-19ED783E0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F5D5-E679-4534-A425-FF00C09AC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9228-EE5B-46F1-A636-85471C04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DEE4-ACBC-48AD-9A54-139BA89F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46199-D6E9-4628-99E7-AD18B5D8A9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2276640"/>
            <a:ext cx="8229600" cy="28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br>
              <a:rPr sz="1400"/>
            </a:br>
            <a:br>
              <a:rPr sz="14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униципальное бюджетное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бщеобразовательное учреждение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щинская средняя школа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моленского района Смоленской области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Юнармейский отряд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мени героя Советского Союза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вана Никитича Руссиянов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843280" y="1125000"/>
            <a:ext cx="518472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настоящее время подготовлены образцы формы одежды и атрибутики юнармейцев, разработан типовой календарный план работы на год.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Содержимое 4" descr="iiKWcM_CgnM.jpg"/>
          <p:cNvPicPr/>
          <p:nvPr/>
        </p:nvPicPr>
        <p:blipFill>
          <a:blip r:embed="rId2"/>
          <a:stretch/>
        </p:blipFill>
        <p:spPr>
          <a:xfrm>
            <a:off x="2987640" y="2133720"/>
            <a:ext cx="35164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340000" y="1371600"/>
            <a:ext cx="6346800" cy="18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Первый слёт Юнармейских отрядов Смоленского район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5" descr="C:\Users\Саша\Desktop\фото юн\Yp4RWgq_tSU.jpg"/>
          <p:cNvPicPr/>
          <p:nvPr/>
        </p:nvPicPr>
        <p:blipFill>
          <a:blip r:embed="rId2"/>
          <a:stretch/>
        </p:blipFill>
        <p:spPr>
          <a:xfrm>
            <a:off x="539640" y="233208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C:\Users\Саша\Desktop\фото юн\PoFdIY_OCEE.jpg"/>
          <p:cNvPicPr/>
          <p:nvPr/>
        </p:nvPicPr>
        <p:blipFill>
          <a:blip r:embed="rId3"/>
          <a:stretch/>
        </p:blipFill>
        <p:spPr>
          <a:xfrm>
            <a:off x="4788000" y="2322360"/>
            <a:ext cx="3402000" cy="45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258560" y="1125000"/>
            <a:ext cx="7427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сновой движения стали патриотические клубы и отряды, которые действуют во всех образовательных организациях Смоленского район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331640" y="836280"/>
            <a:ext cx="67690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4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 настоящее время  активизируется деятельность движения «Юнармия» и становится все более разнообразной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Ы - ЮНАРМЕЙЦ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ечтать, надо мечтать детям орлин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емен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Есть воля и смелость у нас, чтобы ст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ЕРОЯМИ НАШЕГО ВРЕМ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84000" y="620280"/>
            <a:ext cx="620244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Calibri"/>
              </a:rPr>
              <a:t>Деятельность юнармейского отряда МБОУ Кощинская СШ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Содержимое 4" descr="C:\Users\Саша\Desktop\Рисунок2.jpg"/>
          <p:cNvPicPr/>
          <p:nvPr/>
        </p:nvPicPr>
        <p:blipFill>
          <a:blip r:embed="rId2"/>
          <a:stretch/>
        </p:blipFill>
        <p:spPr>
          <a:xfrm>
            <a:off x="2771640" y="2781360"/>
            <a:ext cx="4667400" cy="33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Содержимое 4" descr="C:\Users\Саша\Desktop\Рисунок1.jpg"/>
          <p:cNvPicPr/>
          <p:nvPr/>
        </p:nvPicPr>
        <p:blipFill>
          <a:blip r:embed="rId2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402920" y="1773360"/>
            <a:ext cx="729468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Орлам, рождённым для побед,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Пора расправить крылья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Оставить в небе яркий след,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Стать добрым, смелым, сильны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Хотим всегда быть впереди,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Обнять страну всем сердцем.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Скорей взрослеть! Быстрей расти</a:t>
            </a:r>
            <a:br>
              <a:rPr sz="3200"/>
            </a:br>
            <a:r>
              <a:rPr b="1" i="1" lang="ru-RU" sz="3200" spc="-1" strike="noStrike">
                <a:solidFill>
                  <a:srgbClr val="ff0000"/>
                </a:solidFill>
                <a:latin typeface="Calibri"/>
              </a:rPr>
              <a:t>В рядах юноармейце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916360" y="857160"/>
            <a:ext cx="547200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ссийское Движение Школьников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1000080" y="2643120"/>
            <a:ext cx="707220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4287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ициатором создания ВВПОД «Юнармия» выступил министр обороны ВС РФ </a:t>
            </a:r>
            <a:br>
              <a:rPr sz="2400"/>
            </a:b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Шойгу С.К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2"/>
          <a:stretch/>
        </p:blipFill>
        <p:spPr>
          <a:xfrm>
            <a:off x="714240" y="500040"/>
            <a:ext cx="5193000" cy="38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14400" y="2708280"/>
            <a:ext cx="711360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Цель движения - вызвать интерес у подрастающего поколения к географии, истории России и ее народов, героев, выдающихся ученых и полководцев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2" descr=""/>
          <p:cNvPicPr/>
          <p:nvPr/>
        </p:nvPicPr>
        <p:blipFill>
          <a:blip r:embed="rId2"/>
          <a:stretch/>
        </p:blipFill>
        <p:spPr>
          <a:xfrm>
            <a:off x="971640" y="765000"/>
            <a:ext cx="216036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84000" y="620280"/>
            <a:ext cx="54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Организация имеет свою символику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2"/>
          <a:stretch/>
        </p:blipFill>
        <p:spPr>
          <a:xfrm>
            <a:off x="1042920" y="2781360"/>
            <a:ext cx="1714680" cy="1233360"/>
          </a:xfrm>
          <a:prstGeom prst="rect">
            <a:avLst/>
          </a:prstGeom>
          <a:ln w="0">
            <a:noFill/>
          </a:ln>
        </p:spPr>
      </p:pic>
      <p:sp>
        <p:nvSpPr>
          <p:cNvPr id="55" name="TextBox 5"/>
          <p:cNvSpPr/>
          <p:nvPr/>
        </p:nvSpPr>
        <p:spPr>
          <a:xfrm>
            <a:off x="971640" y="4149720"/>
            <a:ext cx="439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Красное полотнище с эмблемой Юнарм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3"/>
          <a:stretch/>
        </p:blipFill>
        <p:spPr>
          <a:xfrm>
            <a:off x="5724360" y="2708280"/>
            <a:ext cx="1857600" cy="1571760"/>
          </a:xfrm>
          <a:prstGeom prst="rect">
            <a:avLst/>
          </a:prstGeom>
          <a:ln w="0">
            <a:noFill/>
          </a:ln>
        </p:spPr>
      </p:pic>
      <p:sp>
        <p:nvSpPr>
          <p:cNvPr id="57" name="TextBox 7"/>
          <p:cNvSpPr/>
          <p:nvPr/>
        </p:nvSpPr>
        <p:spPr>
          <a:xfrm>
            <a:off x="5651640" y="3789360"/>
            <a:ext cx="2270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Знач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59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0920" y="5157360"/>
            <a:ext cx="7705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8 мая 2016 года в парке «Патриот» в подмосковной Кубинке прошел учредительный слет движения, на который собрались делегаты изо всех регионов Росс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2"/>
          <a:stretch/>
        </p:blipFill>
        <p:spPr>
          <a:xfrm>
            <a:off x="826920" y="692280"/>
            <a:ext cx="749016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16000" y="3933360"/>
            <a:ext cx="640872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сентября 2016 года Всероссийское патриотическое движение Юнармия официально стартовала на Смоленщин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2"/>
          <a:stretch/>
        </p:blipFill>
        <p:spPr>
          <a:xfrm>
            <a:off x="755640" y="620640"/>
            <a:ext cx="4608360" cy="35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</a:t>
            </a:r>
            <a:br>
              <a:rPr sz="18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 1 сентября 2016 года Юнармейский отряд сформирован в МБОУ Кощинская СШ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7" descr="C:\Users\Саша\Desktop\Рисунок1.jpg"/>
          <p:cNvPicPr/>
          <p:nvPr/>
        </p:nvPicPr>
        <p:blipFill>
          <a:blip r:embed="rId2"/>
          <a:stretch/>
        </p:blipFill>
        <p:spPr>
          <a:xfrm>
            <a:off x="1763640" y="1268280"/>
            <a:ext cx="5857920" cy="35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13T16:48:02Z</dcterms:created>
  <dc:creator>acer</dc:creator>
  <dc:description/>
  <dc:language>en-US</dc:language>
  <cp:lastModifiedBy>Саша</cp:lastModifiedBy>
  <dcterms:modified xsi:type="dcterms:W3CDTF">2017-11-29T20:21:59Z</dcterms:modified>
  <cp:revision>38</cp:revision>
  <dc:subject/>
  <dc:title>МБОУ СИНЬКОВСКАЯ СШ</dc:title>
</cp:coreProperties>
</file>