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A56FF-0268-4430-BF77-C9145E6D7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9D60-9137-4D95-A756-6B3B65D3C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991DE-651D-406E-9C25-40CEC69BE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8AE2-F8D8-4EDD-AC05-62C7A7CEC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C06B-4CD0-4E6A-B3DC-00C0A32BE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807D-6D5A-4976-8BD7-AFD16A7AA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D1C0-9F48-4513-B41C-D9B43D462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DBE-A9BD-468F-B7F5-50B22718A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4B34-78FA-42CF-A4CF-84642202E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A294-B0CF-4162-9AB9-EAA085942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134-63DD-4E3E-A3CC-B7044F6AC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D4B4-6647-4191-AD81-3575E89F5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7409E-7FCE-4497-AACC-8BF28DCB019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бюджетно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образовательное учреждение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щинская 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оленского района Смоленской област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нармейский отряд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и героя Советского Союз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а Никитича Руссиян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43280" y="1125000"/>
            <a:ext cx="518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астоящее время подготовлены образцы формы одежды и атрибутики юнармейцев, разработан типовой календарный план работы на год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iiKWcM_CgnM.jpg"/>
          <p:cNvPicPr/>
          <p:nvPr/>
        </p:nvPicPr>
        <p:blipFill>
          <a:blip r:embed="rId2"/>
          <a:stretch/>
        </p:blipFill>
        <p:spPr>
          <a:xfrm>
            <a:off x="2987640" y="2133720"/>
            <a:ext cx="3516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0000" y="1371600"/>
            <a:ext cx="6346800" cy="1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вый слёт Юнармейских отрядов Смоленского райо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Users\Саша\Desktop\фото юн\Yp4RWgq_tSU.jpg"/>
          <p:cNvPicPr/>
          <p:nvPr/>
        </p:nvPicPr>
        <p:blipFill>
          <a:blip r:embed="rId2"/>
          <a:stretch/>
        </p:blipFill>
        <p:spPr>
          <a:xfrm>
            <a:off x="539640" y="23320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Саша\Desktop\фото юн\PoFdIY_OCEE.jpg"/>
          <p:cNvPicPr/>
          <p:nvPr/>
        </p:nvPicPr>
        <p:blipFill>
          <a:blip r:embed="rId3"/>
          <a:stretch/>
        </p:blipFill>
        <p:spPr>
          <a:xfrm>
            <a:off x="4788000" y="2322360"/>
            <a:ext cx="340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8560" y="1125000"/>
            <a:ext cx="74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ой движения стали патриотические клубы и отряды, которые действуют во всех образовательных организациях Смоленского райо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1640" y="836280"/>
            <a:ext cx="676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астоящее время  активизируется деятельность движения «Юнармия» и становится все более разнообразно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- ЮНАРМЕЙ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чтать, надо мечтать детям орли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е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воля и смелость у нас, чтобы с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ЯМИ НАШЕГ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202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ятельность юнармейского отряда МБОУ Кощинская С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C:\Users\Саша\Desktop\Рисунок2.jpg"/>
          <p:cNvPicPr/>
          <p:nvPr/>
        </p:nvPicPr>
        <p:blipFill>
          <a:blip r:embed="rId2"/>
          <a:stretch/>
        </p:blipFill>
        <p:spPr>
          <a:xfrm>
            <a:off x="2771640" y="2781360"/>
            <a:ext cx="4667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4" descr="C:\Users\Саша\Desktop\Рисунок1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02920" y="1773360"/>
            <a:ext cx="7294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рлам, рождённым для побед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ора расправить крылья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ставить в небе яркий след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тать добрым, смелым, си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Хотим всегда быть впереди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бнять страну всем сердцем.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корей взрослеть! Быстрей расти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 рядах юноармейц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16360" y="857160"/>
            <a:ext cx="5472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йское Движение Шк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000080" y="2643120"/>
            <a:ext cx="7072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ициатором создания ВВПОД «Юнармия» выступил министр обороны ВС РФ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ойгу С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714240" y="500040"/>
            <a:ext cx="5193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08280"/>
            <a:ext cx="7113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Цель движения - вызвать интерес у подрастающего поколения к географии, истории России и ее народов, героев, выдающихся ученых и полководц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2160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рганизация имеет свою символик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1714680" cy="123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971640" y="414972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асное полотнище с эмблемой Юнар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1857600" cy="1571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651640" y="3789360"/>
            <a:ext cx="22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на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51573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мая 2016 года в парке «Патриот» в подмосковной Кубинке прошел учредительный слет движения, на который собрались делегаты изо всех регионов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490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933360"/>
            <a:ext cx="6408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сентября 2016 года Всероссийское патриотическое движение Юнармия официально стартовала на Смоленщ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46083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 сентября 2016 года Юнармейский отряд сформирован в МБОУ Кощинская СШ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C:\Users\Саша\Desktop\Рисунок1.jpg"/>
          <p:cNvPicPr/>
          <p:nvPr/>
        </p:nvPicPr>
        <p:blipFill>
          <a:blip r:embed="rId2"/>
          <a:stretch/>
        </p:blipFill>
        <p:spPr>
          <a:xfrm>
            <a:off x="1763640" y="1268280"/>
            <a:ext cx="58579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3T16:48:02Z</dcterms:created>
  <dc:creator>acer</dc:creator>
  <dc:description/>
  <dc:language>en-US</dc:language>
  <cp:lastModifiedBy>Саша</cp:lastModifiedBy>
  <dcterms:modified xsi:type="dcterms:W3CDTF">2017-11-29T20:21:59Z</dcterms:modified>
  <cp:revision>38</cp:revision>
  <dc:subject/>
  <dc:title>МБОУ СИНЬКОВСКАЯ СШ</dc:title>
</cp:coreProperties>
</file>