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nstantia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nstantia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nstantia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nstantia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nstantia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nstantia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nstantia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Constantia"/>
              </a:rPr>
              <a:t>   </a:t>
            </a:r>
            <a:r>
              <a:rPr b="1" lang="ru-RU" sz="4000" spc="-1" strike="noStrike">
                <a:solidFill>
                  <a:srgbClr val="333399"/>
                </a:solidFill>
                <a:latin typeface="Constantia"/>
              </a:rPr>
              <a:t>«Формирование        представления о сенсорных эталонах цвета у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Constantia"/>
              </a:rPr>
              <a:t>детей младшего дошкольного возраста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Constantia"/>
              </a:rPr>
              <a:t>посредством дидактических игр»</a:t>
            </a:r>
            <a:endParaRPr b="1" lang="en-US" sz="40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4429080" y="5072040"/>
            <a:ext cx="4714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втор : Алиулова А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спитатель д/с «Терем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6" descr="C:\Documents and Settings\Пользователь\Мои документы\Мои рисунки\сенсор\toys.gif"/>
          <p:cNvPicPr/>
          <p:nvPr/>
        </p:nvPicPr>
        <p:blipFill>
          <a:blip r:embed="rId1"/>
          <a:stretch/>
        </p:blipFill>
        <p:spPr>
          <a:xfrm>
            <a:off x="7342200" y="1125360"/>
            <a:ext cx="14637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onstantia"/>
              </a:rPr>
              <a:t>Второй контрольный эксперимент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onstantia"/>
              </a:rPr>
              <a:t>   Уровни сформированности восприятия цвета. </a:t>
            </a:r>
            <a:br>
              <a:rPr sz="2800"/>
            </a:br>
            <a:endParaRPr b="1" lang="en-US" sz="2800" spc="-1" strike="noStrike">
              <a:solidFill>
                <a:srgbClr val="009900"/>
              </a:solidFill>
              <a:latin typeface="Calibri"/>
            </a:endParaRPr>
          </a:p>
        </p:txBody>
      </p:sp>
      <p:pic>
        <p:nvPicPr>
          <p:cNvPr id="70" name="Содержимое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Вывод</a:t>
            </a: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6426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nstantia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Constantia"/>
              </a:rPr>
              <a:t>В ходе 1 констатирующего эксперимента применялась методика Г.А. Урунтаевой, по изучению восприятия цвета, описанная в «Практикуме по детской психологии», </a:t>
            </a:r>
            <a:endParaRPr b="1" lang="en-US" sz="2000" spc="-1" strike="noStrike">
              <a:solidFill>
                <a:srgbClr val="333399"/>
              </a:solidFill>
              <a:latin typeface="Constantia"/>
            </a:endParaRPr>
          </a:p>
          <a:p>
            <a:pPr marL="318960" indent="-318960">
              <a:spcBef>
                <a:spcPts val="499"/>
              </a:spcBef>
              <a:buClr>
                <a:srgbClr val="3333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nstantia"/>
              </a:rPr>
              <a:t>- В ходе 1 констатирующего эксперимента нами было выявлено, что большинство детей находится на низком уровне сформированности восприятия цвета: не видят сходства и различия цветов, размещая цвета по наглядному образцу, путают названия цветов, что подтвердило необходимость разработки форм, методов, средств формирующих представления о сенсорных эталонах цвета.</a:t>
            </a:r>
            <a:endParaRPr b="1" lang="en-US" sz="2000" spc="-1" strike="noStrike">
              <a:solidFill>
                <a:srgbClr val="333399"/>
              </a:solidFill>
              <a:latin typeface="Constantia"/>
            </a:endParaRPr>
          </a:p>
          <a:p>
            <a:pPr marL="318960" indent="-318960">
              <a:spcBef>
                <a:spcPts val="499"/>
              </a:spcBef>
              <a:buClr>
                <a:srgbClr val="3333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nstantia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Constantia"/>
              </a:rPr>
              <a:t>- В ходе проведенного второго контрольного эксперимента, произошли существенные изменения в сформированности представлений о сенсорных эталонах цвета, на начальном этапе 60% детей имели низкий уровень, а по завершению эксперимента у 60% детей повысился уровень самостоятельности при выполнении соответствующих действий, позволяя говорить, что при систематическом  использовании д/и у детей развиваются сенсорные восприятия цвета</a:t>
            </a:r>
            <a:endParaRPr b="1" lang="en-US" sz="2000" spc="-1" strike="noStrike">
              <a:solidFill>
                <a:srgbClr val="33339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Заключение</a:t>
            </a: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7855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nstant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onstantia"/>
              </a:rPr>
              <a:t>Таким образом определена сущность «сенсорного воспитания», под которой понимается  целенаправленное, последовательное и планомерное педагогическое взаимодействие  с ребёнком.       Выделены условия обеспечивающие эффективность проведения дидактических игр и формирования представлений о сенсорных эталонах цвета. Этими условиями являются: последовательность и систематичность использования  дидактических  игр; наша цель достигнута.</a:t>
            </a:r>
            <a:endParaRPr b="1" lang="en-US" sz="2800" spc="-1" strike="noStrike">
              <a:solidFill>
                <a:srgbClr val="33339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«Дидактический столик»</a:t>
            </a: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4200" y="128556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nstantia"/>
              </a:rPr>
              <a:t>	</a:t>
            </a:r>
            <a:endParaRPr b="1" lang="en-US" sz="2000" spc="-1" strike="noStrike">
              <a:solidFill>
                <a:srgbClr val="333399"/>
              </a:solidFill>
              <a:latin typeface="Constantia"/>
            </a:endParaRPr>
          </a:p>
        </p:txBody>
      </p:sp>
      <p:pic>
        <p:nvPicPr>
          <p:cNvPr id="77" name="Picture 5" descr="C:\Users\User\Desktop\фото д.с\IMG_20151120_155600.jpg"/>
          <p:cNvPicPr/>
          <p:nvPr/>
        </p:nvPicPr>
        <p:blipFill>
          <a:blip r:embed="rId1"/>
          <a:stretch/>
        </p:blipFill>
        <p:spPr>
          <a:xfrm>
            <a:off x="785880" y="1285920"/>
            <a:ext cx="7643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«Собери цветочек»</a:t>
            </a: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pic>
        <p:nvPicPr>
          <p:cNvPr id="79" name="Picture 6" descr="C:\Users\User\Desktop\фото д.с\IMG_20160606_120905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«Цветные камешки»</a:t>
            </a: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pic>
        <p:nvPicPr>
          <p:cNvPr id="81" name="Picture 2" descr="C:\Users\User\Desktop\фото д.с\IMG_20160606_12064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-2858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«Мы строим дом»</a:t>
            </a: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pic>
        <p:nvPicPr>
          <p:cNvPr id="83" name="Picture 4" descr="C:\Users\User\Desktop\фото д.с\IMG_20150914_085939.jpg"/>
          <p:cNvPicPr/>
          <p:nvPr/>
        </p:nvPicPr>
        <p:blipFill>
          <a:blip r:embed="rId1"/>
          <a:stretch/>
        </p:blipFill>
        <p:spPr>
          <a:xfrm>
            <a:off x="1143000" y="1428840"/>
            <a:ext cx="717876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«Разноцветные флажки»</a:t>
            </a:r>
            <a:br>
              <a:rPr sz="4400"/>
            </a:b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pic>
        <p:nvPicPr>
          <p:cNvPr id="85" name="Picture 4" descr="C:\Users\User\Desktop\фото д.с\IMG_20150915_090731.jpg"/>
          <p:cNvPicPr/>
          <p:nvPr/>
        </p:nvPicPr>
        <p:blipFill>
          <a:blip r:embed="rId1"/>
          <a:stretch/>
        </p:blipFill>
        <p:spPr>
          <a:xfrm>
            <a:off x="1554120" y="1398600"/>
            <a:ext cx="63039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«Сенсорный коврик»</a:t>
            </a: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pic>
        <p:nvPicPr>
          <p:cNvPr id="87" name="Picture 4" descr="C:\Users\User\Desktop\фото д.с\IMG_20151120_154503.jpg"/>
          <p:cNvPicPr/>
          <p:nvPr/>
        </p:nvPicPr>
        <p:blipFill>
          <a:blip r:embed="rId1"/>
          <a:stretch/>
        </p:blipFill>
        <p:spPr>
          <a:xfrm>
            <a:off x="1554120" y="1357200"/>
            <a:ext cx="63756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«На прогулке»</a:t>
            </a:r>
            <a:br>
              <a:rPr sz="4400"/>
            </a:b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pic>
        <p:nvPicPr>
          <p:cNvPr id="89" name="Picture 4" descr="C:\Users\User\Desktop\фото д.с\IMG_20150914_102149.jpg"/>
          <p:cNvPicPr/>
          <p:nvPr/>
        </p:nvPicPr>
        <p:blipFill>
          <a:blip r:embed="rId1"/>
          <a:stretch/>
        </p:blipFill>
        <p:spPr>
          <a:xfrm>
            <a:off x="1554120" y="1071720"/>
            <a:ext cx="644688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Актуальность</a:t>
            </a: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24000" y="114336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1"/>
          <p:cNvPicPr/>
          <p:nvPr/>
        </p:nvPicPr>
        <p:blipFill>
          <a:blip r:embed="rId1"/>
          <a:stretch/>
        </p:blipFill>
        <p:spPr>
          <a:xfrm>
            <a:off x="214200" y="0"/>
            <a:ext cx="2214720" cy="1909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boy"/>
          <p:cNvPicPr/>
          <p:nvPr/>
        </p:nvPicPr>
        <p:blipFill>
          <a:blip r:embed="rId2"/>
          <a:stretch/>
        </p:blipFill>
        <p:spPr>
          <a:xfrm>
            <a:off x="7286760" y="4581360"/>
            <a:ext cx="1857240" cy="2276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357120" y="929160"/>
            <a:ext cx="85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736920"/>
            <a:ext cx="8572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            </a:t>
            </a:r>
            <a:r>
              <a:rPr b="0" lang="ru-RU" sz="2800" spc="-1" strike="noStrike">
                <a:solidFill>
                  <a:srgbClr val="333399"/>
                </a:solidFill>
                <a:latin typeface="Constantia"/>
                <a:ea typeface="Calibri"/>
              </a:rPr>
              <a:t>Профессор Н.М. Щелованов называл ранний                    возраст   «золотой порой»  сенсорного воспитания Сенсорное развитие ребенка - это развитие восприятия и формирование представлений о внешних свойствах предметов: их форме, цвете, величине, положении в пространстве, а также запахе, вкусе и пр. С восприятия предметов и явлений окружающего мира начинается познание - сенсорные  способности  составляют           фундамент  умственного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Благодарю за вниман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ие!</a:t>
            </a:r>
            <a:endParaRPr b="1" lang="en-US" sz="5400" spc="-1" strike="noStrike">
              <a:solidFill>
                <a:srgbClr val="0099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Цель :</a:t>
            </a: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214280"/>
            <a:ext cx="757224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nstantia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Constantia"/>
              </a:rPr>
              <a:t>изучить создание условий и экспериментально проверить,      эффективное использование дидактических  игр, для формирования представлений о сенсорных эталонах цвета у детей младшего дошкольного возраста</a:t>
            </a: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pic>
        <p:nvPicPr>
          <p:cNvPr id="50" name="Picture 4" descr="C:\Documents and Settings\Пользователь\Мои документы\Мои рисунки\сенсор\girl.png"/>
          <p:cNvPicPr/>
          <p:nvPr/>
        </p:nvPicPr>
        <p:blipFill>
          <a:blip r:embed="rId1"/>
          <a:stretch/>
        </p:blipFill>
        <p:spPr>
          <a:xfrm>
            <a:off x="5905440" y="4635360"/>
            <a:ext cx="32385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Задачи:</a:t>
            </a: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004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nstantia"/>
              </a:rPr>
              <a:t>Проанализировать психолого-педагогическую литературу по проблеме исследования.</a:t>
            </a:r>
            <a:endParaRPr b="1" lang="en-US" sz="2400" spc="-1" strike="noStrike">
              <a:solidFill>
                <a:srgbClr val="333399"/>
              </a:solidFill>
              <a:latin typeface="Constantia"/>
            </a:endParaRPr>
          </a:p>
          <a:p>
            <a:pPr marL="325800" indent="-325800">
              <a:spcBef>
                <a:spcPts val="601"/>
              </a:spcBef>
              <a:buClr>
                <a:srgbClr val="3333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Constantia"/>
              </a:rPr>
              <a:t>Выявить уровень сформированности представлений о сенсорных эталонах цвета у детей младшего дошкольного возраста. </a:t>
            </a:r>
            <a:endParaRPr b="1" lang="en-US" sz="2400" spc="-1" strike="noStrike">
              <a:solidFill>
                <a:srgbClr val="333399"/>
              </a:solidFill>
              <a:latin typeface="Constantia"/>
            </a:endParaRPr>
          </a:p>
          <a:p>
            <a:pPr marL="325800" indent="-325800">
              <a:spcBef>
                <a:spcPts val="601"/>
              </a:spcBef>
              <a:buClr>
                <a:srgbClr val="3333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Constantia"/>
              </a:rPr>
              <a:t>Подобрать и апробировать комплекс дидактических игр по формированию представлений о сенсорных эталонах цвета у детей младшего дошкольного возраста. </a:t>
            </a:r>
            <a:endParaRPr b="1" lang="en-US" sz="2400" spc="-1" strike="noStrike">
              <a:solidFill>
                <a:srgbClr val="333399"/>
              </a:solidFill>
              <a:latin typeface="Constantia"/>
            </a:endParaRPr>
          </a:p>
          <a:p>
            <a:pPr marL="325800" indent="-325800">
              <a:spcBef>
                <a:spcPts val="601"/>
              </a:spcBef>
              <a:buClr>
                <a:srgbClr val="3333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Constantia"/>
              </a:rPr>
              <a:t>Выделить и экспериментально проверить условия, обеспечивающие эффективное использование дидактических игр для формирования представлений о сенсорных эталонах цвета у детей младшего дошкольного возраста.</a:t>
            </a:r>
            <a:endParaRPr b="1" lang="en-US" sz="2400" spc="-1" strike="noStrike">
              <a:solidFill>
                <a:srgbClr val="333399"/>
              </a:solidFill>
              <a:latin typeface="Constanti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nstantia"/>
            </a:endParaRPr>
          </a:p>
        </p:txBody>
      </p:sp>
      <p:pic>
        <p:nvPicPr>
          <p:cNvPr id="53" name="Picture 5" descr="snail"/>
          <p:cNvPicPr/>
          <p:nvPr/>
        </p:nvPicPr>
        <p:blipFill>
          <a:blip r:embed="rId1"/>
          <a:stretch/>
        </p:blipFill>
        <p:spPr>
          <a:xfrm>
            <a:off x="7199280" y="5073480"/>
            <a:ext cx="19447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дмет исследования</a:t>
            </a: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nstantia"/>
              </a:rPr>
              <a:t>      </a:t>
            </a:r>
            <a:r>
              <a:rPr b="1" lang="ru-RU" sz="3600" spc="-1" strike="noStrike">
                <a:solidFill>
                  <a:srgbClr val="333399"/>
                </a:solidFill>
                <a:latin typeface="Constantia"/>
              </a:rPr>
              <a:t>дидактическая игра как  эффективное средство формирования представлений о сенсорных эталонах цвета у детей младшего дошкольного возраста</a:t>
            </a:r>
            <a:endParaRPr b="1" lang="en-US" sz="3600" spc="-1" strike="noStrike">
              <a:solidFill>
                <a:srgbClr val="333399"/>
              </a:solidFill>
              <a:latin typeface="Constanti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Constantia"/>
            </a:endParaRPr>
          </a:p>
        </p:txBody>
      </p:sp>
      <p:pic>
        <p:nvPicPr>
          <p:cNvPr id="56" name="Picture 5" descr="1"/>
          <p:cNvPicPr/>
          <p:nvPr/>
        </p:nvPicPr>
        <p:blipFill>
          <a:blip r:embed="rId1"/>
          <a:stretch/>
        </p:blipFill>
        <p:spPr>
          <a:xfrm>
            <a:off x="7380360" y="4149720"/>
            <a:ext cx="149220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28760" y="100008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nstantia"/>
              </a:rPr>
              <a:t>формирование представлений о сенсорных эталонах цвета у детей младшего дошкольного возраста будет успешным если: </a:t>
            </a: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nstantia"/>
              </a:rPr>
              <a:t>- будет правильно подобран комплекс дидактических игр; </a:t>
            </a: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nstantia"/>
              </a:rPr>
              <a:t>- созданы условия для эффективного использования дидактических игр по формированию представлений о сенсорных эталонах цвета</a:t>
            </a:r>
            <a:endParaRPr b="1" lang="en-US" sz="32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Гипотеза</a:t>
            </a:r>
            <a:endParaRPr b="1" lang="en-US" sz="4400" spc="-1" strike="noStrike">
              <a:solidFill>
                <a:srgbClr val="0099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Глава 1. Теоретические основы сенсорного воспитания детей дошкольного возраста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 </a:t>
            </a:r>
            <a:br>
              <a:rPr sz="3200"/>
            </a:br>
            <a:endParaRPr b="1" lang="en-US" sz="32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1071720"/>
            <a:ext cx="8569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49"/>
              </a:spcBef>
              <a:buClr>
                <a:srgbClr val="3333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333399"/>
                </a:solidFill>
                <a:latin typeface="Constantia"/>
              </a:rPr>
              <a:t>Слово «сенсорный» происходит от латинского слова «SENSUS» - «чувство», «ощущение», «восприятие», «способность ощущения».</a:t>
            </a:r>
            <a:endParaRPr b="1" lang="en-US" sz="2600" spc="-1" strike="noStrike">
              <a:solidFill>
                <a:srgbClr val="333399"/>
              </a:solidFill>
              <a:latin typeface="Constantia"/>
            </a:endParaRPr>
          </a:p>
          <a:p>
            <a:pPr marL="291600" indent="-291600" algn="just">
              <a:spcBef>
                <a:spcPts val="649"/>
              </a:spcBef>
              <a:buClr>
                <a:srgbClr val="333399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Constantia"/>
              </a:rPr>
              <a:t>Выдающиеся зарубежные ученые в области дошкольной педагогики (Ф. Фребель, М. Монтесори, О. Декроли), а так же известные представители отечественной дошкольной педагогики (А. Н. Леонтьева, В. Плеханова, Н. Н. Подъякова, К. Д.. Е.И. Тихеева, А.П. Усова, Н.П. Саккулина и др.) справедливо считали, что сенсорное воспитание, направленное на обеспечение полноценного сенсорного развития, является одной из основных сторон дошкольного воспитания</a:t>
            </a:r>
            <a:endParaRPr b="1" lang="en-US" sz="26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19120" y="2684520"/>
            <a:ext cx="7077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19120" y="3597120"/>
            <a:ext cx="686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71320" y="1071360"/>
            <a:ext cx="67863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3399"/>
              </a:solidFill>
              <a:latin typeface="Constanti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3399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Глава II. Экспериментальное исследование по формированию представлений о возраста</a:t>
            </a:r>
            <a:endParaRPr b="1" lang="en-US" sz="3200" spc="-1" strike="noStrike">
              <a:solidFill>
                <a:srgbClr val="0099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5286240" y="1737360"/>
            <a:ext cx="3857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nstantia"/>
                <a:ea typeface="Calibri"/>
              </a:rPr>
              <a:t>Базой нашего исследования для доказательства гипотезы послужил детский сад «Теремок»  вторая  младшая группа «Пчёлки», в эксперименте участвовало 10 детей, 3-4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Users\User\Desktop\фото д.с\IMG_20160229_104533.jpg"/>
          <p:cNvPicPr/>
          <p:nvPr/>
        </p:nvPicPr>
        <p:blipFill>
          <a:blip r:embed="rId1"/>
          <a:stretch/>
        </p:blipFill>
        <p:spPr>
          <a:xfrm>
            <a:off x="428760" y="2000160"/>
            <a:ext cx="50004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6439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onstantia"/>
              </a:rPr>
              <a:t>Первый констатирующий эксперимент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onstantia"/>
              </a:rPr>
              <a:t>Уровни сформированности восприятия цвет</a:t>
            </a:r>
            <a:r>
              <a:rPr b="1" lang="ru-RU" sz="2800" spc="-1" strike="noStrike">
                <a:solidFill>
                  <a:srgbClr val="7030a0"/>
                </a:solidFill>
                <a:latin typeface="Constantia"/>
              </a:rPr>
              <a:t>а</a:t>
            </a:r>
            <a:r>
              <a:rPr b="1" lang="ru-RU" sz="2800" spc="-1" strike="noStrike">
                <a:solidFill>
                  <a:srgbClr val="7030a0"/>
                </a:solidFill>
                <a:latin typeface="Constantia"/>
              </a:rPr>
              <a:t>.</a:t>
            </a:r>
            <a:endParaRPr b="1" lang="en-US" sz="2800" spc="-1" strike="noStrike">
              <a:solidFill>
                <a:srgbClr val="009900"/>
              </a:solidFill>
              <a:latin typeface="Calibri"/>
            </a:endParaRPr>
          </a:p>
        </p:txBody>
      </p:sp>
      <p:pic>
        <p:nvPicPr>
          <p:cNvPr id="68" name="Содержимое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3:31:03Z</dcterms:created>
  <dc:creator>Владелец</dc:creator>
  <dc:description/>
  <dc:language>en-US</dc:language>
  <cp:lastModifiedBy>User</cp:lastModifiedBy>
  <dcterms:modified xsi:type="dcterms:W3CDTF">2017-11-30T16:00:19Z</dcterms:modified>
  <cp:revision>51</cp:revision>
  <dc:subject/>
  <dc:title>Слайд 1</dc:title>
</cp:coreProperties>
</file>