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25C5-6382-4D98-9C51-37B8F7D6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1272-44BF-4B74-B005-C192629F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4B9E-9830-4320-AE6B-C5B8F40F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5C0F-5F23-41AB-8B14-9103CEEE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A88C-CEA9-45C8-B981-8FFDBD04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5512-84A0-4448-9600-A4EB1825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1DB4-0DA3-4B0E-BB11-98C6C7CE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1366-9A03-499D-924A-B4B64108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2AEB-A50D-44DE-9263-CE22221F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9FE7-248E-4D58-A213-72CA4FC8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CDB6-D8C3-4920-BA7B-B54C8F8B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A5C7-844C-4D71-B818-8234505D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8C14-C7E4-4016-8F6C-E177B36B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7EF6-CAFE-4FD4-9641-2B29D361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2B94-24F8-4F84-AE5E-C8928F6E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34CD-CD28-4646-AA14-C3BA05D40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2661-D30B-45FC-B7C4-188A7C4D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C30B-99D4-4908-9B17-3877AB5B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3A23-5265-4E00-BDF3-549CA317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770C-1264-4243-AD2E-1BA10B78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0776-25C1-4BBE-8FE7-DC45D76E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4580-21A8-41AB-AF85-5D0AB8DD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215B-C1E3-4BFC-91E9-8A21B33C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B91D-70AA-41E6-BED7-B301EC6E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2159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231B-24D9-4AE9-AD60-3AE25D80EC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2159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EF88-3374-409D-927A-350EDBABD0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35080"/>
            <a:ext cx="7772400" cy="49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15968"/>
                </a:solidFill>
                <a:latin typeface="Cambria"/>
              </a:rPr>
              <a:t>СВЕТООТРАЖАЮЩИЕ ЭЛЕМЕНТЫ КАК СРЕДСТВО ПРОФИЛАКТИКИ ДЕТСКОГО ДОРОЖНО-ТРАНСПОРТНОГО ТРАВМАТИЗМА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890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31859c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134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15968"/>
                </a:solidFill>
                <a:latin typeface="Cambria"/>
              </a:rPr>
              <a:t>Спасибо за внимание!</a:t>
            </a:r>
            <a:br>
              <a:rPr sz="3600"/>
            </a:b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2890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1859c"/>
                </a:solidFill>
                <a:latin typeface="Cambria"/>
              </a:rPr>
              <a:t>Берегите себя и своих близких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5968"/>
                </a:solidFill>
                <a:latin typeface="Cambria"/>
              </a:rPr>
              <a:t>      </a:t>
            </a: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Анализ аварийности показывает, что большинство дорожно-транспортных происшествий происходит в вечернее время с наступлением темноты, как правило, на неосвещенных участках улиц, а также во время встречного разъезда автомобилей.</a:t>
            </a:r>
            <a:endParaRPr b="0" lang="en-US" sz="2200" spc="-1" strike="noStrike">
              <a:solidFill>
                <a:srgbClr val="215968"/>
              </a:solidFill>
              <a:latin typeface="Cambri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15968"/>
              </a:solidFill>
              <a:latin typeface="Cambri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15968"/>
              </a:solidFill>
              <a:latin typeface="Cambri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15968"/>
              </a:solidFill>
              <a:latin typeface="Cambri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15968"/>
              </a:solidFill>
              <a:latin typeface="Cambri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15968"/>
              </a:solidFill>
              <a:latin typeface="Cambri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15968"/>
              </a:solidFill>
              <a:latin typeface="Cambri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15968"/>
              </a:solidFill>
              <a:latin typeface="Cambri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Как показывают исследования, действия водителя на 90% зависят от получаемой им визуальной информации. В тёмное время человеческий глаз воспринимает лишь 5 % от того, что он в состоянии различить днём. Поэтому именно в этот период времени фиксируется немалая часть дорожных аварий, среди которых преобладающее число - это наезды автотранспорта на пешеходов, когда водитель, в силу различных обстоятельств, слишком поздно обнаруживает идущего по дороге человека.</a:t>
            </a:r>
            <a:endParaRPr b="0" lang="en-US" sz="22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86" name="Picture 2" descr="C:\Users\User\Desktop\светоотраж элементы\30_04_2014_9.jpg"/>
          <p:cNvPicPr/>
          <p:nvPr/>
        </p:nvPicPr>
        <p:blipFill>
          <a:blip r:embed="rId1"/>
          <a:stretch/>
        </p:blipFill>
        <p:spPr>
          <a:xfrm>
            <a:off x="2627280" y="1628640"/>
            <a:ext cx="3525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User\Desktop\светоотраж элементы\1391501996_Схема видимости.jpg"/>
          <p:cNvPicPr/>
          <p:nvPr/>
        </p:nvPicPr>
        <p:blipFill>
          <a:blip r:embed="rId1"/>
          <a:stretch/>
        </p:blipFill>
        <p:spPr>
          <a:xfrm>
            <a:off x="539640" y="0"/>
            <a:ext cx="8288280" cy="37162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3715920"/>
            <a:ext cx="822960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Основной причиной такого положения является проблема своевременного обнаружения водителем пешеходов на проезжей части в тёмное время суток, особенно, если пешеход одет в тёмную одежду, которая сливается с фоном дорожного полотна и окружающей обстановкой, а в городских условиях эта проблема усугубляется визуальным шумом, интенсивным светом фар от встречного транспортного  потока. Ограничения скорости движения не является панацеей, так как очень часто в реальности водитель замечает пешехода на проезжей части с расстояния не более чем в 25 – 30 м, и даже при скорости движения 50 км/ч остановочный путь автомобиля превышает данную дистанцию. </a:t>
            </a:r>
            <a:endParaRPr b="0" lang="en-US" sz="2000" spc="-1" strike="noStrike">
              <a:solidFill>
                <a:srgbClr val="215968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3640" y="4076640"/>
            <a:ext cx="85899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Учитывая вышесказанное, правомерно сделать вывод, что ситуацию со смертностью пешеходов можно значительно улучшить, если сделать пешеходов заметными на дороге круглые сутки. </a:t>
            </a:r>
            <a:endParaRPr b="0" lang="en-US" sz="28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92" name="Picture 2" descr="C:\Users\User\Desktop\светоотраж элементы\97b2b58c524cbc9975c8cd14885cbb99.jpg"/>
          <p:cNvPicPr/>
          <p:nvPr/>
        </p:nvPicPr>
        <p:blipFill>
          <a:blip r:embed="rId1"/>
          <a:stretch/>
        </p:blipFill>
        <p:spPr>
          <a:xfrm>
            <a:off x="1763640" y="189000"/>
            <a:ext cx="5040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C:\Users\User\Desktop\светоотраж элементы\-vidno-izdaleka.jpg"/>
          <p:cNvPicPr/>
          <p:nvPr/>
        </p:nvPicPr>
        <p:blipFill>
          <a:blip r:embed="rId1"/>
          <a:stretch/>
        </p:blipFill>
        <p:spPr>
          <a:xfrm>
            <a:off x="250920" y="3429000"/>
            <a:ext cx="3529080" cy="29066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492000" y="260280"/>
            <a:ext cx="5472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Водитель замечает ребенка со световозвращателем на одежде или рюкзачке со значительно большего расстояния, чем пешехода без него. А значит, выше шансы, что трагедии не случится. </a:t>
            </a: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Доказано: применение световозвращателей снижает риск наезда автомобиля на пешехода в темное время суток на 85%, то есть более чем в 6,5 раз. Поэтому светоотражатели стали непременным атрибутом пешехода во многих странах</a:t>
            </a: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96" name="Picture 2" descr="C:\Users\User\Desktop\светоотраж элементы\548_proportional_6dd2c0890257ee923705fb14a6d0e1aa.jpg"/>
          <p:cNvPicPr/>
          <p:nvPr/>
        </p:nvPicPr>
        <p:blipFill>
          <a:blip r:embed="rId2"/>
          <a:stretch/>
        </p:blipFill>
        <p:spPr>
          <a:xfrm>
            <a:off x="826920" y="189000"/>
            <a:ext cx="24591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188640"/>
            <a:ext cx="8686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Современные технологии световозвращающих материалов, из которых изготавливаются элементы для обозначения в темноте пешеходов, помогают решать проблему. Когда улицы и дворы плохо освещены, водители обнаруживают пешехода, имеющего светоотражающие элементы, со значительно большего расстояния по  сравнению с  пешеходами без них: если машина движется </a:t>
            </a: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с ближним светом фар, </a:t>
            </a: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расстояние </a:t>
            </a: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увеличивается с 25-40м </a:t>
            </a: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             </a:t>
            </a:r>
            <a:r>
              <a:rPr b="1" lang="ru-RU" sz="2700" spc="-1" strike="noStrike">
                <a:solidFill>
                  <a:srgbClr val="ff0000"/>
                </a:solidFill>
                <a:latin typeface="Cambria"/>
              </a:rPr>
              <a:t>до 130-140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, </a:t>
            </a: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а если с дальним – </a:t>
            </a: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расстояние увеличивается</a:t>
            </a: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                  </a:t>
            </a:r>
            <a:r>
              <a:rPr b="1" lang="ru-RU" sz="2700" spc="-1" strike="noStrike">
                <a:solidFill>
                  <a:srgbClr val="ff0000"/>
                </a:solidFill>
                <a:latin typeface="Cambria"/>
              </a:rPr>
              <a:t>до 400м</a:t>
            </a: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99" name="Picture 2" descr="C:\Users\User\Desktop\светоотраж элементы\i.jpg"/>
          <p:cNvPicPr/>
          <p:nvPr/>
        </p:nvPicPr>
        <p:blipFill>
          <a:blip r:embed="rId1"/>
          <a:stretch/>
        </p:blipFill>
        <p:spPr>
          <a:xfrm>
            <a:off x="4859280" y="3716280"/>
            <a:ext cx="4284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0" y="189000"/>
            <a:ext cx="8820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1" lang="ru-RU" sz="3000" spc="-1" strike="noStrike">
                <a:solidFill>
                  <a:srgbClr val="000000"/>
                </a:solidFill>
                <a:latin typeface="Cambria"/>
              </a:rPr>
              <a:t>По итогам исследования, расстояние, с которого «обозначенный пешеход» становится более заметен водителю проезжающего автомобиля, увеличивается в 1,5-3 раза. </a:t>
            </a:r>
            <a:endParaRPr b="0" lang="en-US" sz="30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Cambria"/>
              </a:rPr>
              <a:t>Это дает водителю дополнительное время на принятие наиболее правильного решения во избежание возможного наезда на пешехода (риск наезда снижается на 85%). </a:t>
            </a:r>
            <a:endParaRPr b="0" lang="en-US" sz="30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102" name="Picture 2" descr="C:\Users\User\Desktop\светоотраж элементы\187255455144780089.jpg"/>
          <p:cNvPicPr/>
          <p:nvPr/>
        </p:nvPicPr>
        <p:blipFill>
          <a:blip r:embed="rId1"/>
          <a:stretch/>
        </p:blipFill>
        <p:spPr>
          <a:xfrm>
            <a:off x="4211640" y="3700440"/>
            <a:ext cx="4714920" cy="31575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324000" y="4653000"/>
            <a:ext cx="36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правка: тормозной путь автомобиля, движущегося со скоростью 80 - 90км/ч, составляет 35 - 40м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95280" y="3141360"/>
            <a:ext cx="829152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Подведём итог выше сказанного несколькими советами:</a:t>
            </a:r>
            <a:endParaRPr b="0" lang="en-US" sz="22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Световозвращатель должен быть бело-серого либо ярко-лимонного цвета, чтобы соответствовать требованиям стандартов.</a:t>
            </a:r>
            <a:endParaRPr b="0" lang="en-US" sz="22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Нанесённые на фликер рисунки и надписи закрывают часть световозвращающего материала, снижая его эффективность. Поэтому лучше приобретать фликер без каких-либо изображений;</a:t>
            </a:r>
            <a:endParaRPr b="0" lang="en-US" sz="22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Площадь световозвращающего изделия должна составлять не менее 15 квадратных сантиметров на каждую сторону</a:t>
            </a:r>
            <a:endParaRPr b="0" lang="en-US" sz="22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106" name="Picture 2" descr="C:\Users\User\Desktop\светоотраж элементы\201211131449_svetootragateli_1_no_copyright.jpg"/>
          <p:cNvPicPr/>
          <p:nvPr/>
        </p:nvPicPr>
        <p:blipFill>
          <a:blip r:embed="rId1"/>
          <a:stretch/>
        </p:blipFill>
        <p:spPr>
          <a:xfrm>
            <a:off x="2268360" y="189000"/>
            <a:ext cx="388800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2637000"/>
            <a:ext cx="91440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ВЕТООТРАЖАЮЩИЕ ЭЛЕМЕНТЫ ДОЛЖНЫ РАСПОЛАГАТЬСЯ:</a:t>
            </a:r>
            <a:endParaRPr b="0" lang="en-US" sz="2000" spc="-1" strike="noStrike">
              <a:solidFill>
                <a:srgbClr val="215968"/>
              </a:solidFill>
              <a:latin typeface="Cambria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одвески (их должно быть несколько) лучше крепить за ремень, пояс, пуговицу, чтобы световозвращатели свисали на уровне бедра. </a:t>
            </a:r>
            <a:endParaRPr b="0" lang="en-US" sz="2000" spc="-1" strike="noStrike">
              <a:solidFill>
                <a:srgbClr val="215968"/>
              </a:solidFill>
              <a:latin typeface="Cambria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арукавные повязки и браслеты так, чтобы они не были закрыты при движении и способствовали зрительному восприятию.  </a:t>
            </a:r>
            <a:endParaRPr b="0" lang="en-US" sz="2000" spc="-1" strike="noStrike">
              <a:solidFill>
                <a:srgbClr val="215968"/>
              </a:solidFill>
              <a:latin typeface="Cambria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Значки могут располагаться на одежде в любом месте.</a:t>
            </a:r>
            <a:endParaRPr b="0" lang="en-US" sz="2000" spc="-1" strike="noStrike">
              <a:solidFill>
                <a:srgbClr val="215968"/>
              </a:solidFill>
              <a:latin typeface="Cambria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умочку, портфель или рюкзак лучше нужно в правой руке, а не за спиной. </a:t>
            </a:r>
            <a:endParaRPr b="0" lang="en-US" sz="2000" spc="-1" strike="noStrike">
              <a:solidFill>
                <a:srgbClr val="215968"/>
              </a:solidFill>
              <a:latin typeface="Cambria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Эффективнее всего носить одежду с уже вшитыми световозвращающими элементами. </a:t>
            </a:r>
            <a:endParaRPr b="0" lang="en-US" sz="2000" spc="-1" strike="noStrike">
              <a:solidFill>
                <a:srgbClr val="215968"/>
              </a:solidFill>
              <a:latin typeface="Cambria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аиболее надежный вариант для родителей – нанести на одежду световозвращающие  термоапликации и наклейки. </a:t>
            </a:r>
            <a:endParaRPr b="0" lang="en-US" sz="20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109" name="Picture 2" descr="C:\Users\User\Desktop\светоотраж элементы\GjZQAIpHnZI.jpg"/>
          <p:cNvPicPr/>
          <p:nvPr/>
        </p:nvPicPr>
        <p:blipFill>
          <a:blip r:embed="rId1"/>
          <a:stretch/>
        </p:blipFill>
        <p:spPr>
          <a:xfrm>
            <a:off x="2411280" y="189000"/>
            <a:ext cx="3635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8T17:47:44Z</dcterms:created>
  <dc:creator>User</dc:creator>
  <dc:description>Корпорация Майкрософт
Шаблон оформления</dc:description>
  <dc:language>en-US</dc:language>
  <cp:lastModifiedBy>Галина</cp:lastModifiedBy>
  <dcterms:modified xsi:type="dcterms:W3CDTF">2016-02-17T15:28:05Z</dcterms:modified>
  <cp:revision>12</cp:revision>
  <dc:subject>Шаблон оформления</dc:subject>
  <dc:title>СВЕТООТРАЖАЮЩИЕ ЭЛЕМЕНТЫ КАК СРЕДСТВО ПРОФИЛАКТИКИ ДЕТСКОГО ДОРОЖНО-ТРАНСПОРТНОГО ТРАВМАТИЗ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899579990</vt:lpwstr>
  </property>
</Properties>
</file>