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380A-6EFD-43E4-A066-C8B34619C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67D-2D4A-4D23-A7F6-2BBAA1CDC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1F0-3166-4FD3-A44F-E4949AB0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275-F334-453C-9591-9D47015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068-F8F5-463C-A3BB-173C27E9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7F0-DBEA-4F0C-80E0-E8577DB4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A6C-16F5-47D7-8FEA-56EBBC21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9A3-9DE6-49A4-AE76-59179AA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C36-F07C-4E84-8CA1-5B6C9957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1D2-DB1C-48FE-98DE-3747DED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C92-C528-497D-8C1D-E69F4B8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B7D-E39B-4E96-9C07-3541E1E8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586-4DE5-49BB-A407-FC9FDCD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C9C-0106-40E2-BBC9-B0F0D7B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C7E-BC8E-4F5F-A896-1F13809AD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Проект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Этнолитературная гостина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Составитель: воспитатель интерната  МОУ «Школа с. Аксарка» </a:t>
            </a: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Кумукова Галина  Василье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Реализаторы проекта:  воспитатели семьи рода Тобольчиных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5715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Этнолитературная гостиная приобрела особенную, свойственную только ей специфик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с миром литературы и его представителями - поэтами, писателями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я их, читатель двинется за Словом – Песней – в страну северной поэзии, в надежде найти собственное слово, сложить свою оригинальную песню,  а значит, и создать условия для самораскрытия, саморазвития и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38080" y="838080"/>
            <a:ext cx="687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ильные сторон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17" descr="DSC01467"/>
          <p:cNvPicPr/>
          <p:nvPr/>
        </p:nvPicPr>
        <p:blipFill>
          <a:blip r:embed="rId3"/>
          <a:srcRect l="0" t="0" r="18867" b="2169"/>
          <a:stretch/>
        </p:blipFill>
        <p:spPr>
          <a:xfrm>
            <a:off x="5943600" y="1752480"/>
            <a:ext cx="281952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8"/>
          <p:cNvSpPr/>
          <p:nvPr/>
        </p:nvSpPr>
        <p:spPr>
          <a:xfrm>
            <a:off x="59436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сц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105520" y="1219320"/>
            <a:ext cx="4038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Литературно –музыкальные  композиции, посвященные Дням Воинской Сл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й проект по воспитанию опирается на проект «Многофункциональный этнокультурный цент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соответствует возрастным психолого-физиологическим особенностям воспитанников среднего и старше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ературная гостиная предполагает как групповые, так и индивидуальные формы работы. Встречи проводятся  один  раз в месяц  по 1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  у ребят формируются и углубляются  знания о жизни писателей и поэтов не только русской литературы, но и  прививается стойкий   интерес к  литературе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457200" y="6858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обенности организаци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1" name="Picture 16" descr="DSC03599"/>
          <p:cNvPicPr/>
          <p:nvPr/>
        </p:nvPicPr>
        <p:blipFill>
          <a:blip r:embed="rId3"/>
          <a:stretch/>
        </p:blipFill>
        <p:spPr>
          <a:xfrm>
            <a:off x="6172200" y="2057400"/>
            <a:ext cx="2590920" cy="1822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DSC03425"/>
          <p:cNvPicPr/>
          <p:nvPr/>
        </p:nvPicPr>
        <p:blipFill>
          <a:blip r:embed="rId4"/>
          <a:stretch/>
        </p:blipFill>
        <p:spPr>
          <a:xfrm>
            <a:off x="6019920" y="396252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кционные зан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ку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курсии по литературно-историческим мес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в творческих конкурсах и фестивал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презентаций для бесед и лекций к произведениям российских и северных лит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поэтических вечеров в гостиной, в том числе по произведениям поэтов и писателей Крайнего Сев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ежим заняти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подготовительный этап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встречи в гостиной 1 раза в месяц согласно плану работы  Этнолитературной гост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233360" y="304920"/>
            <a:ext cx="667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Методы и формы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6" name="Picture 12" descr="SDC10411"/>
          <p:cNvPicPr/>
          <p:nvPr/>
        </p:nvPicPr>
        <p:blipFill>
          <a:blip r:embed="rId2"/>
          <a:stretch/>
        </p:blipFill>
        <p:spPr>
          <a:xfrm>
            <a:off x="4800600" y="1676520"/>
            <a:ext cx="4038480" cy="3776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4576320" y="571500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ий вечер памя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Деятельность воспитателя: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могает  воспитанникам  определить цель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екомендует  источники получения информа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екомендует  возможные формы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одействует  прогнозированию результатов данного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оздает  условия для активности воспитанника, вовлекает  всех детей до еди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является  надежным партнёр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омогает воспитанникам оценить полученный результа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исполнения лирики, пр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  анализа литературного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проект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зительно читать лирику, п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провизировать, составлять монтаж, сцен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овать работу в группе при обсуждени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590840" y="533520"/>
            <a:ext cx="59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Воспитанники долж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1143000"/>
            <a:ext cx="1752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зн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715000" y="11430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уме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может  воспитанникам оценить значимость литературы, дать личностную оценку прочитанному произведению, т. е. сформирует эмоционально-значимое отношение к литерат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 расширит  интерес к художественной, мемуарной, документальной литера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будит  интерес к различным формам творческих работ (рефераты, сообщения, творческие работы, проекты, сравнительные характеристики и т. 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повысит   коммуникативную активность через участие, обсуждение и защите своих проектов, выступления на сце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овысит творческий потенциал через создание собственных произведений, стих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активизирует творческие способности  детей, их литературный  да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оможет  в самовыражении кажд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 стимулирует интерес к духовному богатству России, миров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повысит эмоциональную сферу воспитанника  как основы формирования «культуры чув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 приобщит к миру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воспитает эстетический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 сформирует исследовательские умения,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. усовершенствует  технику  ч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209680" y="5335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едполагаемые результаты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8" descr="DSC01510"/>
          <p:cNvPicPr/>
          <p:nvPr/>
        </p:nvPicPr>
        <p:blipFill>
          <a:blip r:embed="rId2"/>
          <a:srcRect l="0" t="0" r="0" b="12199"/>
          <a:stretch/>
        </p:blipFill>
        <p:spPr>
          <a:xfrm>
            <a:off x="48769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572000" y="56386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стреча со сказительницей  народа  ха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стем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ОЖДЕНИЕ ЗАМЫСЛА И ПРОДУМЫВАНИЕ СЮЖЕТА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Работа по определению темы будущей «гост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билейная дата писателя или поэ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ие в литературных конкурсах, требующее более подробного знакомства с жизнью и творчеством писател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Подбор литературного материал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Создание  сцен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дбор «героев» для будущего сценического вопло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Работа с музыкальным и художественным материа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SDC11028"/>
          <p:cNvPicPr/>
          <p:nvPr/>
        </p:nvPicPr>
        <p:blipFill>
          <a:blip r:embed="rId2"/>
          <a:stretch/>
        </p:blipFill>
        <p:spPr>
          <a:xfrm>
            <a:off x="7010280" y="4191120"/>
            <a:ext cx="1841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РАБОТА С ТВОРЧЕСКИМИ ГРУППАМИ ПО                                      ВОПЛОЩЕНИЮ ЗАМЫСЛА.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  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Индивидуальные консультации по работе над текстовым материалом (работа над ролью, сценическая реализация роли, выразительное чтение, занятия по технике речи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2.  Подготовка к творческому представлению писателя (биография, особенности творчества и т. д.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3.  Работа по созданию костюмов, декораций и общего оформления вечер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4.  Создание выставок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5.  Консультации, репетиционная (тренировочная) работ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5 -2016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762120"/>
          <a:ext cx="6934320" cy="5362560"/>
        </p:xfrm>
        <a:graphic>
          <a:graphicData uri="http://schemas.openxmlformats.org/drawingml/2006/table">
            <a:tbl>
              <a:tblPr/>
              <a:tblGrid>
                <a:gridCol w="730440"/>
                <a:gridCol w="4124160"/>
                <a:gridCol w="207972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ованное представление произведений И.Г.Истомина и Р. Руг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Поэты северного края» (с приглашением поэтов  район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ловек, учитель,  гражданин - создатель первого хантыйского букваря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  Петре Ефимовиче  Хатанзееве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чтецов, посвященный дню округа. «Ты цвети, родной Ямал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Афганистан болит в моей душе». Встреча с участниками локальных войн. Прослушивание песен, стихов, фестиваля афганской пес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журнал « Дочь тундры» (Творчество Анны Павловны Неркаг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семей оленеводов. Литературно – музыкальная -  композиция «От кочевников беру свое начало…» (Л.В.Лапцу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 войны не женское лиц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6 -2017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0720" y="914400"/>
          <a:ext cx="7619760" cy="5224320"/>
        </p:xfrm>
        <a:graphic>
          <a:graphicData uri="http://schemas.openxmlformats.org/drawingml/2006/table">
            <a:tbl>
              <a:tblPr/>
              <a:tblGrid>
                <a:gridCol w="801720"/>
                <a:gridCol w="5040000"/>
                <a:gridCol w="1778040"/>
              </a:tblGrid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чителями славится 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 ко Дню матери «Мамино сердце»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Здесь начало России – в этом снежном краю», посвященная  Дню ок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С. Н. Няруй – первый ненецкий композитор 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Дом, в котором мы живем» - поэты северного края об экологии Ямала на примере стихотворений северных поэтов ( Юрия Вэлла, Прокопия Явтыс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итературная  гостина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вриил Лагей - золотой голос Яма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 Война – печальней нету  слова» ( о подвигах ямальцев в годы Вов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Фоны для презентация по исто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временном мире, насыщенном информационными технологиями, резко снизился интерес к традиционным формам приобщения к национальной  культуре: чтению, овладению правилами и нормами родного языка; повсеместно проявляется пренебрежение к культурному и историческому наследию; происходит переоценка ценностей, отход от духовно-нравственных к материально-прагматическим ориентирам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сюда следует необходимость приобщения подрастающего поколения к основам русской и национальной  культуры, частью которой является родной язык и родная литература, позволяющая молодым людям осознавать себя как носителя национальной культуры, выразителя национального ментал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иод всеобщего перехода к информационному обществу интенсивность и качество чтения детьми произведений писателей и поэтов Севера  снижается. Становится все очевиднее замещающее влияние на чтение таких средств коммуникации, как телевидение, Интернет, аудио и видеопродукция. Диссонанс детско-юношеского чтения и возрастающей роли читательской деятельности в обществе может привести к снижению информационной, общекультурной компетентности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814480" y="304920"/>
            <a:ext cx="3515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7 -2018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838080"/>
          <a:ext cx="7467480" cy="4470480"/>
        </p:xfrm>
        <a:graphic>
          <a:graphicData uri="http://schemas.openxmlformats.org/drawingml/2006/table">
            <a:tbl>
              <a:tblPr/>
              <a:tblGrid>
                <a:gridCol w="641160"/>
                <a:gridCol w="4540320"/>
                <a:gridCol w="2286000"/>
              </a:tblGrid>
              <a:tr h="42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итературный Аргиш».  Поэзия Сев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егенды народов Севера» (инсценировка легенды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ердце,  отданное детям». О жизни и творчестве ненецкой писательницы Нины Яд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тчий край, родимый дом, сторона родная».-  литературно-музыкальная композиция ко дню образования ЯНА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вец заснеженного края», посвященная                    творчеству Романа Ругина,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, писателя, сказочника Ям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о любви поговорим стихами».  Северные поэты о любв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уралья славные дочер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  к  8 Мар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везу тебя я в тундру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зия огненных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Ямале, как и во всей  России, как и во многих странах мира, наблюдается снижение уровня читательской культуры населения. В результате огромного количества перемен в жизни общества за последние двадцать лет статус чтения, его роль, отношение к нему сильно меняется. Проблема чтения находится  в зоне особо пристального внимания. Актуальность проблемы утраты интереса к чтению вызвала реакцию в стране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оссийским книжным союзом была разработана и в настоящее время реализуется «Национальная программа поддержки и развития чтения», рассчитанная на 14 лет, до 2020 года, с целью противодействия  снижению интереса к чтению, исходя из понимания роли чтения в развитии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В России уменьшается доля «читающего населения» — такое мнение высказал президент Российского книжного союза, Сергей Степа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исследованиям работников библиотек – 90% людей приходят в библиотеку за книгами, нужными для учебы или работы. Такое прагматическое чтение даёт пищу уму, но не формирует систему нравственных и эстетических идеало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561960" y="304920"/>
            <a:ext cx="802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оциальн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57" name="Picture 9" descr="DSC00359"/>
          <p:cNvPicPr/>
          <p:nvPr/>
        </p:nvPicPr>
        <p:blipFill>
          <a:blip r:embed="rId2"/>
          <a:stretch/>
        </p:blipFill>
        <p:spPr>
          <a:xfrm>
            <a:off x="4952880" y="762120"/>
            <a:ext cx="3967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029200" y="60199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944960" y="5867280"/>
            <a:ext cx="41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йонный фестив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Все краски Ям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192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ность проекта  заключает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бы не только познаком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ников с биографическими данны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 российских и национ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, посетить литературные музе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ледить основные этапы работы 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, попробовать про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х глубинный смысл, пробудить 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твор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ьность работы состоит в том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современные школьники зача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нают о жизни писателей и поэтов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учебников и других печа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чников, проект же научит дете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ому смотреть на литера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, видеть в них частичк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2742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Times New Roman"/>
              </a:rPr>
              <a:t>Специфика данного проекта обусловлена характером главных целей обучения и воспитания , а именно</a:t>
            </a:r>
            <a:r>
              <a:rPr b="0" lang="ru-RU" sz="12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оружение воспитанников основами знаний в соответствующей области науки  (познавательная це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ирование у воспитанников необходимых умений на базе полученных знаний; развитие навыков выразительного чтения, декламации, анализа произ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знакомство воспитанников со своеобразием поэтического языка северя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спитание  у детей средствами мероприятий этно – литературной гостиной интереса к родной культуре, творчеству северных поэтов, пис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Этнолитературная гостиная  предполагает  рассматривать чтение не только как результат предметного обучения, но и как показатель личностного роста  воспитанников, фактора их социального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1828800" y="45720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новная идея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64" name="Picture 10" descr="SDC10983"/>
          <p:cNvPicPr/>
          <p:nvPr/>
        </p:nvPicPr>
        <p:blipFill>
          <a:blip r:embed="rId2"/>
          <a:srcRect l="0" t="21826" r="4433" b="0"/>
          <a:stretch/>
        </p:blipFill>
        <p:spPr>
          <a:xfrm>
            <a:off x="7010280" y="1066680"/>
            <a:ext cx="2133720" cy="175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SDC10988"/>
          <p:cNvPicPr/>
          <p:nvPr/>
        </p:nvPicPr>
        <p:blipFill>
          <a:blip r:embed="rId3"/>
          <a:srcRect l="0" t="26324" r="15385" b="0"/>
          <a:stretch/>
        </p:blipFill>
        <p:spPr>
          <a:xfrm>
            <a:off x="4800600" y="838080"/>
            <a:ext cx="22860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проблема проекта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ко прослеживается на основ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противоречий в образова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м интереса к чтению у молодого поколения и возникшей при этом  необходимостью поддерживать устойчивый эмоциональный интерес к литературе, родной литературе и чт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ением количества часов на изучение родного языка, родн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анием числа обучающихся,  ограничивающихся чтением литературы только в пределах школь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ы или почти забыты традиции семейного чтения, самостоятельног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о чувство культуры и эстетики родного 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380880" y="685800"/>
            <a:ext cx="8153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едагогическ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9" descr="DSC01467"/>
          <p:cNvPicPr/>
          <p:nvPr/>
        </p:nvPicPr>
        <p:blipFill>
          <a:blip r:embed="rId3"/>
          <a:stretch/>
        </p:blipFill>
        <p:spPr>
          <a:xfrm>
            <a:off x="5194440" y="1752480"/>
            <a:ext cx="364464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5105520" y="5029200"/>
            <a:ext cx="37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методическое обеспечение для деятельности воспитателей в работ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никами в этнолитературной гост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 обеспечение художественной литературой и этнолитературой,  ориентированной на приобщение воспитанников к культуре чтения и формирования читательской компетенции  воспитанников в кругу семьи интерната, в условиях учебной и внеуроч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5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308800" cy="469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DC10844"/>
          <p:cNvPicPr/>
          <p:nvPr/>
        </p:nvPicPr>
        <p:blipFill>
          <a:blip r:embed="rId3"/>
          <a:stretch/>
        </p:blipFill>
        <p:spPr>
          <a:xfrm>
            <a:off x="5181480" y="1600200"/>
            <a:ext cx="3733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 интерес к духовному наследию предков, идущему из глубины веков, вызвать потребность в изучении родного языка,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воспитанников, стимулировать интерес к духовному богатству России,  мировой культуры, культуры народов Севера; развивать эмоциональную сферу ребенка как основы формирования культуры чувств, приобщать к миру искусства, воспитывать эстетический вкус; познакомить воспитанников с жизнью и  творчеством российских писателей и писателей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590920" y="304920"/>
            <a:ext cx="41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Цель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Блог - Персональный сайт Каусарии Гаяновой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ть  жизнь и творчество известных писателей России и Севера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учить воспитанников грамотному составлению сценария планируем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интерес воспитанников к исследовательской  и творческ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коммуникативные навыки воспитанников, познаватель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сценические навыки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интерес воспитанников к изучению литературных произведений народов Севера – ветви современной литературы, биографии северных пис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у детей бережное отношение к книгам, к исторически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 увлечённость чтением, потребность в регулярном чтении посредством использования разнообразных форм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здать  единое  читательское  пространство на основе  взаимодействия: воспитанник – воспитатель - учитель - родитель- библиотекар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пределить  пути использования данного проекта в развитии личностного роста воспитанников, раскрытии их природных способност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2590920" y="304920"/>
            <a:ext cx="42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Задачи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основе деятельности этнолитературной гостиной заложены следующи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ора на уже имеющиеся знания и умения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ёт индивидуальных особен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олучения полезной информации и проведения литературных вече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верительные, гуманные формы и методы общения в процессе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роведения литературных вечеров  используется специальное оборудованное помещ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нолитературная гости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льтимедий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ринципы реализации тем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4723920" y="464832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SDC11462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4005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3657600" y="548640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о – музыкальная композ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У чума на травке с шитьем на колень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a</cp:lastModifiedBy>
  <dcterms:modified xsi:type="dcterms:W3CDTF">2017-12-02T17:04:01Z</dcterms:modified>
  <cp:revision>2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