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C1A8-2C3C-463C-86BB-C1F05B9177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B898-4783-442B-8E28-52FF3900E2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AA5-9829-4083-A35F-7D3CA365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CD3F-5A13-48BF-A609-E5BA3B81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F52-0F49-4B85-BB22-8505F865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F998-8877-4320-9913-2E3DB681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D95-6A0C-4FD4-9226-F91AA4AB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4D8-5D5F-44AA-95AF-652B8AC2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E80-6938-48B5-A3FD-15804A52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562D-FEC3-4F2F-B40D-5AB0761F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010-6659-44EE-8C22-9ACE6508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A63-D0A6-49FD-AA6C-B8434F56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8665-83D9-423E-9AB4-0FB076E2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E43-A7F0-4132-BC86-AA64FF1E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171F-2DDB-4823-9087-41352D0963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В.А.Осеева - детям - Картинка 2905/3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Arial Black"/>
              </a:rPr>
              <a:t>Проект 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Arial Black"/>
              </a:rPr>
              <a:t>Этнолитературная гостиная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663300"/>
                </a:solidFill>
                <a:latin typeface="Arial Black"/>
              </a:rPr>
              <a:t>Составитель: воспитатель интерната  МОУ «Школа с. Аксарка» </a:t>
            </a: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Arial Black"/>
              </a:rPr>
              <a:t>                           </a:t>
            </a:r>
            <a:r>
              <a:rPr b="0" lang="ru-RU" sz="1400" spc="-1" strike="noStrike">
                <a:solidFill>
                  <a:srgbClr val="ff0000"/>
                </a:solidFill>
                <a:latin typeface="Arial Black"/>
              </a:rPr>
              <a:t>Кумукова Галина  Васильевн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0" lang="ru-RU" sz="1400" spc="-1" strike="noStrike">
                <a:solidFill>
                  <a:srgbClr val="663300"/>
                </a:solidFill>
                <a:latin typeface="Arial Black"/>
              </a:rPr>
              <a:t>Реализаторы проекта:  воспитатели семьи рода Тобольчиных 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Презентацию подготовила учитель русского языка и литературы …"/>
          <p:cNvPicPr/>
          <p:nvPr/>
        </p:nvPicPr>
        <p:blipFill>
          <a:blip r:embed="rId1"/>
          <a:srcRect l="0" t="0" r="0" b="20835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Презентацию подготовила учитель русского языка и литературы …"/>
          <p:cNvPicPr/>
          <p:nvPr/>
        </p:nvPicPr>
        <p:blipFill>
          <a:blip r:embed="rId2"/>
          <a:srcRect l="0" t="0" r="0" b="91675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5715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а Этнолитературная гостиная приобрела особенную, свойственную только ей специфику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ние с миром литературы и его представителями - поэтами, писателями Сев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вая их, читатель двинется за Словом – Песней – в страну северной поэзии, в надежде найти собственное слово, сложить свою оригинальную песню,  а значит, и создать условия для самораскрытия, саморазвития и самосовершен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838080" y="838080"/>
            <a:ext cx="68770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Сильные стороны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pic>
        <p:nvPicPr>
          <p:cNvPr id="94" name="Picture 17" descr="DSC01467"/>
          <p:cNvPicPr/>
          <p:nvPr/>
        </p:nvPicPr>
        <p:blipFill>
          <a:blip r:embed="rId3"/>
          <a:srcRect l="0" t="0" r="18867" b="2169"/>
          <a:stretch/>
        </p:blipFill>
        <p:spPr>
          <a:xfrm>
            <a:off x="5943600" y="1752480"/>
            <a:ext cx="2819520" cy="27432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8"/>
          <p:cNvSpPr/>
          <p:nvPr/>
        </p:nvSpPr>
        <p:spPr>
          <a:xfrm>
            <a:off x="5943600" y="4572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сценир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кологической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Презентацию подготовила учитель русского языка и литературы …"/>
          <p:cNvPicPr/>
          <p:nvPr/>
        </p:nvPicPr>
        <p:blipFill>
          <a:blip r:embed="rId1"/>
          <a:srcRect l="0" t="0" r="0" b="20835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Презентацию подготовила учитель русского языка и литературы …"/>
          <p:cNvPicPr/>
          <p:nvPr/>
        </p:nvPicPr>
        <p:blipFill>
          <a:blip r:embed="rId2"/>
          <a:srcRect l="0" t="0" r="0" b="91675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105520" y="1219320"/>
            <a:ext cx="4038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omic Sans MS"/>
              </a:rPr>
              <a:t>Литературно –музыкальные  композиции, посвященные Дням Воинской Сла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ый проект по воспитанию опирается на проект «Многофункциональный этнокультурный центр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ект соответствует возрастным психолого-физиологическим особенностям воспитанников среднего и старшего зв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тературная гостиная предполагает как групповые, так и индивидуальные формы работы. Встречи проводятся  один  раз в месяц  по 1 ча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езультате   у ребят формируются и углубляются  знания о жизни писателей и поэтов не только русской литературы, но и  прививается стойкий   интерес к  литературе Сев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457200" y="685800"/>
            <a:ext cx="8229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Особенности организации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pic>
        <p:nvPicPr>
          <p:cNvPr id="101" name="Picture 16" descr="DSC03599"/>
          <p:cNvPicPr/>
          <p:nvPr/>
        </p:nvPicPr>
        <p:blipFill>
          <a:blip r:embed="rId3"/>
          <a:stretch/>
        </p:blipFill>
        <p:spPr>
          <a:xfrm>
            <a:off x="6172200" y="2057400"/>
            <a:ext cx="2590920" cy="1822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DSC03425"/>
          <p:cNvPicPr/>
          <p:nvPr/>
        </p:nvPicPr>
        <p:blipFill>
          <a:blip r:embed="rId4"/>
          <a:stretch/>
        </p:blipFill>
        <p:spPr>
          <a:xfrm>
            <a:off x="6019920" y="396252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Фон для презентаций литератур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екционные заня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ало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с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ску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скурсии по литературно-историческим мес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стие в творческих конкурсах и фестивал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здание презентаций для бесед и лекций к произведениям российских и северных литерат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ведение поэтических вечеров в гостиной, в том числе по произведениям поэтов и писателей Крайнего Сев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Режим занятий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) подготовительный этап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) встречи в гостиной 1 раза в месяц согласно плану работы  Этнолитературной гости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1233360" y="304920"/>
            <a:ext cx="6677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Методы и формы работ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pic>
        <p:nvPicPr>
          <p:cNvPr id="106" name="Picture 12" descr="SDC10411"/>
          <p:cNvPicPr/>
          <p:nvPr/>
        </p:nvPicPr>
        <p:blipFill>
          <a:blip r:embed="rId2"/>
          <a:stretch/>
        </p:blipFill>
        <p:spPr>
          <a:xfrm>
            <a:off x="4800600" y="1676520"/>
            <a:ext cx="4038480" cy="3776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4576320" y="5715000"/>
            <a:ext cx="42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ический вечер памяти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икто не забыт, ничто не забыто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Презентацию подготовила учитель русского языка и литературы …"/>
          <p:cNvPicPr/>
          <p:nvPr/>
        </p:nvPicPr>
        <p:blipFill>
          <a:blip r:embed="rId1"/>
          <a:srcRect l="0" t="0" r="0" b="20835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Презентацию подготовила учитель русского языка и литературы …"/>
          <p:cNvPicPr/>
          <p:nvPr/>
        </p:nvPicPr>
        <p:blipFill>
          <a:blip r:embed="rId2"/>
          <a:srcRect l="0" t="0" r="0" b="91675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Деятельность воспитателя: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омогает  воспитанникам  определить цель проект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екомендует  источники получения информац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рекомендует  возможные формы деятельно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содействует  прогнозированию результатов данного проект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создает  условия для активности воспитанника, вовлекает  всех детей до единог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является  надежным партнёро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помогает воспитанникам оценить полученный результа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Скачать шаблон для презентаций.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енности исполнения лирики, пр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ы   анализа литературного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нципы проект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381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разительно читать лирику, про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провизировать, составлять монтаж, сцена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овать работу в группе при обсуждении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ть прое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6"/>
          <p:cNvSpPr txBox="1"/>
          <p:nvPr/>
        </p:nvSpPr>
        <p:spPr>
          <a:xfrm>
            <a:off x="1590840" y="533520"/>
            <a:ext cx="5962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Воспитанники долж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2057400" y="1143000"/>
            <a:ext cx="1752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знат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116" name="WordArt 8"/>
          <p:cNvSpPr txBox="1"/>
          <p:nvPr/>
        </p:nvSpPr>
        <p:spPr>
          <a:xfrm>
            <a:off x="5715000" y="1143000"/>
            <a:ext cx="1828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умет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Скачать шаблон для презентаций.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46483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может  воспитанникам оценить значимость литературы, дать личностную оценку прочитанному произведению, т. е. сформирует эмоционально-значимое отношение к литерату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 расширит  интерес к художественной, мемуарной, документальной литерату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побудит  интерес к различным формам творческих работ (рефераты, сообщения, творческие работы, проекты, сравнительные характеристики и т. 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 повысит   коммуникативную активность через участие, обсуждение и защите своих проектов, выступления на сце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повысит творческий потенциал через создание собственных произведений, стих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. активизирует творческие способности  детей, их литературный  да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. поможет  в самовыражении кажд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.  стимулирует интерес к духовному богатству России, мировой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. повысит эмоциональную сферу воспитанника  как основы формирования «культуры чув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.  приобщит к миру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. воспитает эстетический вк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.  сформирует исследовательские умения,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3. усовершенствует  технику  чт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2209680" y="533520"/>
            <a:ext cx="5486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едполагаемые результаты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20" name="Picture 8" descr="DSC01510"/>
          <p:cNvPicPr/>
          <p:nvPr/>
        </p:nvPicPr>
        <p:blipFill>
          <a:blip r:embed="rId2"/>
          <a:srcRect l="0" t="0" r="0" b="12199"/>
          <a:stretch/>
        </p:blipFill>
        <p:spPr>
          <a:xfrm>
            <a:off x="4876920" y="16765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9"/>
          <p:cNvSpPr/>
          <p:nvPr/>
        </p:nvSpPr>
        <p:spPr>
          <a:xfrm>
            <a:off x="4572000" y="56386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стреча со сказительницей  народа  ха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3" descr="В.А.Осеева - детям - Картинка 2905/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стема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РОЖДЕНИЕ ЗАМЫСЛА И ПРОДУМЫВАНИЕ СЮЖЕТА МЕРОПРИ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Работа по определению темы будущей «гостин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 —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юбилейная дата писателя или поэ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 —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астие в литературных конкурсах, требующее более подробного знакомства с жизнью и творчеством писател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 Подбор литературного материал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Создание  сцена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одбор «героев» для будущего сценического вопло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 Работа с музыкальным и художественным материал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 </a:t>
            </a:r>
            <a:br>
              <a:rPr sz="18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SDC11028"/>
          <p:cNvPicPr/>
          <p:nvPr/>
        </p:nvPicPr>
        <p:blipFill>
          <a:blip r:embed="rId2"/>
          <a:stretch/>
        </p:blipFill>
        <p:spPr>
          <a:xfrm>
            <a:off x="7010280" y="4191120"/>
            <a:ext cx="1841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В.А.Осеева - детям - Картинка 2905/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РАБОТА С ТВОРЧЕСКИМИ ГРУППАМИ ПО                                      ВОПЛОЩЕНИЮ ЗАМЫСЛА.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   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 Индивидуальные консультации по работе над текстовым материалом (работа над ролью, сценическая реализация роли, выразительное чтение, занятия по технике речи)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    2.  Подготовка к творческому представлению писателя (биография, особенности творчества и т. д.)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    3.  Работа по созданию костюмов, декораций и общего оформления вечера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    4.  Создание выставок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    5.  Консультации, репетиционная (тренировочная) работа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Шаблон презентации &quot;Литературный&quot;"/>
          <p:cNvPicPr/>
          <p:nvPr/>
        </p:nvPicPr>
        <p:blipFill>
          <a:blip r:embed="rId1"/>
          <a:srcRect l="0" t="28850" r="25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1533600" y="108360"/>
            <a:ext cx="639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мероприятий этнолитературной гости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2015 -2016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762120"/>
          <a:ext cx="6934320" cy="5362560"/>
        </p:xfrm>
        <a:graphic>
          <a:graphicData uri="http://schemas.openxmlformats.org/drawingml/2006/table">
            <a:tbl>
              <a:tblPr/>
              <a:tblGrid>
                <a:gridCol w="730440"/>
                <a:gridCol w="4124160"/>
                <a:gridCol w="207972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ема мероприят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оки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изованное представление произведений И.Г.Истомина и Р. Руги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е литературной гостиной «Поэты северного края» (с приглашением поэтов  район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еловек, учитель,  гражданин - создатель первого хантыйского букваря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  Петре Ефимовиче  Хатанзееве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чтецов, посвященный дню округа. «Ты цвети, родной Ямал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пцуевские чт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ая гостиная «Афганистан болит в моей душе». Встреча с участниками локальных войн. Прослушивание песен, стихов, фестиваля афганской пес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ый журнал « Дочь тундры» (Творчество Анны Павловны Неркаг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я семей оленеводов. Литературно – музыкальная -  композиция «От кочевников беру свое начало…» (Л.В.Лапцуй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ая гости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 войны не женское лиц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404"/>
          <p:cNvSpPr/>
          <p:nvPr/>
        </p:nvSpPr>
        <p:spPr>
          <a:xfrm>
            <a:off x="0" y="58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Шаблон презентации &quot;Литературный&quot;"/>
          <p:cNvPicPr/>
          <p:nvPr/>
        </p:nvPicPr>
        <p:blipFill>
          <a:blip r:embed="rId1"/>
          <a:srcRect l="0" t="28850" r="25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1533600" y="108360"/>
            <a:ext cx="639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мероприятий этнолитературной гости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2016 -2017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90720" y="914400"/>
          <a:ext cx="7619760" cy="5224320"/>
        </p:xfrm>
        <a:graphic>
          <a:graphicData uri="http://schemas.openxmlformats.org/drawingml/2006/table">
            <a:tbl>
              <a:tblPr/>
              <a:tblGrid>
                <a:gridCol w="801720"/>
                <a:gridCol w="5040000"/>
                <a:gridCol w="1778040"/>
              </a:tblGrid>
              <a:tr h="482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ема мероприят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оки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 – музыкальная композиция «Учителями славится Росс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 – музыкальная композиция  ко Дню матери «Мамино сердце»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 – музыкальная композиция «Здесь начало России – в этом снежном краю», посвященная  Дню окру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ая гостиная «С. Н. Няруй – первый ненецкий композитор 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е литературной гостиной Лапцуевские чт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е литературной гостиной «Дом, в котором мы живем» - поэты северного края об экологии Ямала на примере стихотворений северных поэтов ( Юрия Вэлла, Прокопия Явтыс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Литературная  гостина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Гавриил Лагей - золотой голос Яма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 – музыкальная композиция « Война – печальней нету  слова» ( о подвигах ямальцев в годы Вов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Rectangle 404"/>
          <p:cNvSpPr/>
          <p:nvPr/>
        </p:nvSpPr>
        <p:spPr>
          <a:xfrm>
            <a:off x="0" y="58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Фоны для презентация по истор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временном мире, насыщенном информационными технологиями, резко снизился интерес к традиционным формам приобщения к национальной  культуре: чтению, овладению правилами и нормами родного языка; повсеместно проявляется пренебрежение к культурному и историческому наследию; происходит переоценка ценностей, отход от духовно-нравственных к материально-прагматическим ориентирам в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сюда следует необходимость приобщения подрастающего поколения к основам русской и национальной  культуры, частью которой является родной язык и родная литература, позволяющая молодым людям осознавать себя как носителя национальной культуры, выразителя национального менталит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ериод всеобщего перехода к информационному обществу интенсивность и качество чтения детьми произведений писателей и поэтов Севера  снижается. Становится все очевиднее замещающее влияние на чтение таких средств коммуникации, как телевидение, Интернет, аудио и видеопродукция. Диссонанс детско-юношеского чтения и возрастающей роли читательской деятельности в обществе может привести к снижению информационной, общекультурной компетентности подрастающего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2814480" y="304920"/>
            <a:ext cx="3515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Актуаль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Шаблон презентации &quot;Литературный&quot;"/>
          <p:cNvPicPr/>
          <p:nvPr/>
        </p:nvPicPr>
        <p:blipFill>
          <a:blip r:embed="rId1"/>
          <a:srcRect l="0" t="28850" r="25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1533600" y="108360"/>
            <a:ext cx="639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мероприятий этнолитературной гости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2017 -2018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838080"/>
          <a:ext cx="7467480" cy="4470480"/>
        </p:xfrm>
        <a:graphic>
          <a:graphicData uri="http://schemas.openxmlformats.org/drawingml/2006/table">
            <a:tbl>
              <a:tblPr/>
              <a:tblGrid>
                <a:gridCol w="641160"/>
                <a:gridCol w="4540320"/>
                <a:gridCol w="2286000"/>
              </a:tblGrid>
              <a:tr h="42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ема мероприят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оки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Литературный Аргиш».  Поэзия Север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Легенды народов Севера» (инсценировка легенды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Сердце,  отданное детям». О жизни и творчестве ненецкой писательницы Нины Ядн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Отчий край, родимый дом, сторона родная».-  литературно-музыкальная композиция ко дню образования ЯНА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евец заснеженного края», посвященная                    творчеству Романа Ругина,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эта, писателя, сказочника Ямал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ы о любви поговорим стихами».  Северные поэты о любв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уралья славные дочер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!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  к  8 Мар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 – музыкальная композиция «Увезу тебя я в тундру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эзия огненных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404"/>
          <p:cNvSpPr/>
          <p:nvPr/>
        </p:nvSpPr>
        <p:spPr>
          <a:xfrm>
            <a:off x="0" y="58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Фон для презентаций литератур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4267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Ямале, как и во всей  России, как и во многих странах мира, наблюдается снижение уровня читательской культуры населения. В результате огромного количества перемен в жизни общества за последние двадцать лет статус чтения, его роль, отношение к нему сильно меняется. Проблема чтения находится  в зоне особо пристального внимания. Актуальность проблемы утраты интереса к чтению вызвала реакцию в стране.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Российским книжным союзом была разработана и в настоящее время реализуется «Национальная программа поддержки и развития чтения», рассчитанная на 14 лет, до 2020 года, с целью противодействия  снижению интереса к чтению, исходя из понимания роли чтения в развитии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В России уменьшается доля «читающего населения» — такое мнение высказал президент Российского книжного союза, Сергей Степаш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исследованиям работников библиотек – 90% людей приходят в библиотеку за книгами, нужными для учебы или работы. Такое прагматическое чтение даёт пищу уму, но не формирует систему нравственных и эстетических идеалов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9140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561960" y="304920"/>
            <a:ext cx="8020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Социальная проблема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pic>
        <p:nvPicPr>
          <p:cNvPr id="57" name="Picture 9" descr="DSC00359"/>
          <p:cNvPicPr/>
          <p:nvPr/>
        </p:nvPicPr>
        <p:blipFill>
          <a:blip r:embed="rId2"/>
          <a:stretch/>
        </p:blipFill>
        <p:spPr>
          <a:xfrm>
            <a:off x="4952880" y="762120"/>
            <a:ext cx="3967200" cy="51814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5029200" y="60199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4944960" y="5867280"/>
            <a:ext cx="41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йонный фестива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Все краски Яма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Скачать шаблон для презентаций.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51920" y="8377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авленность проекта  заключается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м, чтобы не только познаком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нников с биографическими данным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изведениями российских и национ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ателей, посетить литературные музеи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ледить основные этапы работы 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изведениями, попробовать проник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их глубинный смысл, пробудить жел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творче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уальность работы состоит в том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годня современные школьники зачаст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знают о жизни писателей и поэтов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учебников и других печа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точников, проект же научит детей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гому смотреть на литерату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изведения, видеть в них частичку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343400" y="274284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00"/>
                </a:solidFill>
                <a:uFillTx/>
                <a:latin typeface="Times New Roman"/>
              </a:rPr>
              <a:t>Специфика данного проекта обусловлена характером главных целей обучения и воспитания , а именно</a:t>
            </a:r>
            <a:r>
              <a:rPr b="0" lang="ru-RU" sz="12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вооружение воспитанников основами знаний в соответствующей области науки  (познавательная цел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ормирование у воспитанников необходимых умений на базе полученных знаний; развитие навыков выразительного чтения, декламации, анализа произве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знакомство воспитанников со своеобразием поэтического языка северя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воспитание  у детей средствами мероприятий этно – литературной гостиной интереса к родной культуре, творчеству северных поэтов, пис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Этнолитературная гостиная  предполагает  рассматривать чтение не только как результат предметного обучения, но и как показатель личностного роста  воспитанников, фактора их социального успе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9"/>
          <p:cNvSpPr txBox="1"/>
          <p:nvPr/>
        </p:nvSpPr>
        <p:spPr>
          <a:xfrm>
            <a:off x="1828800" y="457200"/>
            <a:ext cx="5943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Основная идея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pic>
        <p:nvPicPr>
          <p:cNvPr id="64" name="Picture 10" descr="SDC10983"/>
          <p:cNvPicPr/>
          <p:nvPr/>
        </p:nvPicPr>
        <p:blipFill>
          <a:blip r:embed="rId2"/>
          <a:srcRect l="0" t="21826" r="4433" b="0"/>
          <a:stretch/>
        </p:blipFill>
        <p:spPr>
          <a:xfrm>
            <a:off x="7010280" y="1066680"/>
            <a:ext cx="2133720" cy="1752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SDC10988"/>
          <p:cNvPicPr/>
          <p:nvPr/>
        </p:nvPicPr>
        <p:blipFill>
          <a:blip r:embed="rId3"/>
          <a:srcRect l="0" t="26324" r="15385" b="0"/>
          <a:stretch/>
        </p:blipFill>
        <p:spPr>
          <a:xfrm>
            <a:off x="4800600" y="838080"/>
            <a:ext cx="22860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Презентацию подготовила учитель русского языка и литературы …"/>
          <p:cNvPicPr/>
          <p:nvPr/>
        </p:nvPicPr>
        <p:blipFill>
          <a:blip r:embed="rId1"/>
          <a:srcRect l="0" t="0" r="0" b="20835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Презентацию подготовила учитель русского языка и литературы …"/>
          <p:cNvPicPr/>
          <p:nvPr/>
        </p:nvPicPr>
        <p:blipFill>
          <a:blip r:embed="rId2"/>
          <a:srcRect l="0" t="0" r="0" b="91675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ическая проблема проекта наи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рко прослеживается на основе существу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годня противоречий в образова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ижением интереса к чтению у молодого поколения и возникшей при этом  необходимостью поддерживать устойчивый эмоциональный интерес к литературе, родной литературе и чт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ением количества часов на изучение родного языка, родной литератур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растанием числа обучающихся,  ограничивающихся чтением литературы только в пределах школьной програм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трачены или почти забыты традиции семейного чтения, самостоятельного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трачено чувство культуры и эстетики родного 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380880" y="685800"/>
            <a:ext cx="8153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Педагогическая проблема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pic>
        <p:nvPicPr>
          <p:cNvPr id="70" name="Picture 9" descr="DSC01467"/>
          <p:cNvPicPr/>
          <p:nvPr/>
        </p:nvPicPr>
        <p:blipFill>
          <a:blip r:embed="rId3"/>
          <a:stretch/>
        </p:blipFill>
        <p:spPr>
          <a:xfrm>
            <a:off x="5194440" y="1752480"/>
            <a:ext cx="3644640" cy="3124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0"/>
          <p:cNvSpPr/>
          <p:nvPr/>
        </p:nvSpPr>
        <p:spPr>
          <a:xfrm>
            <a:off x="5105520" y="5029200"/>
            <a:ext cx="37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сценировка экологической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Скачать шаблон для презентаций.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4800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достаточное методическое обеспечение для деятельности воспитателей в работе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анниками в этнолитературной гостин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достаточное  обеспечение художественной литературой и этнолитературой,  ориентированной на приобщение воспитанников к культуре чтения и формирования читательской компетенции  воспитанников в кругу семьи интерната, в условиях учебной и внеурочн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WordArt 5" descr=""/>
          <p:cNvPicPr/>
          <p:nvPr/>
        </p:nvPicPr>
        <p:blipFill>
          <a:blip r:embed="rId2"/>
          <a:stretch/>
        </p:blipFill>
        <p:spPr>
          <a:xfrm>
            <a:off x="457200" y="755640"/>
            <a:ext cx="8308800" cy="469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DC10844"/>
          <p:cNvPicPr/>
          <p:nvPr/>
        </p:nvPicPr>
        <p:blipFill>
          <a:blip r:embed="rId3"/>
          <a:stretch/>
        </p:blipFill>
        <p:spPr>
          <a:xfrm>
            <a:off x="5181480" y="1600200"/>
            <a:ext cx="37339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Шаблон презентации &quot;Литературный&quot;"/>
          <p:cNvPicPr/>
          <p:nvPr/>
        </p:nvPicPr>
        <p:blipFill>
          <a:blip r:embed="rId1"/>
          <a:srcRect l="0" t="28850" r="25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ывать  интерес к духовному наследию предков, идущему из глубины веков, вызвать потребность в изучении родного языка, традиционной куль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ть творческие способности воспитанников, стимулировать интерес к духовному богатству России,  мировой культуры, культуры народов Севера; развивать эмоциональную сферу ребенка как основы формирования культуры чувств, приобщать к миру искусства, воспитывать эстетический вкус; познакомить воспитанников с жизнью и  творчеством российских писателей и писателей Сев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5"/>
          <p:cNvSpPr txBox="1"/>
          <p:nvPr/>
        </p:nvSpPr>
        <p:spPr>
          <a:xfrm>
            <a:off x="2590920" y="304920"/>
            <a:ext cx="4190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Цель проект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Блог - Персональный сайт Каусарии Гаяновой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учить  жизнь и творчество известных писателей России и Севера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обучить воспитанников грамотному составлению сценария планируем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звивать интерес воспитанников к исследовательской  и творческой рабо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звивать коммуникативные навыки воспитанников, познавательную ак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звивать сценические навыки воспитан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воспитывать интерес воспитанников к изучению литературных произведений народов Севера – ветви современной литературы, биографии северных писател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воспитывать у детей бережное отношение к книгам, к историческим ценност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звивать  увлечённость чтением, потребность в регулярном чтении посредством использования разнообразных форм внеуроч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создать  единое  читательское  пространство на основе  взаимодействия: воспитанник – воспитатель - учитель - родитель- библиотекар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определить  пути использования данного проекта в развитии личностного роста воспитанников, раскрытии их природных способносте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2590920" y="304920"/>
            <a:ext cx="4209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 Black"/>
              </a:rPr>
              <a:t>Задачи проект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Презентацию подготовила учитель русского языка и литературы …"/>
          <p:cNvPicPr/>
          <p:nvPr/>
        </p:nvPicPr>
        <p:blipFill>
          <a:blip r:embed="rId1"/>
          <a:srcRect l="0" t="0" r="0" b="20835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Презентацию подготовила учитель русского языка и литературы …"/>
          <p:cNvPicPr/>
          <p:nvPr/>
        </p:nvPicPr>
        <p:blipFill>
          <a:blip r:embed="rId2"/>
          <a:srcRect l="0" t="0" r="0" b="91675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 основе деятельности этнолитературной гостиной заложены следующие принци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ора на уже имеющиеся знания и умения воспитан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ёт индивидуальных особенностей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здание условий для получения полезной информации и проведения литературных вече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верительные, гуманные формы и методы общения в процессе вос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проведения литературных вечеров  используется специальное оборудованное помещение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нолитературная гостин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льтимедийные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ро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457200" y="762120"/>
            <a:ext cx="8229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Принципы реализации темы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4723920" y="4648320"/>
            <a:ext cx="40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сценировка экологической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SDC11462"/>
          <p:cNvPicPr/>
          <p:nvPr/>
        </p:nvPicPr>
        <p:blipFill>
          <a:blip r:embed="rId3"/>
          <a:stretch/>
        </p:blipFill>
        <p:spPr>
          <a:xfrm>
            <a:off x="4648320" y="1371600"/>
            <a:ext cx="4038480" cy="4005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8"/>
          <p:cNvSpPr/>
          <p:nvPr/>
        </p:nvSpPr>
        <p:spPr>
          <a:xfrm>
            <a:off x="3657600" y="5486400"/>
            <a:ext cx="52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но – музыкальная композици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У чума на травке с шитьем на колень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a</cp:lastModifiedBy>
  <dcterms:modified xsi:type="dcterms:W3CDTF">2017-12-02T17:04:01Z</dcterms:modified>
  <cp:revision>2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