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3E9-6B58-4382-ADEC-6E816D03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E92-9F1F-46DA-8BDF-138FBEF6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3B4-A349-41FC-8512-A5DECB17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CF0-1B03-4EE7-877C-531EE2BD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09D-49D6-4CBD-B1B9-472392B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11C-83B4-4611-9652-B9895AE1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C12-7769-4616-9826-EDEC40B9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527-3AD0-4007-99D5-C2304D1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72A-2186-4565-B683-1F1F3A53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DFA-E213-42A8-848B-774D992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E56-DA6F-4E8C-BF96-AA10B00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04E-BA39-458D-B4F3-B4E1681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F92F-4645-4B9C-99AA-4CDEFCA0B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" Target="slide11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" Target="slide12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107408&amp;d_no=330371&amp;ext=Attachment.aspx?Id=163976" TargetMode="External"/><Relationship Id="rId2" Type="http://schemas.openxmlformats.org/officeDocument/2006/relationships/hyperlink" Target="http://numi.ru/downloadrus.php?id=4414" TargetMode="External"/><Relationship Id="rId3" Type="http://schemas.openxmlformats.org/officeDocument/2006/relationships/hyperlink" Target="http://qalib.ru/images/1-1348245148930.jpg" TargetMode="External"/><Relationship Id="rId4" Type="http://schemas.openxmlformats.org/officeDocument/2006/relationships/hyperlink" Target="http://www.rulit.net/author/rik-tatyana/zdravstvujte-imya-sushchestvitelnoe-download-free-216323.html" TargetMode="External"/><Relationship Id="rId5" Type="http://schemas.openxmlformats.org/officeDocument/2006/relationships/hyperlink" Target="http://www.pentagon.in.ua/uploads/forum/images/1306012738.jpg" TargetMode="External"/><Relationship Id="rId6" Type="http://schemas.openxmlformats.org/officeDocument/2006/relationships/hyperlink" Target="http://qalib.ru/images/1-1348245148930.jpg" TargetMode="External"/><Relationship Id="rId7" Type="http://schemas.openxmlformats.org/officeDocument/2006/relationships/hyperlink" Target="http://www.pentagon.in.ua/uploads/forum/images/1306012738.jpg" TargetMode="External"/><Relationship Id="rId8" Type="http://schemas.openxmlformats.org/officeDocument/2006/relationships/hyperlink" Target="http://www.bookin.org.ru/book/731234.jpg" TargetMode="External"/><Relationship Id="rId9" Type="http://schemas.openxmlformats.org/officeDocument/2006/relationships/hyperlink" Target="http://www.nec.if.ua/images/products/b/8423.jpg" TargetMode="External"/><Relationship Id="rId10" Type="http://schemas.openxmlformats.org/officeDocument/2006/relationships/hyperlink" Target="http://www.iurmedia.u-education.ru/murdasov/str/Untitled-1.jpg" TargetMode="External"/><Relationship Id="rId11" Type="http://schemas.openxmlformats.org/officeDocument/2006/relationships/hyperlink" Target="http://www.nec.if.ua/images/products/b/8423.jpg" TargetMode="External"/><Relationship Id="rId12" Type="http://schemas.openxmlformats.org/officeDocument/2006/relationships/hyperlink" Target="http://www.nec.if.ua/images/products/b/8423.jpg" TargetMode="External"/><Relationship Id="rId13" Type="http://schemas.openxmlformats.org/officeDocument/2006/relationships/hyperlink" Target="http://www.skytouch.co.za/blog/wp-content/uploads/2012/07/how_to_get_started.jpg" TargetMode="External"/><Relationship Id="rId14" Type="http://schemas.openxmlformats.org/officeDocument/2006/relationships/hyperlink" Target="http://www.rulit.net/author/rik-tatyana/zdravstvujte-imya-sushchestvitelnoe-download-free-216323.html" TargetMode="External"/><Relationship Id="rId15" Type="http://schemas.openxmlformats.org/officeDocument/2006/relationships/hyperlink" Target="http://www.nec.if.ua/images/products/b/8423.jpg" TargetMode="External"/><Relationship Id="rId16" Type="http://schemas.openxmlformats.org/officeDocument/2006/relationships/hyperlink" Target="http://www.pentagon.in.ua/uploads/forum/images/1306012738.jpg" TargetMode="External"/><Relationship Id="rId17" Type="http://schemas.openxmlformats.org/officeDocument/2006/relationships/hyperlink" Target="http://qalib.ru/images/1-1348245148930.jpg" TargetMode="External"/><Relationship Id="rId18" Type="http://schemas.openxmlformats.org/officeDocument/2006/relationships/hyperlink" Target="http://www.nec.if.ua/images/products/b/8423.jpg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" Target="slide2.xml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57440" y="1197000"/>
            <a:ext cx="58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Повторение изуче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в 5 классе об имени существитель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214800" y="3429000"/>
            <a:ext cx="24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  <a:ea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71680" y="564984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Зайцева Г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, учитель русского языка и литературы ГБОУ СОШ с. Калиновка муниципального района Серги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00040" y="1357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аким членом предложения является выделенное существительное? Кликните по правильному от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571680" y="24289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д ногами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ихонько всхлипывает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642960" y="3071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дле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2535120" y="711360"/>
            <a:ext cx="40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Не ошибайте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3571920" y="3071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642960" y="3786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о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3571920" y="3786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стоя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571680" y="453852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2. Тонкий слой снега устилает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3"/>
          <p:cNvSpPr/>
          <p:nvPr/>
        </p:nvSpPr>
        <p:spPr>
          <a:xfrm>
            <a:off x="795240" y="52862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дле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4"/>
          <p:cNvSpPr/>
          <p:nvPr/>
        </p:nvSpPr>
        <p:spPr>
          <a:xfrm>
            <a:off x="3724200" y="52862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5"/>
          <p:cNvSpPr/>
          <p:nvPr/>
        </p:nvSpPr>
        <p:spPr>
          <a:xfrm>
            <a:off x="795240" y="6000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о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6"/>
          <p:cNvSpPr/>
          <p:nvPr/>
        </p:nvSpPr>
        <p:spPr>
          <a:xfrm>
            <a:off x="3724200" y="6000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стоя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7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7572240" y="321480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8" descr="http://www.pentagon.in.ua/uploads/forum/images/1306012738.jpg"/>
          <p:cNvPicPr/>
          <p:nvPr/>
        </p:nvPicPr>
        <p:blipFill>
          <a:blip r:embed="rId3"/>
          <a:stretch/>
        </p:blipFill>
        <p:spPr>
          <a:xfrm>
            <a:off x="7643880" y="507204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2" descr="C:\Documents and Settings\Admin\Рабочий стол\Рисунок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56440" y="6000840"/>
            <a:ext cx="744840" cy="63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684360" y="4287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авайте вспомним ещё раз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484200" y="1785960"/>
            <a:ext cx="444600" cy="571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071720" y="171468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я существительное – часть речи, которая обозначае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едмет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отвечает на вопросы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3"/>
          <a:stretch/>
        </p:blipFill>
        <p:spPr>
          <a:xfrm>
            <a:off x="484200" y="3286080"/>
            <a:ext cx="444600" cy="571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1071720" y="276372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относятся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уж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жен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реднему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оду; являются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бстве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рицатель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одушевлё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одушевлё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ольшинство имён существительных изменяется по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ислам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4"/>
          <a:stretch/>
        </p:blipFill>
        <p:spPr>
          <a:xfrm>
            <a:off x="484200" y="5429160"/>
            <a:ext cx="444600" cy="571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"/>
          <p:cNvSpPr/>
          <p:nvPr/>
        </p:nvSpPr>
        <p:spPr>
          <a:xfrm>
            <a:off x="1000080" y="535788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предложении имена существительные быв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и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я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а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000080" y="18954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щее значение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1000080" y="3286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орфологические признаки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000080" y="553896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интаксическая роль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1106640" y="107460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ля проверки своего ответа кликните по стр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0" descr="http://www.nec.if.ua/images/products/b/8423.jpg">
            <a:hlinkClick r:id="rId5" action="ppaction://hlinksldjump"/>
          </p:cNvPr>
          <p:cNvPicPr/>
          <p:nvPr/>
        </p:nvPicPr>
        <p:blipFill>
          <a:blip r:embed="rId6"/>
          <a:srcRect l="3154" t="5717" r="3732" b="17705"/>
          <a:stretch/>
        </p:blipFill>
        <p:spPr>
          <a:xfrm>
            <a:off x="8062920" y="6000840"/>
            <a:ext cx="7556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0" descr="http://www.nec.if.ua/images/products/b/8423.jpg">
            <a:hlinkClick r:id="" action="ppaction://hlinkshowjump?jump=endshow"/>
          </p:cNvPr>
          <p:cNvPicPr/>
          <p:nvPr/>
        </p:nvPicPr>
        <p:blipFill>
          <a:blip r:embed="rId2"/>
          <a:srcRect l="3154" t="5717" r="3732" b="17705"/>
          <a:stretch/>
        </p:blipFill>
        <p:spPr>
          <a:xfrm>
            <a:off x="8062920" y="600084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4"/>
          <p:cNvSpPr/>
          <p:nvPr/>
        </p:nvSpPr>
        <p:spPr>
          <a:xfrm>
            <a:off x="642960" y="12859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248480" y="271584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  <a:ea typeface="Calibri"/>
              </a:rPr>
              <a:t>Выучить правило на стр. 131, выполнить упр. 2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57120" y="214200"/>
            <a:ext cx="8358120" cy="59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ционные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нер портал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it-n.ru/communities.aspx?cat_no=107408&amp;d_no=330371&amp;ext=Attachment.aspx?Id=163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мочки для оформления презентаци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umi.ru/downloadrus.php?id=44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из книги Т. Рик «Здравствуйте, Имя Существительное!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rulit.net/author/rik-tatyana/zdravstvujte-imya-sushchestvitelnoe-download-free-21632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pentagon.in.ua/uploads/forum/images/13060127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Роз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 http://www.pentagon.in.ua/uploads/forum/images/130601273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ожка книг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bookin.org.ru/book/73123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Уро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iurmedia.u-education.ru/murdasov/str/Untitled-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ительный зна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skytouch.co.za/blog/wp-content/uploads/2012/07/how_to_get_started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 из книги Т. Рик «Здравствуйте, Имя Существительное!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rulit.net/author/rik-tatyana/zdravstvujte-imya-sushchestvitelnoe-download-free-21632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www.nec.if.ua/images/products/b/8423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Роз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www.pentagon.in.ua/uploads/forum/images/13060127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nec.if.ua/images/products/b/8423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entagon.in.ua/uploads/forum/images/1306012738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лайд 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й язык. 6 класс. Учебник для общеобразовательных  учреждений. В 2 ч. Ч.1/ М.Т. Баранов, Т.А.Ладыженская, Л.А. Тростенцова и др. и др. ; науч. ред.  М.Н. Шанский. – М.:  Просвещение, 201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84360" y="711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Имя существительное как часть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916360" y="455760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Морфо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3" descr="http://qalib.ru/images/1-1348245148930.jpg">
            <a:hlinkClick r:id="rId2" action="ppaction://hlinksldjump"/>
          </p:cNvPr>
          <p:cNvPicPr/>
          <p:nvPr/>
        </p:nvPicPr>
        <p:blipFill>
          <a:blip r:embed="rId3"/>
          <a:srcRect l="0" t="15882" r="0" b="9523"/>
          <a:stretch/>
        </p:blipFill>
        <p:spPr>
          <a:xfrm>
            <a:off x="3341520" y="3143160"/>
            <a:ext cx="2224080" cy="1636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867280" y="5735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Синтаксическая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4" descr="http://qalib.ru/images/1-1348245148930.jpg">
            <a:hlinkClick r:id="rId4" action="ppaction://hlinksldjump"/>
          </p:cNvPr>
          <p:cNvPicPr/>
          <p:nvPr/>
        </p:nvPicPr>
        <p:blipFill>
          <a:blip r:embed="rId5"/>
          <a:srcRect l="0" t="15882" r="0" b="9523"/>
          <a:stretch/>
        </p:blipFill>
        <p:spPr>
          <a:xfrm>
            <a:off x="6286680" y="4214880"/>
            <a:ext cx="2455560" cy="1760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http://qalib.ru/images/1-1348245148930.jpg">
            <a:hlinkClick r:id="rId6" action="ppaction://hlinksldjump"/>
          </p:cNvPr>
          <p:cNvPicPr/>
          <p:nvPr/>
        </p:nvPicPr>
        <p:blipFill>
          <a:blip r:embed="rId7"/>
          <a:srcRect l="0" t="15882" r="0" b="9523"/>
          <a:stretch/>
        </p:blipFill>
        <p:spPr>
          <a:xfrm>
            <a:off x="357120" y="1714680"/>
            <a:ext cx="2313000" cy="1699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9280" y="32148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Общее грамматическ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755640" y="4056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649520" y="405612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ле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57680" y="4056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643280" y="40561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5646600" y="40561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838600" y="4056120"/>
            <a:ext cx="9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ч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679320" y="2657520"/>
            <a:ext cx="71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имена существительные и кликните по овалу под нужными сло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1480" y="517212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полня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3598920" y="517212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их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860400" y="517212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у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19440" y="51721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ад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8" descr="http://img-2005-06.photosight.ru/27/922362.jpg"/>
          <p:cNvPicPr/>
          <p:nvPr/>
        </p:nvPicPr>
        <p:blipFill>
          <a:blip r:embed="rId2"/>
          <a:stretch/>
        </p:blipFill>
        <p:spPr>
          <a:xfrm rot="2151000">
            <a:off x="7572240" y="480528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9" descr="http://img-2005-06.photosight.ru/27/922362.jpg"/>
          <p:cNvPicPr/>
          <p:nvPr/>
        </p:nvPicPr>
        <p:blipFill>
          <a:blip r:embed="rId3"/>
          <a:stretch/>
        </p:blipFill>
        <p:spPr>
          <a:xfrm rot="19023600">
            <a:off x="8286840" y="4876560"/>
            <a:ext cx="546120" cy="409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0" descr="http://img-2005-06.photosight.ru/27/922362.jpg"/>
          <p:cNvPicPr/>
          <p:nvPr/>
        </p:nvPicPr>
        <p:blipFill>
          <a:blip r:embed="rId4"/>
          <a:stretch/>
        </p:blipFill>
        <p:spPr>
          <a:xfrm rot="358800">
            <a:off x="8286480" y="3876480"/>
            <a:ext cx="546120" cy="409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http://img-2005-06.photosight.ru/27/922362.jpg"/>
          <p:cNvPicPr/>
          <p:nvPr/>
        </p:nvPicPr>
        <p:blipFill>
          <a:blip r:embed="rId5"/>
          <a:stretch/>
        </p:blipFill>
        <p:spPr>
          <a:xfrm rot="19652400">
            <a:off x="7214760" y="401940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http://img-2005-06.photosight.ru/27/922362.jpg"/>
          <p:cNvPicPr/>
          <p:nvPr/>
        </p:nvPicPr>
        <p:blipFill>
          <a:blip r:embed="rId6"/>
          <a:stretch/>
        </p:blipFill>
        <p:spPr>
          <a:xfrm>
            <a:off x="7786800" y="416232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5" descr="http://img-2005-06.photosight.ru/27/922362.jpg"/>
          <p:cNvPicPr/>
          <p:nvPr/>
        </p:nvPicPr>
        <p:blipFill>
          <a:blip r:embed="rId7"/>
          <a:stretch/>
        </p:blipFill>
        <p:spPr>
          <a:xfrm>
            <a:off x="201312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6" descr="http://img-2005-06.photosight.ru/27/922362.jpg"/>
          <p:cNvPicPr/>
          <p:nvPr/>
        </p:nvPicPr>
        <p:blipFill>
          <a:blip r:embed="rId8"/>
          <a:stretch/>
        </p:blipFill>
        <p:spPr>
          <a:xfrm>
            <a:off x="933480" y="463860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4" descr="http://img-2005-06.photosight.ru/27/922362.jpg"/>
          <p:cNvPicPr/>
          <p:nvPr/>
        </p:nvPicPr>
        <p:blipFill>
          <a:blip r:embed="rId9"/>
          <a:stretch/>
        </p:blipFill>
        <p:spPr>
          <a:xfrm>
            <a:off x="301320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7" descr="http://img-2005-06.photosight.ru/27/922362.jpg"/>
          <p:cNvPicPr/>
          <p:nvPr/>
        </p:nvPicPr>
        <p:blipFill>
          <a:blip r:embed="rId10"/>
          <a:stretch/>
        </p:blipFill>
        <p:spPr>
          <a:xfrm>
            <a:off x="601344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8" descr="http://img-2005-06.photosight.ru/27/922362.jpg"/>
          <p:cNvPicPr/>
          <p:nvPr/>
        </p:nvPicPr>
        <p:blipFill>
          <a:blip r:embed="rId11"/>
          <a:stretch/>
        </p:blipFill>
        <p:spPr>
          <a:xfrm>
            <a:off x="401328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9" descr="http://img-2005-06.photosight.ru/27/922362.jpg"/>
          <p:cNvPicPr/>
          <p:nvPr/>
        </p:nvPicPr>
        <p:blipFill>
          <a:blip r:embed="rId12"/>
          <a:stretch/>
        </p:blipFill>
        <p:spPr>
          <a:xfrm>
            <a:off x="501336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0" descr="http://img-2005-06.photosight.ru/27/922362.jpg"/>
          <p:cNvPicPr/>
          <p:nvPr/>
        </p:nvPicPr>
        <p:blipFill>
          <a:blip r:embed="rId13"/>
          <a:stretch/>
        </p:blipFill>
        <p:spPr>
          <a:xfrm>
            <a:off x="5005440" y="5778360"/>
            <a:ext cx="377640" cy="373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1" descr="http://img-2005-06.photosight.ru/27/922362.jpg"/>
          <p:cNvPicPr/>
          <p:nvPr/>
        </p:nvPicPr>
        <p:blipFill>
          <a:blip r:embed="rId14"/>
          <a:stretch/>
        </p:blipFill>
        <p:spPr>
          <a:xfrm>
            <a:off x="3870360" y="5786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2" descr="http://img-2005-06.photosight.ru/27/922362.jpg"/>
          <p:cNvPicPr/>
          <p:nvPr/>
        </p:nvPicPr>
        <p:blipFill>
          <a:blip r:embed="rId15"/>
          <a:stretch/>
        </p:blipFill>
        <p:spPr>
          <a:xfrm>
            <a:off x="2513160" y="5786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3" descr="http://img-2005-06.photosight.ru/27/922362.jpg"/>
          <p:cNvPicPr/>
          <p:nvPr/>
        </p:nvPicPr>
        <p:blipFill>
          <a:blip r:embed="rId16"/>
          <a:stretch/>
        </p:blipFill>
        <p:spPr>
          <a:xfrm>
            <a:off x="1084320" y="5786280"/>
            <a:ext cx="36504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3"/>
          <p:cNvSpPr/>
          <p:nvPr/>
        </p:nvSpPr>
        <p:spPr>
          <a:xfrm>
            <a:off x="88884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1962000" y="4572000"/>
            <a:ext cx="46692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2962440" y="4572000"/>
            <a:ext cx="4665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072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496080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5961240" y="4572000"/>
            <a:ext cx="46800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2460600" y="5715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3817800" y="5715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1031760" y="5715000"/>
            <a:ext cx="468360" cy="4665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3"/>
          <p:cNvSpPr/>
          <p:nvPr/>
        </p:nvSpPr>
        <p:spPr>
          <a:xfrm>
            <a:off x="4929120" y="5786280"/>
            <a:ext cx="50004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>
            <a:off x="679320" y="812880"/>
            <a:ext cx="56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Имя существительно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– часть речи, которая обозначает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отвечает на вопросы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2" descr="C:\Documents and Settings\Admin\Рабочий стол\Рисунок1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6000840"/>
            <a:ext cx="857160" cy="637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1" descr="C:\Documents and Settings\Admin\Рабочий стол\Рисунок1а.jpg"/>
          <p:cNvPicPr/>
          <p:nvPr/>
        </p:nvPicPr>
        <p:blipFill>
          <a:blip r:embed="rId19"/>
          <a:srcRect l="7909" t="5436" r="0" b="0"/>
          <a:stretch/>
        </p:blipFill>
        <p:spPr>
          <a:xfrm>
            <a:off x="7238880" y="1714680"/>
            <a:ext cx="166212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5" descr=""/>
          <p:cNvPicPr/>
          <p:nvPr/>
        </p:nvPicPr>
        <p:blipFill>
          <a:blip r:embed="rId20"/>
          <a:stretch/>
        </p:blipFill>
        <p:spPr>
          <a:xfrm>
            <a:off x="6786720" y="642960"/>
            <a:ext cx="215424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6"/>
          <p:cNvSpPr/>
          <p:nvPr/>
        </p:nvSpPr>
        <p:spPr>
          <a:xfrm>
            <a:off x="142884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аньте волшебни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357120" y="728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явл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обстве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нарицатель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одушевлённым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неодушевлё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3200" y="2143080"/>
            <a:ext cx="72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ерное утверждение о выделенных существительных и кликните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744480" y="343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ланета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Ма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888080" y="49798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собстве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744480" y="42069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една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ерая Ш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744480" y="49798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журнал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«Трам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888080" y="42069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еодушевлё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4888080" y="34671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ариц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744480" y="5753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ород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Т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888080" y="57531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одушевлё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4888080" y="4273560"/>
            <a:ext cx="264312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4888080" y="5773680"/>
            <a:ext cx="235728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888080" y="3571920"/>
            <a:ext cx="242856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8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3714840" y="4857840"/>
            <a:ext cx="1065240" cy="798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3" descr="http://www.nec.if.ua/images/products/b/8423.jpg">
            <a:hlinkClick r:id="rId3" action="ppaction://hlinksldjump"/>
          </p:cNvPr>
          <p:cNvPicPr/>
          <p:nvPr/>
        </p:nvPicPr>
        <p:blipFill>
          <a:blip r:embed="rId4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2" descr="http://www.bookin.org.ru/book/731234.jpg"/>
          <p:cNvPicPr/>
          <p:nvPr/>
        </p:nvPicPr>
        <p:blipFill>
          <a:blip r:embed="rId5"/>
          <a:stretch/>
        </p:blipFill>
        <p:spPr>
          <a:xfrm>
            <a:off x="7412040" y="1639800"/>
            <a:ext cx="1378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0"/>
          <p:cNvSpPr/>
          <p:nvPr/>
        </p:nvSpPr>
        <p:spPr>
          <a:xfrm>
            <a:off x="4932360" y="5013360"/>
            <a:ext cx="2071800" cy="36684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7"/>
          <p:cNvSpPr/>
          <p:nvPr/>
        </p:nvSpPr>
        <p:spPr>
          <a:xfrm>
            <a:off x="285840" y="57168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относятся к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мужскому,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жен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редне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826920" y="271476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арашют лёг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5200560" y="275256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юль то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1324800" y="385776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фасоль с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9"/>
          <p:cNvSpPr/>
          <p:nvPr/>
        </p:nvSpPr>
        <p:spPr>
          <a:xfrm>
            <a:off x="528624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озоль с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6"/>
          <p:cNvSpPr/>
          <p:nvPr/>
        </p:nvSpPr>
        <p:spPr>
          <a:xfrm>
            <a:off x="2714760" y="47530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ообщение сроч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3"/>
          <p:cNvSpPr/>
          <p:nvPr/>
        </p:nvSpPr>
        <p:spPr>
          <a:xfrm>
            <a:off x="428760" y="17413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ставьте окончания полных имён прилагательных. Устно объясните свой выб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9" descr="http://www.iurmedia.u-education.ru/murdasov/str/Untitled-1.jpg"/>
          <p:cNvPicPr/>
          <p:nvPr/>
        </p:nvPicPr>
        <p:blipFill>
          <a:blip r:embed="rId2"/>
          <a:stretch/>
        </p:blipFill>
        <p:spPr>
          <a:xfrm>
            <a:off x="7491240" y="566640"/>
            <a:ext cx="1354320" cy="124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http://www.nec.if.ua/images/products/b/8423.jpg">
            <a:hlinkClick r:id="rId3" action="ppaction://hlinksldjump"/>
          </p:cNvPr>
          <p:cNvPicPr/>
          <p:nvPr/>
        </p:nvPicPr>
        <p:blipFill>
          <a:blip r:embed="rId4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7286760" y="1571760"/>
            <a:ext cx="15001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14200" y="74124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измен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 числам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00040" y="1928880"/>
            <a:ext cx="7858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ассмотрите таблицу и расскажите о правописании гласных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в падежных окончаниях существительных в единственном числе. Какого стиля будет ваше высказывание? Таблицу можно передви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0" descr="http://www.nec.if.ua/images/products/b/8423.jpg">
            <a:hlinkClick r:id="rId2" action="ppaction://hlinksldjump"/>
          </p:cNvPr>
          <p:cNvPicPr/>
          <p:nvPr/>
        </p:nvPicPr>
        <p:blipFill>
          <a:blip r:embed="rId3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C:\Documents and Settings\Admin\Рабочий стол\Рисунок1а.jpg"/>
          <p:cNvPicPr/>
          <p:nvPr/>
        </p:nvPicPr>
        <p:blipFill>
          <a:blip r:embed="rId4"/>
          <a:stretch/>
        </p:blipFill>
        <p:spPr>
          <a:xfrm>
            <a:off x="1336680" y="3857760"/>
            <a:ext cx="21636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http://www.skytouch.co.za/blog/wp-content/uploads/2012/07/how_to_get_started.jpg"/>
          <p:cNvPicPr/>
          <p:nvPr/>
        </p:nvPicPr>
        <p:blipFill>
          <a:blip r:embed="rId5"/>
          <a:srcRect l="32473" t="8668" r="35063" b="6862"/>
          <a:stretch/>
        </p:blipFill>
        <p:spPr>
          <a:xfrm>
            <a:off x="5286240" y="4071960"/>
            <a:ext cx="1533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7429680" y="1285920"/>
            <a:ext cx="15001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14200" y="57168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измен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 числам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0040" y="18590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пишите существительные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аппарат, программа, область, направление, алюминий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тех падежах, для которых в таблице указаны окончания. Можно использовать предлоги и передвигать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0040" y="360684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аппара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2-е, П.); от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1-е, Р.), к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1-е, Д.), в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1-е, П.); от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3-е, Р.), к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3-е, Д.), в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3-е, П.); в напра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а -ие, П.), в алюмини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на -ий,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85792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0" descr="http://www.nec.if.ua/images/products/b/8423.jpg">
            <a:hlinkClick r:id="rId2" action="ppaction://hlinksldjump"/>
          </p:cNvPr>
          <p:cNvPicPr/>
          <p:nvPr/>
        </p:nvPicPr>
        <p:blipFill>
          <a:blip r:embed="rId3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00040" y="1467000"/>
            <a:ext cx="7858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аком варианте ответа указаны все слова, где пропущена буква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? Кликните по стр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571680" y="282420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 окраин., пр.града, о произвед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71680" y="368136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олюч.м взгляд., пр.з.мление, сяд.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680" y="46101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резерв., дума.шь, о преподават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1680" y="553896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 спортсмен., в печень., на 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71680" y="2824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 окраин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пр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рада, о произведен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00040" y="2895480"/>
            <a:ext cx="592920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71680" y="36813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олюч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 взгляд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пр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ление, сяд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71680" y="3753000"/>
            <a:ext cx="585756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71680" y="46101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резерв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дума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шь, о преподавате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642960" y="4753080"/>
            <a:ext cx="550080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5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7358040" y="4538520"/>
            <a:ext cx="1065240" cy="798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6"/>
          <p:cNvSpPr/>
          <p:nvPr/>
        </p:nvSpPr>
        <p:spPr>
          <a:xfrm>
            <a:off x="571680" y="553896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 спортсмен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в печень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на станц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71680" y="5610240"/>
            <a:ext cx="550044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2" descr="C:\Documents and Settings\Admin\Рабочий стол\Рисунок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00840"/>
            <a:ext cx="857160" cy="637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2535120" y="711360"/>
            <a:ext cx="40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Не ошибайте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7286760" y="2505240"/>
            <a:ext cx="157140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2" descr="C:\Documents and Settings\Admin\Рабочий стол\Рисунок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56440" y="6000840"/>
            <a:ext cx="744840" cy="637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042920" y="2357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ети долго гуляли во дворе с соба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428760" y="16700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Кликните  по нужному о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133200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430200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35788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305928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"/>
          <p:cNvSpPr/>
          <p:nvPr/>
        </p:nvSpPr>
        <p:spPr>
          <a:xfrm>
            <a:off x="212256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071720" y="400068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траве блестят капли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2"/>
          <p:cNvSpPr/>
          <p:nvPr/>
        </p:nvSpPr>
        <p:spPr>
          <a:xfrm>
            <a:off x="150012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430848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4"/>
          <p:cNvSpPr/>
          <p:nvPr/>
        </p:nvSpPr>
        <p:spPr>
          <a:xfrm>
            <a:off x="339084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5"/>
          <p:cNvSpPr/>
          <p:nvPr/>
        </p:nvSpPr>
        <p:spPr>
          <a:xfrm>
            <a:off x="236376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28760" y="4933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3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е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кликните по ов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1114560" y="571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лака почти касались верхушек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1760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470052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614052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1"/>
          <p:cNvSpPr/>
          <p:nvPr/>
        </p:nvSpPr>
        <p:spPr>
          <a:xfrm>
            <a:off x="346068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22"/>
          <p:cNvSpPr/>
          <p:nvPr/>
        </p:nvSpPr>
        <p:spPr>
          <a:xfrm>
            <a:off x="2395440" y="62532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2071800" y="2870280"/>
            <a:ext cx="28728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5"/>
          <p:cNvSpPr/>
          <p:nvPr/>
        </p:nvSpPr>
        <p:spPr>
          <a:xfrm>
            <a:off x="3033720" y="287028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4281480" y="2857680"/>
            <a:ext cx="25236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5391000" y="2905200"/>
            <a:ext cx="25272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1500120" y="449892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2357280" y="4498920"/>
            <a:ext cx="25272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0"/>
          <p:cNvSpPr/>
          <p:nvPr/>
        </p:nvSpPr>
        <p:spPr>
          <a:xfrm>
            <a:off x="3390840" y="450072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1"/>
          <p:cNvSpPr/>
          <p:nvPr/>
        </p:nvSpPr>
        <p:spPr>
          <a:xfrm>
            <a:off x="4319640" y="450216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2"/>
          <p:cNvSpPr/>
          <p:nvPr/>
        </p:nvSpPr>
        <p:spPr>
          <a:xfrm>
            <a:off x="6105600" y="6243480"/>
            <a:ext cx="252360" cy="287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3"/>
          <p:cNvSpPr/>
          <p:nvPr/>
        </p:nvSpPr>
        <p:spPr>
          <a:xfrm>
            <a:off x="4714920" y="621504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3429000" y="6230880"/>
            <a:ext cx="28728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5"/>
          <p:cNvSpPr/>
          <p:nvPr/>
        </p:nvSpPr>
        <p:spPr>
          <a:xfrm>
            <a:off x="2405160" y="6240600"/>
            <a:ext cx="25236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1300320" y="6240600"/>
            <a:ext cx="25236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"/>
          <p:cNvSpPr/>
          <p:nvPr/>
        </p:nvSpPr>
        <p:spPr>
          <a:xfrm>
            <a:off x="1042920" y="2357280"/>
            <a:ext cx="55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ети долго гуляли во дворе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с собакой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1"/>
          <p:cNvSpPr/>
          <p:nvPr/>
        </p:nvSpPr>
        <p:spPr>
          <a:xfrm>
            <a:off x="1071720" y="400068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В трав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лестят капли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2"/>
          <p:cNvSpPr/>
          <p:nvPr/>
        </p:nvSpPr>
        <p:spPr>
          <a:xfrm>
            <a:off x="1114560" y="571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Облака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чти касались верхушек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3"/>
          <p:cNvSpPr/>
          <p:nvPr/>
        </p:nvSpPr>
        <p:spPr>
          <a:xfrm>
            <a:off x="428760" y="329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2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о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Кликните по нужному ов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500040" y="57168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предложении имена существительные быв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и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я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а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319040" y="2857680"/>
            <a:ext cx="25272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1:08:02Z</dcterms:created>
  <dc:creator>User</dc:creator>
  <dc:description/>
  <dc:language>en-US</dc:language>
  <cp:lastModifiedBy>Zverdvd.org</cp:lastModifiedBy>
  <dcterms:modified xsi:type="dcterms:W3CDTF">2017-12-02T14:37:16Z</dcterms:modified>
  <cp:revision>380</cp:revision>
  <dc:subject/>
  <dc:title>Слайд 1</dc:title>
</cp:coreProperties>
</file>