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6151-4379-46BE-822C-72D85F589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EE72-9D68-4E9D-9A3E-CC8857A5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3361-AFFF-41D0-9C57-C44317BD5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0D39-9024-4796-B9CE-8C85B515D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1727-1E4C-4C62-BEDC-6C514288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3820-AC2B-497F-B518-32D71194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9EDA-1B56-4919-8588-99C8CC31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32EE-01FB-46FC-92DA-D76F2F0A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1628-EAB7-48AB-A179-47B8AFED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A6E8-0700-4E99-AE1B-C3BA7F1F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5949-487C-4105-BC03-42527693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0C27-2CCB-4F09-B7D0-911808FB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FDAE-BE64-4927-98DC-4B2C657F8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8000" y="4562640"/>
            <a:ext cx="5208840" cy="1585800"/>
          </a:xfrm>
          <a:prstGeom prst="parallelogram">
            <a:avLst>
              <a:gd name="adj" fmla="val 56448"/>
            </a:avLst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32000" y="2274840"/>
            <a:ext cx="2830680" cy="35085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66cc"/>
              </a:gs>
              <a:gs pos="50000">
                <a:srgbClr val="ffffff"/>
              </a:gs>
              <a:gs pos="100000">
                <a:srgbClr val="ff66cc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54320" y="4788000"/>
            <a:ext cx="2827440" cy="1017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33720" y="1731960"/>
            <a:ext cx="5208480" cy="1585800"/>
          </a:xfrm>
          <a:prstGeom prst="parallelogram">
            <a:avLst>
              <a:gd name="adj" fmla="val 56444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54320" y="2071800"/>
            <a:ext cx="2827440" cy="10191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5981760" y="2523600"/>
            <a:ext cx="0" cy="7938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154320" y="2523600"/>
            <a:ext cx="0" cy="7938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5757840" y="2862000"/>
            <a:ext cx="0" cy="4554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5529240" y="2977920"/>
            <a:ext cx="0" cy="3394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378240" y="2862000"/>
            <a:ext cx="0" cy="4554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78240" y="3317760"/>
            <a:ext cx="0" cy="226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52720" y="2995560"/>
            <a:ext cx="0" cy="2714760"/>
            <a:chOff x="3852720" y="2995560"/>
            <a:chExt cx="0" cy="2714760"/>
          </a:xfrm>
        </p:grpSpPr>
        <p:sp>
          <p:nvSpPr>
            <p:cNvPr id="53" name=""/>
            <p:cNvSpPr/>
            <p:nvPr/>
          </p:nvSpPr>
          <p:spPr>
            <a:xfrm flipV="1">
              <a:off x="3852720" y="2995560"/>
              <a:ext cx="0" cy="3398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852720" y="3335400"/>
              <a:ext cx="0" cy="23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5529240" y="331776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57840" y="3317760"/>
            <a:ext cx="0" cy="226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1052640"/>
            <a:ext cx="0" cy="56610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45080" y="18432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00720" y="4724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"/>
                <a:ea typeface="Arial Unicode MS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92720" y="18432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213080" y="3066840"/>
            <a:ext cx="0" cy="2714400"/>
            <a:chOff x="4213080" y="3066840"/>
            <a:chExt cx="0" cy="2714400"/>
          </a:xfrm>
        </p:grpSpPr>
        <p:sp>
          <p:nvSpPr>
            <p:cNvPr id="62" name=""/>
            <p:cNvSpPr/>
            <p:nvPr/>
          </p:nvSpPr>
          <p:spPr>
            <a:xfrm flipV="1">
              <a:off x="4213080" y="3066840"/>
              <a:ext cx="0" cy="3394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13080" y="3406680"/>
              <a:ext cx="0" cy="23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221080" y="3067200"/>
            <a:ext cx="0" cy="2665080"/>
            <a:chOff x="5221080" y="3067200"/>
            <a:chExt cx="0" cy="2665080"/>
          </a:xfrm>
        </p:grpSpPr>
        <p:sp>
          <p:nvSpPr>
            <p:cNvPr id="65" name=""/>
            <p:cNvSpPr/>
            <p:nvPr/>
          </p:nvSpPr>
          <p:spPr>
            <a:xfrm flipV="1">
              <a:off x="5221080" y="306720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21080" y="3400560"/>
              <a:ext cx="0" cy="233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5005440" y="3066840"/>
            <a:ext cx="0" cy="2714400"/>
            <a:chOff x="5005440" y="3066840"/>
            <a:chExt cx="0" cy="2714400"/>
          </a:xfrm>
        </p:grpSpPr>
        <p:sp>
          <p:nvSpPr>
            <p:cNvPr id="68" name=""/>
            <p:cNvSpPr/>
            <p:nvPr/>
          </p:nvSpPr>
          <p:spPr>
            <a:xfrm flipV="1">
              <a:off x="5005440" y="3066840"/>
              <a:ext cx="0" cy="3394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005440" y="3406680"/>
              <a:ext cx="0" cy="23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4716360" y="2058840"/>
            <a:ext cx="0" cy="2714760"/>
            <a:chOff x="4716360" y="2058840"/>
            <a:chExt cx="0" cy="2714760"/>
          </a:xfrm>
        </p:grpSpPr>
        <p:sp>
          <p:nvSpPr>
            <p:cNvPr id="71" name=""/>
            <p:cNvSpPr/>
            <p:nvPr/>
          </p:nvSpPr>
          <p:spPr>
            <a:xfrm flipV="1">
              <a:off x="4716360" y="205884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716360" y="3066840"/>
              <a:ext cx="0" cy="1706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068720" y="2131920"/>
            <a:ext cx="0" cy="2714760"/>
            <a:chOff x="4068720" y="2131920"/>
            <a:chExt cx="0" cy="2714760"/>
          </a:xfrm>
        </p:grpSpPr>
        <p:sp>
          <p:nvSpPr>
            <p:cNvPr id="74" name=""/>
            <p:cNvSpPr/>
            <p:nvPr/>
          </p:nvSpPr>
          <p:spPr>
            <a:xfrm flipV="1">
              <a:off x="4068720" y="213192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068720" y="3139920"/>
              <a:ext cx="0" cy="1706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3565440" y="2203200"/>
            <a:ext cx="0" cy="2714400"/>
            <a:chOff x="3565440" y="2203200"/>
            <a:chExt cx="0" cy="2714400"/>
          </a:xfrm>
        </p:grpSpPr>
        <p:sp>
          <p:nvSpPr>
            <p:cNvPr id="77" name=""/>
            <p:cNvSpPr/>
            <p:nvPr/>
          </p:nvSpPr>
          <p:spPr>
            <a:xfrm flipV="1">
              <a:off x="3565440" y="2203200"/>
              <a:ext cx="0" cy="10076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65440" y="3211200"/>
              <a:ext cx="0" cy="1706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5292720" y="2131920"/>
            <a:ext cx="0" cy="2714760"/>
            <a:chOff x="5292720" y="2131920"/>
            <a:chExt cx="0" cy="2714760"/>
          </a:xfrm>
        </p:grpSpPr>
        <p:sp>
          <p:nvSpPr>
            <p:cNvPr id="80" name=""/>
            <p:cNvSpPr/>
            <p:nvPr/>
          </p:nvSpPr>
          <p:spPr>
            <a:xfrm flipV="1">
              <a:off x="5292720" y="213192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3139920"/>
              <a:ext cx="0" cy="1706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4467240" y="519588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00720" y="256536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62064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4076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бразу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050560" y="3860640"/>
            <a:ext cx="1297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050560" y="4221000"/>
            <a:ext cx="17305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1628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снование цили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948360" y="5157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снование цили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50920" y="2133720"/>
            <a:ext cx="115272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5580000" y="5229360"/>
            <a:ext cx="1440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88000" y="3500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Цилиндрическая поверх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363640" y="3860640"/>
            <a:ext cx="12956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19280" y="6237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сь цили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419640" y="594972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6364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онятие цилинд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765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Цилиндр – тело, ограниченное цилиндрической поверхностью и двумя круг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rcRect l="0" t="51644" r="39696" b="0"/>
          <a:stretch/>
        </p:blipFill>
        <p:spPr>
          <a:xfrm>
            <a:off x="539640" y="4581360"/>
            <a:ext cx="2016360" cy="17528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имеры моделей цилиндра в окружающей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6084720" y="4581360"/>
            <a:ext cx="1920960" cy="1333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2556000" y="1989000"/>
          <a:ext cx="274320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56000" y="1989000"/>
                    <a:ext cx="2743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324000" y="1268280"/>
            <a:ext cx="2468520" cy="24685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6156360" y="1268280"/>
            <a:ext cx="2397240" cy="23972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7"/>
          <a:stretch/>
        </p:blipFill>
        <p:spPr>
          <a:xfrm>
            <a:off x="2843280" y="4076640"/>
            <a:ext cx="2976480" cy="2390760"/>
          </a:xfrm>
          <a:prstGeom prst="rect">
            <a:avLst/>
          </a:prstGeom>
          <a:ln w="0">
            <a:noFill/>
          </a:ln>
        </p:spPr>
      </p:pic>
      <p:grpSp>
        <p:nvGrpSpPr>
          <p:cNvPr id="218" name=""/>
          <p:cNvGrpSpPr/>
          <p:nvPr/>
        </p:nvGrpSpPr>
        <p:grpSpPr>
          <a:xfrm>
            <a:off x="3203640" y="1125360"/>
            <a:ext cx="2590560" cy="2500200"/>
            <a:chOff x="3203640" y="1125360"/>
            <a:chExt cx="2590560" cy="2500200"/>
          </a:xfrm>
        </p:grpSpPr>
        <p:sp>
          <p:nvSpPr>
            <p:cNvPr id="219" name=""/>
            <p:cNvSpPr/>
            <p:nvPr/>
          </p:nvSpPr>
          <p:spPr>
            <a:xfrm>
              <a:off x="3851280" y="1125360"/>
              <a:ext cx="138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БАРАБА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0" name="" descr=""/>
            <p:cNvPicPr/>
            <p:nvPr/>
          </p:nvPicPr>
          <p:blipFill>
            <a:blip r:embed="rId8"/>
            <a:stretch/>
          </p:blipFill>
          <p:spPr>
            <a:xfrm>
              <a:off x="3203640" y="1268280"/>
              <a:ext cx="2590560" cy="2357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43280" y="3718080"/>
            <a:ext cx="2087640" cy="647640"/>
          </a:xfrm>
          <a:prstGeom prst="ellipse">
            <a:avLst/>
          </a:prstGeom>
          <a:gradFill rotWithShape="0">
            <a:gsLst>
              <a:gs pos="0">
                <a:srgbClr val="ffff00">
                  <a:alpha val="43137"/>
                </a:srgbClr>
              </a:gs>
              <a:gs pos="100000">
                <a:srgbClr val="757500">
                  <a:alpha val="41176"/>
                </a:srgbClr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43280" y="1341360"/>
            <a:ext cx="2087640" cy="3024360"/>
          </a:xfrm>
          <a:prstGeom prst="can">
            <a:avLst>
              <a:gd name="adj" fmla="val 25000"/>
            </a:avLst>
          </a:prstGeom>
          <a:solidFill>
            <a:srgbClr val="ffff00">
              <a:alpha val="4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22920" y="1701720"/>
            <a:ext cx="1008000" cy="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91280" y="1557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04000" y="1557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22920" y="1701720"/>
            <a:ext cx="1440" cy="2232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91280" y="3646440"/>
            <a:ext cx="57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19280" y="1701720"/>
            <a:ext cx="280836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 = OA –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ради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 = OO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ы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08464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образующие цилиндра перпендикулярны основаниям, то такой цилиндр называется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рямым круговым цилинд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Цилиндр – тело, ограниченное цилиндрической поверхностью и двумя круг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3100320" cy="3311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>
            <a:lum contrast="72000"/>
          </a:blip>
          <a:stretch/>
        </p:blipFill>
        <p:spPr>
          <a:xfrm>
            <a:off x="5148360" y="1773360"/>
            <a:ext cx="3448080" cy="3367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39640" y="5445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ожный цилин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16360" y="5445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клонный цилин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32000" y="2602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Друг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ид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цилинд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3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71640" y="1628640"/>
            <a:ext cx="2448000" cy="3673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10800000"/>
          </a:gra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9633800">
            <a:off x="684000" y="2349000"/>
            <a:ext cx="2943000" cy="2233800"/>
          </a:xfrm>
          <a:prstGeom prst="parallelogram">
            <a:avLst>
              <a:gd name="adj" fmla="val 6680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9633800">
            <a:off x="684000" y="2349000"/>
            <a:ext cx="2943000" cy="2233800"/>
          </a:xfrm>
          <a:prstGeom prst="parallelogram">
            <a:avLst>
              <a:gd name="adj" fmla="val 66807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71640" y="4365720"/>
            <a:ext cx="2448000" cy="936360"/>
          </a:xfrm>
          <a:prstGeom prst="ellipse">
            <a:avLst/>
          </a:prstGeom>
          <a:noFill/>
          <a:ln w="28440">
            <a:solidFill>
              <a:srgbClr val="0066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24000" y="1197000"/>
            <a:ext cx="0" cy="4897440"/>
          </a:xfrm>
          <a:prstGeom prst="line">
            <a:avLst/>
          </a:prstGeom>
          <a:ln w="381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124000" y="530172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124000" y="1197000"/>
            <a:ext cx="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6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им способом можно получить цилинд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40360" y="907920"/>
            <a:ext cx="467964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образуется вращением одной пары противоположных сторон прямоугольни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ff"/>
                </a:solidFill>
                <a:latin typeface="Arial"/>
              </a:rPr>
              <a:t>цилиндрическая поверх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образуется вращением другой пары противоположных сторо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ff"/>
                </a:solidFill>
                <a:latin typeface="Arial"/>
              </a:rPr>
              <a:t>два кру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1628640"/>
            <a:ext cx="2448000" cy="936720"/>
          </a:xfrm>
          <a:prstGeom prst="ellipse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9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0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3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2700360" y="1341360"/>
            <a:ext cx="3457440" cy="3672000"/>
            <a:chOff x="2700360" y="1341360"/>
            <a:chExt cx="3457440" cy="3672000"/>
          </a:xfrm>
        </p:grpSpPr>
        <p:grpSp>
          <p:nvGrpSpPr>
            <p:cNvPr id="125" name=""/>
            <p:cNvGrpSpPr/>
            <p:nvPr/>
          </p:nvGrpSpPr>
          <p:grpSpPr>
            <a:xfrm>
              <a:off x="2700360" y="1341360"/>
              <a:ext cx="3457440" cy="3672000"/>
              <a:chOff x="2700360" y="1341360"/>
              <a:chExt cx="3457440" cy="3672000"/>
            </a:xfrm>
          </p:grpSpPr>
          <p:sp>
            <p:nvSpPr>
              <p:cNvPr id="126" name=""/>
              <p:cNvSpPr/>
              <p:nvPr/>
            </p:nvSpPr>
            <p:spPr>
              <a:xfrm>
                <a:off x="4427640" y="1341360"/>
                <a:ext cx="1730160" cy="3672000"/>
              </a:xfrm>
              <a:prstGeom prst="rect">
                <a:avLst/>
              </a:prstGeom>
              <a:solidFill>
                <a:srgbClr val="ff66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700360" y="1341360"/>
                <a:ext cx="3456000" cy="3672000"/>
              </a:xfrm>
              <a:custGeom>
                <a:avLst/>
                <a:gdLst/>
                <a:ahLst/>
                <a:rect l="l" t="t" r="r" b="b"/>
                <a:pathLst>
                  <a:path w="1089" h="2313">
                    <a:moveTo>
                      <a:pt x="0" y="0"/>
                    </a:moveTo>
                    <a:lnTo>
                      <a:pt x="1089" y="0"/>
                    </a:lnTo>
                    <a:lnTo>
                      <a:pt x="1089" y="2313"/>
                    </a:lnTo>
                    <a:lnTo>
                      <a:pt x="0" y="231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4427640" y="1341360"/>
              <a:ext cx="1728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27640" y="5013360"/>
              <a:ext cx="1728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56360" y="1341360"/>
              <a:ext cx="0" cy="367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2700360" y="692280"/>
            <a:ext cx="3527280" cy="4897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2f5e"/>
              </a:gs>
              <a:gs pos="50000">
                <a:srgbClr val="ff66cc">
                  <a:alpha val="24313"/>
                </a:srgbClr>
              </a:gs>
              <a:gs pos="100000">
                <a:srgbClr val="752f5e"/>
              </a:gs>
            </a:gsLst>
            <a:lin ang="10800000"/>
          </a:gra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6093000"/>
            <a:ext cx="77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Цилиндр – фигура (тело) вра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9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0"/>
                            </p:stCondLst>
                            <p:childTnLst>
                              <p:par>
                                <p:cTn id="324" nodeType="afterEffect" fill="hold" presetClass="entr" presetID="8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-340920" y="405000"/>
            <a:ext cx="4570200" cy="3887640"/>
            <a:chOff x="-340920" y="405000"/>
            <a:chExt cx="4570200" cy="3887640"/>
          </a:xfrm>
        </p:grpSpPr>
        <p:sp>
          <p:nvSpPr>
            <p:cNvPr id="134" name=""/>
            <p:cNvSpPr/>
            <p:nvPr/>
          </p:nvSpPr>
          <p:spPr>
            <a:xfrm>
              <a:off x="879120" y="1076040"/>
              <a:ext cx="1847520" cy="2646360"/>
            </a:xfrm>
            <a:prstGeom prst="can">
              <a:avLst>
                <a:gd name="adj" fmla="val 25000"/>
              </a:avLst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9619400">
              <a:off x="-252000" y="1469880"/>
              <a:ext cx="4392720" cy="1627200"/>
            </a:xfrm>
            <a:prstGeom prst="parallelogram">
              <a:avLst>
                <a:gd name="adj" fmla="val 68951"/>
              </a:avLst>
            </a:prstGeom>
            <a:solidFill>
              <a:srgbClr val="ffccff"/>
            </a:solidFill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79120" y="2009520"/>
              <a:ext cx="0" cy="1401840"/>
            </a:xfrm>
            <a:prstGeom prst="line">
              <a:avLst/>
            </a:prstGeom>
            <a:ln w="28440">
              <a:solidFill>
                <a:srgbClr val="0066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79120" y="1076040"/>
              <a:ext cx="1847520" cy="674280"/>
            </a:xfrm>
            <a:prstGeom prst="ellipse">
              <a:avLst/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2727000" y="1439280"/>
              <a:ext cx="0" cy="134784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9633800">
              <a:off x="668880" y="1591200"/>
              <a:ext cx="2221560" cy="1609200"/>
            </a:xfrm>
            <a:prstGeom prst="parallelogram">
              <a:avLst>
                <a:gd name="adj" fmla="val 70004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14360" y="1699560"/>
              <a:ext cx="0" cy="196884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37760" y="1128240"/>
              <a:ext cx="0" cy="1970280"/>
            </a:xfrm>
            <a:prstGeom prst="line">
              <a:avLst/>
            </a:prstGeom>
            <a:ln w="28440">
              <a:solidFill>
                <a:srgbClr val="0066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79120" y="1076040"/>
              <a:ext cx="1847520" cy="674280"/>
            </a:xfrm>
            <a:prstGeom prst="ellipse">
              <a:avLst/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79120" y="3047760"/>
              <a:ext cx="1847520" cy="674640"/>
            </a:xfrm>
            <a:prstGeom prst="ellipse">
              <a:avLst/>
            </a:prstGeom>
            <a:noFill/>
            <a:ln w="28440">
              <a:solidFill>
                <a:srgbClr val="0066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48880" y="765000"/>
              <a:ext cx="0" cy="352764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1748880" y="3722040"/>
              <a:ext cx="0" cy="56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1748880" y="764640"/>
              <a:ext cx="0" cy="56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003640" y="189000"/>
            <a:ext cx="3841920" cy="3816360"/>
            <a:chOff x="5003640" y="189000"/>
            <a:chExt cx="3841920" cy="3816360"/>
          </a:xfrm>
        </p:grpSpPr>
        <p:grpSp>
          <p:nvGrpSpPr>
            <p:cNvPr id="148" name=""/>
            <p:cNvGrpSpPr/>
            <p:nvPr/>
          </p:nvGrpSpPr>
          <p:grpSpPr>
            <a:xfrm>
              <a:off x="5003640" y="582840"/>
              <a:ext cx="3841920" cy="3366000"/>
              <a:chOff x="5003640" y="582840"/>
              <a:chExt cx="3841920" cy="3366000"/>
            </a:xfrm>
          </p:grpSpPr>
          <p:sp>
            <p:nvSpPr>
              <p:cNvPr id="149" name=""/>
              <p:cNvSpPr/>
              <p:nvPr/>
            </p:nvSpPr>
            <p:spPr>
              <a:xfrm>
                <a:off x="5003640" y="3051720"/>
                <a:ext cx="3841920" cy="897120"/>
              </a:xfrm>
              <a:prstGeom prst="parallelogram">
                <a:avLst>
                  <a:gd name="adj" fmla="val 107063"/>
                </a:avLst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068520" y="1536120"/>
                <a:ext cx="1654200" cy="22428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068520" y="3219840"/>
                <a:ext cx="1654200" cy="559080"/>
              </a:xfrm>
              <a:prstGeom prst="ellipse">
                <a:avLst/>
              </a:prstGeom>
              <a:noFill/>
              <a:ln w="28440">
                <a:solidFill>
                  <a:srgbClr val="0066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003640" y="1310400"/>
                <a:ext cx="3841920" cy="898560"/>
              </a:xfrm>
              <a:prstGeom prst="parallelogram">
                <a:avLst>
                  <a:gd name="adj" fmla="val 106891"/>
                </a:avLst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068520" y="582840"/>
                <a:ext cx="1654200" cy="140184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068520" y="1368000"/>
                <a:ext cx="1654200" cy="61668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068520" y="1704240"/>
                <a:ext cx="0" cy="504720"/>
              </a:xfrm>
              <a:prstGeom prst="line">
                <a:avLst/>
              </a:prstGeom>
              <a:ln w="28440">
                <a:solidFill>
                  <a:srgbClr val="0066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723080" y="1704240"/>
                <a:ext cx="0" cy="504720"/>
              </a:xfrm>
              <a:prstGeom prst="line">
                <a:avLst/>
              </a:prstGeom>
              <a:ln w="28440">
                <a:solidFill>
                  <a:srgbClr val="0066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6895800" y="189000"/>
              <a:ext cx="0" cy="381636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763640" y="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ечения цилинд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4149720"/>
            <a:ext cx="43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чение плоскостью, проходящей через ось –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осевое сечение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27640" y="4076640"/>
            <a:ext cx="47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чение плоскостью, параллельной основаниям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5305320"/>
            <a:ext cx="43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прямоугольник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одна сторона которого равна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ысоте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цилиндра, другая –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диаметру осн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59280" y="4869000"/>
            <a:ext cx="39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круг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равный основаниям цилинд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076480" y="255600"/>
            <a:ext cx="0" cy="4390920"/>
          </a:xfrm>
          <a:prstGeom prst="line">
            <a:avLst/>
          </a:prstGeom>
          <a:ln w="381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2076480" y="3936600"/>
            <a:ext cx="0" cy="70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076480" y="255240"/>
            <a:ext cx="0" cy="70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59280" y="404640"/>
            <a:ext cx="51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еч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лоскостью,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араллельн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оси цилинд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42920" y="3097080"/>
            <a:ext cx="2195640" cy="908280"/>
          </a:xfrm>
          <a:prstGeom prst="ellipse">
            <a:avLst/>
          </a:prstGeom>
          <a:noFill/>
          <a:ln w="28440">
            <a:solidFill>
              <a:srgbClr val="0066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40360" y="2852640"/>
            <a:ext cx="43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Прямоугольник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одна сторона которого равна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ысоте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цилиндра, другая –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длине хорды осн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9480200">
            <a:off x="539640" y="1557000"/>
            <a:ext cx="3961080" cy="2016000"/>
          </a:xfrm>
          <a:prstGeom prst="parallelogram">
            <a:avLst>
              <a:gd name="adj" fmla="val 71962"/>
            </a:avLst>
          </a:prstGeom>
          <a:solidFill>
            <a:srgbClr val="ffccff">
              <a:alpha val="55000"/>
            </a:srgbClr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9390800">
            <a:off x="1423800" y="1477440"/>
            <a:ext cx="2522520" cy="1938600"/>
          </a:xfrm>
          <a:prstGeom prst="parallelogram">
            <a:avLst>
              <a:gd name="adj" fmla="val 76054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42920" y="692280"/>
            <a:ext cx="2184480" cy="329400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9" dur="3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3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6156000" y="907560"/>
            <a:ext cx="2737080" cy="3609000"/>
            <a:chOff x="6156000" y="907560"/>
            <a:chExt cx="2737080" cy="3609000"/>
          </a:xfrm>
        </p:grpSpPr>
        <p:sp>
          <p:nvSpPr>
            <p:cNvPr id="173" name=""/>
            <p:cNvSpPr/>
            <p:nvPr/>
          </p:nvSpPr>
          <p:spPr>
            <a:xfrm>
              <a:off x="7164360" y="1411200"/>
              <a:ext cx="1728720" cy="2592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ff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164360" y="3355920"/>
              <a:ext cx="1728720" cy="649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53440" y="1987560"/>
              <a:ext cx="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028000" y="1700280"/>
              <a:ext cx="0" cy="201600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8028000" y="907560"/>
              <a:ext cx="0" cy="7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8028000" y="3645000"/>
              <a:ext cx="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7453440" y="3716280"/>
              <a:ext cx="574560" cy="21600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7092720" y="3716280"/>
              <a:ext cx="8650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6156000" y="1700280"/>
              <a:ext cx="187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56360" y="371628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32720" y="1700280"/>
              <a:ext cx="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948360" y="41482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24720" y="2133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20707800">
              <a:off x="7740720" y="364500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16200000">
              <a:off x="6303960" y="25603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0920" y="18900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Боков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оверх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цилинд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42920" y="1700280"/>
            <a:ext cx="4824360" cy="201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80000" y="1341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51640" y="3789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378936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119700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29264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вертка боковой поверхности цилиндра – 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прямоугольни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одна из смежных сторон которого            равна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ысоте (длине образующей) цилиндр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           а другая равна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длине окружности осн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00000" y="5877000"/>
            <a:ext cx="71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ощадь боковой поверхности цилиндра равна площади его развер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39640" y="1989000"/>
            <a:ext cx="4824360" cy="201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75280" y="162864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48360" y="407664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0920" y="407664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1484280"/>
            <a:ext cx="57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56000" y="2133720"/>
            <a:ext cx="64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l-GR" sz="2400" spc="-1" strike="noStrike">
                <a:solidFill>
                  <a:srgbClr val="000000"/>
                </a:solidFill>
                <a:latin typeface="Bodoni MT"/>
              </a:rPr>
              <a:t>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1280" y="6021360"/>
            <a:ext cx="2663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Arial"/>
              </a:rPr>
              <a:t>бок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= 2</a:t>
            </a:r>
            <a:r>
              <a:rPr b="1" lang="el-GR" sz="3600" spc="-1" strike="noStrike">
                <a:solidFill>
                  <a:srgbClr val="ff0000"/>
                </a:solidFill>
                <a:latin typeface="Bodoni MT"/>
              </a:rPr>
              <a:t>π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r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00720" y="6021360"/>
            <a:ext cx="39589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Arial"/>
              </a:rPr>
              <a:t>полн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= 2</a:t>
            </a:r>
            <a:r>
              <a:rPr b="1" lang="el-GR" sz="3600" spc="-1" strike="noStrike">
                <a:solidFill>
                  <a:srgbClr val="ff0000"/>
                </a:solidFill>
                <a:latin typeface="Bodoni MT"/>
              </a:rPr>
              <a:t>π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r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r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 +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930920" y="2852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19280" y="4076640"/>
            <a:ext cx="1655640" cy="165600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580000" y="2060640"/>
            <a:ext cx="3313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 – 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диус основания цилиндр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 - 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ы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24360" y="549360"/>
            <a:ext cx="500364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бо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АВВ</a:t>
            </a:r>
            <a:r>
              <a:rPr b="1" lang="ru-RU" sz="2400" spc="-1" strike="noStrike" baseline="-50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 baseline="-24000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400" spc="-1" strike="noStrike" baseline="-5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АА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АВ 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l-GR" sz="2400" spc="-1" strike="noStrike">
                <a:solidFill>
                  <a:srgbClr val="000000"/>
                </a:solidFill>
                <a:latin typeface="Bodoni MT"/>
              </a:rPr>
              <a:t>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635280" y="4724280"/>
            <a:ext cx="500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пол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бо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осн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l-GR" sz="2400" spc="-1" strike="noStrike">
                <a:solidFill>
                  <a:srgbClr val="000000"/>
                </a:solidFill>
                <a:latin typeface="Bodoni MT"/>
              </a:rPr>
              <a:t>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+ 2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92360" y="260280"/>
            <a:ext cx="1655640" cy="165600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3000"/>
                            </p:stCondLst>
                            <p:childTnLst>
                              <p:par>
                                <p:cTn id="4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3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17:26:52Z</dcterms:created>
  <dc:creator>Nataly</dc:creator>
  <dc:description/>
  <dc:language>en-US</dc:language>
  <cp:lastModifiedBy>Nataly</cp:lastModifiedBy>
  <dcterms:modified xsi:type="dcterms:W3CDTF">2008-01-12T21:42:20Z</dcterms:modified>
  <cp:revision>16</cp:revision>
  <dc:subject/>
  <dc:title>Слайд 1</dc:title>
</cp:coreProperties>
</file>