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75F-4D88-4E89-80A4-C908151C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646-C4FF-491F-A219-449A13F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BB3-59F2-476E-B14E-C4A0CFA4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7B0-9776-40F9-B1E8-D9A7507C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F1A-98F7-41FF-B698-DBAADDF7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AF5-E7EF-41F2-AA74-9B397A3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441-1825-4630-AB95-509F456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278-3104-4C19-AEB4-B68E63F9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503-60D1-4851-8B11-A72266F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C65-9092-48E2-B4DB-7C2AA61F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833-78D4-4C2C-8E3D-841C2ED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C60-6C62-46F6-AD8A-2A913D8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Garamond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A9FF8-DE2F-4B8A-A98D-C4E46EE885A5}" type="slidenum">
              <a:rPr b="0" lang="ru-RU" sz="1200" spc="-1" strike="noStrike">
                <a:solidFill>
                  <a:srgbClr val="898989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4246560" cy="12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Calibri"/>
              </a:rPr>
              <a:t>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6372360" y="5805360"/>
            <a:ext cx="2447640" cy="801720"/>
          </a:xfrm>
          <a:prstGeom prst="rect">
            <a:avLst/>
          </a:prstGeom>
          <a:noFill/>
          <a:ln w="255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owns ___% of the world's forests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What are the largest lakes in Canada?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Which May Festival is Ottawa world famous for?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countries belongs to Niagara Fall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85800" y="306864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is surrounded by ___ oceans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84360" y="314172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province is called «the Seat of French Culture»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ich countries does Canada border on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erri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ow many provinces are there in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2"/>
          <p:cNvSpPr/>
          <p:nvPr/>
        </p:nvSpPr>
        <p:spPr>
          <a:xfrm>
            <a:off x="534960" y="538200"/>
            <a:ext cx="80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84360" y="29192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In which year did the Olympic Games take place in Vancouve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does the flag of Canada look like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23" descr=""/>
          <p:cNvPicPr/>
          <p:nvPr/>
        </p:nvPicPr>
        <p:blipFill>
          <a:blip r:embed="rId2"/>
          <a:stretch/>
        </p:blipFill>
        <p:spPr>
          <a:xfrm>
            <a:off x="641520" y="963720"/>
            <a:ext cx="1428480" cy="11016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4"/>
          <p:cNvSpPr/>
          <p:nvPr/>
        </p:nvSpPr>
        <p:spPr>
          <a:xfrm>
            <a:off x="2286000" y="787320"/>
            <a:ext cx="1428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Прямоугольник 26"/>
          <p:cNvSpPr/>
          <p:nvPr/>
        </p:nvSpPr>
        <p:spPr>
          <a:xfrm>
            <a:off x="5276880" y="1066680"/>
            <a:ext cx="1481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4bacc6"/>
                </a:solidFill>
                <a:latin typeface="Calibri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Прямоугольник 28"/>
          <p:cNvSpPr/>
          <p:nvPr/>
        </p:nvSpPr>
        <p:spPr>
          <a:xfrm>
            <a:off x="1069920" y="209880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Прямоугольник 29"/>
          <p:cNvSpPr/>
          <p:nvPr/>
        </p:nvSpPr>
        <p:spPr>
          <a:xfrm>
            <a:off x="852480" y="2921040"/>
            <a:ext cx="134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Прямоугольник 30"/>
          <p:cNvSpPr/>
          <p:nvPr/>
        </p:nvSpPr>
        <p:spPr>
          <a:xfrm>
            <a:off x="1038240" y="38084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Прямоугольник 31"/>
          <p:cNvSpPr/>
          <p:nvPr/>
        </p:nvSpPr>
        <p:spPr>
          <a:xfrm>
            <a:off x="1069920" y="4686480"/>
            <a:ext cx="1000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оугольник 32"/>
          <p:cNvSpPr/>
          <p:nvPr/>
        </p:nvSpPr>
        <p:spPr>
          <a:xfrm>
            <a:off x="1090440" y="5367240"/>
            <a:ext cx="895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Прямоугольник 33"/>
          <p:cNvSpPr/>
          <p:nvPr/>
        </p:nvSpPr>
        <p:spPr>
          <a:xfrm>
            <a:off x="2500200" y="20588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Прямоугольник 34"/>
          <p:cNvSpPr/>
          <p:nvPr/>
        </p:nvSpPr>
        <p:spPr>
          <a:xfrm>
            <a:off x="2467080" y="295920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оугольник 35"/>
          <p:cNvSpPr/>
          <p:nvPr/>
        </p:nvSpPr>
        <p:spPr>
          <a:xfrm>
            <a:off x="2460600" y="3797280"/>
            <a:ext cx="941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оугольник 36"/>
          <p:cNvSpPr/>
          <p:nvPr/>
        </p:nvSpPr>
        <p:spPr>
          <a:xfrm>
            <a:off x="2430360" y="4626000"/>
            <a:ext cx="87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оугольник 37"/>
          <p:cNvSpPr/>
          <p:nvPr/>
        </p:nvSpPr>
        <p:spPr>
          <a:xfrm>
            <a:off x="2374920" y="53672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38"/>
          <p:cNvSpPr/>
          <p:nvPr/>
        </p:nvSpPr>
        <p:spPr>
          <a:xfrm>
            <a:off x="3944880" y="204804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Прямоугольник 39"/>
          <p:cNvSpPr/>
          <p:nvPr/>
        </p:nvSpPr>
        <p:spPr>
          <a:xfrm>
            <a:off x="3903840" y="2970360"/>
            <a:ext cx="1000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Прямоугольник 40"/>
          <p:cNvSpPr/>
          <p:nvPr/>
        </p:nvSpPr>
        <p:spPr>
          <a:xfrm>
            <a:off x="3863880" y="3825720"/>
            <a:ext cx="1081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Прямоугольник 41"/>
          <p:cNvSpPr/>
          <p:nvPr/>
        </p:nvSpPr>
        <p:spPr>
          <a:xfrm>
            <a:off x="3863880" y="463068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Прямоугольник 42"/>
          <p:cNvSpPr/>
          <p:nvPr/>
        </p:nvSpPr>
        <p:spPr>
          <a:xfrm>
            <a:off x="3863880" y="53672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Прямоугольник 43"/>
          <p:cNvSpPr/>
          <p:nvPr/>
        </p:nvSpPr>
        <p:spPr>
          <a:xfrm>
            <a:off x="5454720" y="20588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Прямоугольник 44"/>
          <p:cNvSpPr/>
          <p:nvPr/>
        </p:nvSpPr>
        <p:spPr>
          <a:xfrm>
            <a:off x="5454720" y="2941560"/>
            <a:ext cx="10000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Прямоугольник 45"/>
          <p:cNvSpPr/>
          <p:nvPr/>
        </p:nvSpPr>
        <p:spPr>
          <a:xfrm>
            <a:off x="5532480" y="3778200"/>
            <a:ext cx="846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Прямоугольник 46"/>
          <p:cNvSpPr/>
          <p:nvPr/>
        </p:nvSpPr>
        <p:spPr>
          <a:xfrm>
            <a:off x="5389560" y="4676760"/>
            <a:ext cx="10555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Прямоугольник 47"/>
          <p:cNvSpPr/>
          <p:nvPr/>
        </p:nvSpPr>
        <p:spPr>
          <a:xfrm>
            <a:off x="5418000" y="5381640"/>
            <a:ext cx="1000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Прямоугольник 48"/>
          <p:cNvSpPr/>
          <p:nvPr/>
        </p:nvSpPr>
        <p:spPr>
          <a:xfrm>
            <a:off x="6816600" y="2006640"/>
            <a:ext cx="10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Прямоугольник 49"/>
          <p:cNvSpPr/>
          <p:nvPr/>
        </p:nvSpPr>
        <p:spPr>
          <a:xfrm>
            <a:off x="6851520" y="2963880"/>
            <a:ext cx="10288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Прямоугольник 50"/>
          <p:cNvSpPr/>
          <p:nvPr/>
        </p:nvSpPr>
        <p:spPr>
          <a:xfrm>
            <a:off x="6886440" y="3819600"/>
            <a:ext cx="1000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Прямоугольник 51"/>
          <p:cNvSpPr/>
          <p:nvPr/>
        </p:nvSpPr>
        <p:spPr>
          <a:xfrm>
            <a:off x="6831000" y="4645080"/>
            <a:ext cx="1000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Прямоугольник 52"/>
          <p:cNvSpPr/>
          <p:nvPr/>
        </p:nvSpPr>
        <p:spPr>
          <a:xfrm>
            <a:off x="6853320" y="5367240"/>
            <a:ext cx="1000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8064a2"/>
                </a:solidFill>
                <a:latin typeface="Calibr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2162520" y="116532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aramond"/>
                <a:ea typeface="Arial"/>
              </a:rPr>
              <a:t>Natur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3424680" y="118728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Garamond"/>
                <a:ea typeface="Arial"/>
              </a:rPr>
              <a:t>Territo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457680" y="118728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"/>
                            </p:stCondLst>
                            <p:childTnLst>
                              <p:par>
                                <p:cTn id="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"/>
                            </p:stCondLst>
                            <p:childTnLst>
                              <p:par>
                                <p:cTn id="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3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6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684360" y="3068640"/>
            <a:ext cx="7775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The snow house built by Eskimos is called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84360" y="292428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In what century Canada gained independence from the British Empire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History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o were the first inhabitants of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ich syrup is Canada famous fo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sport is extremely popular in Canada?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Canada's national animal is the..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684360" y="292428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Times New Roman"/>
              </a:rPr>
              <a:t>Which agricultural product grown in Canad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Times New Roman"/>
              </a:rPr>
              <a:t>is world famou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539640" y="549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Tradition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222200" y="2924280"/>
            <a:ext cx="699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DaunPenh"/>
              </a:rPr>
              <a:t>The Queen of what country gives Ottaw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DaunPenh"/>
              </a:rPr>
              <a:t>flowers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трелка вправо 5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is the capital of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трелка вправо 5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684360" y="3068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are the official languages of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трелка вправо 4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place does Canada occupy in the worl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4"/>
          <p:cNvSpPr/>
          <p:nvPr/>
        </p:nvSpPr>
        <p:spPr>
          <a:xfrm>
            <a:off x="1116000" y="2316240"/>
            <a:ext cx="36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Стрелка вправо 4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684360" y="3068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me the largest city of Canada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How big is the population of the country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84360" y="692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684360" y="3068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What world wonder is situated in Canada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трелка вправо 3"/>
          <p:cNvSpPr/>
          <p:nvPr/>
        </p:nvSpPr>
        <p:spPr>
          <a:xfrm flipH="1">
            <a:off x="913680" y="530064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7933c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7254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Natur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725400" y="306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aramond"/>
                <a:ea typeface="Calibri"/>
              </a:rPr>
              <a:t>The peninsular on the eastern coast of Canada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33:58Z</dcterms:created>
  <dc:creator>1</dc:creator>
  <dc:description/>
  <dc:language>en-US</dc:language>
  <cp:lastModifiedBy>МСМ</cp:lastModifiedBy>
  <dcterms:modified xsi:type="dcterms:W3CDTF">2017-12-03T17:02:54Z</dcterms:modified>
  <cp:revision>10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795</vt:lpwstr>
  </property>
</Properties>
</file>