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5B10-AF04-4068-B2C0-9126C711F2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1C20-79BB-43ED-BDDA-F37B4CC78169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4CB-B2D2-4923-9B11-8AC70D27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4F5-05F5-465F-A1F8-D03F8D0A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1DD-F4FA-4B79-8E5B-B58B866F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D89-5968-4A66-A937-683F240D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3F3-E2E4-4788-96C8-441A1796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EEC-CF6E-4AEC-B4F0-A76EC219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567-3DDE-4BC4-AFA0-2784F31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DA9-5921-4A4E-9318-9FDEE42A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701-C7F8-4F96-A255-6082204B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C66-DA6E-4E56-A983-91759E0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7E1-89CE-418D-BF9D-BC887B4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74B-20E3-46CA-8D05-046E99F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3806-317B-4D92-9259-36D2188A956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E8AE-02EC-47C5-BEF4-56B75D24720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Русские народные игры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165F-1231-435C-AB20-99AC24BDC39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C78B-0D07-4B95-948C-38F6776F2A1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9" name="Рисунок 6" descr="C:\Users\Данила\Downloads\59-300x147.jpg"/>
          <p:cNvPicPr/>
          <p:nvPr/>
        </p:nvPicPr>
        <p:blipFill>
          <a:blip r:embed="rId1"/>
          <a:stretch/>
        </p:blipFill>
        <p:spPr>
          <a:xfrm>
            <a:off x="1928880" y="1143000"/>
            <a:ext cx="6072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Игра «Поводырь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Это больше чем просто игра. Это знакомство душ, когда не отвлекают такие факторы как внешний вид и взгляд. Во внутренний круг, лицом в центр круга, встают мужчины, берутся за руки и закрывают глаза. Во внешнем кругу идут хороводом девушки под музыку. Через какое-то время по сигналу ведущего хлопок или свист девушки начинают разбирать парней - любого понравившегося из тех, что ближе стоят. Берут парня за руку и ведут по кругу, парень все это время идет с закрытыми глазами. Желательно чтобы количество девушек и парней совпадало, чтобы никто не остался стоять одиноко во внутреннем кругу. По сигналу ведущего девушки аккуратно выстраивают парней снова во внутренний круг, а сами идут хороводом дальше. Так повторяется три раза. Когда после третьего раза парней снова поставят во внутренний круг, ведущий подает сигнал - "Можно открыть глаза". Начинается подележка. Парни описывают свои ощущения, называют, кто из трех девушек им понравился, кого они хотели бы увидеть. Девушки обычно с радостью признаются и показываются.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Далее во внутренний круг с закрытыми глазами встают девушки, а парни во внешнем и все повторяетс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07E7-EC57-4667-AE23-99CBDCC7414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8F7-7BC7-4252-895A-040449B26B8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A559-1C67-4B97-A060-F2664A41ECE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616-5C0E-4735-9D4F-CACC629499D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8" name="Picture 2" descr="http://thebester.ru/uploads/images/7/a/4/4/1/5511cbbf7e.jpg"/>
          <p:cNvPicPr/>
          <p:nvPr/>
        </p:nvPicPr>
        <p:blipFill>
          <a:blip r:embed="rId1"/>
          <a:stretch/>
        </p:blipFill>
        <p:spPr>
          <a:xfrm>
            <a:off x="2071800" y="1214280"/>
            <a:ext cx="52070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</a:t>
            </a: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«Мышеловка»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се становятся в круг, взявшись за руки - это мышеловка. Один или двое - «мышки». Они вне круга. Взявшись за руки и подняв их вверх, двигаются по кругу со словами: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Ах, как мыши надоели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се погрызли, всё поели!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Берегитесь же, плутовки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Доберёмся мы до вас!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от захлопнем мышеловку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И поймаем сразу вас!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о время произнесения текста "мыши" вбегают и выбегают из круга. С последним словом "мышеловка захлопывается" - опускают руки и садятся на корточки. Не успевшие выбежать из круга "мышки" считаются пойманными и встают в круг. Выбираются другие "мышки"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F1B-1941-4590-863B-5F9EB890B6D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6639-819B-4944-9D45-E680E06C332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E271-2073-4104-8A22-E6E7A0026F3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9F2-E9FC-4468-AF29-56C44D29208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Picture 2" descr="http://thebester.ru/uploads/images/7/b/f/5/1/fbfff16736.jpg"/>
          <p:cNvPicPr/>
          <p:nvPr/>
        </p:nvPicPr>
        <p:blipFill>
          <a:blip r:embed="rId1"/>
          <a:stretch/>
        </p:blipFill>
        <p:spPr>
          <a:xfrm>
            <a:off x="1722600" y="927000"/>
            <a:ext cx="55641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стория русских народных игр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 культуру каждого народа входят созданные им игры. На протяжении веков эти игры сопутствуют повседневной жизни детей и взрослых, вырабатывают жизненно важные качества: выносливость, силу, ловкость, быстроту, прививают честность, справедливость и достоинство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Русские народные игры имеют многотысячелетнюю историю: они сохранились до наших дней со времен глубокой старины, передавались из поколения в поколение, вбирая в себя лучшие национальные традиции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Помимо сохранения народных традиций игры оказывают большое влияние на воспитание характера, силы воли, интереса к народному творчеству у молодежи и развивает физическую культуру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264-41CE-4B09-8031-D5BC18E5773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D3D1-519B-4D04-94A3-216970097E6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Русские народные игры очень многообразны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Детские игры, настольные игры, хороводные игры для взрослых с народными песнями, прибаутками, плясками. Игры издавна служили средством самопознания, здесь проявляли свои лучшие качества: доброту, благородство, взаимовыручку, самопожертвование ради других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5FF4-FFDF-4DF9-9CE0-344D398306D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DEA-EAF4-4F08-A182-884C65857CE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ы бывают разные…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Кот и мыш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Круговые пятнашки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окрые петухи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нежный ком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Игра «Поводырь»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ышелов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7DD5-EA0D-4B21-869B-1E665D1FD1B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35A0-8FD3-48B8-87C3-B5541BB1188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«Кот и мышь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Играющие (не более пяти пар) встают в два ряда лицом друг к другу, берутся за руки, образуя небольшой проход - нору. В одном ряду стоят коты, в другом - мыши. Игру начинает первая пара: кот ловит мышь, а та бегает вокруг играющих. В опасный момент мышь может спрятаться в коридоре, образованном сцепленными руками играющих. Как только кот поймал мышь, играющие встают в ряд. Начинает игру вторая пара. Игра продолжается, пока коты не переловят всех мышей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Правила игры</a:t>
            </a: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. Коту нельзя забегать в нору. Кот и мыши не должны убегать далеко от норы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70BF-2B52-4828-AF41-07D73D19F07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CFFA-F1C8-4E6B-9BFD-02509D66D83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5" name="Рисунок 6" descr="&amp;Kcy;&amp;ocy;&amp;tcy; &amp;icy; &amp;mcy;&amp;ycy;&amp;shcy;&amp;softcy;. &amp;Dcy;&amp;iecy;&amp;tcy;&amp;scy;&amp;kcy;&amp;icy;&amp;iecy; &amp;icy;&amp;gcy;&amp;rcy;&amp;ycy;."/>
          <p:cNvPicPr/>
          <p:nvPr/>
        </p:nvPicPr>
        <p:blipFill>
          <a:blip r:embed="rId1"/>
          <a:stretch/>
        </p:blipFill>
        <p:spPr>
          <a:xfrm>
            <a:off x="7358040" y="3786120"/>
            <a:ext cx="1090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«Круговые пятнашки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Участники игры встают по кругу на расстоянии одного шага. Каждый свое место отмечает кружком. Двое водящих стоят на некотором расстоянии друг от друга, один из них - пятнашка, он догоняет второго игрока. Если убегающий видит, что пятнашка его догоняет, он просит помощи у игроков, стоящих на месте, назвав одного из них по имени. Названный игрок оставляет свое место и бежит по кругу, пятнашка догоняет уже его. Свободное место занимает игрок, который начинал игру. Свободный кружок, если успеет, может занять и пятнашка, тогда пятнашкой становится тот, кто остался без места. Игра продолжается, пятнашка догоняет игрока, который вышел из круга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482F-22F0-4126-A969-03CCA15DF2F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0141-9419-4AAD-AA46-2162682CD4C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1" name="Рисунок 6" descr="&amp;Pcy;&amp;yacy;&amp;tcy;&amp;ncy;&amp;acy;&amp;shcy;&amp;kcy;&amp;icy;. &amp;Dcy;&amp;iecy;&amp;tcy;&amp;scy;&amp;kcy;&amp;icy;&amp;iecy; &amp;icy;&amp;gcy;&amp;rcy;&amp;ycy;."/>
          <p:cNvPicPr/>
          <p:nvPr/>
        </p:nvPicPr>
        <p:blipFill>
          <a:blip r:embed="rId1"/>
          <a:stretch/>
        </p:blipFill>
        <p:spPr>
          <a:xfrm>
            <a:off x="3143160" y="4286160"/>
            <a:ext cx="29289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«Мокрые петухи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Мокрые петухи. Эта игра основана на русской народной забаве "Петушиные бои"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Для проведения данной игры вам понадобится пластиковый сосуд, вода, песок, солнечная погод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режде чем начать игру на песке нужно начертить круг диаметром приблизительно два - три метр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В него встают двое игроков . 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В руках у каждого из игроков находятся пластиковые сосуды, наполненные водой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Каждый из "петухов" поджимает одну ногу, неважно, левую или правую, кому как удобнее.После подачи сигнала ведущим игроки, передвигаясь прыжками на одной ноге, пытаются облить спину противника водой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За круг при этом выходить нельзя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Выигрывает тот игрок, который первым намочит спину противник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Мирить такой игрой поссорившихся влюбленных не рекомендуется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Желаю вам приятно привести время! Удачи!</a:t>
            </a: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C169-329A-4F32-BC0A-5188D59939B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3A28-206D-46BA-9EA3-BBD8F51A08D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CA83-06DE-4FD5-B81E-75B533647DE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1EA5-C5D1-47F2-B6E3-B074505DDA4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0" name="Рисунок 6" descr="C:\Users\Данила\Downloads\473-300x326.jpg"/>
          <p:cNvPicPr/>
          <p:nvPr/>
        </p:nvPicPr>
        <p:blipFill>
          <a:blip r:embed="rId1"/>
          <a:stretch/>
        </p:blipFill>
        <p:spPr>
          <a:xfrm>
            <a:off x="1857240" y="500040"/>
            <a:ext cx="5357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«Снежный ком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Играющие сооружают снежную крепость высотой 1,5-2 метр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С внутренней стороны делают вал, чтобы на нем могли расположиться защитники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о углам крепости устанавливают щиты. Перед крепо­стью три линии обороны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Их обозначают флажками или сухими ветками.Первая линия проходит в десяти метрах от крепости, вторая - в пятнадцати метрах, а третья - в двадцати метрах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Играющие делятся на две команды: штурмую­щие и защитники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о сигналу начинается штурм крепости, т.е. </a:t>
            </a: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обстрел снежками из самой дальней зоны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Если штурмующие попали по одному разу в каж­дый из щитов, они переходят на вторую линию обороны. </a:t>
            </a: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В это время защитники обстреливают штурмую­щих снежками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Нападающий, в которого попали снежком, выбывает из игры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Если нападающие про­шли все линии обороны, то победа за ними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Если все они поражены меткими попаданиями, то победа дос­тается защитникам.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Указания; к проведению: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 игра проводится во дворе дома или на школьной площадке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Число участ­ников может быть до 20 - 30 человек.Если участни­ков много, можно атаковать не с одной стороны, а с четырех.В этом случае создается круговая оборона и устанавливаются четыре башни со щитами. 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Игроки, в которых попали снежками, выбывают из игры.</a:t>
            </a: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B26E-D05B-49F2-8E89-D8BDCB48CD5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9ADB-3969-4635-8970-4D0CD097DEB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0:24:34Z</dcterms:created>
  <dc:creator>SAMSUNG</dc:creator>
  <dc:description>http://aida.ucoz.ru</dc:description>
  <dc:language>en-US</dc:language>
  <cp:lastModifiedBy>школа</cp:lastModifiedBy>
  <dcterms:modified xsi:type="dcterms:W3CDTF">2012-05-23T08:41:06Z</dcterms:modified>
  <cp:revision>5</cp:revision>
  <dc:subject/>
  <dc:title>Русские народные игры</dc:title>
</cp:coreProperties>
</file>