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25E1-15F1-49E3-ABE9-006D51A90F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EFBF-EB90-4268-B2A7-D165986AE93A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701-F6B3-405F-AB38-B2B0C4E5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8EB-2F09-4F80-8762-5F6BEFCD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FC0-8E74-4379-8AB7-295DD7B6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704-1308-42EE-9226-62097996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0F3-5231-4B60-87DA-8811707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B11-7F38-40EA-92B7-56C8C698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B79-BF4E-437E-AB01-9BDB174B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661-051F-489F-994B-217EA04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1F1-A194-47B0-863A-26A837A0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AA1-39AC-4BA0-83AB-512226C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D96-EC6A-4397-A441-70A8A9E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AF8-6441-423D-A559-6A99224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EBA6-6C3C-408C-87EB-CD5B29EE6D7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8E04-A3E7-47C1-A566-587E53CD45C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7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solidFill>
            <a:srgbClr val="ffffff">
              <a:alpha val="85000"/>
            </a:srgbClr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Русские народные игры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F8CD-4201-46FD-9BC8-20BBC5D9AD2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5650-54CD-4903-8CF5-B5C0E532301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9" name="Рисунок 6" descr="C:\Users\Данила\Downloads\59-300x147.jpg"/>
          <p:cNvPicPr/>
          <p:nvPr/>
        </p:nvPicPr>
        <p:blipFill>
          <a:blip r:embed="rId1"/>
          <a:stretch/>
        </p:blipFill>
        <p:spPr>
          <a:xfrm>
            <a:off x="1928880" y="1143000"/>
            <a:ext cx="6072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Игра «Поводырь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Это больше чем просто игра. Это знакомство душ, когда не отвлекают такие факторы как внешний вид и взгляд. Во внутренний круг, лицом в центр круга, встают мужчины, берутся за руки и закрывают глаза. Во внешнем кругу идут хороводом девушки под музыку. Через какое-то время по сигналу ведущего хлопок или свист девушки начинают разбирать парней - любого понравившегося из тех, что ближе стоят. Берут парня за руку и ведут по кругу, парень все это время идет с закрытыми глазами. Желательно чтобы количество девушек и парней совпадало, чтобы никто не остался стоять одиноко во внутреннем кругу. По сигналу ведущего девушки аккуратно выстраивают парней снова во внутренний круг, а сами идут хороводом дальше. Так повторяется три раза. Когда после третьего раза парней снова поставят во внутренний круг, ведущий подает сигнал - "Можно открыть глаза". Начинается подележка. Парни описывают свои ощущения, называют, кто из трех девушек им понравился, кого они хотели бы увидеть. Девушки обычно с радостью признаются и показываются.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Далее во внутренний круг с закрытыми глазами встают девушки, а парни во внешнем и все повторяетс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2A9B-D1DB-453C-8356-68503B7DB47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1C7F-C8CE-4B9C-8176-F5F86B0DECB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F376-FE8F-4591-A9EC-80BE1411BCE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47AF-F7F6-45E5-9C10-3538331B24E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8" name="Picture 2" descr="http://thebester.ru/uploads/images/7/a/4/4/1/5511cbbf7e.jpg"/>
          <p:cNvPicPr/>
          <p:nvPr/>
        </p:nvPicPr>
        <p:blipFill>
          <a:blip r:embed="rId1"/>
          <a:stretch/>
        </p:blipFill>
        <p:spPr>
          <a:xfrm>
            <a:off x="2071800" y="1214280"/>
            <a:ext cx="52070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</a:t>
            </a:r>
            <a:r>
              <a:rPr b="0" lang="ru-RU" sz="4000" spc="-1" strike="noStrike">
                <a:solidFill>
                  <a:srgbClr val="800000"/>
                </a:solidFill>
                <a:latin typeface="Calibri"/>
              </a:rPr>
              <a:t>«Мышеловка»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се становятся в круг, взявшись за руки - это мышеловка. Один или двое - «мышки». Они вне круга. Взявшись за руки и подняв их вверх, двигаются по кругу со словами: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Ах, как мыши надоели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се погрызли, всё поели!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Берегитесь же, плутовки,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Доберёмся мы до вас!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от захлопнем мышеловку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И поймаем сразу вас!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о время произнесения текста "мыши" вбегают и выбегают из круга. С последним словом "мышеловка захлопывается" - опускают руки и садятся на корточки. Не успевшие выбежать из круга "мышки" считаются пойманными и встают в круг. Выбираются другие "мышки"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B9A9-C10A-4755-B7DB-4F2A76BD5C4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7AE1-B197-4079-8F2B-0A2624AD0AB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BDEF-618C-4278-98A7-2DED253739B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A2E9-7E8C-4D8D-8195-97C302F6EDD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Picture 2" descr="http://thebester.ru/uploads/images/7/b/f/5/1/fbfff16736.jpg"/>
          <p:cNvPicPr/>
          <p:nvPr/>
        </p:nvPicPr>
        <p:blipFill>
          <a:blip r:embed="rId1"/>
          <a:stretch/>
        </p:blipFill>
        <p:spPr>
          <a:xfrm>
            <a:off x="1722600" y="927000"/>
            <a:ext cx="55641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стория русских народных игр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В культуру каждого народа входят созданные им игры. На протяжении веков эти игры сопутствуют повседневной жизни детей и взрослых, вырабатывают жизненно важные качества: выносливость, силу, ловкость, быстроту, прививают честность, справедливость и достоинство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Русские народные игры имеют многотысячелетнюю историю: они сохранились до наших дней со времен глубокой старины, передавались из поколения в поколение, вбирая в себя лучшие национальные традиции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Помимо сохранения народных традиций игры оказывают большое влияние на воспитание характера, силы воли, интереса к народному творчеству у молодежи и развивает физическую культуру.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EEF-4497-4D1F-A0E4-789BDAC9AD8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AE09-3FCA-42F0-BEFD-FD98905A453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Русские народные игры очень многообразны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Детские игры, настольные игры, хороводные игры для взрослых с народными песнями, прибаутками, плясками. Игры издавна служили средством самопознания, здесь проявляли свои лучшие качества: доброту, благородство, взаимовыручку, самопожертвование ради других.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0CD6-77B4-473A-8655-A7C17C79A46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5CB1-6675-411A-BD49-93FAB7354E6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ы бывают разные…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Кот и мыш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Круговые пятнашки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окрые петухи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нежный ком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Игра «Поводырь»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ышелов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D51E-7F40-480E-AE2B-CAC080BCC6F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BCDD-2724-44B0-98D7-871CAC520F4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«Кот и мышь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Играющие (не более пяти пар) встают в два ряда лицом друг к другу, берутся за руки, образуя небольшой проход - нору. В одном ряду стоят коты, в другом - мыши. Игру начинает первая пара: кот ловит мышь, а та бегает вокруг играющих. В опасный момент мышь может спрятаться в коридоре, образованном сцепленными руками играющих. Как только кот поймал мышь, играющие встают в ряд. Начинает игру вторая пара. Игра продолжается, пока коты не переловят всех мышей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Правила игры</a:t>
            </a: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. Коту нельзя забегать в нору. Кот и мыши не должны убегать далеко от норы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0882-A0DB-4033-B46D-D20FE479276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9473-EEC5-43B4-B3B8-B668C7FBBD4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5" name="Рисунок 6" descr="&amp;Kcy;&amp;ocy;&amp;tcy; &amp;icy; &amp;mcy;&amp;ycy;&amp;shcy;&amp;softcy;. &amp;Dcy;&amp;iecy;&amp;tcy;&amp;scy;&amp;kcy;&amp;icy;&amp;iecy; &amp;icy;&amp;gcy;&amp;rcy;&amp;ycy;."/>
          <p:cNvPicPr/>
          <p:nvPr/>
        </p:nvPicPr>
        <p:blipFill>
          <a:blip r:embed="rId1"/>
          <a:stretch/>
        </p:blipFill>
        <p:spPr>
          <a:xfrm>
            <a:off x="7358040" y="3786120"/>
            <a:ext cx="1090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«Круговые пятнашки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alibri"/>
              </a:rPr>
              <a:t>Участники игры встают по кругу на расстоянии одного шага. Каждый свое место отмечает кружком. Двое водящих стоят на некотором расстоянии друг от друга, один из них - пятнашка, он догоняет второго игрока. Если убегающий видит, что пятнашка его догоняет, он просит помощи у игроков, стоящих на месте, назвав одного из них по имени. Названный игрок оставляет свое место и бежит по кругу, пятнашка догоняет уже его. Свободное место занимает игрок, который начинал игру. Свободный кружок, если успеет, может занять и пятнашка, тогда пятнашкой становится тот, кто остался без места. Игра продолжается, пятнашка догоняет игрока, который вышел из круга.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5124-6D30-4FB7-B9B1-CC163A17F93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631A-803A-4714-9D94-FD6EF1180BA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1" name="Рисунок 6" descr="&amp;Pcy;&amp;yacy;&amp;tcy;&amp;ncy;&amp;acy;&amp;shcy;&amp;kcy;&amp;icy;. &amp;Dcy;&amp;iecy;&amp;tcy;&amp;scy;&amp;kcy;&amp;icy;&amp;iecy; &amp;icy;&amp;gcy;&amp;rcy;&amp;ycy;."/>
          <p:cNvPicPr/>
          <p:nvPr/>
        </p:nvPicPr>
        <p:blipFill>
          <a:blip r:embed="rId1"/>
          <a:stretch/>
        </p:blipFill>
        <p:spPr>
          <a:xfrm>
            <a:off x="3143160" y="4286160"/>
            <a:ext cx="29289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«Мокрые петухи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Мокрые петухи. Эта игра основана на русской народной забаве "Петушиные бои"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Для проведения данной игры вам понадобится пластиковый сосуд, вода, песок, солнечная погода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режде чем начать игру на песке нужно начертить круг диаметром приблизительно два - три метра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В него встают двое игроков . 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В руках у каждого из игроков находятся пластиковые сосуды, наполненные водой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Каждый из "петухов" поджимает одну ногу, неважно, левую или правую, кому как удобнее.После подачи сигнала ведущим игроки, передвигаясь прыжками на одной ноге, пытаются облить спину противника водой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За круг при этом выходить нельзя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Выигрывает тот игрок, который первым намочит спину противника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Мирить такой игрой поссорившихся влюбленных не рекомендуется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Желаю вам приятно привести время! Удачи!</a:t>
            </a: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3B8C-5C13-4CDF-910C-4D399334143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5A95-FD36-4A4B-8AAB-04F23661DD2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CF1A-65E2-421F-869D-7CB91483D5A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053C-B8D0-4FA3-9C44-012DE6928AE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0" name="Рисунок 6" descr="C:\Users\Данила\Downloads\473-300x326.jpg"/>
          <p:cNvPicPr/>
          <p:nvPr/>
        </p:nvPicPr>
        <p:blipFill>
          <a:blip r:embed="rId1"/>
          <a:stretch/>
        </p:blipFill>
        <p:spPr>
          <a:xfrm>
            <a:off x="1857240" y="500040"/>
            <a:ext cx="5357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гра «Снежный ком»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Играющие сооружают снежную крепость высотой 1,5-2 метра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С внутренней стороны делают вал, чтобы на нем могли расположиться защитники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о углам крепости устанавливают щиты. Перед крепо­стью три линии обороны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Их обозначают флажками или сухими ветками.Первая линия проходит в десяти метрах от крепости, вторая - в пятнадцати метрах, а третья - в двадцати метрах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Играющие делятся на две команды: штурмую­щие и защитники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По сигналу начинается штурм крепости, т.е. </a:t>
            </a: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обстрел снежками из самой дальней зоны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Если штурмующие попали по одному разу в каж­дый из щитов, они переходят на вторую линию обороны. </a:t>
            </a: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В это время защитники обстреливают штурмую­щих снежками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Нападающий, в которого попали снежком, выбывает из игры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Если нападающие про­шли все линии обороны, то победа за ними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Если все они поражены меткими попаданиями, то победа дос­тается защитникам.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Указания; к проведению:</a:t>
            </a: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 игра проводится во дворе дома или на школьной площадке.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Calibri"/>
              </a:rPr>
              <a:t>Число участ­ников может быть до 20 - 30 человек.Если участни­ков много, можно атаковать не с одной стороны, а с четырех.В этом случае создается круговая оборона и устанавливаются четыре башни со щитами. 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Игроки, в которых попали снежками, выбывают из игры.</a:t>
            </a: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ECA9-40AF-4389-A639-1112A71C8BBB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B997-239B-4B3F-B62E-F1BAF7C2598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0:24:34Z</dcterms:created>
  <dc:creator>SAMSUNG</dc:creator>
  <dc:description>http://aida.ucoz.ru</dc:description>
  <dc:language>en-US</dc:language>
  <cp:lastModifiedBy>школа</cp:lastModifiedBy>
  <dcterms:modified xsi:type="dcterms:W3CDTF">2012-05-23T08:41:06Z</dcterms:modified>
  <cp:revision>5</cp:revision>
  <dc:subject/>
  <dc:title>Русские народные игры</dc:title>
</cp:coreProperties>
</file>