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F190A-8D91-43CB-801D-CDDF0900A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4E1-7535-43B3-AB07-51D9AAD46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851E-E887-4BFE-8EC7-BDF0F1E17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8F42-8CF8-4F06-93F0-011ACE1DA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6F6B-0136-4529-9463-D8082026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8669-7600-471A-9412-0AC3C06D8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D7F-9036-4480-AD4F-8E171A725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7EB4-D02F-4366-B354-BAE4707DB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05B0-D281-44A5-9F79-7D360EBA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EEE5-38FE-4872-9E61-85185F9E7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04FC-150C-47FF-A5CB-EE2F564B9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2626C-59C4-4769-82DD-A9A1EE0CD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A082-4AF6-4C0D-9A21-D15C31B0334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52596147_6"/>
          <p:cNvPicPr/>
          <p:nvPr/>
        </p:nvPicPr>
        <p:blipFill>
          <a:blip r:embed="rId1"/>
          <a:stretch/>
        </p:blipFill>
        <p:spPr>
          <a:xfrm>
            <a:off x="0" y="-387360"/>
            <a:ext cx="9325080" cy="757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9528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Я смотрю неторопли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ыбы – это так красиво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076720" y="4941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830920" y="3645000"/>
            <a:ext cx="3313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Презентацию подготовила воспитатель 2 мл. группы (№3) Красногвардейского района Санкт-Петербурга ГБДОУ дс №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Пивоварова Т.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тихи Пивоваровой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AM04822"/>
          <p:cNvPicPr/>
          <p:nvPr/>
        </p:nvPicPr>
        <p:blipFill>
          <a:blip r:embed="rId1"/>
          <a:stretch/>
        </p:blipFill>
        <p:spPr>
          <a:xfrm>
            <a:off x="2340000" y="189072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08000" y="189000"/>
            <a:ext cx="345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а рыба хищн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и симпати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евает рыба па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 на мелких рыб напас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iеее"/>
          <p:cNvPicPr/>
          <p:nvPr/>
        </p:nvPicPr>
        <p:blipFill>
          <a:blip r:embed="rId2"/>
          <a:stretch/>
        </p:blipFill>
        <p:spPr>
          <a:xfrm>
            <a:off x="179280" y="3284640"/>
            <a:ext cx="1700280" cy="100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еее"/>
          <p:cNvPicPr/>
          <p:nvPr/>
        </p:nvPicPr>
        <p:blipFill>
          <a:blip r:embed="rId3"/>
          <a:stretch/>
        </p:blipFill>
        <p:spPr>
          <a:xfrm>
            <a:off x="324000" y="4797360"/>
            <a:ext cx="1484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CAM04821"/>
          <p:cNvPicPr/>
          <p:nvPr/>
        </p:nvPicPr>
        <p:blipFill>
          <a:blip r:embed="rId1"/>
          <a:stretch/>
        </p:blipFill>
        <p:spPr>
          <a:xfrm>
            <a:off x="179280" y="198360"/>
            <a:ext cx="8879040" cy="6659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867280" y="3716280"/>
            <a:ext cx="3097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Рыбкин дом – всегда вод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озера   или  пру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Дом у рыбки в озерк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В море или же в ре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Но и там и там, вез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Рыбкин дом всегда – в воде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258920" y="4724280"/>
            <a:ext cx="741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ль: дать детям знания о рыбах, развивать связную речь путем повторения за воспитателем понравившихся стихотворных отрывков. Вызвать интерес к живой природе, показать ее крас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должать сотрудничество родителей, детей и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0_78982_9cdd2f59_XL"/>
          <p:cNvPicPr/>
          <p:nvPr/>
        </p:nvPicPr>
        <p:blipFill>
          <a:blip r:embed="rId1"/>
          <a:stretch/>
        </p:blipFill>
        <p:spPr>
          <a:xfrm>
            <a:off x="1332000" y="333360"/>
            <a:ext cx="63212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d5d5d37c0782"/>
          <p:cNvPicPr/>
          <p:nvPr/>
        </p:nvPicPr>
        <p:blipFill>
          <a:blip r:embed="rId1"/>
          <a:stretch/>
        </p:blipFill>
        <p:spPr>
          <a:xfrm>
            <a:off x="2843280" y="189000"/>
            <a:ext cx="6095880" cy="4857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 flipV="1">
            <a:off x="250920" y="69984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260280"/>
            <a:ext cx="3635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Мы аквариум купил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И воды в него нали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Ракушки на дне леж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Рыбки плавают, спеш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Водоросли как тра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И колышутся ед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Я тихонько подойду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Посмотрю на крас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Я смотрю неторопли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Рыбы – это так красив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лл"/>
          <p:cNvPicPr/>
          <p:nvPr/>
        </p:nvPicPr>
        <p:blipFill>
          <a:blip r:embed="rId1"/>
          <a:stretch/>
        </p:blipFill>
        <p:spPr>
          <a:xfrm>
            <a:off x="250920" y="611280"/>
            <a:ext cx="4321080" cy="2700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539640" y="3933720"/>
            <a:ext cx="4176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Нет уж, нет уж, кот-плутиш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Нашу рыбку не лов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Ты на рыбку золот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Только глазками смотр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eedb8b4c943c"/>
          <p:cNvPicPr/>
          <p:nvPr/>
        </p:nvPicPr>
        <p:blipFill>
          <a:blip r:embed="rId2"/>
          <a:stretch/>
        </p:blipFill>
        <p:spPr>
          <a:xfrm>
            <a:off x="5148360" y="3284640"/>
            <a:ext cx="360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042920" y="2565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24000" y="2781360"/>
            <a:ext cx="684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стретились на дне реч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ыбки – яркие подруж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Двое – желтых как цыпля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Две – зеленых как лягу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4" descr="KOI_8efa2947340ebba3304c9a0374a037e7"/>
          <p:cNvPicPr/>
          <p:nvPr/>
        </p:nvPicPr>
        <p:blipFill>
          <a:blip r:embed="rId1"/>
          <a:stretch/>
        </p:blipFill>
        <p:spPr>
          <a:xfrm>
            <a:off x="5796000" y="333360"/>
            <a:ext cx="3151080" cy="315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karasj17"/>
          <p:cNvPicPr/>
          <p:nvPr/>
        </p:nvPicPr>
        <p:blipFill>
          <a:blip r:embed="rId2"/>
          <a:stretch/>
        </p:blipFill>
        <p:spPr>
          <a:xfrm>
            <a:off x="826920" y="476280"/>
            <a:ext cx="3961080" cy="207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окунь"/>
          <p:cNvPicPr/>
          <p:nvPr/>
        </p:nvPicPr>
        <p:blipFill>
          <a:blip r:embed="rId3"/>
          <a:stretch/>
        </p:blipFill>
        <p:spPr>
          <a:xfrm>
            <a:off x="5796000" y="3860640"/>
            <a:ext cx="316872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151034-2010-05-27-Bezimeni-1"/>
          <p:cNvPicPr/>
          <p:nvPr/>
        </p:nvPicPr>
        <p:blipFill>
          <a:blip r:embed="rId4"/>
          <a:stretch/>
        </p:blipFill>
        <p:spPr>
          <a:xfrm>
            <a:off x="900000" y="4508640"/>
            <a:ext cx="2592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AM04850"/>
          <p:cNvPicPr/>
          <p:nvPr/>
        </p:nvPicPr>
        <p:blipFill>
          <a:blip r:embed="rId1"/>
          <a:stretch/>
        </p:blipFill>
        <p:spPr>
          <a:xfrm>
            <a:off x="0" y="303120"/>
            <a:ext cx="8967960" cy="672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ььь"/>
          <p:cNvPicPr/>
          <p:nvPr/>
        </p:nvPicPr>
        <p:blipFill>
          <a:blip r:embed="rId2"/>
          <a:stretch/>
        </p:blipFill>
        <p:spPr>
          <a:xfrm>
            <a:off x="108000" y="333360"/>
            <a:ext cx="2854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0" y="-747720"/>
            <a:ext cx="26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24000" y="476280"/>
            <a:ext cx="2592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А на дне, на дне морск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ыб морских огромный д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ного жителей морских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ы сейчас рассмотрим и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от плывет акула злая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астью мелких рыб хва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то же это здесь так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есь оранжевый, смеш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ядом с рыбкой полосато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Это осьминог, ребя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ядом с ним звезда морск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ся нарядная , больша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971640" y="4292640"/>
            <a:ext cx="65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нет клешни хитрый краб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чет рыбку – цап-цап-цап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олько рыбки то хитре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 и плавают быстре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9" descr="mota_ru_0121612-crop"/>
          <p:cNvPicPr/>
          <p:nvPr/>
        </p:nvPicPr>
        <p:blipFill>
          <a:blip r:embed="rId1"/>
          <a:stretch/>
        </p:blipFill>
        <p:spPr>
          <a:xfrm>
            <a:off x="250920" y="189000"/>
            <a:ext cx="4608360" cy="345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1284221442_fish"/>
          <p:cNvPicPr/>
          <p:nvPr/>
        </p:nvPicPr>
        <p:blipFill>
          <a:blip r:embed="rId2"/>
          <a:stretch/>
        </p:blipFill>
        <p:spPr>
          <a:xfrm>
            <a:off x="4356000" y="3141720"/>
            <a:ext cx="4626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ьььdd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302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AM04758"/>
          <p:cNvPicPr/>
          <p:nvPr/>
        </p:nvPicPr>
        <p:blipFill>
          <a:blip r:embed="rId2"/>
          <a:stretch/>
        </p:blipFill>
        <p:spPr>
          <a:xfrm>
            <a:off x="250920" y="3429000"/>
            <a:ext cx="8642160" cy="3324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258920" y="712800"/>
            <a:ext cx="314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Рыбки плавают на д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Все веселые впол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Вот плывет морской кон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Желтый нос и желтый б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Подплывает синий к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У него довольный вид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Zilais-Valis-1"/>
          <p:cNvPicPr/>
          <p:nvPr/>
        </p:nvPicPr>
        <p:blipFill>
          <a:blip r:embed="rId3"/>
          <a:stretch/>
        </p:blipFill>
        <p:spPr>
          <a:xfrm>
            <a:off x="5219640" y="333360"/>
            <a:ext cx="3527640" cy="278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116000" y="2492280"/>
            <a:ext cx="34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еселится на прост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ит большой в огромном море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AM04825"/>
          <p:cNvPicPr/>
          <p:nvPr/>
        </p:nvPicPr>
        <p:blipFill>
          <a:blip r:embed="rId1"/>
          <a:stretch/>
        </p:blipFill>
        <p:spPr>
          <a:xfrm>
            <a:off x="2843280" y="333360"/>
            <a:ext cx="6084720" cy="456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0" y="1844640"/>
            <a:ext cx="4067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мире много рыбок е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азных, и не перечес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Есть акулы-велика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И малютки окуш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Есть в морях и океан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И на дне любой ре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море, в речке и в пр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ыбку я в воде най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Пивоварова</dc:creator>
  <dc:description/>
  <dc:language>en-US</dc:language>
  <cp:lastModifiedBy>Татьяна Пивоварова</cp:lastModifiedBy>
  <dcterms:modified xsi:type="dcterms:W3CDTF">2017-12-04T11:43:06Z</dcterms:modified>
  <cp:revision>39</cp:revision>
  <dc:subject/>
  <dc:title>PowerPoint Presentation</dc:title>
</cp:coreProperties>
</file>