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26.jpeg" ContentType="image/jpeg"/>
  <Override PartName="/ppt/media/image6.png" ContentType="image/png"/>
  <Override PartName="/ppt/media/image29.png" ContentType="image/png"/>
  <Override PartName="/ppt/media/image5.gif" ContentType="image/gif"/>
  <Override PartName="/ppt/media/image14.jpeg" ContentType="image/jpeg"/>
  <Override PartName="/ppt/media/image11.jpeg" ContentType="image/jpeg"/>
  <Override PartName="/ppt/media/image4.gif" ContentType="image/gif"/>
  <Override PartName="/ppt/media/image22.jpeg" ContentType="image/jpeg"/>
  <Override PartName="/ppt/media/image28.jpeg" ContentType="image/jpeg"/>
  <Override PartName="/ppt/media/image27.jpeg" ContentType="image/jpeg"/>
  <Override PartName="/ppt/media/image17.png" ContentType="image/png"/>
  <Override PartName="/ppt/media/image25.jpeg" ContentType="image/jpeg"/>
  <Override PartName="/ppt/media/image3.png" ContentType="image/png"/>
  <Override PartName="/ppt/media/image24.jpeg" ContentType="image/jpeg"/>
  <Override PartName="/ppt/media/image19.jpeg" ContentType="image/jpeg"/>
  <Override PartName="/ppt/media/image21.gif" ContentType="image/gif"/>
  <Override PartName="/ppt/media/image16.gif" ContentType="image/gif"/>
  <Override PartName="/ppt/media/image1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276-D811-47BC-A847-77639F43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0BF-3853-4D06-9EE6-39526E69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566-A3EE-4FD0-A064-94531104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13D-AF21-4144-8FA5-F52896D6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6FC-F517-4E6B-ADED-2F85AB65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CB7-034D-4B7B-B60F-BA4AA9E3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91C-A912-4283-889C-9CDD3DDF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DE6-A0C7-4663-A30C-88857235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611-0F9E-49A5-9278-18BAB0C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5DE-3390-4CD6-B3C0-7991249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894-252F-4251-9653-A766885E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67F-7193-442D-9F5A-B0663A1E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1ABA-08EC-41B6-B04A-194230775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7.gif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2.png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image" Target="../media/image15.jpeg"/><Relationship Id="rId22" Type="http://schemas.openxmlformats.org/officeDocument/2006/relationships/image" Target="../media/image16.gif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ежливое слово должен знать кажд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Documents and Settings\Админ\Рабочий стол\msk23.gif"/>
          <p:cNvPicPr/>
          <p:nvPr/>
        </p:nvPicPr>
        <p:blipFill>
          <a:blip r:embed="rId1"/>
          <a:stretch/>
        </p:blipFill>
        <p:spPr>
          <a:xfrm>
            <a:off x="914400" y="1146240"/>
            <a:ext cx="7578720" cy="5559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6"/>
          <p:cNvSpPr/>
          <p:nvPr/>
        </p:nvSpPr>
        <p:spPr>
          <a:xfrm>
            <a:off x="5760" y="152280"/>
            <a:ext cx="9099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Весёлая полянка с Аллеей игр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352320" y="380520"/>
            <a:ext cx="5334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:\Documents and Settings\Админ\Рабочий стол\20308071.jpg"/>
          <p:cNvPicPr/>
          <p:nvPr/>
        </p:nvPicPr>
        <p:blipFill>
          <a:blip r:embed="rId1"/>
          <a:srcRect l="10378" t="30564" r="0" b="0"/>
          <a:stretch/>
        </p:blipFill>
        <p:spPr>
          <a:xfrm>
            <a:off x="3714840" y="533520"/>
            <a:ext cx="4971960" cy="5938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245160" y="1459440"/>
            <a:ext cx="299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Calibri"/>
              </a:rPr>
              <a:t>Улица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Calibri"/>
              </a:rPr>
              <a:t>Частуш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9" descr="C:\Documents and Settings\Админ\Рабочий стол\image002.jpg"/>
          <p:cNvPicPr/>
          <p:nvPr/>
        </p:nvPicPr>
        <p:blipFill>
          <a:blip r:embed="rId1"/>
          <a:stretch/>
        </p:blipFill>
        <p:spPr>
          <a:xfrm>
            <a:off x="304920" y="1724040"/>
            <a:ext cx="8458200" cy="49561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1219320" y="-906480"/>
            <a:ext cx="648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Calibri"/>
              </a:rPr>
              <a:t>Театральная ул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Админ\Рабочий стол\1301828894_dobrota.jpg"/>
          <p:cNvPicPr/>
          <p:nvPr/>
        </p:nvPicPr>
        <p:blipFill>
          <a:blip r:embed="rId1"/>
          <a:stretch/>
        </p:blipFill>
        <p:spPr>
          <a:xfrm>
            <a:off x="152280" y="1143000"/>
            <a:ext cx="5715000" cy="56293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1468080" y="-678600"/>
            <a:ext cx="495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Calibri"/>
              </a:rPr>
              <a:t>Площадь доб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23920" y="456840"/>
            <a:ext cx="39625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до, надо добрым бы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в беде друг друга не забыть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завертится Земля быстрей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станем мы хоть чуточку добрей!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Админ\Рабочий стол\кот и мыши.gif"/>
          <p:cNvPicPr/>
          <p:nvPr/>
        </p:nvPicPr>
        <p:blipFill>
          <a:blip r:embed="rId1"/>
          <a:stretch/>
        </p:blipFill>
        <p:spPr>
          <a:xfrm>
            <a:off x="-76320" y="299880"/>
            <a:ext cx="51912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Елена\Мои документы\Мои рисунки\Рисунок1.wmf"/>
          <p:cNvPicPr/>
          <p:nvPr/>
        </p:nvPicPr>
        <p:blipFill>
          <a:blip r:embed="rId1"/>
          <a:stretch/>
        </p:blipFill>
        <p:spPr>
          <a:xfrm>
            <a:off x="0" y="1357200"/>
            <a:ext cx="2409840" cy="184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NA01441_"/>
          <p:cNvPicPr/>
          <p:nvPr/>
        </p:nvPicPr>
        <p:blipFill>
          <a:blip r:embed="rId2"/>
          <a:stretch/>
        </p:blipFill>
        <p:spPr>
          <a:xfrm>
            <a:off x="7696080" y="762120"/>
            <a:ext cx="1276560" cy="14396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3"/>
          <a:stretch/>
        </p:blipFill>
        <p:spPr>
          <a:xfrm>
            <a:off x="-96840" y="-30240"/>
            <a:ext cx="8601120" cy="181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j0336492"/>
          <p:cNvPicPr/>
          <p:nvPr/>
        </p:nvPicPr>
        <p:blipFill>
          <a:blip r:embed="rId4"/>
          <a:stretch/>
        </p:blipFill>
        <p:spPr>
          <a:xfrm rot="592200">
            <a:off x="3646080" y="2530440"/>
            <a:ext cx="2121120" cy="1838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0" y="1528920"/>
            <a:ext cx="26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381"/>
          <p:cNvSpPr/>
          <p:nvPr/>
        </p:nvSpPr>
        <p:spPr>
          <a:xfrm>
            <a:off x="2971800" y="4586400"/>
            <a:ext cx="2690640" cy="2271600"/>
          </a:xfrm>
          <a:custGeom>
            <a:avLst/>
            <a:gdLst/>
            <a:ahLst/>
            <a:rect l="l" t="t" r="r" b="b"/>
            <a:pathLst>
              <a:path w="2690789" h="2272146">
                <a:moveTo>
                  <a:pt x="363226" y="332509"/>
                </a:moveTo>
                <a:cubicBezTo>
                  <a:pt x="370153" y="302491"/>
                  <a:pt x="373068" y="304988"/>
                  <a:pt x="377080" y="290946"/>
                </a:cubicBezTo>
                <a:cubicBezTo>
                  <a:pt x="382311" y="272637"/>
                  <a:pt x="384249" y="253357"/>
                  <a:pt x="390935" y="235528"/>
                </a:cubicBezTo>
                <a:cubicBezTo>
                  <a:pt x="398187" y="216190"/>
                  <a:pt x="410256" y="198982"/>
                  <a:pt x="418644" y="180109"/>
                </a:cubicBezTo>
                <a:cubicBezTo>
                  <a:pt x="428744" y="157383"/>
                  <a:pt x="438489" y="134430"/>
                  <a:pt x="446353" y="110837"/>
                </a:cubicBezTo>
                <a:cubicBezTo>
                  <a:pt x="456285" y="81040"/>
                  <a:pt x="456605" y="34729"/>
                  <a:pt x="487917" y="13855"/>
                </a:cubicBezTo>
                <a:cubicBezTo>
                  <a:pt x="503760" y="3293"/>
                  <a:pt x="524862" y="4618"/>
                  <a:pt x="543335" y="0"/>
                </a:cubicBezTo>
                <a:cubicBezTo>
                  <a:pt x="621844" y="9236"/>
                  <a:pt x="701208" y="12918"/>
                  <a:pt x="778862" y="27709"/>
                </a:cubicBezTo>
                <a:cubicBezTo>
                  <a:pt x="831003" y="37641"/>
                  <a:pt x="829138" y="55752"/>
                  <a:pt x="861989" y="83128"/>
                </a:cubicBezTo>
                <a:cubicBezTo>
                  <a:pt x="879728" y="97910"/>
                  <a:pt x="901079" y="108363"/>
                  <a:pt x="917407" y="124691"/>
                </a:cubicBezTo>
                <a:cubicBezTo>
                  <a:pt x="933735" y="141019"/>
                  <a:pt x="940181" y="166688"/>
                  <a:pt x="958971" y="180109"/>
                </a:cubicBezTo>
                <a:cubicBezTo>
                  <a:pt x="974465" y="191177"/>
                  <a:pt x="995916" y="189346"/>
                  <a:pt x="1014389" y="193964"/>
                </a:cubicBezTo>
                <a:cubicBezTo>
                  <a:pt x="1111371" y="184728"/>
                  <a:pt x="1209240" y="182271"/>
                  <a:pt x="1305335" y="166255"/>
                </a:cubicBezTo>
                <a:cubicBezTo>
                  <a:pt x="1321759" y="163518"/>
                  <a:pt x="1332005" y="145993"/>
                  <a:pt x="1346898" y="138546"/>
                </a:cubicBezTo>
                <a:cubicBezTo>
                  <a:pt x="1359960" y="132015"/>
                  <a:pt x="1374607" y="129309"/>
                  <a:pt x="1388462" y="124691"/>
                </a:cubicBezTo>
                <a:cubicBezTo>
                  <a:pt x="1397698" y="110837"/>
                  <a:pt x="1403169" y="93530"/>
                  <a:pt x="1416171" y="83128"/>
                </a:cubicBezTo>
                <a:cubicBezTo>
                  <a:pt x="1425206" y="75900"/>
                  <a:pt x="1509532" y="56323"/>
                  <a:pt x="1513153" y="55418"/>
                </a:cubicBezTo>
                <a:cubicBezTo>
                  <a:pt x="1545480" y="60036"/>
                  <a:pt x="1581383" y="53791"/>
                  <a:pt x="1610135" y="69273"/>
                </a:cubicBezTo>
                <a:cubicBezTo>
                  <a:pt x="1644638" y="87851"/>
                  <a:pt x="1693262" y="152400"/>
                  <a:pt x="1693262" y="152400"/>
                </a:cubicBezTo>
                <a:cubicBezTo>
                  <a:pt x="1702498" y="170873"/>
                  <a:pt x="1716241" y="187714"/>
                  <a:pt x="1720971" y="207818"/>
                </a:cubicBezTo>
                <a:cubicBezTo>
                  <a:pt x="1727420" y="235227"/>
                  <a:pt x="1721507" y="383757"/>
                  <a:pt x="1776389" y="429491"/>
                </a:cubicBezTo>
                <a:cubicBezTo>
                  <a:pt x="1792255" y="442713"/>
                  <a:pt x="1813753" y="447170"/>
                  <a:pt x="1831807" y="457200"/>
                </a:cubicBezTo>
                <a:cubicBezTo>
                  <a:pt x="1855347" y="470278"/>
                  <a:pt x="1874793" y="492922"/>
                  <a:pt x="1901080" y="498764"/>
                </a:cubicBezTo>
                <a:cubicBezTo>
                  <a:pt x="1959860" y="511826"/>
                  <a:pt x="2021153" y="508000"/>
                  <a:pt x="2081189" y="512618"/>
                </a:cubicBezTo>
                <a:cubicBezTo>
                  <a:pt x="2084144" y="514307"/>
                  <a:pt x="2206972" y="586874"/>
                  <a:pt x="2233589" y="595746"/>
                </a:cubicBezTo>
                <a:cubicBezTo>
                  <a:pt x="2255929" y="603193"/>
                  <a:pt x="2279771" y="604982"/>
                  <a:pt x="2302862" y="609600"/>
                </a:cubicBezTo>
                <a:cubicBezTo>
                  <a:pt x="2337891" y="627115"/>
                  <a:pt x="2398558" y="655677"/>
                  <a:pt x="2427553" y="678873"/>
                </a:cubicBezTo>
                <a:cubicBezTo>
                  <a:pt x="2453053" y="699273"/>
                  <a:pt x="2470074" y="729419"/>
                  <a:pt x="2496826" y="748146"/>
                </a:cubicBezTo>
                <a:cubicBezTo>
                  <a:pt x="2542865" y="780374"/>
                  <a:pt x="2571312" y="763175"/>
                  <a:pt x="2607662" y="803564"/>
                </a:cubicBezTo>
                <a:cubicBezTo>
                  <a:pt x="2638556" y="837891"/>
                  <a:pt x="2690789" y="914400"/>
                  <a:pt x="2690789" y="914400"/>
                </a:cubicBezTo>
                <a:cubicBezTo>
                  <a:pt x="2681553" y="946727"/>
                  <a:pt x="2683252" y="984485"/>
                  <a:pt x="2663080" y="1011382"/>
                </a:cubicBezTo>
                <a:cubicBezTo>
                  <a:pt x="2651655" y="1026615"/>
                  <a:pt x="2620054" y="1010780"/>
                  <a:pt x="2607662" y="1025237"/>
                </a:cubicBezTo>
                <a:cubicBezTo>
                  <a:pt x="2506472" y="1143292"/>
                  <a:pt x="2652267" y="1090286"/>
                  <a:pt x="2524535" y="1122218"/>
                </a:cubicBezTo>
                <a:cubicBezTo>
                  <a:pt x="2519917" y="1136073"/>
                  <a:pt x="2517211" y="1150720"/>
                  <a:pt x="2510680" y="1163782"/>
                </a:cubicBezTo>
                <a:cubicBezTo>
                  <a:pt x="2503233" y="1178675"/>
                  <a:pt x="2485824" y="1188941"/>
                  <a:pt x="2482971" y="1205346"/>
                </a:cubicBezTo>
                <a:cubicBezTo>
                  <a:pt x="2467066" y="1296798"/>
                  <a:pt x="2493673" y="1397933"/>
                  <a:pt x="2455262" y="1482437"/>
                </a:cubicBezTo>
                <a:cubicBezTo>
                  <a:pt x="2439503" y="1517106"/>
                  <a:pt x="2344426" y="1510146"/>
                  <a:pt x="2344426" y="1510146"/>
                </a:cubicBezTo>
                <a:cubicBezTo>
                  <a:pt x="2330571" y="1519382"/>
                  <a:pt x="2317319" y="1529594"/>
                  <a:pt x="2302862" y="1537855"/>
                </a:cubicBezTo>
                <a:cubicBezTo>
                  <a:pt x="2284930" y="1548102"/>
                  <a:pt x="2264250" y="1553560"/>
                  <a:pt x="2247444" y="1565564"/>
                </a:cubicBezTo>
                <a:cubicBezTo>
                  <a:pt x="2197444" y="1601278"/>
                  <a:pt x="2213912" y="1605802"/>
                  <a:pt x="2178171" y="1648691"/>
                </a:cubicBezTo>
                <a:cubicBezTo>
                  <a:pt x="2165628" y="1663743"/>
                  <a:pt x="2150462" y="1676400"/>
                  <a:pt x="2136607" y="1690255"/>
                </a:cubicBezTo>
                <a:cubicBezTo>
                  <a:pt x="2128288" y="1723533"/>
                  <a:pt x="2124943" y="1763318"/>
                  <a:pt x="2095044" y="1787237"/>
                </a:cubicBezTo>
                <a:cubicBezTo>
                  <a:pt x="2086584" y="1794005"/>
                  <a:pt x="2000933" y="1814638"/>
                  <a:pt x="1998062" y="1814946"/>
                </a:cubicBezTo>
                <a:cubicBezTo>
                  <a:pt x="1887474" y="1826795"/>
                  <a:pt x="1776557" y="1835717"/>
                  <a:pt x="1665553" y="1842655"/>
                </a:cubicBezTo>
                <a:cubicBezTo>
                  <a:pt x="1554837" y="1849575"/>
                  <a:pt x="1443880" y="1851891"/>
                  <a:pt x="1333044" y="1856509"/>
                </a:cubicBezTo>
                <a:cubicBezTo>
                  <a:pt x="1159799" y="1899822"/>
                  <a:pt x="1375193" y="1844466"/>
                  <a:pt x="1236062" y="1884218"/>
                </a:cubicBezTo>
                <a:cubicBezTo>
                  <a:pt x="1217753" y="1889449"/>
                  <a:pt x="1199117" y="1893455"/>
                  <a:pt x="1180644" y="1898073"/>
                </a:cubicBezTo>
                <a:cubicBezTo>
                  <a:pt x="1171408" y="1916546"/>
                  <a:pt x="1170645" y="1942865"/>
                  <a:pt x="1152935" y="1953491"/>
                </a:cubicBezTo>
                <a:cubicBezTo>
                  <a:pt x="1120279" y="1973084"/>
                  <a:pt x="1042098" y="1981200"/>
                  <a:pt x="1042098" y="1981200"/>
                </a:cubicBezTo>
                <a:cubicBezTo>
                  <a:pt x="913461" y="2077679"/>
                  <a:pt x="1058044" y="1974404"/>
                  <a:pt x="931262" y="2050473"/>
                </a:cubicBezTo>
                <a:cubicBezTo>
                  <a:pt x="869765" y="2087371"/>
                  <a:pt x="859017" y="2114442"/>
                  <a:pt x="792717" y="2119746"/>
                </a:cubicBezTo>
                <a:cubicBezTo>
                  <a:pt x="695934" y="2127489"/>
                  <a:pt x="598753" y="2128982"/>
                  <a:pt x="501771" y="2133600"/>
                </a:cubicBezTo>
                <a:cubicBezTo>
                  <a:pt x="483298" y="2161309"/>
                  <a:pt x="462526" y="2187617"/>
                  <a:pt x="446353" y="2216728"/>
                </a:cubicBezTo>
                <a:cubicBezTo>
                  <a:pt x="439261" y="2229494"/>
                  <a:pt x="443902" y="2249168"/>
                  <a:pt x="432498" y="2258291"/>
                </a:cubicBezTo>
                <a:cubicBezTo>
                  <a:pt x="417629" y="2270186"/>
                  <a:pt x="395553" y="2267528"/>
                  <a:pt x="377080" y="2272146"/>
                </a:cubicBezTo>
                <a:cubicBezTo>
                  <a:pt x="340135" y="2258291"/>
                  <a:pt x="299533" y="2251766"/>
                  <a:pt x="266244" y="2230582"/>
                </a:cubicBezTo>
                <a:cubicBezTo>
                  <a:pt x="239865" y="2213795"/>
                  <a:pt x="210341" y="2146486"/>
                  <a:pt x="196971" y="2119746"/>
                </a:cubicBezTo>
                <a:cubicBezTo>
                  <a:pt x="192353" y="2101273"/>
                  <a:pt x="190618" y="2081830"/>
                  <a:pt x="183117" y="2064328"/>
                </a:cubicBezTo>
                <a:cubicBezTo>
                  <a:pt x="176366" y="2048575"/>
                  <a:pt x="118572" y="1973650"/>
                  <a:pt x="113844" y="1967346"/>
                </a:cubicBezTo>
                <a:cubicBezTo>
                  <a:pt x="109226" y="1948873"/>
                  <a:pt x="106675" y="1929757"/>
                  <a:pt x="99989" y="1911928"/>
                </a:cubicBezTo>
                <a:cubicBezTo>
                  <a:pt x="80970" y="1861212"/>
                  <a:pt x="63411" y="1844683"/>
                  <a:pt x="30717" y="1801091"/>
                </a:cubicBezTo>
                <a:cubicBezTo>
                  <a:pt x="12268" y="1708848"/>
                  <a:pt x="0" y="1680754"/>
                  <a:pt x="30717" y="1565564"/>
                </a:cubicBezTo>
                <a:cubicBezTo>
                  <a:pt x="35765" y="1546632"/>
                  <a:pt x="57404" y="1536751"/>
                  <a:pt x="72280" y="1524000"/>
                </a:cubicBezTo>
                <a:cubicBezTo>
                  <a:pt x="89812" y="1508973"/>
                  <a:pt x="108908" y="1495858"/>
                  <a:pt x="127698" y="1482437"/>
                </a:cubicBezTo>
                <a:cubicBezTo>
                  <a:pt x="157313" y="1461283"/>
                  <a:pt x="190504" y="1439834"/>
                  <a:pt x="224680" y="1427018"/>
                </a:cubicBezTo>
                <a:cubicBezTo>
                  <a:pt x="242509" y="1420332"/>
                  <a:pt x="261625" y="1417782"/>
                  <a:pt x="280098" y="1413164"/>
                </a:cubicBezTo>
                <a:cubicBezTo>
                  <a:pt x="362161" y="1351617"/>
                  <a:pt x="316301" y="1384411"/>
                  <a:pt x="418644" y="1316182"/>
                </a:cubicBezTo>
                <a:lnTo>
                  <a:pt x="460207" y="1288473"/>
                </a:lnTo>
                <a:cubicBezTo>
                  <a:pt x="469444" y="1274618"/>
                  <a:pt x="480470" y="1261802"/>
                  <a:pt x="487917" y="1246909"/>
                </a:cubicBezTo>
                <a:cubicBezTo>
                  <a:pt x="524867" y="1173010"/>
                  <a:pt x="471813" y="1236429"/>
                  <a:pt x="529480" y="1149928"/>
                </a:cubicBezTo>
                <a:cubicBezTo>
                  <a:pt x="577801" y="1077445"/>
                  <a:pt x="541847" y="1181601"/>
                  <a:pt x="584898" y="1066800"/>
                </a:cubicBezTo>
                <a:cubicBezTo>
                  <a:pt x="641489" y="915891"/>
                  <a:pt x="549317" y="1110255"/>
                  <a:pt x="626462" y="955964"/>
                </a:cubicBezTo>
                <a:cubicBezTo>
                  <a:pt x="631080" y="909782"/>
                  <a:pt x="644935" y="863600"/>
                  <a:pt x="640317" y="817418"/>
                </a:cubicBezTo>
                <a:cubicBezTo>
                  <a:pt x="631732" y="731564"/>
                  <a:pt x="612456" y="695286"/>
                  <a:pt x="571044" y="637309"/>
                </a:cubicBezTo>
                <a:cubicBezTo>
                  <a:pt x="557623" y="618519"/>
                  <a:pt x="548270" y="595312"/>
                  <a:pt x="529480" y="581891"/>
                </a:cubicBezTo>
                <a:cubicBezTo>
                  <a:pt x="513986" y="570824"/>
                  <a:pt x="492535" y="572655"/>
                  <a:pt x="474062" y="568037"/>
                </a:cubicBezTo>
                <a:cubicBezTo>
                  <a:pt x="455589" y="554182"/>
                  <a:pt x="438692" y="537929"/>
                  <a:pt x="418644" y="526473"/>
                </a:cubicBezTo>
                <a:cubicBezTo>
                  <a:pt x="387188" y="508498"/>
                  <a:pt x="348909" y="520160"/>
                  <a:pt x="335517" y="471055"/>
                </a:cubicBezTo>
                <a:cubicBezTo>
                  <a:pt x="325796" y="435411"/>
                  <a:pt x="356299" y="362527"/>
                  <a:pt x="363226" y="332509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тигра"/>
          <p:cNvPicPr/>
          <p:nvPr/>
        </p:nvPicPr>
        <p:blipFill>
          <a:blip r:embed="rId5"/>
          <a:stretch/>
        </p:blipFill>
        <p:spPr>
          <a:xfrm>
            <a:off x="3809880" y="4495680"/>
            <a:ext cx="1274760" cy="1079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2751480" y="6250320"/>
            <a:ext cx="286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Парк Сказок и послов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652800" y="528696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Добрая з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28" descr=""/>
          <p:cNvPicPr/>
          <p:nvPr/>
        </p:nvPicPr>
        <p:blipFill>
          <a:blip r:embed="rId6"/>
          <a:stretch/>
        </p:blipFill>
        <p:spPr>
          <a:xfrm>
            <a:off x="530280" y="1731960"/>
            <a:ext cx="1542960" cy="85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NA01441_"/>
          <p:cNvPicPr/>
          <p:nvPr/>
        </p:nvPicPr>
        <p:blipFill>
          <a:blip r:embed="rId7"/>
          <a:stretch/>
        </p:blipFill>
        <p:spPr>
          <a:xfrm>
            <a:off x="1676520" y="5418000"/>
            <a:ext cx="127620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NA01441_"/>
          <p:cNvPicPr/>
          <p:nvPr/>
        </p:nvPicPr>
        <p:blipFill>
          <a:blip r:embed="rId8"/>
          <a:stretch/>
        </p:blipFill>
        <p:spPr>
          <a:xfrm>
            <a:off x="0" y="3429000"/>
            <a:ext cx="127620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NA01441_"/>
          <p:cNvPicPr/>
          <p:nvPr/>
        </p:nvPicPr>
        <p:blipFill>
          <a:blip r:embed="rId9"/>
          <a:stretch/>
        </p:blipFill>
        <p:spPr>
          <a:xfrm>
            <a:off x="4876920" y="5181480"/>
            <a:ext cx="127620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NA01441_"/>
          <p:cNvPicPr/>
          <p:nvPr/>
        </p:nvPicPr>
        <p:blipFill>
          <a:blip r:embed="rId10"/>
          <a:stretch/>
        </p:blipFill>
        <p:spPr>
          <a:xfrm>
            <a:off x="5562720" y="3276720"/>
            <a:ext cx="1276200" cy="143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NA01441_"/>
          <p:cNvPicPr/>
          <p:nvPr/>
        </p:nvPicPr>
        <p:blipFill>
          <a:blip r:embed="rId11"/>
          <a:stretch/>
        </p:blipFill>
        <p:spPr>
          <a:xfrm>
            <a:off x="0" y="5214960"/>
            <a:ext cx="127620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NA01441_"/>
          <p:cNvPicPr/>
          <p:nvPr/>
        </p:nvPicPr>
        <p:blipFill>
          <a:blip r:embed="rId12"/>
          <a:stretch/>
        </p:blipFill>
        <p:spPr>
          <a:xfrm>
            <a:off x="3200400" y="4114800"/>
            <a:ext cx="127620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G:\Мои рисунки\Смалики\Животные\0c7bc50a5d70d69fa0a8fd2b22c5e8a9.gif"/>
          <p:cNvPicPr/>
          <p:nvPr/>
        </p:nvPicPr>
        <p:blipFill>
          <a:blip r:embed="rId13"/>
          <a:stretch/>
        </p:blipFill>
        <p:spPr>
          <a:xfrm>
            <a:off x="4724280" y="5029200"/>
            <a:ext cx="534960" cy="61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Елена\Рабочий стол\смалики\ab37058bf92d1310d482d10ae73f2db3.gif"/>
          <p:cNvPicPr/>
          <p:nvPr/>
        </p:nvPicPr>
        <p:blipFill>
          <a:blip r:embed="rId14"/>
          <a:stretch/>
        </p:blipFill>
        <p:spPr>
          <a:xfrm>
            <a:off x="3657600" y="5181480"/>
            <a:ext cx="555480" cy="86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G:\Мои рисунки\Смалики\Животные\b0921cc56c01addaa701fc1c010d223e.gif"/>
          <p:cNvPicPr/>
          <p:nvPr/>
        </p:nvPicPr>
        <p:blipFill>
          <a:blip r:embed="rId15"/>
          <a:stretch/>
        </p:blipFill>
        <p:spPr>
          <a:xfrm>
            <a:off x="3200400" y="5791320"/>
            <a:ext cx="61128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Админ\Рабочий стол\kartinki-kolobok.jpg"/>
          <p:cNvPicPr/>
          <p:nvPr/>
        </p:nvPicPr>
        <p:blipFill>
          <a:blip r:embed="rId16"/>
          <a:stretch/>
        </p:blipFill>
        <p:spPr>
          <a:xfrm>
            <a:off x="4191120" y="5715000"/>
            <a:ext cx="533160" cy="61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Админ\Рабочий стол\cbdad497e788t.jpg"/>
          <p:cNvPicPr/>
          <p:nvPr/>
        </p:nvPicPr>
        <p:blipFill>
          <a:blip r:embed="rId17"/>
          <a:stretch/>
        </p:blipFill>
        <p:spPr>
          <a:xfrm>
            <a:off x="1371600" y="3809880"/>
            <a:ext cx="1447920" cy="20545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2"/>
          <p:cNvSpPr/>
          <p:nvPr/>
        </p:nvSpPr>
        <p:spPr>
          <a:xfrm>
            <a:off x="1531080" y="3886200"/>
            <a:ext cx="12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пик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дных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Documents and Settings\Админ\Рабочий стол\msk23.gif"/>
          <p:cNvPicPr/>
          <p:nvPr/>
        </p:nvPicPr>
        <p:blipFill>
          <a:blip r:embed="rId18"/>
          <a:stretch/>
        </p:blipFill>
        <p:spPr>
          <a:xfrm>
            <a:off x="6095880" y="5051520"/>
            <a:ext cx="2397240" cy="18064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6"/>
          <p:cNvSpPr/>
          <p:nvPr/>
        </p:nvSpPr>
        <p:spPr>
          <a:xfrm>
            <a:off x="5492520" y="464832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ёлая полянка с Аллеей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Documents and Settings\Админ\Рабочий стол\20308071.jpg"/>
          <p:cNvPicPr/>
          <p:nvPr/>
        </p:nvPicPr>
        <p:blipFill>
          <a:blip r:embed="rId19"/>
          <a:srcRect l="10378" t="30564" r="0" b="0"/>
          <a:stretch/>
        </p:blipFill>
        <p:spPr>
          <a:xfrm>
            <a:off x="6858000" y="2514600"/>
            <a:ext cx="1974960" cy="1905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6932880" y="1830960"/>
            <a:ext cx="196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Улица Част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:\Documents and Settings\Админ\Рабочий стол\44599c182efa4fee64aecf13cb68b252.jpg"/>
          <p:cNvPicPr/>
          <p:nvPr/>
        </p:nvPicPr>
        <p:blipFill>
          <a:blip r:embed="rId20"/>
          <a:stretch/>
        </p:blipFill>
        <p:spPr>
          <a:xfrm>
            <a:off x="4876920" y="914400"/>
            <a:ext cx="1779480" cy="1376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4719240" y="1906920"/>
            <a:ext cx="229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Театральная у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:\Documents and Settings\Админ\Рабочий стол\1776721000a1f3adcb326b2992e6aa73f75fa82126.jpg"/>
          <p:cNvPicPr/>
          <p:nvPr/>
        </p:nvPicPr>
        <p:blipFill>
          <a:blip r:embed="rId21"/>
          <a:srcRect l="0" t="0" r="0" b="3429"/>
          <a:stretch/>
        </p:blipFill>
        <p:spPr>
          <a:xfrm>
            <a:off x="2743200" y="914400"/>
            <a:ext cx="182880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2673720" y="183096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Площадь доб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44"/>
          <p:cNvCxnSpPr/>
          <p:nvPr/>
        </p:nvCxnSpPr>
        <p:spPr>
          <a:xfrm>
            <a:off x="1204920" y="3200040"/>
            <a:ext cx="8913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3" name="Picture 2" descr="WOMAN41"/>
          <p:cNvPicPr/>
          <p:nvPr/>
        </p:nvPicPr>
        <p:blipFill>
          <a:blip r:embed="rId22"/>
          <a:stretch/>
        </p:blipFill>
        <p:spPr>
          <a:xfrm>
            <a:off x="3886200" y="838080"/>
            <a:ext cx="1143000" cy="1078200"/>
          </a:xfrm>
          <a:prstGeom prst="rect">
            <a:avLst/>
          </a:prstGeom>
          <a:ln w="0">
            <a:noFill/>
          </a:ln>
        </p:spPr>
      </p:pic>
      <p:cxnSp>
        <p:nvCxnSpPr>
          <p:cNvPr id="74" name="Прямая со стрелкой 47"/>
          <p:cNvCxnSpPr>
            <a:endCxn id="47" idx="70"/>
          </p:cNvCxnSpPr>
          <p:nvPr/>
        </p:nvCxnSpPr>
        <p:spPr>
          <a:xfrm>
            <a:off x="2819520" y="4836600"/>
            <a:ext cx="737280" cy="81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50"/>
          <p:cNvCxnSpPr/>
          <p:nvPr/>
        </p:nvCxnSpPr>
        <p:spPr>
          <a:xfrm flipV="1">
            <a:off x="5105160" y="5954040"/>
            <a:ext cx="991080" cy="37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52"/>
          <p:cNvCxnSpPr>
            <a:stCxn id="65" idx="2"/>
          </p:cNvCxnSpPr>
          <p:nvPr/>
        </p:nvCxnSpPr>
        <p:spPr>
          <a:xfrm flipV="1">
            <a:off x="7329240" y="4419720"/>
            <a:ext cx="516600" cy="59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55"/>
          <p:cNvCxnSpPr>
            <a:stCxn id="67" idx="2"/>
          </p:cNvCxnSpPr>
          <p:nvPr/>
        </p:nvCxnSpPr>
        <p:spPr>
          <a:xfrm flipH="1" flipV="1">
            <a:off x="6655680" y="1601280"/>
            <a:ext cx="1259640" cy="93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61"/>
          <p:cNvCxnSpPr/>
          <p:nvPr/>
        </p:nvCxnSpPr>
        <p:spPr>
          <a:xfrm flipH="1" flipV="1">
            <a:off x="4571280" y="1828080"/>
            <a:ext cx="30564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Елена\Мои документы\Мои рисунки\Рисунок1.wmf"/>
          <p:cNvPicPr/>
          <p:nvPr/>
        </p:nvPicPr>
        <p:blipFill>
          <a:blip r:embed="rId1"/>
          <a:stretch/>
        </p:blipFill>
        <p:spPr>
          <a:xfrm>
            <a:off x="0" y="-100080"/>
            <a:ext cx="9296280" cy="7110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" descr=""/>
          <p:cNvPicPr/>
          <p:nvPr/>
        </p:nvPicPr>
        <p:blipFill>
          <a:blip r:embed="rId2"/>
          <a:stretch/>
        </p:blipFill>
        <p:spPr>
          <a:xfrm>
            <a:off x="1974960" y="1579680"/>
            <a:ext cx="51940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Админ\Рабочий стол\cbdad497e788t.jpg"/>
          <p:cNvPicPr/>
          <p:nvPr/>
        </p:nvPicPr>
        <p:blipFill>
          <a:blip r:embed="rId1"/>
          <a:stretch/>
        </p:blipFill>
        <p:spPr>
          <a:xfrm>
            <a:off x="228600" y="157320"/>
            <a:ext cx="5064120" cy="6395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5410080" y="91440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упик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редных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ве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Если ты пришёл к знакомым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 здоровайся ни с кем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лов «пожалуйста», «спасибо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икому не говор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твернись и на вопрос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и на чьи не отвечай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тогда никто не скаже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 тебя, что ты болту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Админ\Рабочий стол\21725.jpg"/>
          <p:cNvPicPr/>
          <p:nvPr/>
        </p:nvPicPr>
        <p:blipFill>
          <a:blip r:embed="rId1"/>
          <a:stretch/>
        </p:blipFill>
        <p:spPr>
          <a:xfrm>
            <a:off x="3873600" y="2666880"/>
            <a:ext cx="5270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Админ\Рабочий стол\3polosa.jpg"/>
          <p:cNvPicPr/>
          <p:nvPr/>
        </p:nvPicPr>
        <p:blipFill>
          <a:blip r:embed="rId1"/>
          <a:stretch/>
        </p:blipFill>
        <p:spPr>
          <a:xfrm>
            <a:off x="4572000" y="1981080"/>
            <a:ext cx="4483080" cy="4714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228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друг на день рожд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ласил тебя к себ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оставь подарок до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диться сам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сть старайся рядом с тор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говоры не вступа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во время разгов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вое меньше съешь конф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Админ\Рабочий стол\98720.jpg"/>
          <p:cNvPicPr/>
          <p:nvPr/>
        </p:nvPicPr>
        <p:blipFill>
          <a:blip r:embed="rId1"/>
          <a:stretch/>
        </p:blipFill>
        <p:spPr>
          <a:xfrm>
            <a:off x="5029200" y="2590920"/>
            <a:ext cx="3975120" cy="4190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2280" y="76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 маме или па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ётя взрослая при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едёт какой-то ва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ерьёзный разгов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сзади не замет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ней подкрасться, а п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ко крикнуть прямо в ух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ой, сдавайся! Руки вверх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762120" y="-602640"/>
            <a:ext cx="747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Calibri"/>
              </a:rPr>
              <a:t>Парк Сказок и послови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Админ\Рабочий стол\zolushka-kartinki.gif"/>
          <p:cNvPicPr/>
          <p:nvPr/>
        </p:nvPicPr>
        <p:blipFill>
          <a:blip r:embed="rId1"/>
          <a:stretch/>
        </p:blipFill>
        <p:spPr>
          <a:xfrm>
            <a:off x="0" y="685800"/>
            <a:ext cx="1905120" cy="261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Documents and Settings\Админ\Рабочий стол\upload-195fcafcbfd931e69e431cf0c6bd5997.jpg"/>
          <p:cNvPicPr/>
          <p:nvPr/>
        </p:nvPicPr>
        <p:blipFill>
          <a:blip r:embed="rId2"/>
          <a:stretch/>
        </p:blipFill>
        <p:spPr>
          <a:xfrm>
            <a:off x="2895480" y="1295280"/>
            <a:ext cx="2946600" cy="221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Documents and Settings\Админ\Рабочий стол\hav.jpg"/>
          <p:cNvPicPr/>
          <p:nvPr/>
        </p:nvPicPr>
        <p:blipFill>
          <a:blip r:embed="rId3"/>
          <a:stretch/>
        </p:blipFill>
        <p:spPr>
          <a:xfrm>
            <a:off x="6477120" y="1066680"/>
            <a:ext cx="2133360" cy="287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Админ\Рабочий стол\0b023014b2e3d3b80107fcf9cc69b7dc.jpg"/>
          <p:cNvPicPr/>
          <p:nvPr/>
        </p:nvPicPr>
        <p:blipFill>
          <a:blip r:embed="rId4"/>
          <a:stretch/>
        </p:blipFill>
        <p:spPr>
          <a:xfrm>
            <a:off x="0" y="3581280"/>
            <a:ext cx="231300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Админ\Рабочий стол\event1565_0.jpg"/>
          <p:cNvPicPr/>
          <p:nvPr/>
        </p:nvPicPr>
        <p:blipFill>
          <a:blip r:embed="rId5"/>
          <a:stretch/>
        </p:blipFill>
        <p:spPr>
          <a:xfrm>
            <a:off x="2514600" y="4038480"/>
            <a:ext cx="3532320" cy="2649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Documents and Settings\Админ\Рабочий стол\post64867_img1.jpg"/>
          <p:cNvPicPr/>
          <p:nvPr/>
        </p:nvPicPr>
        <p:blipFill>
          <a:blip r:embed="rId6"/>
          <a:stretch/>
        </p:blipFill>
        <p:spPr>
          <a:xfrm>
            <a:off x="6215040" y="4343400"/>
            <a:ext cx="28846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Ласковое слово самому ничего не стоит, а другому много даё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Ласковым словом и камень растопишь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Худо тому, кто не делает добра никому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оброе слово – что дождь в засуху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а добрый привет – добрый отв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2-05-06T09:42:2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