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435-1503-43A3-A177-A8A61D4F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3EF-599C-4373-A5FB-96C71E0B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C04-DDA1-4008-B4B2-A51B7CE7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368-5927-4919-9139-05C0A012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CA62D-D71E-4EF4-B35F-E8A5F15367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D320D-B984-446B-9388-9D810F7546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16BC9-0E75-4209-AFF5-2C2B6BE6DC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DD7D2-6A96-4C1F-A464-805B07161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983CB-810D-4FB6-99EE-FEB4FA15E8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90FE4-87CD-4736-A20C-E1166A48F9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488E2-C03D-40A2-B4ED-33FB5D912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FAA-3A58-46A3-AF73-98B7A497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F5C5D-42F4-4B27-92BD-F9C507D861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114FC-296F-492D-AB6A-76D3E4EDBC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3C4DB-B9A5-4C59-8A19-FDD77B12EE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30FF9-AAD8-4395-BCFA-102FA21B58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1E8EE-591C-4725-A4BA-3434C510D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68F-D780-48CB-98FF-75D38772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5D0-4128-4E06-A5DF-B6C75BE9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DE3-414F-4FFA-B4B5-88964EBF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571-5D33-427D-B535-83A88BB4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8CD-00AA-464F-90AC-9BC037CA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3F3-FB23-44F4-9C67-552A973D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249-C8F1-4576-A25F-FFFA7411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F0B6-AF52-4A04-B9C9-2E356AA68661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BD00-045D-4FBA-AD8C-4F9294AD5793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5960" y="1571400"/>
            <a:ext cx="5486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тельная програм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«Бравый пожарный»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Рисунок 5" descr="Изображение 046.jpg"/>
          <p:cNvPicPr/>
          <p:nvPr/>
        </p:nvPicPr>
        <p:blipFill>
          <a:blip r:embed="rId2"/>
          <a:srcRect l="0" t="6368" r="0" b="6368"/>
          <a:stretch/>
        </p:blipFill>
        <p:spPr>
          <a:xfrm>
            <a:off x="2500200" y="3429000"/>
            <a:ext cx="4071960" cy="30002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6760" y="21420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униципальное  бюджетное дошкольное образовательное учреждение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тский сад компенсирующего вида №66 «Забавушка»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а работы по формированию у детей правил пожарной безопасности   (продолжение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Четвертый этап –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формирование у детей чувства ответственности. Ребята принимают и усваивают предъявляемые к ним требования. Именно </a:t>
            </a:r>
            <a:r>
              <a:rPr b="1" i="1" lang="ru-RU" sz="1800" spc="-1" strike="noStrike">
                <a:solidFill>
                  <a:srgbClr val="e9770a"/>
                </a:solidFill>
                <a:latin typeface="Arial"/>
              </a:rPr>
              <a:t>понимают и усваивают.</a:t>
            </a: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Задача педагога: формировать в подрастающем человеке готовность отвечать за свои поступки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Пятый этап работы – </a:t>
            </a:r>
            <a:r>
              <a:rPr b="1" i="1" lang="ru-RU" sz="1800" spc="-1" strike="noStrike">
                <a:solidFill>
                  <a:srgbClr val="e9770a"/>
                </a:solidFill>
                <a:latin typeface="Arial"/>
              </a:rPr>
              <a:t>развивать у детей чувство контроля и самоконтроля,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так как при обучении правилам безопасного поведения эти качества во многом помогают личности вовремя и правильно ориентироваться в создавшейся ситуации.</a:t>
            </a: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770a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8429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8429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ы и методы ознакомления детей с правилами пожарной безопас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86120" y="1643040"/>
            <a:ext cx="4572000" cy="42861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Занятия по развитию речи, ФЭМП, ИЗО и конструированию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Бесед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Обучающие фильм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Художественная литература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Сюжетно-ролевая игра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Экскурсии, целевые прогулки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4" name="Содержимое 6" descr="Изображение 044.jpg"/>
          <p:cNvPicPr/>
          <p:nvPr/>
        </p:nvPicPr>
        <p:blipFill>
          <a:blip r:embed="rId1"/>
          <a:stretch/>
        </p:blipFill>
        <p:spPr>
          <a:xfrm>
            <a:off x="642960" y="2000160"/>
            <a:ext cx="2714760" cy="3643560"/>
          </a:xfrm>
          <a:prstGeom prst="rect">
            <a:avLst/>
          </a:prstGeom>
          <a:ln w="475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ктуальность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9770a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e9770a"/>
                </a:solidFill>
                <a:latin typeface="Arial"/>
              </a:rPr>
              <a:t>Сколько лет огонь угрожает людям, почти столько же они пытаются найти от него защиту. Можно назвать много факторов, влияющих на увеличение пожаров в современном мире, но самым важным является человеческий фактор. Проблема пожаров остро стоит  в нашей стране. За последние годы значительно увеличилось количество пожаров, которые произошли по вине человека. Часто причиной пожара является детская шалость. Родители подходят к этой проблеме недостаточно серьёзно. Разрешают детям играть огнеопасными предметами, у многих зажигалка является привычной игрушкой. Чтобы изменить отношение человека к этой проблеме, нужно уже на дошкольном этапе развития ребёнка начинать заниматься этой проблемой. Необходимо изменить сознание и отношение людей к противопожарной безопасности, а детский возраст является самым благоприятным для формирования правил пожарной безопасности. Детскому саду и родителям надо объединить усилия, для того, чтобы уберечь детей от возможной трагедии, необходима целенаправленная работа над формированием у них культуры пожаробезопасного поведения.</a:t>
            </a: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5" name="Oval 12"/>
          <p:cNvSpPr/>
          <p:nvPr/>
        </p:nvSpPr>
        <p:spPr>
          <a:xfrm>
            <a:off x="357120" y="214200"/>
            <a:ext cx="1295640" cy="12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цель 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Содержимое 4" descr="6.jpg"/>
          <p:cNvPicPr/>
          <p:nvPr/>
        </p:nvPicPr>
        <p:blipFill>
          <a:blip r:embed="rId1"/>
          <a:stretch/>
        </p:blipFill>
        <p:spPr>
          <a:xfrm>
            <a:off x="457200" y="2490840"/>
            <a:ext cx="4038480" cy="2955960"/>
          </a:xfrm>
          <a:prstGeom prst="rect">
            <a:avLst/>
          </a:prstGeom>
          <a:ln w="63360">
            <a:solidFill>
              <a:srgbClr val="e9770a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4648320" y="1952280"/>
            <a:ext cx="403848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770a"/>
                </a:solidFill>
                <a:latin typeface="Arial"/>
              </a:rPr>
              <a:t>Привитие детям старшего дошкольного возраста навыков безопасного поведения в пожароопасных ситуациях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чи программ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Углублять и систематизировать знания детей о причинах возникновения       пожаров; объяснять, чем опасен открытый огонь; подвести к пониманию вероятных последствий детских шалостей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Формировать чувство повышенной опасности огня: рассказать о признаках  и свойствах легковоспламеняющихся предметов и материалов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Познакомить с правилами противопожарной безопасности,</a:t>
            </a: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сформировать  привычку их соблюдения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214200" y="214200"/>
            <a:ext cx="1295640" cy="12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чи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продолжени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Углублять и расширять знания об охране жизни людей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Формировать навыки самостоятельности, воспитывать ответственное   поведение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Развивать познавательную активность, любознательность, творческие способности, воображение, мышление, коммуникативные навыки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Развивать способность целенаправленно наблюдать, исследовать, давать  правильную оценку предметам, явлениям, нравственную оценку отношениям,   поступкам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642960" y="214200"/>
            <a:ext cx="1295280" cy="12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изной программы являетс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Обучение и воспитание дошкольников базируются на знании психологических и физиологических возрастных особенностях поведения;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Инновационные формы и методы воспитания и обучения дошкольников правилам пожарной безопасности;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Проведение  опытно-экспериментальной работы с дошкольниками,  позволяющей достичь наибольшего обучающего эффекта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Мониторинговые исследования  умений и навыков дошкольников по правилам пожарной безопасности;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e9770a"/>
                </a:solidFill>
                <a:latin typeface="Arial"/>
              </a:rPr>
              <a:t>Создание механизма преемственности в подходах по обучению дошкольников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правилам пожарной безопасности </a:t>
            </a:r>
            <a:r>
              <a:rPr b="0" lang="sq-AL" sz="1800" spc="-1" strike="noStrike">
                <a:solidFill>
                  <a:srgbClr val="e9770a"/>
                </a:solidFill>
                <a:latin typeface="Arial"/>
              </a:rPr>
              <a:t>между педагогами, родителями и  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работниками пожарной части и ГО ЧС г. Нижневартовска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285840" y="214200"/>
            <a:ext cx="1295280" cy="12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нцип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Принцип социальной безопасности.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Дошкольники должны понимать, что они живут в обществе, где  надо соблюдать определенные нормы и правила поведения, так как неправильные действия опасны для жизни и здоровья всех окружающих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Принцип взаимосвязи причин опасного поведения и его последствия.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Дошкольники должны знать, какие опасности могут подстерегать их, если они не будут соблюдать правила пожарной безопасности.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Принцип самоорганизации, саморегуляции и самовоспитания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. Этот принцип реализуется при осознании детьми правил безопасного  правопослушного поведения. Тогда они достаточно легко, без сопротивления регулируют свое поведение и замечают нарушения правил пожарной безопасности. Для подкрепления самовоспитания  нужен положительный пример взрослых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500040" y="214200"/>
            <a:ext cx="1295280" cy="12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ическое обеспечение 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ние предметно-развивающей сре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Содержимое 5" descr="Изображение 047.jpg"/>
          <p:cNvPicPr/>
          <p:nvPr/>
        </p:nvPicPr>
        <p:blipFill>
          <a:blip r:embed="rId1"/>
          <a:stretch/>
        </p:blipFill>
        <p:spPr>
          <a:xfrm>
            <a:off x="285840" y="1785960"/>
            <a:ext cx="2786040" cy="4032360"/>
          </a:xfrm>
          <a:prstGeom prst="rect">
            <a:avLst/>
          </a:prstGeom>
          <a:ln w="63360">
            <a:solidFill>
              <a:srgbClr val="e9770a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3428640" y="1714320"/>
            <a:ext cx="5257800" cy="414324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Наборы иллюстраций ,плакатов знакомящие дошкольников с правилами пожарной безопасности.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Настольно-печатные игры (дидактические, пазл, лото, домино, разрезные картинки.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Детская художественная литература в книжном уголке.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Атрибуты для сюжетно-ролевых игр (огнетушители, пожарный рукав, 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Макеты отображающие определенную территорию города.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ТСО: телевизор, мильтимедиа, альбомы, слайды и др.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 работы по формированию у детей правил пожарной безопасност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42680"/>
            <a:ext cx="8229600" cy="43419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Первый этап работы –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это </a:t>
            </a:r>
            <a:r>
              <a:rPr b="1" i="1" lang="ru-RU" sz="1800" spc="-1" strike="noStrike">
                <a:solidFill>
                  <a:srgbClr val="e9770a"/>
                </a:solidFill>
                <a:latin typeface="Arial"/>
              </a:rPr>
              <a:t>диагностика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уточнение представлений детей о правилах безопасности, т.е. их личный опыт, на который может опереться педагог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Второй этап –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расширение первоначальных детских представлений, накопление новых знаний о правилах безопасности через различные формы работы: </a:t>
            </a:r>
            <a:r>
              <a:rPr b="1" i="1" lang="ru-RU" sz="1800" spc="-1" strike="noStrike">
                <a:solidFill>
                  <a:srgbClr val="e9770a"/>
                </a:solidFill>
                <a:latin typeface="Arial"/>
              </a:rPr>
              <a:t>занятия, беседы с детьми, экскурсии, знакомство и заучивание  правил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Третий этап –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закрепление полученных знаний и формирование сознательного отношения к соблюдению правил безопасности с помощью чтения и обсуждения </a:t>
            </a:r>
            <a:r>
              <a:rPr b="1" i="1" lang="ru-RU" sz="1800" spc="-1" strike="noStrike">
                <a:solidFill>
                  <a:srgbClr val="e9770a"/>
                </a:solidFill>
                <a:latin typeface="Arial"/>
              </a:rPr>
              <a:t>произведений художественной литературы, игр- драматизаций, наблюдения, экскурсии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4:00:19Z</dcterms:created>
  <dc:creator>Solodchenko</dc:creator>
  <dc:description/>
  <cp:keywords/>
  <dc:language>en-US</dc:language>
  <cp:lastModifiedBy>Пользователь</cp:lastModifiedBy>
  <dcterms:modified xsi:type="dcterms:W3CDTF">2010-06-01T15:08:55Z</dcterms:modified>
  <cp:revision>30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