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042-538A-4703-88C5-4789D8E0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3C7-1CF5-442C-832B-A8DB31DD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F47-240B-42B1-9BAC-3ECF91EB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48F-C37B-4765-9171-01968BCF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F5C73-51A7-496A-9361-6EDB3DB272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3F690-7F56-4A2E-A42C-A62FD4B84A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BA193-AF0E-4D92-B847-6DA58A3363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0E889-674C-4F38-80BE-028AB05E1E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61631-C01D-4F67-A8C3-47488B5803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999A9-644F-4257-A728-F733685511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61D2E-BACD-4047-9A12-475D225FB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D11-6909-4187-8E3F-5C0B8475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B8381-3DE7-49C3-B456-D4309B62C0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EFCF6-CDD0-4EF5-B830-BA6186E043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23F14-C731-4BA8-A39C-184218B303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7F064-9308-4E71-B813-B7D9EF2072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7A872-C9DD-4E75-8D77-884D6A21DA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3CF-5DE8-4E9B-9614-9E3AB2A3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7BE-4666-495D-B8B5-E733DBC1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FEF-B720-4172-87B0-D756FBC1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A2C-679F-46BA-A059-AB24BDAA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DAE-EB73-4702-94B3-88D13FC1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16A-FF5F-45E7-9298-F44E71D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335-DE96-4259-9AC9-3C54F06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3F1B-4C5D-4F1A-B8E8-4973EF173C70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5B87-17E5-4D34-8491-71CFC1C3AEF2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5960" y="1571400"/>
            <a:ext cx="5486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тельная програм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«Бравый пожарный»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5" descr="Изображение 046.jpg"/>
          <p:cNvPicPr/>
          <p:nvPr/>
        </p:nvPicPr>
        <p:blipFill>
          <a:blip r:embed="rId2"/>
          <a:srcRect l="0" t="6368" r="0" b="6368"/>
          <a:stretch/>
        </p:blipFill>
        <p:spPr>
          <a:xfrm>
            <a:off x="2500200" y="3429000"/>
            <a:ext cx="4071960" cy="30002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6760" y="21420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ниципальное  бюджетное дошкольное образовательное учреждение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тский сад компенсирующего вида №66 «Забавушка»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а работы по формированию у детей правил пожарной безопасности   (продолжение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Четвертый этап –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формирование у детей чувства ответственности. Ребята принимают и усваивают предъявляемые к ним требования. Именно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понимают и усваивают.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Задача педагога: формировать в подрастающем человеке готовность отвечать за свои поступки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ятый этап работы –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развивать у детей чувство контроля и самоконтроля,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так как при обучении правилам безопасного поведения эти качества во многом помогают личности вовремя и правильно ориентироваться в создавшейся ситуации.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770a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8429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Object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8429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и методы ознакомления детей с правилами пожарной безопас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86120" y="1643040"/>
            <a:ext cx="4572000" cy="42861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Занятия по развитию речи, ФЭМП, ИЗО и конструированию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Обучающие фильм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Художественная литература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Сюжетно-ролевая игра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Экскурсии, целевые прогулки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4" name="Содержимое 6" descr="Изображение 044.jpg"/>
          <p:cNvPicPr/>
          <p:nvPr/>
        </p:nvPicPr>
        <p:blipFill>
          <a:blip r:embed="rId1"/>
          <a:stretch/>
        </p:blipFill>
        <p:spPr>
          <a:xfrm>
            <a:off x="642960" y="2000160"/>
            <a:ext cx="2714760" cy="3643560"/>
          </a:xfrm>
          <a:prstGeom prst="rect">
            <a:avLst/>
          </a:prstGeom>
          <a:ln w="475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ктуальность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9770a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e9770a"/>
                </a:solidFill>
                <a:latin typeface="Arial"/>
              </a:rPr>
              <a:t>Сколько лет огонь угрожает людям, почти столько же они пытаются найти от него защиту. Можно назвать много факторов, влияющих на увеличение пожаров в современном мире, но самым важным является человеческий фактор. Проблема пожаров остро стоит  в нашей стране. За последние годы значительно увеличилось количество пожаров, которые произошли по вине человека. Часто причиной пожара является детская шалость. Родители подходят к этой проблеме недостаточно серьёзно. Разрешают детям играть огнеопасными предметами, у многих зажигалка является привычной игрушкой. Чтобы изменить отношение человека к этой проблеме, нужно уже на дошкольном этапе развития ребёнка начинать заниматься этой проблемой. Необходимо изменить сознание и отношение людей к противопожарной безопасности, а детский возраст является самым благоприятным для формирования правил пожарной безопасности. Детскому саду и родителям надо объединить усилия, для того, чтобы уберечь детей от возможной трагедии, необходима целенаправленная работа над формированием у них культуры пожаробезопасного поведения.</a:t>
            </a: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357120" y="214200"/>
            <a:ext cx="129564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цель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Содержимое 4" descr="6.jpg"/>
          <p:cNvPicPr/>
          <p:nvPr/>
        </p:nvPicPr>
        <p:blipFill>
          <a:blip r:embed="rId1"/>
          <a:stretch/>
        </p:blipFill>
        <p:spPr>
          <a:xfrm>
            <a:off x="457200" y="2490840"/>
            <a:ext cx="4038480" cy="2955960"/>
          </a:xfrm>
          <a:prstGeom prst="rect">
            <a:avLst/>
          </a:prstGeom>
          <a:ln w="63360">
            <a:solidFill>
              <a:srgbClr val="e9770a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4648320" y="1952280"/>
            <a:ext cx="403848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770a"/>
                </a:solidFill>
                <a:latin typeface="Arial"/>
              </a:rPr>
              <a:t>Привитие детям старшего дошкольного возраста навыков безопасного поведения в пожароопасных ситуациях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чи программ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Углублять и систематизировать знания детей о причинах возникновения       пожаров; объяснять, чем опасен открытый огонь; подвести к пониманию вероятных последствий детских шалостей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Формировать чувство повышенной опасности огня: рассказать о признаках  и свойствах легковоспламеняющихся предметов и материалов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Познакомить с правилами противопожарной безопасности,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сформировать  привычку их соблюдения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214200" y="214200"/>
            <a:ext cx="129564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чи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продолжени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Углублять и расширять знания об охране жизни людей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Формировать навыки самостоятельности, воспитывать ответственное   поведение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Развивать познавательную активность, любознательность, творческие способности, воображение, мышление, коммуникативные навыки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Развивать способность целенаправленно наблюдать, исследовать, давать  правильную оценку предметам, явлениям, нравственную оценку отношениям,   поступкам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642960" y="214200"/>
            <a:ext cx="129528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изной программы являетс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Обучение и воспитание дошкольников базируются на знании психологических и физиологических возрастных особенностях поведения;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Инновационные формы и методы воспитания и обучения дошкольников правилам пожарной безопасности;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Проведение  опытно-экспериментальной работы с дошкольниками,  позволяющей достичь наибольшего обучающего эффекта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Мониторинговые исследования  умений и навыков дошкольников по правилам пожарной безопасности;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e9770a"/>
                </a:solidFill>
                <a:latin typeface="Arial"/>
              </a:rPr>
              <a:t>Создание механизма преемственности в подходах по обучению дошкольников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правилам пожарной безопасности </a:t>
            </a:r>
            <a:r>
              <a:rPr b="0" lang="sq-AL" sz="1800" spc="-1" strike="noStrike">
                <a:solidFill>
                  <a:srgbClr val="e9770a"/>
                </a:solidFill>
                <a:latin typeface="Arial"/>
              </a:rPr>
              <a:t>между педагогами, родителями и  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работниками пожарной части и ГО ЧС г. Нижневартовска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285840" y="214200"/>
            <a:ext cx="129528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ринцип социальной безопасности.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Дошкольники должны понимать, что они живут в обществе, где  надо соблюдать определенные нормы и правила поведения, так как неправильные действия опасны для жизни и здоровья всех окружающих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ринцип взаимосвязи причин опасного поведения и его последствия.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Дошкольники должны знать, какие опасности могут подстерегать их, если они не будут соблюдать правила пожарной безопасности.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ринцип самоорганизации, саморегуляции и самовоспитания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. Этот принцип реализуется при осознании детьми правил безопасного  правопослушного поведения. Тогда они достаточно легко, без сопротивления регулируют свое поведение и замечают нарушения правил пожарной безопасности. Для подкрепления самовоспитания  нужен положительный пример взрослых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500040" y="214200"/>
            <a:ext cx="1295280" cy="129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ическое обеспечение 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ние предметно-развивающей сре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Содержимое 5" descr="Изображение 047.jpg"/>
          <p:cNvPicPr/>
          <p:nvPr/>
        </p:nvPicPr>
        <p:blipFill>
          <a:blip r:embed="rId1"/>
          <a:stretch/>
        </p:blipFill>
        <p:spPr>
          <a:xfrm>
            <a:off x="285840" y="1785960"/>
            <a:ext cx="2786040" cy="4032360"/>
          </a:xfrm>
          <a:prstGeom prst="rect">
            <a:avLst/>
          </a:prstGeom>
          <a:ln w="63360">
            <a:solidFill>
              <a:srgbClr val="e9770a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3428640" y="1714320"/>
            <a:ext cx="5257800" cy="414324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Наборы иллюстраций ,плакатов знакомящие дошкольников с правилами пожарной безопасности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Настольно-печатные игры (дидактические, пазл, лото, домино, разрезные картинки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Детская художественная литература в книжном уголке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Атрибуты для сюжетно-ролевых игр (огнетушители, пожарный рукав, 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Макеты отображающие определенную территорию города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977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9770a"/>
                </a:solidFill>
                <a:latin typeface="Arial"/>
              </a:rPr>
              <a:t>ТСО: телевизор, мильтимедиа, альбомы, слайды и др.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работы по формированию у детей правил пожарной безопаснос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42680"/>
            <a:ext cx="8229600" cy="4341960"/>
          </a:xfrm>
          <a:prstGeom prst="rect">
            <a:avLst/>
          </a:prstGeom>
          <a:noFill/>
          <a:ln w="25560">
            <a:solidFill>
              <a:srgbClr val="e9770a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Первый этап работы –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это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диагностика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уточнение представлений детей о правилах безопасности, т.е. их личный опыт, на который может опереться педагог.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Второй этап –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расширение первоначальных детских представлений, накопление новых знаний о правилах безопасности через различные формы работы: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занятия, беседы с детьми, экскурсии, знакомство и заучивание  правил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e977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Третий этап –</a:t>
            </a:r>
            <a:r>
              <a:rPr b="0" lang="ru-RU" sz="1800" spc="-1" strike="noStrike">
                <a:solidFill>
                  <a:srgbClr val="e9770a"/>
                </a:solidFill>
                <a:latin typeface="Arial"/>
              </a:rPr>
              <a:t> закрепление полученных знаний и формирование сознательного отношения к соблюдению правил безопасности с помощью чтения и обсуждения </a:t>
            </a:r>
            <a:r>
              <a:rPr b="1" i="1" lang="ru-RU" sz="1800" spc="-1" strike="noStrike">
                <a:solidFill>
                  <a:srgbClr val="e9770a"/>
                </a:solidFill>
                <a:latin typeface="Arial"/>
              </a:rPr>
              <a:t>произведений художественной литературы, игр- драматизаций, наблюдения, экскурсии.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770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4:00:19Z</dcterms:created>
  <dc:creator>Solodchenko</dc:creator>
  <dc:description/>
  <cp:keywords/>
  <dc:language>en-US</dc:language>
  <cp:lastModifiedBy>Пользователь</cp:lastModifiedBy>
  <dcterms:modified xsi:type="dcterms:W3CDTF">2010-06-01T15:08:55Z</dcterms:modified>
  <cp:revision>3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